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png" ContentType="image/png"/>
  <Override PartName="/ppt/media/image7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ACC9-171E-45C8-92E7-8DC5397B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DE1-BB23-498E-B92C-0B3B2DB7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A5411-5153-4CDF-BE60-2BE8B7B8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D4276-F728-47CF-84BB-B89EDA6E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C9271-74D2-467B-BDC3-B7551A87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0A374-983E-4BF1-9BA9-CC9C8E40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55721-4F26-4AA0-8989-EC5DD671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A8FDE-BD02-4624-881D-F232AFF2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654CC-F0A5-48E2-9A93-A654665D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BF80A-7AA7-43F1-8A28-295B067D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597CD-E371-4704-8D43-338AC8B7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3636A-C714-45CF-9C19-29983F03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99C5-E73F-4CA1-AEF6-D601C9F9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8C1EB-C685-4FD4-970C-E6E18348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2D233-6943-4202-ADD6-EE7960D8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92F6F-C55C-4A10-8D40-6AC338A8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C619F-7C2B-41E9-92F0-B4BA7BBA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52BB9-89EB-4C02-A0F2-E96E3AF1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011E1-7DF3-46C4-BFF7-F7CD8E4C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9EE34-B4E3-48EB-A3A0-B6EF77B9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BAC05-304C-412A-9E0F-7FDCF8F8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738EA-1F1B-4819-823E-65A9C478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6A179-497B-4EF9-A64E-6DA8C4A6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1DB6-4937-4120-9B0B-7978F7EF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A8197-D8CC-40D9-BCBC-5A58B89C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7BC74-75E2-47C4-B54A-E723D0A7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5B456-E1EE-4305-81A6-F83F9EE4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3C098-8999-40F7-8A06-E296823F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3256C-4883-40CF-870B-4B50893D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2C8FB-355D-4FCF-9D76-4288A02C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19EBA-5F67-45F1-9D0C-57044381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6390B-992C-47D4-A86E-B8C64FDB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1CEB7-2928-423A-A919-22F76551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55B7C-E01C-49C7-9272-F2AF26F1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6FBF-B65E-4590-8641-FDC4FAEA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DB894-8076-4E17-9D43-B1600A2A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D5F10-01E1-4A11-92A3-53176D41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A9E92-E1A6-4D7F-A1C0-64F9964E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61BB8-5114-4838-8A34-735D8833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73545-A739-4B90-8E9E-0E70BAE0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F83EA-BDC6-4116-9393-B634D74C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C03FB-090D-4CFF-A7D8-7FA7E72A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8959B-BC78-4695-88CC-001A78CD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644BB-F8D9-4C50-8E3F-21AB3622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D3B95-2A19-411C-97DD-0F23DFC2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6694-97A2-4F73-BA68-758E551F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AB048-6111-41EB-9C49-36B1CA9B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A168F-02DF-4F15-ACEE-F36DC09D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402BD-DF0C-4C26-A521-D81D9097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B5BA4-16F1-4CA4-83DB-ADB1B033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710E2-3B40-4086-A27B-2BFD8EDA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D3A80-CA8E-4302-9670-37388DF2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40FA7-326F-4699-8FAD-32B32655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EA7DB-DFF2-4D10-8634-96970101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89CC4-2EE2-4FA5-B995-838D36A8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9641A-A8FE-423C-8921-0D7CA9AB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CD47-2F39-4DBD-9F44-4982754B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0D5129-8853-47AA-B67B-1E27DCB0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4BEB7-CEB1-4E0D-ACC5-7DB5555A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EEAC9-4A91-4DC5-90ED-CB578C5B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89F3F-4760-4454-92AF-480833E7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7C62F-B4B2-4EBB-8C80-827F38A1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FC97B-2FC4-4027-8F8E-A9A2C046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B1B62-92AE-4412-AE7F-8B8FFD06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2138-A5EF-44E0-8050-67EAFAD8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FA37-E590-48B3-B65D-FC19AD66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5938-5108-4AE5-990E-6E1A25AF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ECBC-F8E9-462E-BFD8-53CC97B5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E05-CC40-4092-B7E9-F4B78E6C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59C1-0FF5-41F9-8D90-EBAEBA3C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808A-38A7-4096-84BE-74110283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9323-A8E6-4922-B83D-32967100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212A-5915-4229-9742-710D20C5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E6BF-BCD7-4615-AEC2-064E12E3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A4209-078B-4DDF-8887-7FFE39D1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01059-B87E-4638-9E66-BEC33746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8DB99-6CE7-4921-B299-506AD6E1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83EEB-06B3-470C-B095-FAE15611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CB687-9285-4A6D-A3BC-B5625BD3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92A-BD1E-44E8-B536-2E5B7C13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F0966-0A3F-46AA-A908-ACE511AB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9C4FE-3EC0-4F78-B4A0-BE20697B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AE99F-593F-4B47-A754-EE04BECA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CEAA2-C20C-4365-B3C6-6235BD9C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538AC-D26A-479C-A931-8047CBFD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99183-DBE7-4960-A51A-925B5A75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74CF3-4364-4A70-917C-8EB0389C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50CD9-8C46-491A-A687-8CAABF47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88EF5-5722-41AA-98C9-C484181F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5BE27-E39D-4711-9046-D534B905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310-A838-43B2-8B84-46869BF8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B32B1-4F03-4E07-80DB-C659C30D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A8919-994D-45F4-BD74-8C80DF43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5FFB1-7256-4628-A973-6B07A1CA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B7947-EFA4-45EF-A379-403554CC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904AE-0643-43F5-AA52-C1D04B6E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60CC6-E1A5-439C-93EC-FB955AFD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3DACF-3BF6-418F-BC21-06F58E3B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BA3F4-0E45-4C35-AEEE-08AD9723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4E49C-5E4E-4AC1-B864-26F2758E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EFF2B-A914-42E6-8EE2-6A694C15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14F-B4EC-4394-9979-5D8BC581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C6BD5-DB1F-4AD7-AE39-9C732586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2562C-953D-4338-8716-24EAFB05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6A21B-87B7-4AF0-BF47-DD3735DC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B5DDF-5F13-40D2-9898-E805EED2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3B926-C740-4F5F-B52F-2BECA9CA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6E720-7E9B-4F55-8576-2F66E031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5C6CA-47CC-401A-93CD-A7A9D17C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5DD97-3E59-45CC-A9DB-F318B0B1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51E08-1D1C-4562-B954-FEB455A8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A9422-E35E-4EF2-92BF-7879C79C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EA9A-8A47-4B42-92E9-5AE25481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2ED05-217D-4B7A-8C34-22735AA6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B09B7-D7A5-4F61-AD1C-BDA40299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78557-4D54-4769-85E6-6393367F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51B19-1B20-40B6-826B-CA184973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5FA30-66FB-4C7A-882D-B5DAA5E9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70401-3A25-448B-8173-2293C4E6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99CB8-ADC2-467C-8DA7-17B3D0D0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BCC2B-C35C-477E-AE05-6A83B6BA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59CAE-1B9B-4851-87AE-95F7C6CC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C9FF9-3C47-4EED-9926-A1FB4E68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202-F6D5-4DB8-B10C-6E7B287D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E9C4E-2229-4AD4-B3FA-276619B7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4A63E-465D-42D5-83E3-60AD89D7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7A6AE-F450-48FA-A455-64FDB3EE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E9665-0616-4DEA-9FF2-92FA3350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8022B-EB25-409F-8DED-FE8FDC20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6E03E-5D90-4D7C-BB56-F131EC38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FBD11-99D8-45C4-AEFE-9ED6EF37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9BCF6-FF36-4D6C-BBFB-1D2516F1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D4DFC-24D2-44C2-9086-68670C27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0EEED-2393-4E4A-A6E3-60EFE3AB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87A-490B-4DC8-AD72-2775C6CE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F4175-3D76-450B-ACA1-1BE5B027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A2552-FCCA-4390-B166-304589B8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8DEB1-16B2-408F-B134-DAACAA52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02FFA-BC94-4C5F-BA5C-57AB9D15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B2DFE-A005-4F45-B0BA-BA0D7012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16977-8865-4897-88F6-4AA6B135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EE0C1-1F8D-45EF-A1BD-C619EF0E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9348A-B56F-4AE0-92F8-32DEA400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7D628-9086-4ECF-ACA4-2044804B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0FB16-1034-4180-8077-2B03D93A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B4DB-0B00-4E42-AB73-C60622C0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E7D50-BF21-4038-8642-39F95261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2B599-BAD4-4F39-A252-A1CDDC6B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9DE05-7294-4E8A-AB08-E0EDCD42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E5C18-B198-4D62-A4EA-19FEA822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9D905-5E84-4084-A796-6ACFB5F5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CE52F-C428-40D5-984F-71B0798B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53128-0221-4C29-AD3A-E4BFF7AB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CDE36-B048-4149-9589-7B49B283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F578B-BF5A-4029-9D5D-7A1D4D37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04043-09D1-4955-AD33-632BD51E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3004-5A18-4E85-88AE-024A2523B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EAAE-E3AA-440A-AC69-F9A2E0D2248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9EB7-DDCE-48CF-B709-0A652CC663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47BA-CC62-480F-B3B3-5600283B439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3E3A-9C41-4738-BDB0-D35C5A5BB2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C455-DC3B-4608-B39E-AA088F7FE49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55A9-2BFF-45A1-9655-3155B7E777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CAAA-CDE2-4522-A631-0A4BE56636E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1376-CE13-4D3C-BF6B-60F3BCA8EA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42B2-32B1-4C0B-8BCB-98E952C9EF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6DC4-3B79-4917-9D65-8A5E4DF73A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A227-743F-4723-BEBE-4F37237A920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A4BE-0F5A-4DD9-8F5C-0A3EEC9B5F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2E5D-A7D8-4CEF-986E-62363E7F34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A7B3-A88B-4AF8-93EE-1C62087FAF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FAE5-F3F6-42BC-A403-D6C8706E8CA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4E3C-09AC-4222-8C6B-2EB81069D2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20DB-8933-4410-8C32-9D43A7C5FA4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3654-09EB-4261-B8EC-22EC0F405B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331C-A618-42A7-81EE-D366AF3E16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BD66-4679-4C0B-BCB7-D97B4853CE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BA3B-5F76-44CD-9B50-C577403EF94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4E13-33EE-43F8-B956-4922CAE497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A4D5-F316-44CB-878C-CD41DB99A90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4124-08B1-4D76-A955-F219039549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4"/>
          <p:cNvSpPr txBox="1"/>
          <p:nvPr/>
        </p:nvSpPr>
        <p:spPr>
          <a:xfrm>
            <a:off x="1066680" y="1371600"/>
            <a:ext cx="6629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平行四边形和梯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1828800" y="55627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能看图说出它们之间的关系吗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3"/>
          <p:cNvSpPr/>
          <p:nvPr/>
        </p:nvSpPr>
        <p:spPr>
          <a:xfrm>
            <a:off x="990720" y="685800"/>
            <a:ext cx="7086600" cy="4419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4"/>
          <p:cNvSpPr/>
          <p:nvPr/>
        </p:nvSpPr>
        <p:spPr>
          <a:xfrm>
            <a:off x="1371600" y="1600200"/>
            <a:ext cx="3200400" cy="2666880"/>
          </a:xfrm>
          <a:prstGeom prst="ellipse">
            <a:avLst/>
          </a:prstGeom>
          <a:solidFill>
            <a:srgbClr val="ffa6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5"/>
          <p:cNvSpPr/>
          <p:nvPr/>
        </p:nvSpPr>
        <p:spPr>
          <a:xfrm>
            <a:off x="4724280" y="1752480"/>
            <a:ext cx="2743200" cy="2514600"/>
          </a:xfrm>
          <a:prstGeom prst="ellipse">
            <a:avLst/>
          </a:prstGeom>
          <a:solidFill>
            <a:srgbClr val="ffa6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6"/>
          <p:cNvSpPr/>
          <p:nvPr/>
        </p:nvSpPr>
        <p:spPr>
          <a:xfrm>
            <a:off x="1676520" y="2362320"/>
            <a:ext cx="2514600" cy="1676160"/>
          </a:xfrm>
          <a:prstGeom prst="ellipse">
            <a:avLst/>
          </a:prstGeom>
          <a:solidFill>
            <a:srgbClr val="ffbc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7"/>
          <p:cNvSpPr/>
          <p:nvPr/>
        </p:nvSpPr>
        <p:spPr>
          <a:xfrm>
            <a:off x="2133720" y="3048120"/>
            <a:ext cx="1600200" cy="914400"/>
          </a:xfrm>
          <a:prstGeom prst="ellipse">
            <a:avLst/>
          </a:prstGeom>
          <a:solidFill>
            <a:srgbClr val="ffde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8"/>
          <p:cNvSpPr/>
          <p:nvPr/>
        </p:nvSpPr>
        <p:spPr>
          <a:xfrm>
            <a:off x="4952880" y="2590920"/>
            <a:ext cx="1143000" cy="1143000"/>
          </a:xfrm>
          <a:prstGeom prst="ellipse">
            <a:avLst/>
          </a:prstGeom>
          <a:solidFill>
            <a:srgbClr val="ffbc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9"/>
          <p:cNvSpPr/>
          <p:nvPr/>
        </p:nvSpPr>
        <p:spPr>
          <a:xfrm>
            <a:off x="6248520" y="2590920"/>
            <a:ext cx="1066680" cy="1218960"/>
          </a:xfrm>
          <a:prstGeom prst="ellipse">
            <a:avLst/>
          </a:prstGeom>
          <a:solidFill>
            <a:srgbClr val="ffbc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0"/>
          <p:cNvSpPr/>
          <p:nvPr/>
        </p:nvSpPr>
        <p:spPr>
          <a:xfrm>
            <a:off x="4240080" y="1081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1"/>
          <p:cNvSpPr/>
          <p:nvPr/>
        </p:nvSpPr>
        <p:spPr>
          <a:xfrm>
            <a:off x="2444040" y="179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"/>
          <p:cNvSpPr/>
          <p:nvPr/>
        </p:nvSpPr>
        <p:spPr>
          <a:xfrm>
            <a:off x="2549160" y="2514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长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3"/>
          <p:cNvSpPr/>
          <p:nvPr/>
        </p:nvSpPr>
        <p:spPr>
          <a:xfrm>
            <a:off x="2549160" y="3276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4"/>
          <p:cNvSpPr/>
          <p:nvPr/>
        </p:nvSpPr>
        <p:spPr>
          <a:xfrm>
            <a:off x="5881320" y="198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梯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5"/>
          <p:cNvSpPr/>
          <p:nvPr/>
        </p:nvSpPr>
        <p:spPr>
          <a:xfrm>
            <a:off x="5230440" y="27432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等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梯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6"/>
          <p:cNvSpPr/>
          <p:nvPr/>
        </p:nvSpPr>
        <p:spPr>
          <a:xfrm>
            <a:off x="6491160" y="27590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梯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WordArt 2"/>
          <p:cNvSpPr txBox="1"/>
          <p:nvPr/>
        </p:nvSpPr>
        <p:spPr>
          <a:xfrm>
            <a:off x="1905120" y="1752480"/>
            <a:ext cx="556236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再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5"/>
          <p:cNvSpPr/>
          <p:nvPr/>
        </p:nvSpPr>
        <p:spPr>
          <a:xfrm>
            <a:off x="2505960" y="30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四边形的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5"/>
          <p:cNvSpPr/>
          <p:nvPr/>
        </p:nvSpPr>
        <p:spPr>
          <a:xfrm>
            <a:off x="1676520" y="1143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ShockwaveFlash1"/>
          <p:cNvGraphicFramePr/>
          <p:nvPr/>
        </p:nvGraphicFramePr>
        <p:xfrm>
          <a:off x="762120" y="914400"/>
          <a:ext cx="76197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6197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utoShape 3"/>
          <p:cNvSpPr/>
          <p:nvPr/>
        </p:nvSpPr>
        <p:spPr>
          <a:xfrm>
            <a:off x="2743200" y="1371600"/>
            <a:ext cx="3657600" cy="1523880"/>
          </a:xfrm>
          <a:prstGeom prst="parallelogram">
            <a:avLst>
              <a:gd name="adj" fmla="val 600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2629440" y="3049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平行四边形的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4667400" y="41148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两组对边分别平行的四边形叫做平行四边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6" descr="姑娘眨眼"/>
          <p:cNvPicPr/>
          <p:nvPr/>
        </p:nvPicPr>
        <p:blipFill>
          <a:blip r:embed="rId1"/>
          <a:stretch/>
        </p:blipFill>
        <p:spPr>
          <a:xfrm>
            <a:off x="457200" y="4572000"/>
            <a:ext cx="1752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3"/>
          <p:cNvSpPr/>
          <p:nvPr/>
        </p:nvSpPr>
        <p:spPr>
          <a:xfrm>
            <a:off x="2629440" y="3049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平行四边形的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ShockwaveFlash1"/>
          <p:cNvGraphicFramePr/>
          <p:nvPr/>
        </p:nvGraphicFramePr>
        <p:xfrm>
          <a:off x="990720" y="1066680"/>
          <a:ext cx="74674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74674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姑娘眨眼"/>
          <p:cNvPicPr/>
          <p:nvPr/>
        </p:nvPicPr>
        <p:blipFill>
          <a:blip r:embed="rId1"/>
          <a:stretch/>
        </p:blipFill>
        <p:spPr>
          <a:xfrm>
            <a:off x="1523880" y="3809880"/>
            <a:ext cx="1752840" cy="190512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3"/>
          <p:cNvSpPr/>
          <p:nvPr/>
        </p:nvSpPr>
        <p:spPr>
          <a:xfrm>
            <a:off x="2971800" y="1752480"/>
            <a:ext cx="4724280" cy="2210040"/>
          </a:xfrm>
          <a:prstGeom prst="cloudCallout">
            <a:avLst>
              <a:gd name="adj1" fmla="val -48791"/>
              <a:gd name="adj2" fmla="val 555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长方形和正方形可以看成是特殊的平行四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4363920" y="4572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正方形、长方形与平行四边形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ShockwaveFlash1"/>
          <p:cNvGraphicFramePr/>
          <p:nvPr/>
        </p:nvGraphicFramePr>
        <p:xfrm>
          <a:off x="914400" y="1371600"/>
          <a:ext cx="68580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68580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Line 8"/>
          <p:cNvSpPr/>
          <p:nvPr/>
        </p:nvSpPr>
        <p:spPr>
          <a:xfrm flipH="1">
            <a:off x="2057400" y="762120"/>
            <a:ext cx="53352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0"/>
          <p:cNvSpPr/>
          <p:nvPr/>
        </p:nvSpPr>
        <p:spPr>
          <a:xfrm>
            <a:off x="2057400" y="22860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2590920" y="76212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2"/>
          <p:cNvSpPr/>
          <p:nvPr/>
        </p:nvSpPr>
        <p:spPr>
          <a:xfrm flipH="1">
            <a:off x="4343400" y="762120"/>
            <a:ext cx="53352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3"/>
          <p:cNvSpPr/>
          <p:nvPr/>
        </p:nvSpPr>
        <p:spPr>
          <a:xfrm>
            <a:off x="2590920" y="7621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14"/>
          <p:cNvGrpSpPr/>
          <p:nvPr/>
        </p:nvGrpSpPr>
        <p:grpSpPr>
          <a:xfrm>
            <a:off x="2590920" y="2057400"/>
            <a:ext cx="228600" cy="228600"/>
            <a:chOff x="2590920" y="2057400"/>
            <a:chExt cx="228600" cy="228600"/>
          </a:xfrm>
        </p:grpSpPr>
        <p:sp>
          <p:nvSpPr>
            <p:cNvPr id="556" name="Line 15"/>
            <p:cNvSpPr/>
            <p:nvPr/>
          </p:nvSpPr>
          <p:spPr>
            <a:xfrm>
              <a:off x="2590920" y="205740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6"/>
            <p:cNvSpPr/>
            <p:nvPr/>
          </p:nvSpPr>
          <p:spPr>
            <a:xfrm>
              <a:off x="2819520" y="2057400"/>
              <a:ext cx="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Text Box 17"/>
          <p:cNvSpPr/>
          <p:nvPr/>
        </p:nvSpPr>
        <p:spPr>
          <a:xfrm>
            <a:off x="2643480" y="12924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8"/>
          <p:cNvSpPr/>
          <p:nvPr/>
        </p:nvSpPr>
        <p:spPr>
          <a:xfrm>
            <a:off x="2795760" y="23623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9"/>
          <p:cNvSpPr/>
          <p:nvPr/>
        </p:nvSpPr>
        <p:spPr>
          <a:xfrm>
            <a:off x="685800" y="32767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从平行四边形的一条边上的一点到对边引一条垂线，这点和垂足之间的线段叫做平行四边形的高，垂足所在的边叫做平行四边形的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2"/>
          <p:cNvGrpSpPr/>
          <p:nvPr/>
        </p:nvGrpSpPr>
        <p:grpSpPr>
          <a:xfrm>
            <a:off x="2743200" y="304920"/>
            <a:ext cx="6172200" cy="4114800"/>
            <a:chOff x="2743200" y="304920"/>
            <a:chExt cx="6172200" cy="4114800"/>
          </a:xfrm>
        </p:grpSpPr>
        <p:grpSp>
          <p:nvGrpSpPr>
            <p:cNvPr id="563" name="Group 3"/>
            <p:cNvGrpSpPr/>
            <p:nvPr/>
          </p:nvGrpSpPr>
          <p:grpSpPr>
            <a:xfrm>
              <a:off x="2743200" y="3048120"/>
              <a:ext cx="3429000" cy="1371600"/>
              <a:chOff x="2743200" y="3048120"/>
              <a:chExt cx="3429000" cy="1371600"/>
            </a:xfrm>
          </p:grpSpPr>
          <p:sp>
            <p:nvSpPr>
              <p:cNvPr id="564" name="Line 4"/>
              <p:cNvSpPr/>
              <p:nvPr/>
            </p:nvSpPr>
            <p:spPr>
              <a:xfrm>
                <a:off x="3733920" y="3048120"/>
                <a:ext cx="1981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5"/>
              <p:cNvSpPr/>
              <p:nvPr/>
            </p:nvSpPr>
            <p:spPr>
              <a:xfrm flipH="1">
                <a:off x="2743200" y="3048120"/>
                <a:ext cx="990720" cy="1371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6"/>
              <p:cNvSpPr/>
              <p:nvPr/>
            </p:nvSpPr>
            <p:spPr>
              <a:xfrm>
                <a:off x="5638680" y="3048120"/>
                <a:ext cx="533520" cy="1371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7"/>
              <p:cNvSpPr/>
              <p:nvPr/>
            </p:nvSpPr>
            <p:spPr>
              <a:xfrm>
                <a:off x="2743200" y="4419720"/>
                <a:ext cx="3429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Text Box 8"/>
            <p:cNvSpPr/>
            <p:nvPr/>
          </p:nvSpPr>
          <p:spPr>
            <a:xfrm>
              <a:off x="7391520" y="304920"/>
              <a:ext cx="1523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梯形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Text Box 9"/>
          <p:cNvSpPr/>
          <p:nvPr/>
        </p:nvSpPr>
        <p:spPr>
          <a:xfrm>
            <a:off x="914400" y="4572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只有一组对边平行的四边形叫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380880" y="1295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梯形里，互相平行的一组对边叫做梯形的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304920" y="2438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通常把较短的底叫做上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304920" y="35812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较长的底叫做下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6553080" y="2895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平行的一组对边叫做梯形的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腰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4"/>
          <p:cNvSpPr/>
          <p:nvPr/>
        </p:nvSpPr>
        <p:spPr>
          <a:xfrm>
            <a:off x="457200" y="5029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上底的一点到下底引一条垂线，这点和垂足之间的线段叫做梯形的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5"/>
          <p:cNvSpPr/>
          <p:nvPr/>
        </p:nvSpPr>
        <p:spPr>
          <a:xfrm>
            <a:off x="3733920" y="3048120"/>
            <a:ext cx="0" cy="1371600"/>
          </a:xfrm>
          <a:prstGeom prst="line">
            <a:avLst/>
          </a:prstGeom>
          <a:ln w="57240">
            <a:solidFill>
              <a:srgbClr val="66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16"/>
          <p:cNvGrpSpPr/>
          <p:nvPr/>
        </p:nvGrpSpPr>
        <p:grpSpPr>
          <a:xfrm>
            <a:off x="3733920" y="4191120"/>
            <a:ext cx="228600" cy="228600"/>
            <a:chOff x="3733920" y="4191120"/>
            <a:chExt cx="228600" cy="228600"/>
          </a:xfrm>
        </p:grpSpPr>
        <p:sp>
          <p:nvSpPr>
            <p:cNvPr id="577" name="Line 17"/>
            <p:cNvSpPr/>
            <p:nvPr/>
          </p:nvSpPr>
          <p:spPr>
            <a:xfrm>
              <a:off x="3733920" y="4191120"/>
              <a:ext cx="22860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18"/>
            <p:cNvSpPr/>
            <p:nvPr/>
          </p:nvSpPr>
          <p:spPr>
            <a:xfrm>
              <a:off x="3962520" y="4191120"/>
              <a:ext cx="0" cy="2286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Text Box 19"/>
          <p:cNvSpPr/>
          <p:nvPr/>
        </p:nvSpPr>
        <p:spPr>
          <a:xfrm>
            <a:off x="43434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上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0"/>
          <p:cNvSpPr/>
          <p:nvPr/>
        </p:nvSpPr>
        <p:spPr>
          <a:xfrm>
            <a:off x="41911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下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1"/>
          <p:cNvSpPr/>
          <p:nvPr/>
        </p:nvSpPr>
        <p:spPr>
          <a:xfrm>
            <a:off x="380988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22"/>
          <p:cNvGrpSpPr/>
          <p:nvPr/>
        </p:nvGrpSpPr>
        <p:grpSpPr>
          <a:xfrm>
            <a:off x="2743200" y="3124080"/>
            <a:ext cx="3733920" cy="536040"/>
            <a:chOff x="2743200" y="3124080"/>
            <a:chExt cx="3733920" cy="536040"/>
          </a:xfrm>
        </p:grpSpPr>
        <p:sp>
          <p:nvSpPr>
            <p:cNvPr id="583" name="Text Box 23"/>
            <p:cNvSpPr/>
            <p:nvPr/>
          </p:nvSpPr>
          <p:spPr>
            <a:xfrm>
              <a:off x="5867280" y="3124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4"/>
            <p:cNvSpPr/>
            <p:nvPr/>
          </p:nvSpPr>
          <p:spPr>
            <a:xfrm>
              <a:off x="27432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Line 25"/>
          <p:cNvSpPr/>
          <p:nvPr/>
        </p:nvSpPr>
        <p:spPr>
          <a:xfrm>
            <a:off x="3733920" y="3048120"/>
            <a:ext cx="19047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26"/>
          <p:cNvSpPr/>
          <p:nvPr/>
        </p:nvSpPr>
        <p:spPr>
          <a:xfrm>
            <a:off x="2743200" y="4419720"/>
            <a:ext cx="3429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27"/>
          <p:cNvGrpSpPr/>
          <p:nvPr/>
        </p:nvGrpSpPr>
        <p:grpSpPr>
          <a:xfrm>
            <a:off x="2743200" y="3048120"/>
            <a:ext cx="3429000" cy="1371600"/>
            <a:chOff x="2743200" y="3048120"/>
            <a:chExt cx="3429000" cy="1371600"/>
          </a:xfrm>
        </p:grpSpPr>
        <p:sp>
          <p:nvSpPr>
            <p:cNvPr id="588" name="Line 28"/>
            <p:cNvSpPr/>
            <p:nvPr/>
          </p:nvSpPr>
          <p:spPr>
            <a:xfrm flipH="1">
              <a:off x="2743200" y="3048120"/>
              <a:ext cx="990720" cy="1371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29"/>
            <p:cNvSpPr/>
            <p:nvPr/>
          </p:nvSpPr>
          <p:spPr>
            <a:xfrm flipH="1" flipV="1">
              <a:off x="5638680" y="3048120"/>
              <a:ext cx="533520" cy="1371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6T09:50:11Z</dcterms:modified>
  <cp:revision>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