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type.wav" ContentType="audio/x-wav"/>
  <Override PartName="/ppt/media/projctor.wav" ContentType="audio/x-wav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DE25-5767-4662-A42E-62EC55BB3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733C-E239-49B2-8B58-E4D1FBA33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4B7B-9280-4AFA-A1C2-8784BD3F3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B13B-7A45-4B56-8B6D-60E86A1D5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04C0-5B14-428F-90B8-82377AAA4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15D5-C4DA-4DA2-95FC-9EDBB3990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B9FF-9360-4533-B5EC-C7FDB69F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79DB-6626-44A6-8FFE-E5BED366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2BB79-AF96-42DB-9EA7-D38F31D9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EAFE1-1A21-4EAB-BCA6-7644F0B2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27414-514A-4990-B5A4-CDD279C8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76DAB-20D8-49DD-93E9-B150ED83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41B83-8E64-41B9-86B2-42F5DC28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045A6-7DF5-4913-9CE2-46BE8C43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BB4CC-0824-47DE-AA99-647E7A85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FF442-DEB7-4230-9B63-4EB924D9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23595-E4B2-4428-952F-A831CDD7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0BABB-3C85-46C4-B31A-C31E1667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7A02-E046-4ED1-B07C-566E04AF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88731-47D9-42CA-A37B-732E586A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BC47E-5459-4BB3-AC18-47BF4C92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15EF4-F57A-45C0-95F8-C1CB4916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3D4A5-6899-4DD5-A5D6-246D0065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17920-11E6-4520-9929-5983438D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52B07-8301-4F68-93B2-C7EEB291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4ED99-F8BE-4218-B2E1-3094D45B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FA5F1-03E1-4388-9582-778F315B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570F4-01E7-4393-82D3-74930F27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88CCD-C6EC-4D22-924E-CC9A9BD9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C6DB-3100-4E1C-87BD-F483C194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6A8F2-62CD-47EE-8798-59A2D12A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B5764-F7F8-4DB9-A042-BBE72C53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1D24E-5CB1-40D1-8432-83094474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EB5A4-CB0B-470C-AD69-464FA7E7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F2A29-E37B-434A-8815-22FD4FD9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4B4EC-B1D8-4AF8-BC92-648CDD7E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1AE8A-728B-45EC-935D-8FE62401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69006-9018-4CA6-AED7-0A613D69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A6AFF-A1F1-4EAA-9BC3-95BB5ECB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F3804-68DE-4B5B-AFE3-F10AD228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EC32-E092-4920-B562-C7E20771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0ED96-C70F-4DC6-ABB6-F150D387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F064D-E05C-4060-804C-3EC7B822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7B1FA-7058-4EC5-AAFF-3A2ED8D3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BDA28-C0C1-4A1F-9C10-886E2290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5C9B2-791F-49EA-A4DB-03B6E4DB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C9948-C8F4-4C9F-8C80-D033A166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09AAB-5C8F-4270-BF89-97DD31A7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2BCEE-3B35-4A58-B25C-E31761DD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9CE8E-42E4-41F3-9D80-4B3CDC22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F4936-02D0-4EF2-B41D-22D3CF2B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C774-1B27-491E-919E-CEB17BFD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6A15E-6EF9-4CFC-AAA5-CF19623D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82401-FB15-4F1B-9F48-D6D1DD83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8A330-DE92-4BA1-8283-E86382BB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F7087-30FA-4A65-82D3-4A4F544B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15798-6822-4331-B5A8-D2C9B11B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5C80CD-1E31-48CB-AED2-E2246D09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692D5-54A4-48ED-8928-7211052B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D50D9F-F4B2-408C-BA2C-56A116A1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22C0E6-4D86-4EFE-A9C4-55D61898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7882D4-008D-4DBD-B7AA-2C408211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90F2-F76F-4AFF-9AB8-A6DA4CD7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B462F0-9CF8-469A-8113-31384154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95CCC2-5214-4165-B912-1EA92791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A06358-09BC-4A1A-BF91-B7950FA4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F95589-93D6-4708-9F34-4CD0E533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F4AEB-4F97-4E26-B942-BF16412C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5F6778-15BE-4FBB-90E9-AD45F463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588DCD-E964-4BE8-9BD5-587D2D15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F57557-C2CF-4C1A-B850-7F3E076E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7C53A1-135B-4F12-B57A-95F38E14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8237EA-4891-4DF6-AFBC-41FC866F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2A7B-AD8E-4EAD-9B3F-F09A1351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28AAD0-CC74-4863-AC11-4E5AD733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3518A1-370E-4E86-BB93-9CFB07B7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52B23A-264F-4933-A9B1-C783C01B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97BF14-4B3A-4AF2-B345-A62C7DE7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0CEF7C-C88B-48F0-926B-50A68DEC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3B49DD-8EEA-492C-9C09-938DFFAA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494D62-C6BA-4D39-A14C-E633993A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6C9AFF-F039-4342-A4D5-0F3976C2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407519-F7C4-4887-9DDB-BDB7F59D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94B5-9567-4F8A-AEF3-077A17D0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311B-CB24-4834-B8EC-BF4786B5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B65F-3189-4F03-8671-69BB1052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FBDB-CA3F-4A76-B70F-37BC3D8C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178C-93DD-486F-AD76-2FACA30F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3BA4-4B48-4526-A8AB-63276001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78CA-3115-4073-A7F2-3D32EB5C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9DE3-4E29-4088-9448-D0E0D76A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66F4-4337-4F3A-8CD8-4A24CFC8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7F608-1FAF-49A1-8B41-853287C6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B21A3-A69A-483E-906F-56094CD4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494EE-11E5-4F9C-866B-C03BBF49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16BD6-0273-4C73-BADF-2B824DC7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82C61-5240-4AC3-A9CD-F1EF5253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05F4-DDD9-4AF0-BC8B-66BE367B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1622A-6329-4625-A3CD-127F3133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34754-B90F-4130-AE92-704FA190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B2949-52A8-4024-9470-FE6FAE25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E8AE8-F2BD-44D9-83EB-FA9DD48C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80D07-3413-48A9-9A46-13EF2067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CA04C-53E1-4314-BD10-5178D9D4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7D38B-914D-4078-8AE4-A3A60274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FC48B-0762-47E2-ABEC-13E3133E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86E47-406E-4108-B135-7DE6345B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5EB80-E641-4DC6-955A-520467BC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1E9D-2BB2-41C9-BA9F-BB108C6C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250D3-667E-450E-9193-C4F357A5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7C2AA-0430-4E8E-9352-6DB57B9E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E9009-074E-4AF5-A7FF-F9152830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6B8AA-E026-40FC-BD29-10EF1035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8DFDF-268F-4897-AE5C-F01F908D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243EC-92F5-43F6-8096-FEAE135D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34B6A-D088-4A5B-BAAC-AFC7F771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90BB6-05C3-47B8-8B99-8C9B293F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D62FB-6711-4992-BD21-818022AB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AFE56-9026-4782-ADD1-689521F08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6DC1-0C6D-4E94-AC4F-FAC04C03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9BD45-5E19-4FDF-AF39-B16608DE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FF8BE-957F-4386-BB8E-C88B1382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37A3D-4D76-4A1A-8F0B-E79E1385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A22D0-1126-467B-B58C-688F9716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713AE-2B72-433E-B660-013A8D0B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2762D-0574-4C69-8C91-EFA3B2C3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2C93F-320A-4AEB-A9FF-9474120E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6B9F0-DD46-495D-ABA6-A8C3FB3B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4321F-85D3-4317-ACDE-0A4CB030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57D22-3792-4E25-B32B-C83642FF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552-DD69-40FE-A045-B4D34EDE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C54EA-1252-4022-B51B-4959E20E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FEA24-A5EE-4E71-9507-182B80E1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29BC6-C933-49A6-A37F-7F1CDDF4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624F3-3258-4566-A075-FEE5A883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48CF5-6124-4D3F-8E09-AD25C548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5738D-A58A-40DA-AEC3-363B0EEE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E9468-D610-43A9-895A-7E9CDE63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E0116-40CF-4839-88D5-5F3FAC6D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803BD-A94D-4603-995C-87829895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82C24-FDCC-4622-B9E4-CF42F8E0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874B-316E-4D81-ADE0-AEF59815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7D878-B158-497A-9F52-157BDB32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59AFE-B9CF-45FD-B605-4078AABF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2225D-655F-49CC-B2CD-8BBDBE47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87E2A-4735-4DC0-98DB-AAD739BB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1D3E6-18F4-49F5-9689-8A610833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A88AF-BBCC-471A-88B0-FE365113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211E4-1694-410E-8F1A-BB00D04D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A4711-D943-4E9E-9F72-9AB72EEE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7411F-1115-4EDA-8B80-1CFB00D9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A0489-39FD-408E-8024-7E523164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C80C-BD39-4F09-B903-0B12DAC0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75AD4-33EC-4B24-BEEF-434CFE59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E93B3-B5DC-4B8F-BD88-9786B9E9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2A41C-9102-4326-B248-CAC460F6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CB355-960F-45AB-BAF6-6387A047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AA3F6-3344-4D2A-BE70-F410D462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2E9B7-8852-46DF-BB3E-9210B97C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32804-42A7-4B8E-BA22-B9C84E64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239F4-3A8C-4B78-8F12-FD7C537A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7DA96-EBA9-4C1A-99C8-B21DB7F5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E3B18-AD7E-4ACB-9834-26D79128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6130-D011-4D3A-B2C9-70F4CA0C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A8422-DF73-4863-AD7D-3F6D68F4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E1AA4-3FDF-4B49-B7C2-BD0D3EA8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D66B5-CC51-4EFD-B351-A64E58C1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3EE14-1589-4877-A1B2-37825D08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A7981-C354-4305-B758-7B71F6E8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410D0-BEF1-43BC-9E0C-C8D8D761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E7D1A-8817-4E78-AEA0-0891B5A0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2DBE5-0B68-4DE5-BA34-80659D35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432CD-59E1-43E4-A1EC-D6F55D3C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9625E-9899-4F9D-88DE-8AB2947A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58CE-48B9-4AAF-ACB1-C120EA071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50D7-8BBF-45EA-BF4C-6C602B660E4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3C0C-9D7B-4B9D-AAAB-174F6E12D3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2990-CBE6-4142-968A-2130B6FCFF3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EBDA-EAF4-4E15-915A-9E77499066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E145-A484-43E7-9974-51827ADE019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92D3-E2C9-4709-8412-711E332AF3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44C7-81FC-4333-B963-74ED7E0C21D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77CB-1C25-4097-BE23-452CD4AB7E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4CAA-C153-4A47-9D51-2D426BF7699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48C5-4E48-4503-96C8-D5CEBF6BBB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CD5A-AED5-4DF8-AFD2-E173798BBC4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5DB3-CC58-4CED-ADC6-57F89D6DF4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173B-8733-4A4C-A9AE-98F0A9952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080A-ACC4-42DF-A964-49D9ADBC616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1FD9-9209-43F5-8824-2A8AE21E88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480E-CF08-415E-91FF-3D861D3B07C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FF85-3C19-415A-B9B3-A2F2BB93B7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AC86-6746-48DA-8B7E-BE1EB884F9C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4A7B-ABB7-4F79-AD3D-37201D0F3A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40BC-BDDD-4191-932D-4A6F0E61975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6C0D-4DE5-41B4-97BC-3AB9C86571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D277-84E4-44BD-B071-2C0C83202DE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2853-12D8-4E8C-A2FD-BF38A98250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5ACE-3624-4A2E-B837-61CACB5E30B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E986-CE88-44EF-8360-C07BE5C010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BJ_026"/>
          <p:cNvPicPr/>
          <p:nvPr/>
        </p:nvPicPr>
        <p:blipFill>
          <a:blip r:embed="rId1"/>
          <a:stretch/>
        </p:blipFill>
        <p:spPr>
          <a:xfrm>
            <a:off x="-914400" y="-203040"/>
            <a:ext cx="10591920" cy="706104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ff"/>
                </a:solidFill>
                <a:latin typeface="华文行楷"/>
                <a:ea typeface="华文行楷"/>
              </a:rPr>
              <a:t>三角形全等的判定</a:t>
            </a:r>
            <a:endParaRPr b="0" lang="en-US" sz="8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219320" y="5331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Bookman Old Style"/>
                <a:ea typeface="华文新魏"/>
              </a:rPr>
              <a:t>初中几何第二册第三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3657600" y="5105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Times New Roman"/>
                <a:ea typeface="隶书"/>
              </a:rPr>
              <a:t>执教人：王臣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7"/>
          <p:cNvSpPr/>
          <p:nvPr/>
        </p:nvSpPr>
        <p:spPr>
          <a:xfrm>
            <a:off x="1371600" y="32767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8"/>
          <p:cNvSpPr/>
          <p:nvPr/>
        </p:nvSpPr>
        <p:spPr>
          <a:xfrm>
            <a:off x="3581280" y="3505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ff"/>
                </a:solidFill>
                <a:latin typeface="Times New Roman"/>
                <a:ea typeface="隶书"/>
              </a:rPr>
              <a:t>第一课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9">
            <a:hlinkClick r:id="" action="ppaction://hlinkshowjump?jump=nextslide"/>
          </p:cNvPr>
          <p:cNvSpPr/>
          <p:nvPr/>
        </p:nvSpPr>
        <p:spPr>
          <a:xfrm>
            <a:off x="8229600" y="63244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MTM_001.MID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75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75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129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例</a:t>
            </a:r>
            <a:r>
              <a:rPr b="1" lang="en-US" sz="4400" spc="-1" strike="noStrike">
                <a:solidFill>
                  <a:srgbClr val="0033cc"/>
                </a:solidFill>
                <a:latin typeface="宋体"/>
              </a:rPr>
              <a:t>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2057400" y="609480"/>
            <a:ext cx="7086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=AD ,∠CAB=∠DA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△ACB ≌ △AD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3200400" y="28954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"/>
          <p:cNvSpPr/>
          <p:nvPr/>
        </p:nvSpPr>
        <p:spPr>
          <a:xfrm>
            <a:off x="6139800" y="2019960"/>
            <a:ext cx="2274840" cy="145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6"/>
          <p:cNvSpPr/>
          <p:nvPr/>
        </p:nvSpPr>
        <p:spPr>
          <a:xfrm flipV="1">
            <a:off x="6142320" y="3463560"/>
            <a:ext cx="2269800" cy="146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7"/>
          <p:cNvSpPr/>
          <p:nvPr/>
        </p:nvSpPr>
        <p:spPr>
          <a:xfrm>
            <a:off x="5486400" y="34732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8"/>
          <p:cNvSpPr/>
          <p:nvPr/>
        </p:nvSpPr>
        <p:spPr>
          <a:xfrm flipH="1">
            <a:off x="5486040" y="2025720"/>
            <a:ext cx="68580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9"/>
          <p:cNvSpPr/>
          <p:nvPr/>
        </p:nvSpPr>
        <p:spPr>
          <a:xfrm>
            <a:off x="5501520" y="3466800"/>
            <a:ext cx="655200" cy="146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0"/>
          <p:cNvSpPr/>
          <p:nvPr/>
        </p:nvSpPr>
        <p:spPr>
          <a:xfrm>
            <a:off x="4876920" y="3168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11"/>
          <p:cNvSpPr/>
          <p:nvPr/>
        </p:nvSpPr>
        <p:spPr>
          <a:xfrm>
            <a:off x="8381880" y="2940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12"/>
          <p:cNvSpPr/>
          <p:nvPr/>
        </p:nvSpPr>
        <p:spPr>
          <a:xfrm>
            <a:off x="6172200" y="15685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3"/>
          <p:cNvSpPr/>
          <p:nvPr/>
        </p:nvSpPr>
        <p:spPr>
          <a:xfrm>
            <a:off x="6019920" y="4921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AutoShape 14"/>
          <p:cNvSpPr/>
          <p:nvPr/>
        </p:nvSpPr>
        <p:spPr>
          <a:xfrm>
            <a:off x="990720" y="2209680"/>
            <a:ext cx="3797280" cy="3164040"/>
          </a:xfrm>
          <a:prstGeom prst="wedgeRoundRectCallout">
            <a:avLst>
              <a:gd name="adj1" fmla="val 69898"/>
              <a:gd name="adj2" fmla="val -83365"/>
              <a:gd name="adj3" fmla="val 16667"/>
            </a:avLst>
          </a:prstGeom>
          <a:solidFill>
            <a:srgbClr val="ccffff">
              <a:alpha val="50000"/>
            </a:srgbClr>
          </a:solidFill>
          <a:ln w="158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证明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△</a:t>
            </a: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ACB ≌ △ADB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这两个条件够吗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还要什么条件呢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15"/>
          <p:cNvSpPr/>
          <p:nvPr/>
        </p:nvSpPr>
        <p:spPr>
          <a:xfrm>
            <a:off x="4267080" y="1143000"/>
            <a:ext cx="441972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129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例</a:t>
            </a:r>
            <a:r>
              <a:rPr b="1" lang="en-US" sz="4400" spc="-1" strike="noStrike">
                <a:solidFill>
                  <a:srgbClr val="0033cc"/>
                </a:solidFill>
                <a:latin typeface="宋体"/>
              </a:rPr>
              <a:t>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1" name="Text Box 3"/>
          <p:cNvSpPr/>
          <p:nvPr/>
        </p:nvSpPr>
        <p:spPr>
          <a:xfrm>
            <a:off x="2057400" y="609480"/>
            <a:ext cx="7086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=AD ,∠CAB=∠DAB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△ACB ≌ △AD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4"/>
          <p:cNvSpPr/>
          <p:nvPr/>
        </p:nvSpPr>
        <p:spPr>
          <a:xfrm>
            <a:off x="3200400" y="28954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5"/>
          <p:cNvSpPr/>
          <p:nvPr/>
        </p:nvSpPr>
        <p:spPr>
          <a:xfrm>
            <a:off x="6139800" y="2019960"/>
            <a:ext cx="2274840" cy="145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6"/>
          <p:cNvSpPr/>
          <p:nvPr/>
        </p:nvSpPr>
        <p:spPr>
          <a:xfrm flipV="1">
            <a:off x="6142320" y="3463560"/>
            <a:ext cx="2269800" cy="146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7"/>
          <p:cNvSpPr/>
          <p:nvPr/>
        </p:nvSpPr>
        <p:spPr>
          <a:xfrm>
            <a:off x="5486400" y="34732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8"/>
          <p:cNvSpPr/>
          <p:nvPr/>
        </p:nvSpPr>
        <p:spPr>
          <a:xfrm flipH="1">
            <a:off x="5486040" y="2025720"/>
            <a:ext cx="68580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9"/>
          <p:cNvSpPr/>
          <p:nvPr/>
        </p:nvSpPr>
        <p:spPr>
          <a:xfrm>
            <a:off x="5501520" y="3466800"/>
            <a:ext cx="655200" cy="146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10"/>
          <p:cNvSpPr/>
          <p:nvPr/>
        </p:nvSpPr>
        <p:spPr>
          <a:xfrm>
            <a:off x="4876920" y="3168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11"/>
          <p:cNvSpPr/>
          <p:nvPr/>
        </p:nvSpPr>
        <p:spPr>
          <a:xfrm>
            <a:off x="8381880" y="2940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12"/>
          <p:cNvSpPr/>
          <p:nvPr/>
        </p:nvSpPr>
        <p:spPr>
          <a:xfrm>
            <a:off x="6172200" y="15685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13"/>
          <p:cNvSpPr/>
          <p:nvPr/>
        </p:nvSpPr>
        <p:spPr>
          <a:xfrm>
            <a:off x="6019920" y="4921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14"/>
          <p:cNvSpPr/>
          <p:nvPr/>
        </p:nvSpPr>
        <p:spPr>
          <a:xfrm>
            <a:off x="990720" y="2209680"/>
            <a:ext cx="3962160" cy="3733920"/>
          </a:xfrm>
          <a:prstGeom prst="wedgeRoundRectCallout">
            <a:avLst>
              <a:gd name="adj1" fmla="val 64902"/>
              <a:gd name="adj2" fmla="val -78273"/>
              <a:gd name="adj3" fmla="val 16667"/>
            </a:avLst>
          </a:prstGeom>
          <a:solidFill>
            <a:srgbClr val="ccffff">
              <a:alpha val="50000"/>
            </a:srgbClr>
          </a:solidFill>
          <a:ln w="158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证明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△</a:t>
            </a: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ACB ≌ △ADB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这两个条件够吗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还要什么条件呢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15"/>
          <p:cNvSpPr/>
          <p:nvPr/>
        </p:nvSpPr>
        <p:spPr>
          <a:xfrm>
            <a:off x="4267080" y="1143000"/>
            <a:ext cx="441972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17"/>
          <p:cNvSpPr/>
          <p:nvPr/>
        </p:nvSpPr>
        <p:spPr>
          <a:xfrm>
            <a:off x="1371600" y="51814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</a:rPr>
              <a:t>还要一条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129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例</a:t>
            </a:r>
            <a:r>
              <a:rPr b="1" lang="en-US" sz="4400" spc="-1" strike="noStrike">
                <a:solidFill>
                  <a:srgbClr val="0033cc"/>
                </a:solidFill>
                <a:latin typeface="宋体"/>
              </a:rPr>
              <a:t>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2057400" y="609480"/>
            <a:ext cx="7086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=AD ,∠CAB=∠DA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△ACB ≌ △AD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4"/>
          <p:cNvSpPr/>
          <p:nvPr/>
        </p:nvSpPr>
        <p:spPr>
          <a:xfrm>
            <a:off x="3200400" y="28954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5"/>
          <p:cNvSpPr/>
          <p:nvPr/>
        </p:nvSpPr>
        <p:spPr>
          <a:xfrm>
            <a:off x="6139800" y="2051640"/>
            <a:ext cx="2274840" cy="145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6"/>
          <p:cNvSpPr/>
          <p:nvPr/>
        </p:nvSpPr>
        <p:spPr>
          <a:xfrm flipV="1">
            <a:off x="6142320" y="3495240"/>
            <a:ext cx="2269800" cy="146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7"/>
          <p:cNvSpPr/>
          <p:nvPr/>
        </p:nvSpPr>
        <p:spPr>
          <a:xfrm>
            <a:off x="5486400" y="3505320"/>
            <a:ext cx="297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8"/>
          <p:cNvSpPr/>
          <p:nvPr/>
        </p:nvSpPr>
        <p:spPr>
          <a:xfrm flipH="1">
            <a:off x="5486040" y="2057400"/>
            <a:ext cx="68580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9"/>
          <p:cNvSpPr/>
          <p:nvPr/>
        </p:nvSpPr>
        <p:spPr>
          <a:xfrm>
            <a:off x="5501520" y="3498480"/>
            <a:ext cx="655200" cy="146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10"/>
          <p:cNvSpPr/>
          <p:nvPr/>
        </p:nvSpPr>
        <p:spPr>
          <a:xfrm>
            <a:off x="4876920" y="3168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1"/>
          <p:cNvSpPr/>
          <p:nvPr/>
        </p:nvSpPr>
        <p:spPr>
          <a:xfrm>
            <a:off x="8305920" y="3048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2"/>
          <p:cNvSpPr/>
          <p:nvPr/>
        </p:nvSpPr>
        <p:spPr>
          <a:xfrm>
            <a:off x="6172200" y="15685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3"/>
          <p:cNvSpPr/>
          <p:nvPr/>
        </p:nvSpPr>
        <p:spPr>
          <a:xfrm>
            <a:off x="6019920" y="4921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17"/>
          <p:cNvSpPr/>
          <p:nvPr/>
        </p:nvSpPr>
        <p:spPr>
          <a:xfrm>
            <a:off x="1981080" y="1828800"/>
            <a:ext cx="3657600" cy="1600200"/>
          </a:xfrm>
          <a:prstGeom prst="wedgeEllipseCallout">
            <a:avLst>
              <a:gd name="adj1" fmla="val 72398"/>
              <a:gd name="adj2" fmla="val 23115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既是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一条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18"/>
          <p:cNvSpPr/>
          <p:nvPr/>
        </p:nvSpPr>
        <p:spPr>
          <a:xfrm>
            <a:off x="6705720" y="1371600"/>
            <a:ext cx="2133360" cy="1143000"/>
          </a:xfrm>
          <a:prstGeom prst="cloudCallout">
            <a:avLst>
              <a:gd name="adj1" fmla="val -32365"/>
              <a:gd name="adj2" fmla="val 123333"/>
            </a:avLst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看看线段</a:t>
            </a: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A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19"/>
          <p:cNvSpPr/>
          <p:nvPr/>
        </p:nvSpPr>
        <p:spPr>
          <a:xfrm>
            <a:off x="3657600" y="5105520"/>
            <a:ext cx="2362320" cy="1295280"/>
          </a:xfrm>
          <a:prstGeom prst="wedgeRoundRectCallout">
            <a:avLst>
              <a:gd name="adj1" fmla="val 69555"/>
              <a:gd name="adj2" fmla="val -147060"/>
              <a:gd name="adj3" fmla="val 16667"/>
            </a:avLst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又是</a:t>
            </a:r>
            <a:r>
              <a:rPr b="1" i="1" lang="zh-CN" sz="3200" spc="-1" strike="noStrike">
                <a:solidFill>
                  <a:srgbClr val="cc00cc"/>
                </a:solidFill>
                <a:latin typeface="Times New Roman"/>
              </a:rPr>
              <a:t>△</a:t>
            </a: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AD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一条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20"/>
          <p:cNvSpPr/>
          <p:nvPr/>
        </p:nvSpPr>
        <p:spPr>
          <a:xfrm>
            <a:off x="5486400" y="3505320"/>
            <a:ext cx="297180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22"/>
          <p:cNvSpPr/>
          <p:nvPr/>
        </p:nvSpPr>
        <p:spPr>
          <a:xfrm>
            <a:off x="1143000" y="3809880"/>
            <a:ext cx="3733920" cy="1219320"/>
          </a:xfrm>
          <a:prstGeom prst="wedgeRectCallout">
            <a:avLst>
              <a:gd name="adj1" fmla="val 90180"/>
              <a:gd name="adj2" fmla="val -76824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△</a:t>
            </a:r>
            <a:r>
              <a:rPr b="1" i="1" lang="en-US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ACB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和</a:t>
            </a:r>
            <a:r>
              <a:rPr b="1" i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△</a:t>
            </a:r>
            <a:r>
              <a:rPr b="1" i="1" lang="en-US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ADB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的</a:t>
            </a:r>
            <a:r>
              <a:rPr b="1" lang="zh-CN" sz="3200" spc="-1" strike="noStrike" u="sng">
                <a:solidFill>
                  <a:srgbClr val="ff9900"/>
                </a:solidFill>
                <a:uFillTx/>
                <a:latin typeface="Times New Roman"/>
                <a:ea typeface="黑体"/>
              </a:rPr>
              <a:t>公共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129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例</a:t>
            </a:r>
            <a:r>
              <a:rPr b="1" lang="en-US" sz="4400" spc="-1" strike="noStrike">
                <a:solidFill>
                  <a:srgbClr val="0033cc"/>
                </a:solidFill>
                <a:latin typeface="宋体"/>
              </a:rPr>
              <a:t>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1828800" y="609480"/>
            <a:ext cx="7086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=AD ,∠CAB=∠DA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△ACB ≌ △AD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3200400" y="28954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5"/>
          <p:cNvSpPr/>
          <p:nvPr/>
        </p:nvSpPr>
        <p:spPr>
          <a:xfrm>
            <a:off x="6368400" y="1854720"/>
            <a:ext cx="2274840" cy="145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6"/>
          <p:cNvSpPr/>
          <p:nvPr/>
        </p:nvSpPr>
        <p:spPr>
          <a:xfrm flipV="1">
            <a:off x="6370920" y="3298320"/>
            <a:ext cx="2269800" cy="146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7"/>
          <p:cNvSpPr/>
          <p:nvPr/>
        </p:nvSpPr>
        <p:spPr>
          <a:xfrm>
            <a:off x="5715000" y="3308400"/>
            <a:ext cx="297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8"/>
          <p:cNvSpPr/>
          <p:nvPr/>
        </p:nvSpPr>
        <p:spPr>
          <a:xfrm flipH="1">
            <a:off x="5714640" y="1860480"/>
            <a:ext cx="68580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9"/>
          <p:cNvSpPr/>
          <p:nvPr/>
        </p:nvSpPr>
        <p:spPr>
          <a:xfrm>
            <a:off x="5730120" y="3301560"/>
            <a:ext cx="655200" cy="146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0"/>
          <p:cNvSpPr/>
          <p:nvPr/>
        </p:nvSpPr>
        <p:spPr>
          <a:xfrm>
            <a:off x="5257800" y="2971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1"/>
          <p:cNvSpPr/>
          <p:nvPr/>
        </p:nvSpPr>
        <p:spPr>
          <a:xfrm>
            <a:off x="8381880" y="2851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2"/>
          <p:cNvSpPr/>
          <p:nvPr/>
        </p:nvSpPr>
        <p:spPr>
          <a:xfrm>
            <a:off x="6400800" y="1371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3"/>
          <p:cNvSpPr/>
          <p:nvPr/>
        </p:nvSpPr>
        <p:spPr>
          <a:xfrm>
            <a:off x="6477120" y="4616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9"/>
          <p:cNvSpPr/>
          <p:nvPr/>
        </p:nvSpPr>
        <p:spPr>
          <a:xfrm>
            <a:off x="914400" y="1873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证明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20"/>
          <p:cNvSpPr/>
          <p:nvPr/>
        </p:nvSpPr>
        <p:spPr>
          <a:xfrm>
            <a:off x="1403280" y="24922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CB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和 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D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21"/>
          <p:cNvSpPr/>
          <p:nvPr/>
        </p:nvSpPr>
        <p:spPr>
          <a:xfrm>
            <a:off x="1042920" y="314172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2"/>
          <p:cNvSpPr/>
          <p:nvPr/>
        </p:nvSpPr>
        <p:spPr>
          <a:xfrm>
            <a:off x="1258920" y="2852640"/>
            <a:ext cx="396252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  =  A D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AB=∠DA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 B = A 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公共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3"/>
          <p:cNvSpPr/>
          <p:nvPr/>
        </p:nvSpPr>
        <p:spPr>
          <a:xfrm>
            <a:off x="1258920" y="48690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∴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B≌△AD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24"/>
          <p:cNvSpPr/>
          <p:nvPr/>
        </p:nvSpPr>
        <p:spPr>
          <a:xfrm>
            <a:off x="4646520" y="4869000"/>
            <a:ext cx="17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SAS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 Box 2"/>
          <p:cNvSpPr/>
          <p:nvPr/>
        </p:nvSpPr>
        <p:spPr>
          <a:xfrm>
            <a:off x="2743200" y="2133720"/>
            <a:ext cx="449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27</a:t>
            </a:r>
            <a:r>
              <a:rPr b="1" lang="en-US" sz="4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练习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 Box 2"/>
          <p:cNvSpPr/>
          <p:nvPr/>
        </p:nvSpPr>
        <p:spPr>
          <a:xfrm>
            <a:off x="1619280" y="1773360"/>
            <a:ext cx="380988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作业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3333ff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33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cc00cc"/>
                </a:solidFill>
                <a:uFillTx/>
                <a:latin typeface="Times New Roman"/>
              </a:rPr>
              <a:t> 6 , 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2"/>
          <p:cNvSpPr/>
          <p:nvPr/>
        </p:nvSpPr>
        <p:spPr>
          <a:xfrm>
            <a:off x="1476360" y="1628640"/>
            <a:ext cx="6924600" cy="21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边角边公理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有两边和它们的夹边对应相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的两个三角形全等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3"/>
          <p:cNvSpPr/>
          <p:nvPr/>
        </p:nvSpPr>
        <p:spPr>
          <a:xfrm>
            <a:off x="2107800" y="3933720"/>
            <a:ext cx="444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边角边公理简记为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: 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（</a:t>
            </a:r>
            <a:r>
              <a:rPr b="1" i="1" lang="en-US" sz="3600" spc="-1" strike="noStrike">
                <a:solidFill>
                  <a:srgbClr val="cc00cc"/>
                </a:solidFill>
                <a:latin typeface="Times New Roman"/>
              </a:rPr>
              <a:t>SAS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2340000" y="4724280"/>
            <a:ext cx="3124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cc"/>
                </a:solidFill>
                <a:latin typeface="Times New Roman"/>
              </a:rPr>
              <a:t>S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代表</a:t>
            </a: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: 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cc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代表</a:t>
            </a: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: 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1224000" y="533520"/>
            <a:ext cx="104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华文中宋"/>
                <a:ea typeface="华文中宋"/>
              </a:rPr>
              <a:t>小结</a:t>
            </a:r>
            <a:r>
              <a:rPr b="0" lang="en-US" sz="4000" spc="-1" strike="noStrike">
                <a:solidFill>
                  <a:srgbClr val="ff9900"/>
                </a:solidFill>
                <a:latin typeface="华文中宋"/>
                <a:ea typeface="华文中宋"/>
              </a:rPr>
              <a:t>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02.MPG" descr=""/>
          <p:cNvPicPr/>
          <p:nvPr/>
        </p:nvPicPr>
        <p:blipFill>
          <a:blip r:embed="rId1"/>
          <a:stretch/>
        </p:blipFill>
        <p:spPr>
          <a:xfrm>
            <a:off x="533520" y="61920"/>
            <a:ext cx="8839080" cy="6734160"/>
          </a:xfrm>
          <a:prstGeom prst="rect">
            <a:avLst/>
          </a:prstGeom>
          <a:ln w="0">
            <a:noFill/>
          </a:ln>
        </p:spPr>
      </p:pic>
      <p:pic>
        <p:nvPicPr>
          <p:cNvPr id="697" name="03.MPG" descr=""/>
          <p:cNvPicPr/>
          <p:nvPr/>
        </p:nvPicPr>
        <p:blipFill>
          <a:blip r:embed="rId2"/>
          <a:stretch/>
        </p:blipFill>
        <p:spPr>
          <a:xfrm>
            <a:off x="5029200" y="457200"/>
            <a:ext cx="3276720" cy="26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" fill="hold"/>
                                        <p:tgtEl>
                                          <p:spTgt spid="6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0" dur="1" fill="hold"/>
                                        <p:tgtEl>
                                          <p:spTgt spid="6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232" nodeType="clickEffect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5" dur="1" fill="hold"/>
                                        <p:tgtEl>
                                          <p:spTgt spid="6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9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990360" y="3580920"/>
            <a:ext cx="74674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重点、难点、关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重点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.: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三角形全等的判定：边角边公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难点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准确理解全等三角形的判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84836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教学目的</a:t>
            </a:r>
            <a:br>
              <a:rPr sz="4800"/>
            </a:br>
            <a:r>
              <a:rPr b="0" lang="zh-CN" sz="2400" spc="-1" strike="noStrike">
                <a:solidFill>
                  <a:srgbClr val="221304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了解判定全等三角形的意义，掌握边、角、边公理的内容，会用边、角、边公理证明两个三角形全等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          2.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通过全等三角形判定条件的学习，使学生认识事物之间的因果关系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4"/>
          <p:cNvSpPr/>
          <p:nvPr/>
        </p:nvSpPr>
        <p:spPr>
          <a:xfrm>
            <a:off x="1066680" y="7621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教学过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1295280" y="1828800"/>
            <a:ext cx="7315200" cy="21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复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全等三角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表示两个三角形全等应注意什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167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问 题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根据定义判定两个三角形全等，需要知道三条边对应相等和三个角对应相等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有没有别的方法可以判定两个三角形全等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1219320" y="762120"/>
            <a:ext cx="403848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二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. 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新授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导入新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1476360" y="2637000"/>
            <a:ext cx="6924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边角边（</a:t>
            </a: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SAS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）公理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有两边和它们的夹角对应相等的两个三角形全等</a:t>
            </a: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3"/>
          <p:cNvSpPr/>
          <p:nvPr/>
        </p:nvSpPr>
        <p:spPr>
          <a:xfrm>
            <a:off x="1371600" y="1752480"/>
            <a:ext cx="6924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有两边和它们的夹角对应相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的两个三角形全等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2099880" y="3357720"/>
            <a:ext cx="444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边角边公理简记为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: 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（</a:t>
            </a:r>
            <a:r>
              <a:rPr b="1" i="1" lang="en-US" sz="3600" spc="-1" strike="noStrike">
                <a:solidFill>
                  <a:srgbClr val="cc00cc"/>
                </a:solidFill>
                <a:latin typeface="Times New Roman"/>
              </a:rPr>
              <a:t>SAS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4932360" y="4292640"/>
            <a:ext cx="3124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cc"/>
                </a:solidFill>
                <a:latin typeface="Times New Roman"/>
              </a:rPr>
              <a:t>S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代表</a:t>
            </a: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:  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cc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代表</a:t>
            </a: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: 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1295280" y="7621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边角边公理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2743200" y="2133720"/>
            <a:ext cx="449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27</a:t>
            </a:r>
            <a:r>
              <a:rPr b="1" lang="en-US" sz="4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练习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3276720" y="1871640"/>
            <a:ext cx="35812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△Ⅰ ≌ △Ⅲ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△Ⅱ ≌ △Ⅴ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△Ⅳ ≌ △Ⅷ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△Ⅵ ≌ △Ⅶ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1447920" y="8380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练习   第一题答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129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例</a:t>
            </a:r>
            <a:r>
              <a:rPr b="1" lang="en-US" sz="4400" spc="-1" strike="noStrike">
                <a:solidFill>
                  <a:srgbClr val="0033cc"/>
                </a:solidFill>
                <a:latin typeface="宋体"/>
              </a:rPr>
              <a:t>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2057400" y="609480"/>
            <a:ext cx="7086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∠CAB=∠DA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△AC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≌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△AD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3200400" y="28954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7"/>
          <p:cNvSpPr/>
          <p:nvPr/>
        </p:nvSpPr>
        <p:spPr>
          <a:xfrm>
            <a:off x="6139800" y="2019960"/>
            <a:ext cx="2274840" cy="145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8"/>
          <p:cNvSpPr/>
          <p:nvPr/>
        </p:nvSpPr>
        <p:spPr>
          <a:xfrm flipV="1">
            <a:off x="6142320" y="3463560"/>
            <a:ext cx="2269800" cy="146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9"/>
          <p:cNvSpPr/>
          <p:nvPr/>
        </p:nvSpPr>
        <p:spPr>
          <a:xfrm>
            <a:off x="5486400" y="34732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0"/>
          <p:cNvSpPr/>
          <p:nvPr/>
        </p:nvSpPr>
        <p:spPr>
          <a:xfrm flipH="1">
            <a:off x="5486040" y="2025720"/>
            <a:ext cx="68580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1"/>
          <p:cNvSpPr/>
          <p:nvPr/>
        </p:nvSpPr>
        <p:spPr>
          <a:xfrm>
            <a:off x="5501520" y="3466800"/>
            <a:ext cx="655200" cy="146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12"/>
          <p:cNvSpPr/>
          <p:nvPr/>
        </p:nvSpPr>
        <p:spPr>
          <a:xfrm>
            <a:off x="4876920" y="3168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13"/>
          <p:cNvSpPr/>
          <p:nvPr/>
        </p:nvSpPr>
        <p:spPr>
          <a:xfrm>
            <a:off x="8381880" y="2940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14"/>
          <p:cNvSpPr/>
          <p:nvPr/>
        </p:nvSpPr>
        <p:spPr>
          <a:xfrm>
            <a:off x="6172200" y="15685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5"/>
          <p:cNvSpPr/>
          <p:nvPr/>
        </p:nvSpPr>
        <p:spPr>
          <a:xfrm>
            <a:off x="6019920" y="4921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17"/>
          <p:cNvSpPr/>
          <p:nvPr/>
        </p:nvSpPr>
        <p:spPr>
          <a:xfrm>
            <a:off x="1116000" y="2133720"/>
            <a:ext cx="3743280" cy="2950920"/>
          </a:xfrm>
          <a:prstGeom prst="wedgeRoundRectCallout">
            <a:avLst>
              <a:gd name="adj1" fmla="val 83162"/>
              <a:gd name="adj2" fmla="val -85773"/>
              <a:gd name="adj3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证明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△</a:t>
            </a: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ACB ≌ △AD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这两个条件够吗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19"/>
          <p:cNvSpPr/>
          <p:nvPr/>
        </p:nvSpPr>
        <p:spPr>
          <a:xfrm>
            <a:off x="4267080" y="1143000"/>
            <a:ext cx="441972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5:58:33Z</dcterms:created>
  <dc:creator>nanjin-university</dc:creator>
  <dc:description/>
  <dc:language>en-US</dc:language>
  <cp:lastModifiedBy>a</cp:lastModifiedBy>
  <dcterms:modified xsi:type="dcterms:W3CDTF">2015-03-17T07:14:14Z</dcterms:modified>
  <cp:revision>20</cp:revision>
  <dc:subject/>
  <dc:title>3.5  三角形全等的判定（一） 第一课时</dc:title>
</cp:coreProperties>
</file>