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chimes.wav" ContentType="audio/x-wav"/>
  <Override PartName="/ppt/media/image6.jpeg" ContentType="image/jpeg"/>
  <Override PartName="/ppt/media/image4.jpeg" ContentType="image/jpeg"/>
  <Override PartName="/ppt/media/image5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D3F88-71EA-4CF2-B831-B0ABAE4EAD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9D531-4EF3-4263-848E-B066192AF2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AEF7-F580-4EEF-8CE5-192A06DD6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2322-2C81-455D-B1E3-BD0C2506A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48C0F1-6C84-4141-A634-1340B4AD9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859953-33A6-43D7-9250-1CCB458C0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266E5F-91E5-4EB3-BC5B-A565E9BD5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498EB9-7706-4601-BBD9-13F001A73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869DA8-551E-481E-822D-AE2DCDAC9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0FDA53-7BF0-46E5-968F-70634661C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EE1DB4-4C47-43B2-8166-52D8627EA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53B7C6-E6E6-489F-B7D3-50E0BA1D3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0E08F1-BB09-45B3-8898-9BDCFCB86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EA9449-94D1-45F3-A281-AE34394F8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1F20-9B8F-4C98-AA13-EB2699B46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5E90C5-16CE-4C81-B882-7C39A87E8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84AA0E-E823-48B2-BDAE-12B5E2A3B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1541AA-A6AD-4DF0-9FC8-56C9C7A4E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4F35D5-EBC4-47C5-8C14-5B383FAFA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00DA76-9CDB-45E5-BFA1-809AE6F76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6BB5F0-98EF-49AC-9D83-1AEBA2510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36EA11-69A5-495F-A411-0B9052CD7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B6EDE1-A13D-4F28-AA40-DE769C502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25C48F-C68F-409D-95DA-F82B7F3BA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08BA65-C75D-4868-A7B3-AAAE69A1A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E299-EC09-4424-BAB0-FF6D938F9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86573D-70BF-40E5-BEB7-098B53E49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C9BEA4-9BC3-4BDD-BD31-B2FD4A0CB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EE1A76-C750-462E-8494-6671E114A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B80AFE-97B9-45AF-9FAF-72A81D5CE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A63251-B5E0-4695-94C2-47D67811E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908BE4-F7F5-47D9-8BA5-461630815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19AD10-1222-4E2D-9ED0-CC290407F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A7E836-B121-491A-85DC-CD1E7B65E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D13B72-B360-4CA6-8B86-27BD0C3F6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2A6016-A42F-4938-8019-6E8D90AAC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BEB50-6EA2-4D0C-96F0-0BD4D8B25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C034B2-82C0-4271-85F1-0C8F3CD1F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4A692A-64F0-4CB9-8680-D0FEA25A6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A7D9F2-DE61-4834-B8CC-34609556F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0F4A6A-5BEA-493E-9F8F-74394C006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479EED-EA4D-4545-A711-D7C53B7FF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42AC4A-9C99-4CA6-AD56-8A8D82A17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7E3A68-E4AE-4CB2-B08D-3B99FB061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860B89-CD4C-41BB-AB0E-9F8096653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E92CDA-E882-43C7-9A20-5EEC22307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7F7646-0AEE-46CB-9E34-187C5D0BE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81213-327D-40F8-9E33-40729FA2D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522074-3B26-4ECB-B16C-6E846AC6F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E8E97E-3A2D-4F1E-9325-BC78E237F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2127AB-D8A8-4147-B9CA-5020BC74F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109E5D-08ED-4457-834D-C50B3BAC5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AD2031-16FA-40EA-B2A0-ED35C54EC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70D1E5-EDDA-4F9D-A4D4-E784B71A2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1DA299-E77D-4B16-AF6A-1A58BFA4A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331E47-0190-4579-9632-9802F8FB1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9B26C3-C469-4BA1-93B8-3B39FE148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CF5178-DA22-4C0F-BF60-7DDB3F6A4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14168-B017-4ABC-B2B4-BFAFA292F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BDE2E7-7160-4FF8-9A66-78854F3A5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E9C737-DAB9-48AB-A4B1-310CE5772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6B24E2-B4DA-4465-89C0-1049CA939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9E3750-DEAE-4060-9F92-2B45A7E16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ADD0A2-3D75-4C21-8940-0FBFCADFB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15F3EE-10B1-4A72-84CD-DB32EEDCA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E33595-AD7F-4460-966D-627A7F1C3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0D9E5-5AAA-4B1C-83C3-4C7264175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24095-A8D7-4FA2-B8CA-4AAACCFE0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A0435-F9AE-48CA-B57B-EDC75AB12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E39D8-89C8-4EC8-B1BA-4DB8A3312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B0E6-7E02-423B-AA20-F40D455C9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A6A8B-6B70-4EED-B935-59CDA8147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D3B97-2950-40CC-8080-F1B7F6723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FD990-1FAF-408D-891D-815AE2725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54AD9-4513-45AD-A346-0435F5EBA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0C641-3206-469B-83F3-81C5DB8B7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2B5D2F-70B9-45E9-A2D7-D87F531CD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7CB00B-9F34-484E-B833-5160CCE45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7EF76B-34B3-40D5-98D6-337FF1308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A51723-283A-4B77-B11D-8F84BADC1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CAE5FC-5D98-4972-BBD2-23FAADF0F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1CCC-154D-4802-B493-11DE5CC51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14DEE0-7E19-4E81-B8CD-1773D0F5C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59EA0D-C294-430C-B6CE-1B9C78440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0C564A-6353-4D75-8226-C9496D5BC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F1599A-1D0A-4072-BC9B-8F78E739E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112717-5051-4B19-BEFE-A4C2E1751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6385B2-381E-4E3B-AF6B-30657E611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34E736-B89A-4D9B-8B16-FC8EC108B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757863-6454-4DB7-AA3B-AD1465C5C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6D926F-4004-4C32-9AEF-343A71C5D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79BCE1-1810-4054-9BB1-FAE060862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5672-7B8A-4A95-9747-0B1D3D480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24510C-3F2B-47BF-BE0F-4CE4A616E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B04AC7-B946-4604-A681-ED9786811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42C57E-1A15-44DD-B20B-AC762C39C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02CDF2-696B-40E0-9C3A-45C0A8649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12FDAA-B686-4FD3-9F5B-8DE86A0B9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6EE66D-1BA2-413B-902E-769E96995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57E050-DEC7-43B4-BBF3-1C4B290B3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078E24-3D7D-456B-9124-9D8E80DCC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6C17C1-628F-481F-9F3B-ACE883C67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D469C2-FED6-41CA-A0B0-F0D9024BE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B8E1-F397-45BC-9B43-52CFEEB75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7A18ED-AF14-469B-83F8-5BF93DE82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A6E397-964C-4B09-BBD3-2870FFDA1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5DBFC5-98A6-49A9-BD2C-506200B64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D2CB0E-97CE-4F1A-9ABD-927A213C6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E23A74-C5FC-46D6-A188-32F3B83E8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ED518F-C87C-46B0-A7CD-A9A461B6B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3B7E49-769A-44AA-B8E9-51E1ED5EF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10BCD4-80A5-4D23-99AF-F6EAF0583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D6758C-C77E-4CE3-A8DD-906CC8284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D7202A-DC5B-42AA-8ED5-476FCF67C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D536-7DD0-4F53-B3FB-5A95D42A9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D43C2D-F0CD-44AD-8A4B-8C3400ADD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9B9169-D2C5-49E9-9F50-041AB9947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B109B0-BEA1-4D7B-9603-409ED5CD8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C72756-3374-45EF-96CE-C7862412B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6456DE-A6CC-437D-B529-4FCBE23BF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41D038-2B89-4798-8767-A5A58D3EF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60AD84-8ED9-4E28-8C5B-90134AF40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D23554-DD91-49F8-B675-AE59ED388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B9BC20-8DF6-4AD3-8166-8965F36EC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CF546F-85D1-40F0-A5CA-C7A183747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9AB0-56EE-4AD4-806B-0EA1EA069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558E0D-35FA-47F4-8EE2-511946979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1B151A-C4FA-4A67-9824-394B97BB2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0E9528-9492-44CA-9F6E-89EBDC2DB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EC63EA-EAB6-4D05-B82F-ACE5658BC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5E5944-3004-40A9-BCE1-C4F045FE9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FC7BA0-A2BE-4379-9269-EB6096B02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105ED8-283E-4F43-883F-B1F3AAE26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63BE07-BE2B-434D-B65E-DDF4CCDDE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9978F1-B1EA-472C-8C13-A813AEB36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BCB415-644C-4C77-8B3F-2B8BB4F77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B0A4-A0B1-4729-ADE4-59F317BE4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C15BA6-E0B7-4A76-BC7E-1164260A4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261395-8A59-4B92-ABE7-CDCE9B143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77ED62-EA2D-428F-9495-CBAF07312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1B8885-C2DE-4315-AD6D-7BE7B70FC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291A08-0A83-4B0F-A8BB-BC66F3800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A0734E-6E45-46FE-9472-90663AAE0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C77D1B-5D8F-4B8F-8A89-E71913C38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E89329-5CDE-484E-9738-9A832CB65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372F63-D2BD-4E37-AF8F-EAA0749CB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D990CC-00A2-4725-A108-1EA3BB279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31D8-A52B-4D9E-9EE5-1E000C8CE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0CE89B-8863-4D91-A45D-88704FB9D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427D3D-8B44-4495-9977-BE87EDAC5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0520AB-4E7D-4AF9-9E06-C3672D9A6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34DE15-44E6-41DE-97C5-B2063F1A6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4A04B3-186E-4EEF-89C3-ED15B59BD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FCF319-A611-49CC-8695-347FD98E8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FDD8A4-8ED8-4B1C-9A51-EC355B46E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34B7FA-4417-4EFB-BC03-62629AB2A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165CCB-8FB5-4045-A127-1C22728EE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321098-7490-40A2-8BBA-085451EF1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2E77C-7A4E-4D79-B88C-B5102B2822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971F3-2ADF-4BDB-A484-EF0B44B2FB48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AFFE0-38ED-4611-B57B-7C47638CA85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680A5-FA66-438B-99AE-107D444ED1CF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626FE-B710-423A-B011-D07E1794AC7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C9811-1469-4D27-B280-2FD4859155C7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2199B-954D-4939-B74A-6D813DFC763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4F2CB-46E9-49D7-B64D-BA486D77F341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D27C6-44B0-44A7-A703-C950C51897A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F5E57-0F8F-47DF-9DB9-A23EA640018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1E3AA-81AF-4A8B-B3BA-4FA4D11FF09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3AB48-D850-49E8-8168-FD6357A7FFD8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AB7D7-23D1-458B-B2AC-E51FCF000D4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3CB79-55A1-452F-A62A-B032D851533B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39A44-54ED-4501-8577-77C5D218597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B0CF2-6583-4785-8CC2-6C9175FBC0AF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DB168-08E9-4092-8C54-9C8A4E2DB6D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9A418-7888-462B-B8F2-DAD5A4079259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E3931-736C-49BC-8FD9-187541CCAB8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B99AB-B959-4835-8E50-04C7294EC9F6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A8165-CD55-49A8-94FC-EA98F61E1E7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B4F28-231D-4CE4-8518-083EB1B29670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87975-D425-40F9-B80E-D7D2944A557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3FE22-8EB0-405D-9CD3-DEB921F7D6BC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1A3F4-C25C-4D9F-8B72-C0222E583DA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1ppt.com/kejian/" TargetMode="External"/><Relationship Id="rId2" Type="http://schemas.openxmlformats.org/officeDocument/2006/relationships/hyperlink" Target="http://www.1ppt.com/kejian/yuwen/" TargetMode="External"/><Relationship Id="rId3" Type="http://schemas.openxmlformats.org/officeDocument/2006/relationships/hyperlink" Target="http://www.1ppt.com/kejian/shuxue/" TargetMode="External"/><Relationship Id="rId4" Type="http://schemas.openxmlformats.org/officeDocument/2006/relationships/hyperlink" Target="http://www.1ppt.com/kejian/yingyu/" TargetMode="External"/><Relationship Id="rId5" Type="http://schemas.openxmlformats.org/officeDocument/2006/relationships/hyperlink" Target="http://www.1ppt.com/kejian/yuwen/138/" TargetMode="External"/><Relationship Id="rId6" Type="http://schemas.openxmlformats.org/officeDocument/2006/relationships/hyperlink" Target="http://www.1ppt.com/kejian/yuwen/160/" TargetMode="External"/><Relationship Id="rId7" Type="http://schemas.openxmlformats.org/officeDocument/2006/relationships/hyperlink" Target="http://www.1ppt.com/kejian/yuwen/161/" TargetMode="External"/><Relationship Id="rId8" Type="http://schemas.openxmlformats.org/officeDocument/2006/relationships/hyperlink" Target="http://www.1ppt.com/kejian/yuwen/162/" TargetMode="External"/><Relationship Id="rId9" Type="http://schemas.openxmlformats.org/officeDocument/2006/relationships/hyperlink" Target="http://www.1ppt.com/kejian/yuwen/163/" TargetMode="External"/><Relationship Id="rId10" Type="http://schemas.openxmlformats.org/officeDocument/2006/relationships/hyperlink" Target="http://www.1ppt.com/kejian/yuwen/164/" TargetMode="External"/><Relationship Id="rId11" Type="http://schemas.openxmlformats.org/officeDocument/2006/relationships/image" Target="../media/image3.jpeg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1" name="Picture 2" descr="DSC_0477_xdZivUoo4TK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2" name="Text Box 4" descr=""/>
          <p:cNvPicPr/>
          <p:nvPr/>
        </p:nvPicPr>
        <p:blipFill>
          <a:blip r:embed="rId2"/>
          <a:stretch/>
        </p:blipFill>
        <p:spPr>
          <a:xfrm>
            <a:off x="865080" y="1700280"/>
            <a:ext cx="7413840" cy="1116000"/>
          </a:xfrm>
          <a:prstGeom prst="rect">
            <a:avLst/>
          </a:prstGeom>
          <a:ln w="0">
            <a:noFill/>
          </a:ln>
        </p:spPr>
      </p:pic>
      <p:sp>
        <p:nvSpPr>
          <p:cNvPr id="543" name="Text Box 6"/>
          <p:cNvSpPr/>
          <p:nvPr/>
        </p:nvSpPr>
        <p:spPr>
          <a:xfrm>
            <a:off x="6084720" y="64008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执教者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郭凤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hecke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Rectangle 3"/>
          <p:cNvSpPr/>
          <p:nvPr/>
        </p:nvSpPr>
        <p:spPr>
          <a:xfrm>
            <a:off x="0" y="765000"/>
            <a:ext cx="8686800" cy="40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　　即使只有百分之一的希望，我们也要付出百分之百的努力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　　只有扼住命运咽喉的人，才能创造生命的奇迹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　　无论遇到怎样的困难，我们都要勇敢面对，成为生活的强者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1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82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3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4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矩形 10"/>
          <p:cNvSpPr/>
          <p:nvPr/>
        </p:nvSpPr>
        <p:spPr>
          <a:xfrm>
            <a:off x="662040" y="2236680"/>
            <a:ext cx="62388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课件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"/>
              </a:rPr>
              <a:t>www.1ppt.com/kejian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语文课件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2"/>
              </a:rPr>
              <a:t>www.1ppt.com/kejian/yuwen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数学课件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3"/>
              </a:rPr>
              <a:t>www.1ppt.com/kejian/shuxue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英语课件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4"/>
              </a:rPr>
              <a:t>www.1ppt.com/kejian/yingyu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一年级语文上册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5"/>
              </a:rPr>
              <a:t>www.1ppt.com/kejian/yuwen/138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二年级语文上册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6"/>
              </a:rPr>
              <a:t>www.1ppt.com/kejian/yuwen/160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三年级语文上册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7"/>
              </a:rPr>
              <a:t>www.1ppt.com/kejian/yuwen/161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四年级语文上册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8"/>
              </a:rPr>
              <a:t>www.1ppt.com/kejian/yuwen/162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五年级语文上册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9"/>
              </a:rPr>
              <a:t>www.1ppt.com/kejian/yuwen/163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六年级语文上册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0"/>
              </a:rPr>
              <a:t>www.1ppt.com/kejian/yuwen/164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七年级语文上册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kejian/yuwen/165/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八年级语文上册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kejian/yuwen/166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九年级语文上册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kejian/yuwen/167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8" name="Picture 4" descr="0170051274"/>
          <p:cNvPicPr/>
          <p:nvPr/>
        </p:nvPicPr>
        <p:blipFill>
          <a:blip r:embed="rId1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9" name="Text Box 5"/>
          <p:cNvSpPr/>
          <p:nvPr/>
        </p:nvSpPr>
        <p:spPr>
          <a:xfrm>
            <a:off x="1116000" y="1125360"/>
            <a:ext cx="720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Text Box 6"/>
          <p:cNvSpPr/>
          <p:nvPr/>
        </p:nvSpPr>
        <p:spPr>
          <a:xfrm>
            <a:off x="1763640" y="1197000"/>
            <a:ext cx="640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青海高原上的这株柳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树是怎样生长出来的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Text Box 7"/>
          <p:cNvSpPr/>
          <p:nvPr/>
        </p:nvSpPr>
        <p:spPr>
          <a:xfrm>
            <a:off x="1763640" y="3933720"/>
            <a:ext cx="590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这株柳树在成长过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中经历过哪些磨难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Text Box 2"/>
          <p:cNvSpPr/>
          <p:nvPr/>
        </p:nvSpPr>
        <p:spPr>
          <a:xfrm>
            <a:off x="611280" y="1916280"/>
            <a:ext cx="792468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　　干旱和寒冷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绝不宽容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任何一条绿色的生命活到一岁。然而这株柳树却造就了一个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不可思议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奇迹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4"/>
          <p:cNvSpPr/>
          <p:nvPr/>
        </p:nvSpPr>
        <p:spPr>
          <a:xfrm>
            <a:off x="684360" y="2924280"/>
            <a:ext cx="784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5"/>
          <p:cNvSpPr/>
          <p:nvPr/>
        </p:nvSpPr>
        <p:spPr>
          <a:xfrm>
            <a:off x="684360" y="3716280"/>
            <a:ext cx="77752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horz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Text Box 2"/>
          <p:cNvSpPr/>
          <p:nvPr/>
        </p:nvSpPr>
        <p:spPr>
          <a:xfrm>
            <a:off x="611280" y="836640"/>
            <a:ext cx="79246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84360" y="2924280"/>
            <a:ext cx="784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Text Box 4"/>
          <p:cNvSpPr/>
          <p:nvPr/>
        </p:nvSpPr>
        <p:spPr>
          <a:xfrm>
            <a:off x="684360" y="1700280"/>
            <a:ext cx="77752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　　它无疑经受过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一次又一次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摧毁，却能够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一回又一回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起死回生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horz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1" name="Picture 3" descr="42_2869"/>
          <p:cNvPicPr/>
          <p:nvPr/>
        </p:nvPicPr>
        <p:blipFill>
          <a:blip r:embed="rId1"/>
          <a:stretch/>
        </p:blipFill>
        <p:spPr>
          <a:xfrm>
            <a:off x="-190440" y="-142920"/>
            <a:ext cx="9524880" cy="71438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5" name="Picture 4" descr="1000619597"/>
          <p:cNvPicPr/>
          <p:nvPr/>
        </p:nvPicPr>
        <p:blipFill>
          <a:blip r:embed="rId1"/>
          <a:stretch/>
        </p:blipFill>
        <p:spPr>
          <a:xfrm>
            <a:off x="0" y="0"/>
            <a:ext cx="4643280" cy="6858000"/>
          </a:xfrm>
          <a:prstGeom prst="rect">
            <a:avLst/>
          </a:prstGeom>
          <a:ln w="0">
            <a:noFill/>
          </a:ln>
        </p:spPr>
      </p:pic>
      <p:sp>
        <p:nvSpPr>
          <p:cNvPr id="566" name="Text Box 7"/>
          <p:cNvSpPr/>
          <p:nvPr/>
        </p:nvSpPr>
        <p:spPr>
          <a:xfrm>
            <a:off x="4859280" y="404640"/>
            <a:ext cx="374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　　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然而，家乡水边的柳树却极易生长。随手折一条柳枝插下去，就发芽，就生长，三两年便成为一株婀娜多姿、风情万种的柳树了；漫天飞扬的柳絮飘落到沙滩上，便急骤冒出一片又一片芦苇一样的柳丛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9" name="Picture 4" descr="42_2869"/>
          <p:cNvPicPr/>
          <p:nvPr/>
        </p:nvPicPr>
        <p:blipFill>
          <a:blip r:embed="rId1"/>
          <a:stretch/>
        </p:blipFill>
        <p:spPr>
          <a:xfrm>
            <a:off x="0" y="0"/>
            <a:ext cx="3995640" cy="685800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6" descr="DSC_0477_xdZivUoo4TKD"/>
          <p:cNvPicPr/>
          <p:nvPr/>
        </p:nvPicPr>
        <p:blipFill>
          <a:blip r:embed="rId2"/>
          <a:stretch/>
        </p:blipFill>
        <p:spPr>
          <a:xfrm>
            <a:off x="4067280" y="0"/>
            <a:ext cx="507672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0" y="1699920"/>
            <a:ext cx="8066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　　　　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命运给予它的几乎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　　是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九十九条死亡之路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，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　　它却在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一线希望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之中成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　　就了</a:t>
            </a:r>
            <a:r>
              <a:rPr b="1" lang="zh-CN" sz="4000" spc="-1" strike="noStrike">
                <a:solidFill>
                  <a:srgbClr val="00cc99"/>
                </a:solidFill>
                <a:latin typeface="Times New Roman"/>
              </a:rPr>
              <a:t>一片绿阴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755640" y="90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4" name="Picture 4" descr="柳树"/>
          <p:cNvPicPr/>
          <p:nvPr/>
        </p:nvPicPr>
        <p:blipFill>
          <a:blip r:embed="rId1"/>
          <a:stretch/>
        </p:blipFill>
        <p:spPr>
          <a:xfrm>
            <a:off x="4356000" y="3068640"/>
            <a:ext cx="4788000" cy="37893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39640" y="177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在人生的道路上，生活和命运不可能公平，但只要心中一直充满希望，凭借自己超乎想象的毅力和韧劲去努力，生命就会产生奇迹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8" name="Picture 4" descr="柳树"/>
          <p:cNvPicPr/>
          <p:nvPr/>
        </p:nvPicPr>
        <p:blipFill>
          <a:blip r:embed="rId1"/>
          <a:stretch/>
        </p:blipFill>
        <p:spPr>
          <a:xfrm>
            <a:off x="4389480" y="3670200"/>
            <a:ext cx="4754520" cy="31878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2T13:18:04Z</dcterms:created>
  <dc:creator>第一PPT模板网-WWW.1PPT.COM</dc:creator>
  <dc:description>第一PPT模板网-WWW.1PPT.COM
</dc:description>
  <cp:keywords>第一PPT模板网-WWW.1PPT.COM</cp:keywords>
  <dc:language>en-US</dc:language>
  <cp:lastModifiedBy>a</cp:lastModifiedBy>
  <dcterms:modified xsi:type="dcterms:W3CDTF">2015-03-16T08:56:05Z</dcterms:modified>
  <cp:revision>51</cp:revision>
  <dc:subject>第一PPT模板网-WWW.1PPT.COM</dc:subject>
  <dc:title>第一PPT模板网-WWW.1PPT.COM</dc:title>
</cp:coreProperties>
</file>