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69B-C7C2-4842-AE6D-74DC342A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D4D-E149-4C6C-8AE6-537AECF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E7D07-0EE7-41C0-B1E3-F2A7379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0CD4-059C-44ED-9C87-0A20F3B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7B798-2E25-4F51-8901-FE99A03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A50E-F925-4A97-ACD2-88D38BC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C4BC5-9841-4BD7-B944-3B09B3C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6787-3182-4669-9D81-F69C2EA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585CE-ACEF-4EB6-BCEE-DDFB2CA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016E6-62FE-46D8-A534-EF88DA9D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F36B9-5C32-4943-B300-B9F76023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0D58-5A56-48F9-B68A-59ECB801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B63-6C06-4921-8578-196E81F7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F9CEE-EACA-4EB2-84E5-06F6954C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996E7-1A78-43ED-A494-2E868A4F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02A4A-14A7-4A4D-B392-585BA8E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EE0F3-8700-429B-A6FA-D405B13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CECB3-8A0B-4ACF-9A95-1EFE1D85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5FF76-C123-4F89-AD0F-047BA23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B5583-3C88-4FF5-B0BC-3F07813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27978-ECC6-4DBD-A835-0EFF3C0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8A588-9CCD-4D4F-98F2-8BA7FB4F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380C2-55BA-4044-9956-68108C81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79E-790C-493C-A2E9-A8323122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3835B-03D1-41FC-BCC2-73185D14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8AC52-1790-4E46-B020-D9832FF9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9150C-214A-4B4D-B689-1BA21804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C3F7-5807-403D-B041-7590B7E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5540-27B8-4DD9-8422-BF8F845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D5125-9A2F-47FB-9ED0-EBC7CFC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3CF6-7A04-4129-97EC-22DD7095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68D0D-734B-4C5B-9577-B2ECE05D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1F04C-55E4-4F31-A121-50691EB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D1D4-20C2-4BF3-BDFB-59620B87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4C1-3168-4FE0-ACC6-F5F9FD02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C2FD-142A-4447-9869-6C1E1E0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4CEB-7785-48B5-9584-A2EF2489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251C3-ABC0-44E0-BD75-54496B6F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74DF-9D0D-4674-8ECA-F0950F30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91767-C7D0-40C7-9BC6-DA0CD41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44756-7219-4DBA-B8D8-B953074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78DD4-DB90-4950-84C3-A78D2C4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C2A85-6760-417A-93E2-AEAFAFB6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A47B9-9929-4603-94D6-C0EA3D2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37E86-5368-4378-A7AB-5D2D86B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40B-3C89-4A97-9911-5631168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51FE9-8531-4031-B73A-6F123B2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411D3-70B7-4DCB-9E1F-11DDE4B9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E491B-7104-4345-81ED-CB8752C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A2F54-1EB9-429A-A05F-628C4C2B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7925-AD1E-4F79-A387-E8FE872D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2D1AB-1C9B-4152-B9F7-91A998B3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27F02-5729-4AD9-93B3-D039EFE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FAD5B-48AC-4343-ABC5-69D08C9F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3CE2A-AA8A-4B8F-8DA5-F1224CFD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27ACB-2C61-4B3F-9A0D-A69FCDD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83E-D5DC-4604-8FBC-6A82464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67BA7-FAE2-4013-BE14-ED11BE5E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5C6E8-A455-4CBF-87B5-94A9E8E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77F60-1537-42BF-8288-37F6BB4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48044-50BC-44F4-A62A-5E856BA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2E218-91D6-401A-AF85-4D90A3E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4F055-8765-47E7-AC61-60B6DAEA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541EF-6A10-431E-BEE9-D40C6040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66D-8DDC-4D35-9D5E-B0483F4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543F-2CF2-4A84-B447-8E6EB98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5D31-DA37-415D-8FD8-D380A466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603-9C76-4694-9D5F-AE62549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065-CFD5-4E62-9AD2-E93A7D7A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853-A075-4ED6-B7A0-06A0F30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B879-F502-4649-8C12-A739257E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9339-59C9-4D89-9E2F-0361887A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2FE-B660-4EA9-BFD3-2B3AEE83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5F11-0FAC-4EED-A1A8-E1E4E8C9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EBDF-5F4F-4C35-8274-23BE7E35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C0A2-95AD-4178-A3FD-4C53B38E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561A-A80E-46F5-A18E-4465CCC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5837-2890-41BD-9809-B74C037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9EC6-AEF2-4FDD-A4EA-A7A091E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49C-CC18-44D6-84C2-00C7BA6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FFCF-3C1F-4215-9D16-1A9E8E61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A4BA-3C18-414F-996B-AE612E3D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08BE-21A5-456F-BF43-4FB449E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13F4-5138-4B63-9AD6-87B0110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A6E8-1AC2-4E40-8BE6-1BF97918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844A-781C-445D-95FC-28F8A953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6E17-3010-4C58-B69A-A9061E06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C0CE-2403-4328-8714-E3324380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18D5-1449-4FAE-96FD-E6BF7A1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09DA-9BEC-4A35-95AA-7F1B13C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3D4-687A-4898-8CC1-3D6D211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11B9-DC6E-4B39-BB6D-D18DB3E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9EA3-156A-422C-82BC-D08852B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DDD9-AC4D-4A7A-A04D-68DFF42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91A8-EF8C-454C-AC16-DBB260F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7430-B4C6-4AAD-B933-64F39DE4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699D-D394-4F7D-AF76-CC2F009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7D54-52E8-4CD8-9BCF-10FFBB8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24A9-45FB-4443-A861-2AC554DB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FD05-D9BA-4D4C-A12E-F42AE158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F0D1-6CDC-47EA-A091-3D233FFE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03D-8677-404E-ADDE-5B55CEE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1D95-F2AA-4148-A764-42476B2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6703-7788-436F-8886-592E6022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42AD-D4DF-48FB-985C-515571D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9C6A-5D21-420E-B9D2-17D0DF1E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5274-CBB6-4753-8A7B-4425DAF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6E6E-A3EE-400C-825B-8AE10DD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4763-D988-4CC5-A2A3-3EDA4D4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E8D9-961E-414C-B362-55056CB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9835-A18F-4ADA-861A-F9DE8456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E788-3E5A-4CF1-B1F2-5F8C40B9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76C-B1F7-4E32-ACE0-5CFB69CA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EC6C3-D5B5-46CA-84C0-5866F55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B51A-FED0-43AF-84CE-FB6F2B1B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BF17-618E-4A95-BB5E-73B38709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A1EE-228C-4F77-BA0C-8F650CA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B1C3-4B30-4374-8ED1-E155FAC1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84C2-B3DD-4B39-8687-F8B3735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7926-C1FF-4243-9271-C0EAA0B6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6EDB-C0D2-4756-88C6-5020156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4905C-A6C5-41D7-9511-0187361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4DE4-1B28-4FE9-B64E-EEE50A8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14E-6A6F-444C-8382-06FA99DF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E450-DEB6-43DB-BC66-B407D587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3726-01E0-492E-85CE-E5CA6E0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B48C-AE8E-4954-9753-AC4B0F60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19917-B2DF-446E-8E2A-3E646B70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D35C-2C4C-4D47-BD0D-D6EBC946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FEA6C-DE61-4CA5-9581-7530B2B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A855-5019-4046-BE72-A76D5ED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4D603-77F1-4D29-BD68-BF045A22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359B-5396-4C90-A701-B6D321E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2C154-09A3-4059-A463-58D94F4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109-16CC-4743-A197-7401F2E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74025-F681-4D0E-8F7E-309FDDB7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E801-11DB-40C8-98E4-B9D5FD2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6CBB-7582-45CF-95F9-57601624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CD0D-D2A7-462C-9DFD-CF540F64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5801-F8D8-4C37-87BA-740B13C2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B903-CD5E-4880-A8BE-D78430F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56092-02DD-459B-8253-D8F19E3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4605-7134-40A1-AD68-81EF125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B164-0BDF-4258-9298-52F20E6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7290-28DA-47A6-94B6-C59F3AC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9CC-80FF-4D92-A3D8-2F9D15C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DB13-0FB2-4389-AE6F-6CFAADD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C6CF-B3BA-4262-AEF9-46FAD37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0D64-A246-4FAA-9F6E-71603280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36B7-F4D4-40F1-94DF-32F6206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AD6C-ECB7-45FF-9100-6A16C5F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B4CA-ED6A-4317-ACF9-F38F9A3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8DAD-F55D-44E4-821A-EDEBDEAD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C3B29-30E3-44E3-B47A-7CB8668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657AC-317F-4602-80E8-90D414E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B3371-AF7E-46AC-813A-3DAF889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10A-FA06-400D-9116-DB689BA0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63E-1C2D-4044-AEBD-EB1AD125CD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17CB-2328-418D-9EF6-2BA694683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DA3-2221-4689-98DD-7B7AA28445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C58-A0A1-4F64-837A-6EAF9C202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ECC-E5B1-434F-8EA8-BD318259F8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23E6-8672-4B6D-B118-64071D376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C44-0E14-4AD3-8FE7-35DDE9E7EE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14F-4FC6-4D36-BEE3-2A38BDD80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165-46A7-440A-87E5-8597B40E63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29B0-B8C1-4EDD-B810-D9E6295FB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0E9C-99B1-4123-80AE-461AEC1E3C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4E0-756F-4877-B3C6-514914187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76E-BB4F-46AC-92CE-8E0BA0A2DA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8A1-8994-4579-827F-70F109B667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F425-7285-4776-A2A9-1DF995381A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E9C1-0E6A-4A9B-91C1-E69EF00B0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0279-EF54-488A-B0E7-154986F263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828A-C9CB-4303-AC73-197C07749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615F-2482-4905-A8B8-FAE466ABF3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7729-F9F0-4C25-907A-AD2924857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E0F7-D1AD-45AF-AAB8-BD2F82EA17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D78-772C-4D85-B138-CC3839B4A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312-7AE4-476B-96DA-B8035BA1E5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5C5C-5375-4DB3-A34D-D227CAE99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长春藤1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1179000" y="260280"/>
            <a:ext cx="729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陆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6"/>
          <p:cNvSpPr txBox="1"/>
          <p:nvPr/>
        </p:nvSpPr>
        <p:spPr>
          <a:xfrm rot="5400000">
            <a:off x="-1493640" y="1682640"/>
            <a:ext cx="431964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囚绿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长春藤2"/>
          <p:cNvPicPr/>
          <p:nvPr/>
        </p:nvPicPr>
        <p:blipFill>
          <a:blip r:embed="rId1"/>
          <a:stretch/>
        </p:blipFill>
        <p:spPr>
          <a:xfrm>
            <a:off x="3492360" y="1341360"/>
            <a:ext cx="5651640" cy="55166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感知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79280" y="1197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简洁的语言概述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文哪几段是写囚绿？囚绿之前、之后写了什么？请用与“囚绿”形式相同的短语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0" y="393372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择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近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囚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释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念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492360" y="26028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自己喜欢的方式阅读课文，并思考以下三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0" y="4581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作者笔下的绿有怎样的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0" y="551664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蓬勃、向阳、固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长春藤"/>
          <p:cNvPicPr/>
          <p:nvPr/>
        </p:nvPicPr>
        <p:blipFill>
          <a:blip r:embed="rId1"/>
          <a:stretch/>
        </p:blipFill>
        <p:spPr>
          <a:xfrm>
            <a:off x="3348000" y="2511360"/>
            <a:ext cx="5796000" cy="4346640"/>
          </a:xfrm>
          <a:prstGeom prst="rect">
            <a:avLst/>
          </a:prstGeom>
          <a:ln w="0">
            <a:noFill/>
          </a:ln>
        </p:spPr>
      </p:pic>
      <p:sp>
        <p:nvSpPr>
          <p:cNvPr id="546" name="Oval 5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感知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2700360" y="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试从文中找出有关本文写作时代背景的句子，联系作者简介，说说课文表达的思想感情，并说出你的根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陆蠡：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08-194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，原名圣泉，浙江天台人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毕业于上海国立劳动大学，后与友人创办泉州语文学社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5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任上海文化生活出版社编辑，业余从事散文创作和翻译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8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创办科学、文化综合性杂志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少年读物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。太平洋战争爆发后，日军进驻上海租界，由于在沦陷后的上海坚守文化工作岗位，他于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4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日被捕，不久由捕房转到虹口日本宪兵拘留所，刑审数月，惨遭杀害，时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263700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我住在北平的一家公寓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卢沟桥事件发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在七月中旬，不能再留连于烽烟四逼中的旧都，火车已经断了数天，我每日须得留心开车的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花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5084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名家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981000"/>
            <a:ext cx="39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0" y="83664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囚绿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，作者借助对绿色植物常春藤的赞美，表露了自己乃至整个中华民族追求光明的圣洁灵魂。作者以“常春藤”为“绿友”，朝夕相处，息息相关。被“囚”的“绿友”，失去了阳光，“好像病了了孩子”，然而“它的尖端总朝着窗外的方向。”作者“珍重地开释了这永不屈服于黑暗的囚人”，并“向它至诚意的祝福”，“愿它繁茂苍绿”。在异族入侵、祖国受辱之际，作者写“绿”赞“绿”，显然不是迷恋景色，而是借助绿色的生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0" y="515772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展示自己向往光明的心境，抒发自己热爱祖国的激情，赞颂中华民族渴求自由、坚贞不屈的精神。“绿色”，既是作者的本色，也是他的散文创作的基本色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袁振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《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陆蠡散文选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序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摘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绿墙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Oval 7"/>
          <p:cNvSpPr/>
          <p:nvPr/>
        </p:nvSpPr>
        <p:spPr>
          <a:xfrm>
            <a:off x="0" y="0"/>
            <a:ext cx="2627280" cy="981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动笔读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771640" y="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读书要有自己的独特思考和感悟，请参照前一课文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之圈点评注法，对课文进行赏析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0" y="1182600"/>
            <a:ext cx="914400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示例：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我了解自然无声的语言，正如它了解我的语言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表现作者和绿的心灵相通。这里主要是表达作者对绿的热爱，对这样一个安宁、平和的环境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我好像发现了一种“生的欢喜”，超过了任何的喜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表达作者对生命的活力的赞美。所谓“生的欢喜”，就是对富有生命力的东西的热爱。作者认为面对蓬勃生机所产生的喜悦超过在任何时候所产生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离开北平一年了。我怀念着我的圆窗了绿友。有一天，得重和它们见面的时候，会和我面生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两者的关系改变了，由主宰者和被支配者的关系，化为朋友关系。同时也隐含了作者对沦陷于敌人手中的土地和人民的深情怀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绿墙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Oval 8"/>
          <p:cNvSpPr/>
          <p:nvPr/>
        </p:nvSpPr>
        <p:spPr>
          <a:xfrm>
            <a:off x="0" y="0"/>
            <a:ext cx="284328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深情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0" y="83664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对自己所喜欢的段落反复朗读，并与同学交流自己的心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绿叶对根的情意.[音频].mp3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8609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涸辙      揠苗助长       婆娑         急不暇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徙       蕈菌        淅沥       抑郁    葱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繁茂苍绿     瞥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绿树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571" name="Oval 6"/>
          <p:cNvSpPr/>
          <p:nvPr/>
        </p:nvSpPr>
        <p:spPr>
          <a:xfrm>
            <a:off x="0" y="0"/>
            <a:ext cx="2700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是多宝贵的啊！它是生命，它是希望，它是慰安，它是快乐。”在寂寞中，常春藤不离不弃地陪伴着作者，这绿色的常春藤在作者的眼中已不是一株植物，而是一个老友，也许作者常常会与这位老友交谈。在“择绿、近绿、囚绿、释绿、念绿”这几个部分中任选一部分，设计一组作者与常春藤的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：对话要符合作者在每个时段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体现绿象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要求生动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绿液"/>
          <p:cNvPicPr/>
          <p:nvPr/>
        </p:nvPicPr>
        <p:blipFill>
          <a:blip r:embed="rId1"/>
          <a:stretch/>
        </p:blipFill>
        <p:spPr>
          <a:xfrm>
            <a:off x="2987640" y="3284640"/>
            <a:ext cx="6156360" cy="3573360"/>
          </a:xfrm>
          <a:prstGeom prst="rect">
            <a:avLst/>
          </a:prstGeom>
          <a:ln w="0">
            <a:noFill/>
          </a:ln>
        </p:spPr>
      </p:pic>
      <p:sp>
        <p:nvSpPr>
          <p:cNvPr id="575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课后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9:00:51Z</dcterms:created>
  <dc:creator>ZHOU</dc:creator>
  <dc:description/>
  <dc:language>en-US</dc:language>
  <cp:lastModifiedBy>a</cp:lastModifiedBy>
  <dcterms:modified xsi:type="dcterms:W3CDTF">2015-02-10T03:04:49Z</dcterms:modified>
  <cp:revision>9</cp:revision>
  <dc:subject/>
  <dc:title>幻灯片 1</dc:title>
</cp:coreProperties>
</file>