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D93-CA0C-49D9-B177-9E7D608A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8BB-180C-4C09-9D33-57158E5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0898-35F1-49D0-A0BE-C2F2809C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3C64-55AC-405B-A6B1-210E9CED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5E22-880B-4D46-9E6D-FADE159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CDF2-FF8B-44F5-9EED-80E5C69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A357E-0670-4148-979C-A812D5F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B33EA-B7C6-4C26-A43F-7FEFE7F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E0877-A872-4FBB-9944-125DAB3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AEF5-A2C9-4D09-AC98-D1B1F29B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B5B00-E7E8-43C6-8E23-77942FEC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08CFC-880D-4424-9C65-1197BEE8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734-F7B1-4F0B-944D-E85B5429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05D22-DBBC-4E45-8777-8C818D6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C7B95-0E47-4427-A514-C4F2CA6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11FEC-31E3-415F-95B7-875A4FB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3AD7-9171-4D9D-86A9-3B99FAA8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0469C-B67A-44FE-A1E8-B0E45355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CE0C1-803E-43FA-B102-0B22BDE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1C43F-8ABF-4D65-94CE-D29C5FA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0EBF0-F242-4540-9E68-288BC21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003F-C31C-4EB6-A3D4-417A3F1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CC2A-5173-4592-B4BB-CE85D2E7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754-44BE-4A0A-9704-891AD601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79769-7DF9-47EF-87B0-9B944D5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7654-D4F3-493E-BB6E-C820A4A5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3CE3-8006-4F1E-8FCE-5154DE49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253E-08D6-46D7-B9E7-2E5125A8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2B059-6FFF-4265-8FFA-5A799BE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146DF-970B-47B9-B9E7-F84D5606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84B7A-58C5-461E-99E7-FBCD3E3D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715CB-2123-457B-901B-97E9D68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AEAE-5C0D-4644-A704-125B2F2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692F7-45A6-40A3-997E-08F8AF4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453-2CC7-4C20-B5F0-E77F70E7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3418-2615-4A94-BE79-A425C8B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1E646-53DD-4C9E-B006-372355CF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2727E-E6D0-45DF-AD01-B6ECF5B5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2608A-FEFD-4618-8E47-AFE9152D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3026A-2997-4A86-BD67-B33EC13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902B5-8859-4903-931F-CC968766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A5838-0245-45E3-8BDF-2D4CCF12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95A08-ADB1-4017-94D4-D92BCF2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6D542-7869-4512-89AB-095E4682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C1CBB-E0D0-42C8-8E07-C4014CB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2CF-ED89-4619-B2FF-B519CAE0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11AB8-D70D-40EC-B09D-985C78F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4100E-EA7A-4187-8881-66CCDFC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E49ED-FC64-4FB6-9F3A-F4592E4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74A6E-BE2A-46DD-9EC2-182393BF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B60F3-B63F-4481-BB99-C2BD7CA3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99815-6DA3-4670-AC85-61FC49F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413AF-C470-49BD-A9D9-99A390C4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07C24-9000-4A45-B488-695AA41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1E499-95C2-4196-836B-3499A6B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51F18-2EC8-4044-9006-C22E2C0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B9EC-0AD8-404A-84CE-5D957E4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2CFA2-A94C-42CE-B11A-CC75FBF7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B3021-62B0-4DEA-AFCB-FB102DB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FBD8C-402E-4D2F-A8C7-250F223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BCE26-C7AE-427B-9DCA-EA823AF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42A23-713A-4D1C-B0AB-5B9E68D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D943D-C8FC-4668-BD7D-9081AB30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E20F4-1E02-4B34-A766-48D422CB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EFD-D897-4FD2-875A-0A11B02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27A-4E9D-4299-8F91-9BE848C1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55D-D575-4A19-AB61-AC9B50F4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77D8-6CBD-430D-BEC1-186F4E3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41-A068-40D5-9865-12297A3E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662-2DDA-40AF-8ECB-72DCFAE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6D0-2B33-4304-B0AC-9DEED56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AD72-D2F8-426C-B3EC-BC12739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EE31-6F97-4234-8CAA-1A8DE0B6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613-47EA-43CF-A870-9196EDFB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9989-A1A2-4707-9EAF-5DED3F82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1A72-7201-4126-BC9E-25197B2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B22F-C321-4E6A-AC4F-CEED2F5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4621-6CC4-4EA8-BEFF-6944CF0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A5AA-C0A7-48E5-A318-0397FF1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E2E-EE9A-4486-AB62-8147B0D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108C-FAAB-47CD-A3DB-B17CC8AB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7C02-027A-43CB-89AF-97D1F4C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A023-E484-457F-BBC7-8F90F4ED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83D8-A1DF-4359-83A5-96A129D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99DE-373E-45F6-9EEE-3D5D182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BD62-AC3A-4F05-B853-8F59E103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AC52-CC00-464E-88C4-EF97322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219D-48F4-4A73-940A-48F3A0E7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6C14-AA5D-47E6-8790-5BB9067E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73F0-D6D5-4C1E-AE86-DE05558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D61-2C68-4C59-99A4-FE0EAA24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D84B-A1FB-41EA-B758-D4BCB60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215C-CC05-4115-8E14-203D5BF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C885-F1BC-447B-BA8C-ED2F6EAF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7E8E-0004-424B-9AFB-D1D777B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E2B8-DD17-4321-91AB-1AAE95B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77FA-4BA0-425E-941A-9DF2899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6C17-666F-47EA-AC45-E074293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B296-F9F5-47D3-A7D3-5C0DAF45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CF8E-0D00-45BF-B30A-78DD0927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C787-8DCB-4263-BE9D-821D6F76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4CE-3A91-40C6-93E0-5533192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F783-297B-4A90-BE2E-117C051A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9B4E-30C1-4392-A433-A001DC2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415A-0759-4B27-AEC8-1B03035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D7353-AFE2-49BE-A2D2-B4D273C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DCF8-ADA5-4C05-B771-484CEA8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A653-C4B7-4586-9693-2A26D1E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8FF8-94F3-4A4E-98D4-792ED93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BF43-9D6B-4A2D-BFE2-E46F4F7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8550-E5BA-4775-815B-EA28414A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BD66-60E3-43D3-8587-94D054E1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F51-9B37-43A3-ABD9-428A6B0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6D93-D625-413E-BEB2-FF317221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BDA4-6542-4DC3-BBF4-08C57C4F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C052-C69D-4AB5-B068-F66E039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C040-A5AD-4D78-9CA2-15FBF62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9E7E-B2AC-47D6-B48B-9B7EC9D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6772A-42F1-41E4-B362-E6568E0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434A-F923-44C8-ACC0-1FEF051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E9E5-D3A3-490D-BC08-A884E11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D145-C78B-4094-96C9-077F868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E506-473A-4D08-B4FE-B268F3C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A38-B13D-4A9E-83C5-45D546F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79F1-C397-404E-A415-C93156A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DE37-BC1E-4151-815D-7EB63840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EE46-7DDA-40DD-A858-972587C9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53DD5-9E1B-41F4-AA0D-4522B5EE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E9356-C0A8-4F89-B9C1-4B429B0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F9F6-DA60-4A71-AFE4-D77E95B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957F-6840-4738-B4BA-BB24D84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52B8-92FF-41C8-939B-B41DE927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13EA-EB2D-49E8-893C-4EC55FE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FDBD-35BC-4CB7-9CA7-7D8CC3A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4D2-F4B2-4DA3-B8B6-62BBB70A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7192-AAB1-471E-806F-8FC6F8A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1F81-B32C-4AE7-8AC4-36334C0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8A54-C114-4C25-AE30-7E651CD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2B13-A053-4007-93FD-0A023C97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85FD-5DCC-4E92-9463-9519A15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D0AA-05BF-426A-B446-826E5B69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B3B6-10F5-4D4E-86C6-1F49942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276A-1800-4168-8271-C15E6D50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53BC-8B6C-49F4-9B8B-B40E116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232A-7A61-4412-8211-FE3DE45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460-1C80-42BF-99FC-FBE2987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EFFB-58A8-4784-BDEB-2F5F8884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CB6B0-CD9D-4901-9182-63407C6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340BD-D4BA-41A7-BE45-E64C021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177C8-12BB-41C1-85B7-5EF09E39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D2A2-AF33-466F-8E7E-81394CED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3E3D9-2C32-408A-9DE0-A097A4F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1DC5-16A7-4A51-8B9B-5BF6F1C5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FCEEA-F89F-49FB-9FB6-95A71C7D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55DD-994D-4078-94CA-58966284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AE3A-ABE0-4E64-AD7C-CD04656B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5E17-2918-4A77-A989-7A065484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5CF-FF8A-4A05-BDFA-5248E030AE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758-772A-404A-8D82-C7A90184E0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343-1DC3-4D63-A265-A5C0D8806C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744C-577F-4D12-B3A9-770CC55E41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C60-452D-4EC4-86EF-12DEB5454A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79D-D353-4A22-B2C8-2669A9992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605-AD28-47E6-BBE0-8AD90E28D8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8A4-0B94-4C27-A32A-1D268F7A9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245-B528-459D-B70E-B233F280C7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B541-4938-40F4-91FE-2FADB4E51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F844-DA69-4CCA-A749-17523827B8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C4C-E388-449F-ADCF-A3FEEA828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F8F-4D35-49D6-9031-E51EC0B301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2EE-0D53-4DE1-81A4-D2B64D67E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78B4-9853-4BE4-911B-C8CE9BC15B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C1F-D4D6-4184-93BA-1F0AABA03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861-9819-46A4-AB24-96444BF46C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E1A-0F0C-4579-BB35-7FB75A437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5B3-0385-4B7D-A5D8-E34602C086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F2D-FD87-4886-9C76-A1C121B8D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0EE-FF16-4A4F-BDC2-73A80FB87D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12C-EA1A-48FA-8628-C3C275A08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ECD8-F730-4AC0-916C-CC64687C4C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E12-6AD3-4062-8821-D771FCA76F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image" Target="../media/image2.pn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971640" y="1125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清平乐    村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771640" y="260280"/>
            <a:ext cx="43927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清平乐    村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茅檐低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溪上青青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醉里吴音相媚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白发谁家翁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大儿锄豆溪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儿正织鸡笼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最喜小儿无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溪头卧剥莲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1116000" y="89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将军令.mp3" descr=""/>
          <p:cNvPicPr/>
          <p:nvPr/>
        </p:nvPicPr>
        <p:blipFill>
          <a:blip r:embed="rId14"/>
          <a:stretch/>
        </p:blipFill>
        <p:spPr>
          <a:xfrm>
            <a:off x="356400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1047246a243d8e37aa"/>
          <p:cNvPicPr/>
          <p:nvPr/>
        </p:nvPicPr>
        <p:blipFill>
          <a:blip r:embed="rId15">
            <a:lum contrast="6000"/>
          </a:blip>
          <a:stretch/>
        </p:blipFill>
        <p:spPr>
          <a:xfrm>
            <a:off x="324000" y="476280"/>
            <a:ext cx="3808440" cy="28558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24000" y="2781360"/>
            <a:ext cx="8675640" cy="12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辛弃疾出生时，家乡山东已经被金人侵占。他亲眼目睹了汉人妻离子散、家破人亡，十分渴望百姓能过上安宁的生活。他二十一岁参加抗金义军，一生主张抗金。但他的主张不仅没被采纳，自己却遭到奸臣打击，在江西农村闲居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！这首词就是在那个时候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505620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428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01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809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50920" y="1557360"/>
            <a:ext cx="8569080" cy="23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读辛弃疾的作品。推荐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破阵子  为陈同甫赋壮词以寄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永遇乐  京口北固亭怀古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菩萨蛮  书江西造口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3:49:08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14:15Z</dcterms:modified>
  <cp:revision>20</cp:revision>
  <dc:subject>第一PPT模板网-WWW.1PPT.COM</dc:subject>
  <dc:title>第一PPT模板网-WWW.1PPT.COM</dc:title>
</cp:coreProperties>
</file>