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9A81-F83E-4605-B66C-9739E79B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367F-0A12-43D8-8EBA-4DF7A9EF9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302B-81B2-4139-9653-4F6E0A50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E8C7-56F2-425D-BD50-FF6664DEB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51C0-A703-46B0-B33A-7E8B08B8C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412D-FE07-446A-AE20-A8A8E8DE7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8B34-8101-4681-ABD6-7DD377E3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5CE8-8A76-429B-AC16-232B9D85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7F07-2E5C-4D44-A8FC-E022404B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23C0-F5B2-44E4-B7EF-103D21A0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577D-034F-4AF0-BB8D-FA9A9784E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6E44-AA40-4E32-9ED8-10949DA67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DA8-ED2B-45A2-8423-E85C2A1E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5083-B43E-4837-974E-4E37C1B48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A13-DAB5-4AFD-8EC4-A5CE02B2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B0E-364A-404E-BB9C-85484B53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1C73-A884-4970-82E3-F7347E08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C9740-8238-4351-BB7F-0106D2B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E7460-863B-41DF-9965-83FB1AFF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4086E-7CF2-4A6C-A8E2-F72DAD56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8538-7B95-49D7-8964-C14D476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6172E-76EE-4E72-B115-2489DC9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41069-EC4D-4944-B71D-578EF318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BFDC0-5380-4FD6-B76A-AB3556E0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7A79F-EEBE-442B-A9AF-652CAD07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3BA16-97FF-476D-B89B-6AAC20BF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30A-708F-4542-B83E-EBC970E3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B199E-B58D-4756-A274-CCC235C1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3629-5924-4E6D-B513-D052D11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1D643-F09A-4F91-88D9-F19EC3B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E45D9-0365-42C6-A68C-FC2213FA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63E21-6251-43CE-98FF-92AEE315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2483B-BCE1-4C7D-AC61-1A37D6F6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7D233-8403-4B66-A4C6-25C076A4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B7504-58AD-42D9-B396-ED4D9BC4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B9FCF-599B-4A67-99BA-B827C67F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34E01-3F76-4526-8035-E9C2671E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8EC4-5603-4742-8594-C8A67459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74441-C341-4830-A97D-C9E98454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B626F-034B-49AE-9BB6-26434D04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75532-5BEA-4ABE-B930-62633492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C35A8-7410-42C5-922A-EBCE769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86A26-8AD7-46E7-B7B1-2DD9CB24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CD79E-6954-4573-8490-A0BF8C8B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C9B0A-3C62-4ABE-9F7D-48B8628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5494-AEB1-4273-9619-5A11F9B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9A358-E6EB-4140-B58F-BB537477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EBFF7F-0251-415E-A280-EBE2D433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D943-728D-49C8-8EAB-5FAD98487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4142-9BFB-464C-843E-92DB7BDE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99FF4-F176-442D-9458-1B8D57C5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0830-A65A-4D87-AE2B-2B224242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8DF17-38E8-4662-B294-046219A1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8EBE1-A185-4999-A127-1CDC28A9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84184-6E99-4800-8BB2-658E3ECF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C4F66-6E10-4ED0-B53E-4F39D3B2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8AC60A-9F33-4B0D-AC8B-BF57EC64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3B3E5-1FA6-4EDA-B0C5-13A0808B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CC8AF-B564-4F22-8184-758F82F8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E955-9AF6-4EA7-80F0-3971E7F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0A2D-9211-43C6-8712-DDE71FE8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313D74-5BCD-4427-B7B5-89F9C908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714BE-E122-46AF-ACEE-7528256D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954FE-A0F7-4C09-9689-E13DAE2A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F8ACF-FCEB-49EB-A165-88F414C2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04716-FA1F-4C81-B95C-E288601C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BC2BF-2F81-4057-8819-D4516E52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88965C-DF5A-4140-95D6-7F267C8A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C7885A-5604-4A41-B32C-27848DB6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398FE3-2DEC-4672-93E9-7C0706B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5FD9-F922-4C9C-9049-6B6B7500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633CB-1B32-4075-91B0-8B7AA75E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AAE55-8D4F-451C-B09B-A0B47C1C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C77119-0F50-49B7-A35E-1DA63EA5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7C085-8707-4E84-B828-4782D028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98E072-BF2C-4A02-8A6D-262A255D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9ED66-3E8B-47CF-9FE1-4CFBAA9C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814A08-A4A3-488C-88C6-B20FD6EA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7650-46DB-439A-B9E8-413229C8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D6E-18C2-4716-9F55-2A4D46E8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1552-8C65-460D-9266-5EA9A045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76F3-2384-4D19-9E9F-C3421DBB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CD1-EE0F-45EA-9FAA-E05B3C78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DC3F-4FFE-44A6-9FE0-00C3BAC0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F2E7-CD46-432C-999C-F9F78A4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D45D-5632-4090-B826-0916301E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92C7-DC21-4C8D-8FB2-CBF7D7EE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B59-879F-4AA8-BC1B-12346775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C9EC-D8CB-4C11-BC33-07A2FD95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5FDD-479F-4707-A4DC-C30B1CC1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D126E-D459-4496-A8E3-BF113EB4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6E6D-551F-440B-87CF-7909C510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3F3D-8F5D-4244-9583-18ADFA7E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D621-EB6C-44EB-A981-043EBF50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1222-8516-4E78-955D-550BBD85C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314C-04CC-43E0-A9A1-55CA75A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0D6A-017B-4F45-A28F-C5B7B9E0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69E97-5878-436A-936F-B497EA6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92442-B1C3-460A-A69D-7FAFA813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38DFB-75CE-4B97-8376-319055C3B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B48BE-00A6-45B3-AEC8-5012D1AD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B4F0-5A01-4515-BDC7-ACC216C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0C121-91AD-427E-AF69-9A8CFEE4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1FFF-0414-40F8-82D8-AF6AE8D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120-2C94-4AD0-B4C6-1849E75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4E15-4639-483E-BDCF-6F637377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FFC7C-7B52-43E3-A83E-D2AC74EF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F1D4E-F5DB-4EEF-94B5-A0B02ED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DAD8-1E0C-411B-A517-AA6B800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39291-EBF3-4F51-9089-6204777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4346A-808D-48FE-AA8C-A48AF95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FDDC1-CB69-4F03-AB53-217B9E38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D8F9-AA8F-46E6-BB23-782D18DE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A1BFE-6FFE-4753-A456-E777FE4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AB517-33F4-4D8F-BC6D-83E665C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7BC-0DCA-4084-9470-48392C35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89382-1904-4292-8B0A-762D208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35EC4-04D4-4640-B929-2BFA14C8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15D9-E119-48BB-BDDA-9286351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ED602-4D61-4DB2-948B-A7ECF209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C529-6B0A-498C-9CAA-6C177111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3A26-7D75-41B4-8070-05B8401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27731-F13D-4FFE-AA0A-B020CA8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F327-3FC3-4EF2-8175-D421538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78ECD-F3E3-4B3A-9B23-E44C0459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09DAB-FB9A-4B79-9F1B-2906FAF9A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2C4-D526-4F5C-BC5B-19988F08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F11C-6760-46D3-B994-D1092D3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FEBD-8EAD-43D1-8BB0-967A71D8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BA891-1BAE-4DC3-A8C4-276017CF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2AC11-6F80-4FD1-8C20-CCD0B27C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77B17-7732-430A-823B-34435B3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14A3-CBF9-416E-9F4E-EEB9C7B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01F14-45C8-4FC9-B8E9-16892B1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3DF3E-0088-475A-B66B-34CF5A3A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7C483-EB6E-4162-9CAA-90D56566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DF63A-B9CB-4F3D-80FF-46FF337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C3B-40C7-4D32-BD8C-F7DE0F05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B958B-24C0-49BA-B7EF-0E5D113D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0A98D-2F1A-4444-9B45-C6B242F4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F69D-BCDD-4D47-B945-D11405E8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72784-3BCA-4741-8AA2-2D46DBEF6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483EB-FB9A-4FCC-B051-F984D238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5FA43-D228-4ACF-B432-85BDEEB5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76277-E3A0-4AEE-8294-F79B70E3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48A20-3EC3-45C5-B921-1C704ABE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AEB5-8401-481F-A299-48A0EDC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706C3-BB52-47BD-9D3B-147B5634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ACF-78E1-4A38-8046-60928198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96AC0-FA84-43F3-8C17-219E220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4CC99-F9BD-47C7-B0D7-287BA8CC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BAF9A-4677-4D27-B4A1-77A22377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8D05-1073-42B3-8D73-90751F4C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B5C2A-9A17-4DF6-9D68-3ED1F664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C5FB5-B450-4284-AA29-13858B38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963BC-5FEC-493B-AFF6-F03824CB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B706C-858F-473C-AC8B-5478993C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BB62E-B417-49E5-B984-731BCC85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9F26B-7AAD-40D8-811A-FFB1D369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102-4F33-4D26-BD91-1BFD9580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A0092-1B87-48C1-B3CA-81CE45E2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F2E9B-024C-4665-B885-405906AD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B4ACB-AD7A-4E5D-A227-AA5F112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87F23-EC4B-4CCA-8A29-BBF8380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1C85-7F6B-4A20-AA97-51DEC120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CEB52-D5C6-42DD-A309-8BB370326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EF2AE-33F1-4E68-A414-2532376D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E52C8-D8B6-4FC5-ABBD-99C9521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E3DF9-22DA-44C5-867E-0762015A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3A99-0453-4FF1-8E3C-3CA802D0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44B6-2D69-46CB-BCD3-5A4A68A6D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7BEA-E5E2-43F8-A94F-C88BC5E44F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8C91-07E2-4367-B6FB-18CFF8CFE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362F-997F-4015-BCC7-59801D10AA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2957-3B1B-4F18-AFE0-F8A4A6FA00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CD0C-E965-4F9C-83C6-730AD53CB1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DD26-07BB-4FC9-8009-CDD7C8F40A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D6C-7B65-43B1-AC13-5DB8AB67F4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D9B7-3F2A-4C73-9854-6D3E9F0F46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341A-6EFF-4B86-8108-83D60C8061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014-FE68-48BF-AAA1-A04F085A6F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DD9-F68D-409C-83C4-45F7DBD27A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99EE-54CC-4019-AAD4-09E9EE9921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06F-B3E6-47D3-ABEA-6470F4609D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EA3-688D-4631-928E-EE7D5EB5D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B0EE-E312-403C-8F5A-451AC3A06B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E220-4992-4F91-9DAB-599AE12F8E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4DF-85BC-4322-BC13-71BCDF40BF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A10A-4B2A-47CB-AC17-AC6BA54A2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0D12-99A8-4E95-9CBA-00A36AAF72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A24-D2C0-4FCE-BE54-F4A1D2C07E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F76-46F5-4699-8BC2-71F5A84D2F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CB1-720C-48FA-BF38-E0EE52207E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F42-1C47-4BD2-B69C-01DB7D1FAF9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2499-E0B0-431F-ABEC-6774B6974F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2" name="Text Box 3" descr=""/>
          <p:cNvPicPr/>
          <p:nvPr/>
        </p:nvPicPr>
        <p:blipFill>
          <a:blip r:embed="rId2"/>
          <a:stretch/>
        </p:blipFill>
        <p:spPr>
          <a:xfrm>
            <a:off x="2876400" y="981000"/>
            <a:ext cx="337824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3"/>
          <p:cNvSpPr/>
          <p:nvPr/>
        </p:nvSpPr>
        <p:spPr>
          <a:xfrm>
            <a:off x="609480" y="41148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老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吼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道：“少废话，快走。”他用力把小伙子推上木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380880" y="419112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380880" y="533520"/>
            <a:ext cx="7696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老汉突然冲上前，从队伍里　出一个小伙子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吼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道：“你还算是个党员吗？排到后面去！”老汉凶得像只豹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图片 1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TextBox 2"/>
          <p:cNvSpPr/>
          <p:nvPr/>
        </p:nvSpPr>
        <p:spPr>
          <a:xfrm>
            <a:off x="-152280" y="380880"/>
            <a:ext cx="9372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黎明的时候，雨突然大了。像泼。像倒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山洪咆哮着，像一群受惊的野马，从山谷里狂奔而来，势不可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近一米高的洪水已经在路面上跳舞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死亡在洪水的狞笑声中逼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渐渐窜上来，放肆地舔着人们的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，爬上了老汉的胸膛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2" descr="laohan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98" name="TextBox 2"/>
          <p:cNvSpPr/>
          <p:nvPr/>
        </p:nvSpPr>
        <p:spPr>
          <a:xfrm>
            <a:off x="4800600" y="115560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他像一座山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3"/>
          <p:cNvSpPr/>
          <p:nvPr/>
        </p:nvSpPr>
        <p:spPr>
          <a:xfrm>
            <a:off x="152280" y="198036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当洪水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_______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老汉</a:t>
            </a:r>
            <a:r>
              <a:rPr b="1" lang="en-US" sz="8000" spc="-1" strike="noStrike">
                <a:solidFill>
                  <a:srgbClr val="0000ff"/>
                </a:solidFill>
                <a:latin typeface="Arial"/>
              </a:rPr>
              <a:t>_________</a:t>
            </a: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0" y="0"/>
            <a:ext cx="9144000" cy="62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黎明的时候，雨突然大了。像泼。像倒。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山洪咆哮着，像一群受惊的野马，从山谷里狂奔而来，势不可当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村庄惊醒了。人们翻身下床，却一脚踩进水里。是谁惊慌地喊了一嗓子，一百多号人你拥我挤地往南跑。近一米高的洪水已经在路面上跳舞了。人们又疯了似的折回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东面、西面没有路。只有北面有座窄窄的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死亡在洪水的狞笑声中逼近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人们跌跌撞撞地向那木桥拥去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清瘦的脸上淌着雨水。他不说话，盯着乱哄哄的人们。他像一座山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人们停住脚，望着老汉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沙哑地喊话：“桥窄！排成一队，不要挤！党员排在后边！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有人喊了一声：“党员也是人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冷冷地说：“可以退党，到我这儿报名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竟没人再喊。一百多人很快排成队，依次从老汉身边奔上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水渐渐窜上来，放肆地舔着人们的腰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突然冲上前，从队伍里揪出一个小伙子，吼道：“你还算是个党员吗？排到后面去！”老汉凶得像只豹子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小伙子瞪了老汉一眼，站到了后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木桥开始发抖，开始痛苦地呻吟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水，爬上了老汉的胸膛。最后，只剩下了他和小伙子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小伙子推了老汉一把，说：“你先走。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吼道：“少废话，快走。”他用力把小伙子推上木桥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突然，那木桥轰地一声塌了。小伙子被洪水吞没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老汉似乎要喊什么，猛然间，一个浪头也吞没了他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一片白茫茫的世界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五天以后，洪水退了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一个老太太，被人搀扶着，来这里祭奠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她来祭奠两个人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1500" spc="-1" strike="noStrike">
                <a:solidFill>
                  <a:srgbClr val="0000ff"/>
                </a:solidFill>
                <a:latin typeface="Arial"/>
              </a:rPr>
              <a:t>她丈夫和她儿子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2" descr="untitled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7" name="再见警察.mp3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2"/>
          <p:cNvSpPr/>
          <p:nvPr/>
        </p:nvSpPr>
        <p:spPr>
          <a:xfrm>
            <a:off x="0" y="1342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五天以后，洪水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一个老太太，被人搀扶着，来这里祭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来祭奠两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丈夫和她儿子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6380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2" descr="untitled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2"/>
          <p:cNvSpPr/>
          <p:nvPr/>
        </p:nvSpPr>
        <p:spPr>
          <a:xfrm>
            <a:off x="0" y="13424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五天以后，洪水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一个老太太，被人搀扶着，来这里祭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来祭奠两个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她丈夫和她儿子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3733920" y="533520"/>
            <a:ext cx="601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像一座山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座屹立不倒的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更像一座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座联结生命的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鲜红的党心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永放光芒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6.mp3" descr=""/>
          <p:cNvPicPr/>
          <p:nvPr/>
        </p:nvPicPr>
        <p:blipFill>
          <a:blip r:embed="rId1"/>
          <a:stretch/>
        </p:blipFill>
        <p:spPr>
          <a:xfrm>
            <a:off x="8001000" y="5638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58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34083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-76320" y="227160"/>
            <a:ext cx="9144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清瘦的脸上淌着雨水。他不说话，盯着乱哄哄的人们。他像一座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沙哑地喊话：“桥窄！排成一队，不要挤！党员排在后边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冷冷地说：“可以退党，到我这儿报名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突然冲上前，从队伍里揪出一个小伙子，吼道：“你还算是个党员吗？排到后面去！”老汉凶得像只豹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吼道：“少废话，快走。”他用力把小伙子推上木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老汉似乎要喊什么，猛然间，一个浪头也吞没了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228600" y="11430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2"/>
          <p:cNvSpPr/>
          <p:nvPr/>
        </p:nvSpPr>
        <p:spPr>
          <a:xfrm>
            <a:off x="457200" y="160020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木桥前，没腿深的水里，站着他们的党支部书记，那个全村人都拥戴的老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197388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2" descr="laohan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2"/>
          <p:cNvSpPr/>
          <p:nvPr/>
        </p:nvSpPr>
        <p:spPr>
          <a:xfrm>
            <a:off x="4800600" y="115560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老汉清瘦的脸上淌着雨水。他不说话，盯着乱哄哄的人们。他像一座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012000" y="3357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704200" y="4802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像一座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TextBox 2"/>
          <p:cNvSpPr/>
          <p:nvPr/>
        </p:nvSpPr>
        <p:spPr>
          <a:xfrm>
            <a:off x="457200" y="16002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沙哑地喊话：“桥窄！排成一队，不要挤！党员排在后边！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187280" y="2421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7308720" y="2421000"/>
            <a:ext cx="9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3924360" y="321300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"/>
          <p:cNvSpPr/>
          <p:nvPr/>
        </p:nvSpPr>
        <p:spPr>
          <a:xfrm>
            <a:off x="0" y="152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老汉沙哑地喊话：“桥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排成一队，不要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党员排在后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72160" y="1844640"/>
            <a:ext cx="484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汉沙哑地喊话：“乡亲们，桥太窄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家排成一队，不要拥挤，不要慌张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产党员，注意了，你们要发扬高风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节的精神，请主动排到群众的后面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TextBox 2"/>
          <p:cNvSpPr/>
          <p:nvPr/>
        </p:nvSpPr>
        <p:spPr>
          <a:xfrm>
            <a:off x="30492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突然冲上前，从队伍里　出一个小伙子，吼道：“你还算是个党员吗？排到后面去！”老汉凶得像只豹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815120" y="2438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3984480" y="627840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83096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7303320" y="24210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6294960" y="4076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6877080" y="40766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只豹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3"/>
          <p:cNvSpPr/>
          <p:nvPr/>
        </p:nvSpPr>
        <p:spPr>
          <a:xfrm>
            <a:off x="380880" y="9144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汉吼道：“少废话，快走。”他用力把小伙子 上木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800120" y="167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304920" y="374976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　老汉似乎要    什么，猛然间，一个浪头也吞没了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6"/>
          <p:cNvSpPr/>
          <p:nvPr/>
        </p:nvSpPr>
        <p:spPr>
          <a:xfrm>
            <a:off x="4599720" y="37497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270960" y="907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3768480" y="1700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用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7806240" y="170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0"/>
          <p:cNvSpPr/>
          <p:nvPr/>
        </p:nvSpPr>
        <p:spPr>
          <a:xfrm>
            <a:off x="4639320" y="3716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图片 1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5" name="TextBox 3"/>
          <p:cNvSpPr/>
          <p:nvPr/>
        </p:nvSpPr>
        <p:spPr>
          <a:xfrm>
            <a:off x="380880" y="12952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突然冲上前，从队伍里揪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吼道：“你还算是个党员吗？排到后面去！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凶得像只豹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瞪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眼，站到了后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533520" y="39625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把，说：“你先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父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吼道：“少废话，快走。”他用力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儿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推上木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219320" y="29718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02:18:29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0:31Z</dcterms:modified>
  <cp:revision>13</cp:revision>
  <dc:subject>第一PPT模板网-WWW.1PPT.COM</dc:subject>
  <dc:title>第一PPT模板网-WWW.1PPT.COM</dc:title>
</cp:coreProperties>
</file>