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D17-6FBF-4FB2-9839-08710061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508-8C56-4E10-A238-E77BBCCE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03D41-EC5D-4FCF-AE56-FF9F5BCA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00AFA-216B-4B64-AEE8-D3FAA4C5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6F00D-7BA2-44B6-9D6A-C4CE8EF5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9FF4E-79C9-48BE-9AB3-8992F422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420C9-139C-459D-AE63-32211E4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451C6-90F3-4857-8162-9B6544F8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1AF41-C1A8-438C-8140-5A0767D2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C0BA4-24C5-4703-AFD6-A7238207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1BAAB-4DE3-4B2A-B401-1624D422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DEF70-C68F-4645-BA10-99F525B5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F5A-7F29-46F6-BAD2-61228D6F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B9FEA-0C3A-4A2B-8D59-C74EB481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30AAA-55FC-49CD-B3C2-D0B089E8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7DDB7-74B7-4B66-B477-A4F5730D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B9779-4457-4694-8E47-15413A2E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1C5B9-6EB5-434B-AA2E-04A301E6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46438-9F1C-4392-A8F8-912C626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FC1C0-33C1-446D-9BC2-86C122C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B855D-56FE-4575-88DE-470FCB32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302E5-788F-4F0A-919F-4B160067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615D5-7223-4F4D-B1B0-21166F17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412-2A3E-4BD7-9B72-380699E6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E8403-8E66-44E0-B96D-DE6A2331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6F6FD-37CD-4C6A-8997-59849852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78406-8BDE-4FE3-B738-335D0D29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0D75A-4CE3-4233-A5F0-0D162392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1E02D-B3B3-46E2-8749-C824B97D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85547-2E8D-4550-80DB-0EE943BE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5CA99-E1B4-426C-A604-2AECB6A0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188CF-32DF-4FF8-9662-772C33C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7A4CC-9CE9-45E9-82ED-336406E6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18285-5354-4A22-B25D-FFF9D83B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5174-3B6B-48C3-BBFA-60498A5A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DD3BE-E05B-4A85-A045-E3DDF3C9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800FB-E5F1-4519-BFA7-370DFB16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36D64-C488-476E-8C51-E501CA8E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5F013-8C99-40E1-A6E8-F037359F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D4383-E337-4438-A901-98CE08D2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42D70-459C-48B8-B686-D0B106C6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B8203-399A-4221-BC97-603968B7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6DF13-C2DD-4586-9239-74DB9D9D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ABEF1-0E9D-4362-9A2E-1F9B94C4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CA3FB-B360-44BF-83C6-00A78A4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361C-1B92-4388-8A83-B7171BA2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E65B7-60E3-4FD1-A21E-0C981897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BB8F8-5EF6-4382-9948-55FC72DA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0E61A-AA36-4177-8CD1-C708B1FB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108A7-E1EF-4594-BE0E-A2EE9843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3AF04-123E-43E6-9DA6-90E06794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C39B3-142E-41DD-9EAC-711AA89E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6BBAD-4133-450F-B90F-C2FD57C5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44E09-E6F1-41C1-872C-AA510D25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2CE70-B02F-4BE1-B815-19355315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17C27-F1DF-432D-80CE-B6213EDA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05DD-F9A9-4F7C-A859-6E17152C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ED3B1-19AC-496A-B9D3-3DC37402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2E2E8-E0EC-40A0-B21A-AF0F93AD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872F3-19BE-468C-B9A6-E78BD557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BD0331-BFA1-4973-A0B3-C58981E1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1AAD2-410C-4B9F-8725-4D0380E2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EC07B-16E2-4002-9650-150E5C6D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930CD-242A-4222-9857-B5EFD993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4DE8-D002-4F0F-B7AD-39153990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4ECB-BC24-4785-847F-37DE17FB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9BD7-BACD-4BF3-864B-5F8C1B1A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DFB9-C39D-4D80-AB56-CDE0275C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869-35D9-4517-887D-BC82AB9C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AA4C-08A9-46C2-B8EC-2C9A34D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C2D0-4AF9-4E5F-84A8-0D6C935E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7551-67B5-4D29-9C54-A6853399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C5B4-9D54-41EF-9404-DAF2C0A9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9F45-2440-4A72-A85D-CD709A0C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5B761-66C1-4C75-92A3-278D00A8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D512-00A3-4BDA-8FD5-D37F4A0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3233-0416-4F15-ADFF-BB1C5945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89A13-D075-470B-A89B-C83A2736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59F5-7408-4266-9895-FC34CF6F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7EB-4404-464D-9200-BBA24C8B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3A3FB-D828-4469-A35B-2A9C5D0A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CBED8-E771-414B-9BD5-F927C2A2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C924-0F8C-41DD-96BD-09C72EE1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F3D6-3F20-42FE-AC5F-73AA17B2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0277-A80A-4826-AE52-B11C8306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C6BA-5DB2-42E8-AE06-7CC1E561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A01E-51D5-4262-A130-1C6629F1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ECB5-1AE5-4E82-BAE6-AC00C587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E729-2857-4D45-B242-C1ED1A2D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6632-96E6-4A03-905E-081A5154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83F-C53D-4B60-BBD2-EAAECF7F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C2085-ED3D-4EB4-A969-FC7A8E89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BE3CE-8074-4E83-A192-B10E7A8F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494E6-E21F-4072-A438-BE3811A6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57A4B-3415-4B5D-81CD-C4C70E5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EF3DB-DD44-4377-8654-16CAA344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BCB52-9521-46DB-9074-A8796A9D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34DF-4125-4494-BE7A-A37B9FC5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E689-FAA2-4A5C-82B3-21013AF5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E932-5C08-4E59-9361-BEAE9B8E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45400-C0F0-4457-8677-56DA0588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A42-F24F-4D1B-9030-57F5D9FB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7FF7-92D5-4815-93D3-B6734E20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9519-D3CE-4151-AFCC-80CE2F71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75FB-F627-4629-B52A-381CF529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29F1B-3D9B-4D41-AF08-A897C41B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DCA68-B2F7-4153-961F-61B33D2E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B138F-ABA9-4A2F-A078-0DFCA336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50F98-0AC5-46D1-857C-A64E5310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3BA78-BDC0-49EC-9635-2A5D451E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F0C51-D5B0-4BF9-878C-ED4A7C6D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E7F7C-36E0-437A-A40A-28B35807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1E9-F8BC-4459-A569-4A9947EB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6E1D-7DE8-469B-8EA9-26665A66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E3421-942E-4BE5-AE07-75BB26F9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85ACA-292F-4E53-9D50-B76BA4D3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EAD91-92D8-4589-BF18-E659A7D3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ABF2F-792F-46DC-B0D1-EE1B5136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C13E-6CC4-4124-AD76-DF1E383D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F31FF-7477-4F10-9E46-A863D564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8B515-7E14-4038-A8C8-271AA518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9AC62-E390-45BC-8876-EB2F8844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FA5EB-B14F-4B33-B9F3-99C8400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7A5-96BF-43D0-B14D-A222E2D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8703B-199A-4F8B-ADD6-4AF2020C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5957B-6A82-4A6B-837B-F32A52A8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D0201-ED8E-4CE5-AF87-7A4D964E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CD0A7-1DED-49A8-AD50-AE51A881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EECF8-DF9C-4679-B3AA-A802F09C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C26E0-1690-4767-88E0-5B4E4BCA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7133E-CCBC-4B9F-B1FC-B0B96C2C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3B7A4-1833-41DD-BC0C-67A591A7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F0827-113C-4DC2-96F5-2B7B0B61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A6820-4D95-4CD6-9F23-B48FF0DF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872-42A2-4105-88DE-E618A5E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08B6C-D8D7-41CF-9079-617E0F5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0D7B4-4759-4DA0-87B2-0C30855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4EA76-69A6-433A-9EEE-407A55E2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2AA4-AE38-4006-9DFD-01E041C7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3E7BC-2448-429C-B1EB-6D4F6091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D4984-AF68-44CB-B197-25C134CA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53D52-A7DC-475F-964D-D1916923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0B434-6CE7-4DA8-A440-2548AF3D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E2016-9F30-48CB-B3C9-91BB9D2C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75FCD-6F30-4EF4-A628-9288C0E0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BA8-55FB-4DF1-8A8A-EE3D56FF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2F7FF-B4A6-430F-A6B8-FC603C17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B4D04-E6D5-4137-8B72-C3309A7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415A8-8402-4925-86D3-EB19120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BCA5F-9DE8-40F5-BD46-DEDFC027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042CA-3554-4A62-9C49-FEA7BB5D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30543-E637-416C-8789-1E98992F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928B0-24A8-4962-93DC-5307BAD1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029AD-DE0D-42CA-B5A9-82478721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3713C-5750-4064-AFB7-E4915DF3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B9C74-030F-4823-A8E9-6A44EF8B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17C6-D6AE-47AF-8CA0-B8E88109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94F9-7242-4453-BC41-475552D9F7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4FB-65FE-4AB3-8909-9A5E519E6F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EBAD-A615-461F-B468-EE24C7579F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3360-248E-497B-96E6-525647DDA8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B882-03AD-4424-B3AF-CBB2351C6D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E61D-3665-4B69-9886-09E45A701C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7D4-C6D2-4B23-B740-66126D7724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D7A7-BA2C-4A24-B11E-A655284DB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FD28-C861-421C-A380-2B9A175211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34F3-B4A9-4BFD-8890-5191B6FCDC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EB38-6FF1-465E-A49A-7695EAF8A9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36F-C894-4F47-A066-413A53A3A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B07-5882-4B24-8F37-161C9F3843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CFC8-C187-4088-B2F0-9E9677F278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9DB-3FA4-49F4-A410-0BBE66CDB5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2570-13E0-40DE-B7DA-4E4AE2B954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6FCC-96E8-43FA-A06B-9927DE27FC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A531-8701-492A-8E64-83C6AE5AE0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42EF-CA24-4E8B-A194-D0754E89BF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9FD3-C0EE-4533-B077-0AE6E9A111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E4CF-3359-45D7-82DE-7E5F8D577F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2599-7147-4992-B7BE-D733FDC550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CB9C-2397-4E5E-969A-007EF0818A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4495-D6B1-47CF-8781-14A0F8DA29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WordArt 4" descr=""/>
          <p:cNvPicPr/>
          <p:nvPr/>
        </p:nvPicPr>
        <p:blipFill>
          <a:blip r:embed="rId2"/>
          <a:stretch/>
        </p:blipFill>
        <p:spPr>
          <a:xfrm>
            <a:off x="3078000" y="371520"/>
            <a:ext cx="5085000" cy="1262160"/>
          </a:xfrm>
          <a:prstGeom prst="rect">
            <a:avLst/>
          </a:prstGeom>
          <a:ln w="0">
            <a:noFill/>
          </a:ln>
        </p:spPr>
      </p:pic>
      <p:sp>
        <p:nvSpPr>
          <p:cNvPr id="534" name="WordArt 27"/>
          <p:cNvSpPr txBox="1"/>
          <p:nvPr/>
        </p:nvSpPr>
        <p:spPr>
          <a:xfrm>
            <a:off x="1447920" y="1981080"/>
            <a:ext cx="66294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青山不老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9"/>
          <p:cNvGrpSpPr/>
          <p:nvPr/>
        </p:nvGrpSpPr>
        <p:grpSpPr>
          <a:xfrm>
            <a:off x="304920" y="1066680"/>
            <a:ext cx="8458200" cy="5257800"/>
            <a:chOff x="304920" y="1066680"/>
            <a:chExt cx="8458200" cy="5257800"/>
          </a:xfrm>
        </p:grpSpPr>
        <p:pic>
          <p:nvPicPr>
            <p:cNvPr id="571" name="Picture 7" descr="b49"/>
            <p:cNvPicPr/>
            <p:nvPr/>
          </p:nvPicPr>
          <p:blipFill>
            <a:blip r:embed="rId2"/>
            <a:stretch/>
          </p:blipFill>
          <p:spPr>
            <a:xfrm>
              <a:off x="304920" y="1066680"/>
              <a:ext cx="845820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6" descr="list-down"/>
            <p:cNvPicPr/>
            <p:nvPr/>
          </p:nvPicPr>
          <p:blipFill>
            <a:blip r:embed="rId3"/>
            <a:stretch/>
          </p:blipFill>
          <p:spPr>
            <a:xfrm>
              <a:off x="3962520" y="5029200"/>
              <a:ext cx="4800600" cy="12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8" descr="pic_27067202"/>
            <p:cNvPicPr/>
            <p:nvPr/>
          </p:nvPicPr>
          <p:blipFill>
            <a:blip r:embed="rId4"/>
            <a:stretch/>
          </p:blipFill>
          <p:spPr>
            <a:xfrm>
              <a:off x="1219320" y="5410080"/>
              <a:ext cx="2895480" cy="8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WordArt 4"/>
          <p:cNvSpPr txBox="1"/>
          <p:nvPr/>
        </p:nvSpPr>
        <p:spPr>
          <a:xfrm>
            <a:off x="2590920" y="1752480"/>
            <a:ext cx="3429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中宋"/>
              </a:rPr>
              <a:t>小组活动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295280" y="31240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四人小组分工合作，结合课文内容分析：老人在种树造林的过程中遇到了哪些困难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52320" y="1371600"/>
            <a:ext cx="2514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要点点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42640" y="2437920"/>
            <a:ext cx="7086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山沟的自然条件十分恶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老人年老、瘦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生活条件艰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、同伴、老伴相继逝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从课文中找出相关语句，大家一起来读一读，体会老人植树的艰辛和精神的可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276360" y="1142640"/>
            <a:ext cx="1904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知识链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晋西北土地沙漠化日趋严重，属于沙尘暴高发区，素有“一年一场风，从春刮到冬，无风三尺土，风起土满天”的说法。这些主要分布于大同、朔州、忻州三市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县（区）的风沙带，土地沙漠化面积每年都在增加。右玉县老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米高的城墙如今已被黄沙埋没，人可以沿坡直接上到城墙；五寨县许多村庄，由于风沙侵害，每一二十年就被迫搬迁一次。由于气候恶劣，植被稀少，从西伯利亚吹过来的强劲季风，经大同、朔州地区时把当地粒碎质轻的栗钙土卷向高空吹向河北平原、京津地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ico09"/>
          <p:cNvPicPr/>
          <p:nvPr/>
        </p:nvPicPr>
        <p:blipFill>
          <a:blip r:embed="rId2"/>
          <a:stretch/>
        </p:blipFill>
        <p:spPr>
          <a:xfrm>
            <a:off x="304920" y="1219320"/>
            <a:ext cx="8458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1086846_85518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我们应该如何理解</a:t>
            </a:r>
            <a:r>
              <a:rPr b="1" lang="zh-CN" sz="4400" spc="-1" strike="noStrike">
                <a:solidFill>
                  <a:srgbClr val="3333ff"/>
                </a:solidFill>
                <a:latin typeface="华文仿宋"/>
                <a:ea typeface="黑体"/>
              </a:rPr>
              <a:t>“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青山不老</a:t>
            </a:r>
            <a:r>
              <a:rPr b="1" lang="zh-CN" sz="4400" spc="-1" strike="noStrike">
                <a:solidFill>
                  <a:srgbClr val="3333ff"/>
                </a:solidFill>
                <a:latin typeface="华文仿宋"/>
                <a:ea typeface="黑体"/>
              </a:rPr>
              <a:t>”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的含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4"/>
          <p:cNvSpPr txBox="1"/>
          <p:nvPr/>
        </p:nvSpPr>
        <p:spPr>
          <a:xfrm>
            <a:off x="2209680" y="3505320"/>
            <a:ext cx="5105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latin typeface="华文中宋"/>
              </a:rPr>
              <a:t>难点理解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42640" y="129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１、是的，保住了这黄土，我们才有这绿树；有了这绿树，我们才守住了这片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5943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黄土提供了绿树成长所需的养料，而绿树的根则扎紧、牵绊着黄土，使之不至于流失。这正如老农与青山是息息相关、不可分离的。这片青山养育了老农，而老农用自己一生的努力，创造了这片绿色的奇迹，作为对青山的回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图片7"/>
          <p:cNvPicPr/>
          <p:nvPr/>
        </p:nvPicPr>
        <p:blipFill>
          <a:blip r:embed="rId2"/>
          <a:stretch/>
        </p:blipFill>
        <p:spPr>
          <a:xfrm>
            <a:off x="6553080" y="2666880"/>
            <a:ext cx="180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95280" y="1447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中宋"/>
              </a:rPr>
              <a:t>２、他觉得种树是命运的选择，屋后的青山就是生命的归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36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仿宋"/>
              </a:rPr>
              <a:t>　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面临享福与吃苦的抉择，老农毫不犹豫地选择了开辟山沟、改造山林的艰苦之路，因为他知道这条山沟需要他不断地种树绿化，因此他愿意将自己的一生都奉献给这山沟，将自己的生命都奉献给这青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３、他已经将自己的生命转化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另一种东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。他是真正与山川共存、与日月同辉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60199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另一种东西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表面上指的是这片绿洲，事实上还包含着开辟山林、绿化家园的精神和造福后代的情怀。老人用自己有限的生命创造了无限的价值，生命的意义在茫茫青山中得到无限扩张，而且将随着青山永垂不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20063917574731822"/>
          <p:cNvPicPr/>
          <p:nvPr/>
        </p:nvPicPr>
        <p:blipFill>
          <a:blip r:embed="rId2"/>
          <a:stretch/>
        </p:blipFill>
        <p:spPr>
          <a:xfrm>
            <a:off x="6553080" y="2743200"/>
            <a:ext cx="1981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520" y="487692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青山是不会老的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238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老人用自己的勤劳善良创造了这片绿洲，以有限的生命创造了无限的价值，生命的意义在茫茫青山中得到无限扩张，而且将随着青山永垂不朽，这是不会因为年龄的增长而变老的。这位普通的老人让我们领悟到：青山是不会老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20062285471074710"/>
          <p:cNvPicPr/>
          <p:nvPr/>
        </p:nvPicPr>
        <p:blipFill>
          <a:blip r:embed="rId2"/>
          <a:stretch/>
        </p:blipFill>
        <p:spPr>
          <a:xfrm>
            <a:off x="7010280" y="4724280"/>
            <a:ext cx="16002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0" descr="2_248_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WordArt 7"/>
          <p:cNvSpPr txBox="1"/>
          <p:nvPr/>
        </p:nvSpPr>
        <p:spPr>
          <a:xfrm>
            <a:off x="2666880" y="68580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再见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ircl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057040" y="25146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治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归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荡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领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333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风雨同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舟</a:t>
            </a: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2590920" y="1523880"/>
            <a:ext cx="3352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中宋"/>
              </a:rPr>
              <a:t>字词正音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5181480" y="251460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zh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5257800" y="32004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s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5105520" y="38862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y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5334120" y="4648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w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5105520" y="5410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宋体"/>
              </a:rPr>
              <a:t>zhō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0" descr="1012539724"/>
          <p:cNvPicPr/>
          <p:nvPr/>
        </p:nvPicPr>
        <p:blipFill>
          <a:blip r:embed="rId2"/>
          <a:stretch/>
        </p:blipFill>
        <p:spPr>
          <a:xfrm>
            <a:off x="5867280" y="10666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1981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肆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盘踞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归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劲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淤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荡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200400" y="2133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任意残杀或迫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3200400" y="2666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非法占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3200400" y="3276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或事物的最终的着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3200400" y="3886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坚强有力地挺立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1"/>
          <p:cNvSpPr/>
          <p:nvPr/>
        </p:nvSpPr>
        <p:spPr>
          <a:xfrm>
            <a:off x="3200400" y="4495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沉积的泥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2"/>
          <p:cNvSpPr/>
          <p:nvPr/>
        </p:nvSpPr>
        <p:spPr>
          <a:xfrm>
            <a:off x="3048120" y="51055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水波）一起一伏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WordArt 13"/>
          <p:cNvSpPr txBox="1"/>
          <p:nvPr/>
        </p:nvSpPr>
        <p:spPr>
          <a:xfrm>
            <a:off x="2362320" y="1371600"/>
            <a:ext cx="3124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词语理解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51" name="Picture 15" descr="1012539724"/>
          <p:cNvPicPr/>
          <p:nvPr/>
        </p:nvPicPr>
        <p:blipFill>
          <a:blip r:embed="rId2"/>
          <a:stretch/>
        </p:blipFill>
        <p:spPr>
          <a:xfrm>
            <a:off x="5943600" y="1066680"/>
            <a:ext cx="2857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8"/>
          <p:cNvSpPr/>
          <p:nvPr/>
        </p:nvSpPr>
        <p:spPr>
          <a:xfrm>
            <a:off x="609480" y="13701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6" descr="bottom-cao-bgimg"/>
          <p:cNvPicPr/>
          <p:nvPr/>
        </p:nvPicPr>
        <p:blipFill>
          <a:blip r:embed="rId2"/>
          <a:stretch/>
        </p:blipFill>
        <p:spPr>
          <a:xfrm>
            <a:off x="304920" y="1066680"/>
            <a:ext cx="8458200" cy="52578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73356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老农创造了怎样的奇迹？</a:t>
            </a:r>
            <a:br>
              <a:rPr sz="3600"/>
            </a:b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（请从文中找出有关的句段加以说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WordArt 4"/>
          <p:cNvSpPr txBox="1"/>
          <p:nvPr/>
        </p:nvSpPr>
        <p:spPr>
          <a:xfrm>
            <a:off x="2971800" y="19051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自读课文，</a:t>
            </a:r>
            <a:endParaRPr b="1" lang="en-US" sz="1800" spc="1" strike="noStrike">
              <a:ln w="12600">
                <a:solidFill>
                  <a:srgbClr val="00cc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思考问题：</a:t>
            </a:r>
            <a:endParaRPr b="1" lang="en-US" sz="1800" spc="1" strike="noStrike">
              <a:ln w="12600">
                <a:solidFill>
                  <a:srgbClr val="00ccff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56" name="Picture 8" descr="g_cha_p_08"/>
          <p:cNvPicPr/>
          <p:nvPr/>
        </p:nvPicPr>
        <p:blipFill>
          <a:blip r:embed="rId3"/>
          <a:stretch/>
        </p:blipFill>
        <p:spPr>
          <a:xfrm>
            <a:off x="6934320" y="160020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U98P33T148D49979F2100DT20040722105707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"/>
          <p:cNvSpPr/>
          <p:nvPr/>
        </p:nvSpPr>
        <p:spPr>
          <a:xfrm>
            <a:off x="914400" y="1523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狂风肆虐、沙尘暴盘踞的山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4" descr="500_4Vnn0yHG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685800" y="1295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现在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绿意荡漾的青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  <a:ea typeface="华文中宋"/>
              </a:rPr>
              <a:t>１、我们盘腿坐在土炕上，就像坐在船上，四周全是绿色的波浪，风一吹，树梢卷过涛声，叶间闪着粼粼的波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09680" y="3200040"/>
            <a:ext cx="65534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仿宋"/>
              </a:rPr>
              <a:t>作者用比喻的方法，描写了漫山遍野绿意盎然，林间松涛阵阵、叶间微泛绿波的画面，喻示着老人投身山林、为改造山沟所做的巨大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2005911133437813"/>
          <p:cNvPicPr/>
          <p:nvPr/>
        </p:nvPicPr>
        <p:blipFill>
          <a:blip r:embed="rId2"/>
          <a:stretch/>
        </p:blipFill>
        <p:spPr>
          <a:xfrm>
            <a:off x="609480" y="327672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5" descr="b49"/>
          <p:cNvPicPr/>
          <p:nvPr/>
        </p:nvPicPr>
        <p:blipFill>
          <a:blip r:embed="rId2"/>
          <a:stretch/>
        </p:blipFill>
        <p:spPr>
          <a:xfrm>
            <a:off x="304920" y="1066680"/>
            <a:ext cx="8458200" cy="52578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bottom-cao-bgimg"/>
          <p:cNvPicPr/>
          <p:nvPr/>
        </p:nvPicPr>
        <p:blipFill>
          <a:blip r:embed="rId3"/>
          <a:stretch/>
        </p:blipFill>
        <p:spPr>
          <a:xfrm>
            <a:off x="304920" y="5715000"/>
            <a:ext cx="8458200" cy="6094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1066320" y="1599840"/>
            <a:ext cx="678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２、</a:t>
            </a:r>
            <a:r>
              <a:rPr b="0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15</a:t>
            </a: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年啊，绿化了</a:t>
            </a:r>
            <a:r>
              <a:rPr b="0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8</a:t>
            </a: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条沟，造了</a:t>
            </a:r>
            <a:r>
              <a:rPr b="0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7</a:t>
            </a: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条防风林带，</a:t>
            </a:r>
            <a:r>
              <a:rPr b="0" lang="en-US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3700</a:t>
            </a: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亩林网，这是多么了不起的奇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３、杨树、柳树，如臂如股，劲挺在山洼山腰。看不见它们的根，山洪涌下的泥埋住了树的下半截，树却勇敢地顶住了它的凶猛。这山已失去了原来的坡形，依着一层层的树形成一层层的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7" descr="200591113351127"/>
          <p:cNvPicPr/>
          <p:nvPr/>
        </p:nvPicPr>
        <p:blipFill>
          <a:blip r:embed="rId2"/>
          <a:stretch/>
        </p:blipFill>
        <p:spPr>
          <a:xfrm>
            <a:off x="304920" y="1066680"/>
            <a:ext cx="8534160" cy="52578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19520" y="1828800"/>
            <a:ext cx="58672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老人是在什么样的情况下创造了这样的奇迹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WordArt 4"/>
          <p:cNvSpPr txBox="1"/>
          <p:nvPr/>
        </p:nvSpPr>
        <p:spPr>
          <a:xfrm>
            <a:off x="2666880" y="3809880"/>
            <a:ext cx="46483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再读课文，思考问题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14:57:02Z</dcterms:modified>
  <cp:revision>3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