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6FCC4-D610-4FEF-9EE3-89B1C6D11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855CC-5370-423E-AC41-68C3C63E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5F5190-4BE5-43DC-A7AE-4DA3F78B86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A29C77-9F56-41ED-89D6-7DF575598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6EDCD4-000A-4757-B3B8-54E3705C4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079DF-8BAC-4271-B5CF-B4079F6E1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8DD90-4C68-4A7D-8E75-9D7B4743B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7C684E-4E36-45F4-AC49-7697703BF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A4E38A-304B-411A-BA00-55553587FB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95C06C-16F8-4F18-A0A2-1563F61322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A34C27-C355-48E6-85E6-943367D2D3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94C171-B2E5-4F5E-8BB0-883AD5CCE9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AD889-F512-4643-903A-D763F1452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88ED80-264D-4B3D-9D8F-4D08A0BC2A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A98E61-658E-47F6-8D13-32DF05000D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A326B7-BE2C-4550-875F-714C18BEBF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F80546-267B-4B6C-A387-9618E309B2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ABC178-57BB-4813-A1CB-9855F31D93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40EC68-A36B-4124-8732-C55B62A0DB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10F2AD-386E-456A-A075-46F12F3B74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190431-64EA-42D0-BD22-A0C05E4D1B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96A3E6-1F8E-49FA-86A6-ABED43DB6A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059F60-5474-47DC-87B3-B007ABA366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40151-5749-4CA1-B41B-98B19C79D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844EFB-F4AA-4644-A567-0A9DE71B2A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846B06-88B9-4DB2-868D-5D18D23E57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747B45-4699-4C09-B996-26F136C602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3D4349-D9D5-4A3E-B19C-546A95EA41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39A605-3030-4B33-979A-5589AC2037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117C1D-98F5-4CEA-98F3-A181C521F9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955825-FD44-439F-9AF6-A1F0425405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26D1BA-DA11-4B12-8927-1DCDBB81AA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D692E5-BE78-4554-BCE6-CFECCF7EF9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8F3C07-4048-4198-8663-C9DB12CC7F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8BE85-F24C-4FF9-AE76-07F16CCDF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1DBA91-C051-4466-84A7-AC9205D7EF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F6BD41-8022-4062-BA89-4D695FD4C0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1CEACC-55FD-4588-9075-242AC98F3C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9E3E9E-769C-41FA-A762-CCBC261D94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A112DB-F546-4ED9-9BA7-2A2BBF1555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9AB9A4-1678-4F86-B8CF-FCC5C6361E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E2CFA4-2449-46DF-88FE-9C58E8C5B1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01B74F-A2A2-4EC4-B75C-06662AFDD0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43479E-C8A9-4A07-9444-0B56F76229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B20B20-8002-4271-80D3-B5733FD487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2DFB2-0D91-4033-8577-7D2D077B3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BA9785-7785-4AD0-BDCE-C1AA56AB3D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CF032B-FFF2-4E0B-96F2-9DBF7A94A6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C001E4-1B33-41B7-8BA4-38950C93FA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93B6F0-B9F8-4CB2-801D-9072948D4A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5AE00D-B504-46AE-ACB2-9F65C6DA93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46A180-5B58-4C06-858C-B557C452B59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DAD9C6-02C0-403F-84AB-E77D4290A0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7A9843-2946-4189-BB4D-6A0D5645C2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F5195E-B8A7-4D64-B796-F8B804A1E0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51810C-587D-4A1B-9370-D68E1FF48E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1CB47-8EFB-48E9-8327-D8228BDD5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C5024B-839D-42AE-9B70-44EE8EE128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6B6BCA-40BB-419A-BBB3-07503AD911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81D2E9-A14C-41C2-BBAC-3A08DF0AE7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0D6065-EBF2-4D51-AA5E-D4AF9DD7BA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8DAF17-97AC-45BA-8BBA-6EA6105259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31A5C0-7DEA-432F-823A-581B150F1F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D493B9-41C5-4A1E-99E5-3EDEF659FD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69929-DFD4-4A3A-88E5-0987403CB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1607D-5FFD-411C-87F5-B211ACB2B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7184E-E126-45C0-B799-68F0C61A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CC34A-20F5-48EB-91F6-A2CE9C9D0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CE16B-3450-4565-A7A6-FD61A9CE8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5631B-2B14-4812-9A1F-55A0C6C2A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720A3-6608-429F-8DDD-9FF4F5722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9D865-F088-446B-99BA-A05CDB23C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C1DFB-CCFE-4E74-91A6-F7D27D397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79527-0812-4CA8-BF41-A5434C4B3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F678A6-6D8A-4BA8-BB1D-C07120CC31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20423-CEC5-49EB-A979-CB46A0533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4C59E-4F55-4B42-B120-424E1B101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EA30B-7F6D-408B-B3D2-923CA3FA7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216C4-1FE4-4C3F-81D9-9B11A5AB6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C367E-6F20-4A80-84B1-5E828F2EB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84173-E804-4F40-8FD4-D3097DC65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D7BD5-F14B-4394-B4EA-4C4912B10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3E243-E2BC-4685-89F0-40631DBD0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656BC-20AF-44FE-91E6-50A897D44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28D29-A05D-4105-995F-69600DBA8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2779B9-A62D-4041-957C-99048CB763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30F41D-E36F-4799-99CE-998AC4379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5CAD19-0296-431C-9F17-86A2DD8C0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DFED2-8F25-4D0D-B96B-A279D3DDA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D2C3E-EFD1-481D-8219-E9E81BDCA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006BF-8296-4D35-9A1A-6F0503D3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FCB53C-4F05-444E-838B-31B377962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5B7DE-57E2-4D5E-A5E5-96225B6F5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B4A8F-9C9D-42FA-96A0-0E2161213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586A2-AD5D-4353-A8E8-1AAC802A4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9841A-F5E3-4324-86AF-B419AF7EF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C9DA0-185E-48D9-820F-B93B2EDC4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250AB-E5A4-4B86-B3FB-7805EC1CB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FF1D7C-865B-4005-B479-BDD506FA3B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021C73-6437-4E2E-969F-ACBB0399E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E4CB65-0419-4A63-821A-2BDFD40B92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1FCC-1A77-4FB7-92B9-BFECDC223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AF244D-043B-4D5F-A90A-3B90F3F7C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04987-EA80-4F39-A8B0-E770114EC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5AECE-160F-4ACC-AAFE-47DF9DD27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8D516-EF0D-432D-94D9-AD0EE66F5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AC065-AD95-4D8F-839D-A8FF2968B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68818-05A2-43D1-B8E5-F0CEE600A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BC102-74D8-40CF-95E3-6721C7481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580D7-A9BC-4366-A5E7-698407E0A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5FE58-8054-4980-8A68-45F642020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DE1460-2F1D-41DF-8AAF-B53DE73912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BA0C3-DAA5-42F5-85DA-F6816AD4C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767A55-BB3F-44F6-976C-ADDBD845FF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48BBB4-1D3A-44C8-B230-740353537B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5DF75-0DD9-44E6-A00D-B8EE89557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F5657-9756-486E-85F5-66FFE9C0F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2F6DB-DFEF-4279-A2B5-7C6BF5CC64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9447A-3F6C-495D-B68F-C6E7F1BCA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66149-9E2F-45BE-85F2-5E55DEDC6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1386A3-B265-4D0C-97C8-23B2194932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22AA5-95D5-4064-85BC-DB7F8D103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A16A8-3B34-4833-A08C-406D65B11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B1EE-772D-44B5-8D0C-78614CA1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0E793-5EF1-4728-88BE-978D3CB45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94F040-92F7-40B2-940E-766D1EA41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43033D-C5F3-40FE-865E-400588480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D60E8-2F84-46C6-BB9C-76F8BDFF52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982468-AD7C-48DE-8116-A8731B4EC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FF0E5-7D02-4AA7-8C78-705A3FC1CE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0B221D-0742-4E43-87CD-5FD960F3D3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B1319-49E8-4019-920F-727E91F40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956A2-543F-465A-B879-0F6DF884D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00717-350D-4BB1-94FD-2AD6957E4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CE9F-3A63-4384-A31A-9839AEE12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503F7-2F2F-4249-B648-4267CB0A9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55772-CC30-4B1A-A603-0E0C0CC65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916E6-DCEE-4154-9813-30F8E9236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D29D87-A6CA-4E70-85DB-9EDA518425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4B8EA-70D6-4AB7-88B7-7DB6C71C2B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CAEF0C-EF4F-425B-AD09-C325B36E12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3D361-B206-4043-A824-EDE001682A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4D14D9-80F2-4311-BAA1-5496324B9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5D0EE0-08B3-46C4-97D8-3068A23F9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FF4EE-06F3-4CA9-9D44-6DB0B285A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60A9-1369-4B4D-85FA-427466827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5BAF2-EDAA-4BDD-A7C1-D8DC6A2A6F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183FE-0BCD-4A86-A8D5-0FFF32AF5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F757B-9BBF-478D-A2D0-E1F9EBA32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6B11E-4906-474E-9C4B-55465FEF1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A42885-AA3F-446E-95EC-3FFCBE4B7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20046-08B4-4A25-970F-BF4F19FAF6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96AB0D-8FF1-4B95-837D-5D7E6AC9B8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D258D2-ED89-4B95-B00B-24060B3095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E45257-D402-4FF8-8630-55CDF251E3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309B2C-97A2-48F4-B877-0750EC4997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581A-B8B9-4F41-9D65-8989D884B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0B9D-904F-4106-AFB7-3F75A3E5C97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A991-89FF-48B9-B5B8-E99F88D32F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8E1B-FE32-47F0-951A-0EEC08087D7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05D4-7FCE-43C7-A2C5-0C27DED2AC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07EB-C914-4F93-BCB2-6A9119468DA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D332-2752-43BD-BB83-25679634E9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4DAD-C003-424F-B054-DD90DF8D3FE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61C1-9920-482F-8F25-6B1C0B584E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E7E0-9FDD-4D66-BAD4-4F5D6A4925D4}"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BA68-9585-4999-9291-AEF3DE1345D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29F0-AF4A-4910-8510-1F1CD2A0B63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5F21-95E9-49E1-AC3F-FA4681FBB9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F955-C2FF-4803-A3C3-FA5DA865364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9D66-82B0-4C63-ACA8-89AD17743D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313E-8DC4-41E7-8043-7641D685A45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7D13-4BB9-4A63-94C2-01AC583CF8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EF8B-0B67-464F-A44F-810BA97BB31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426B-78E4-48C7-9AC8-1161F3AEA4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79CA-123B-428B-ABE3-365466BE0AE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D4CB-188A-491B-8FAA-849C512CD8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4D8F-3332-463F-9D21-10E7C40E0EF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D9FC-027A-4C4B-B4D2-DF93C01701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0004-E620-4FE0-B387-5681293DB49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47EA-2F36-4601-8E1F-6E49528BB7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image" Target="../media/image3.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Text Box 1026" descr=""/>
          <p:cNvPicPr/>
          <p:nvPr/>
        </p:nvPicPr>
        <p:blipFill>
          <a:blip r:embed="rId2"/>
          <a:stretch/>
        </p:blipFill>
        <p:spPr>
          <a:xfrm>
            <a:off x="1116000" y="762120"/>
            <a:ext cx="635796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2514600" y="304920"/>
            <a:ext cx="4876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Times New Roman"/>
                <a:ea typeface="华文新魏"/>
              </a:rPr>
              <a:t>学习要求</a:t>
            </a:r>
            <a:endParaRPr b="0" lang="en-US" sz="6600" spc="-1" strike="noStrike">
              <a:solidFill>
                <a:srgbClr val="000000"/>
              </a:solidFill>
              <a:latin typeface="Times New Roman"/>
            </a:endParaRPr>
          </a:p>
        </p:txBody>
      </p:sp>
      <p:sp>
        <p:nvSpPr>
          <p:cNvPr id="555" name="Text Box 4"/>
          <p:cNvSpPr/>
          <p:nvPr/>
        </p:nvSpPr>
        <p:spPr>
          <a:xfrm>
            <a:off x="838080" y="2209680"/>
            <a:ext cx="7315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再读课文，勾画出你深受感动的语句，多读几遍，仔细体会人物的情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集体交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990720" y="5335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华文新魏"/>
                <a:ea typeface="华文新魏"/>
              </a:rPr>
              <a:t>学习描写人物的方法</a:t>
            </a:r>
            <a:r>
              <a:rPr b="0" lang="zh-CN" sz="2400" spc="-1" strike="noStrike">
                <a:solidFill>
                  <a:srgbClr val="cc0000"/>
                </a:solidFill>
                <a:latin typeface="华文新魏"/>
                <a:ea typeface="华文新魏"/>
              </a:rPr>
              <a:t> </a:t>
            </a:r>
            <a:endParaRPr b="0" lang="en-US" sz="2400" spc="-1" strike="noStrike">
              <a:solidFill>
                <a:srgbClr val="000000"/>
              </a:solidFill>
              <a:latin typeface="Times New Roman"/>
            </a:endParaRPr>
          </a:p>
        </p:txBody>
      </p:sp>
      <p:sp>
        <p:nvSpPr>
          <p:cNvPr id="557" name="Text Box 3"/>
          <p:cNvSpPr/>
          <p:nvPr/>
        </p:nvSpPr>
        <p:spPr>
          <a:xfrm>
            <a:off x="609480" y="2209680"/>
            <a:ext cx="769644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通过对毛泽东动作、语言、神态的细致刻画来反映毛泽东的内心世界。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通过心理描写来突出性格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58" name="Group 2"/>
          <p:cNvGrpSpPr/>
          <p:nvPr/>
        </p:nvGrpSpPr>
        <p:grpSpPr>
          <a:xfrm>
            <a:off x="0" y="0"/>
            <a:ext cx="8466120" cy="6858000"/>
            <a:chOff x="0" y="0"/>
            <a:chExt cx="8466120" cy="6858000"/>
          </a:xfrm>
        </p:grpSpPr>
        <p:sp>
          <p:nvSpPr>
            <p:cNvPr id="55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560"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56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5"/>
          <p:cNvSpPr/>
          <p:nvPr/>
        </p:nvSpPr>
        <p:spPr>
          <a:xfrm>
            <a:off x="2556000" y="270828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cccc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ccccff"/>
                </a:solidFill>
                <a:uFillTx/>
                <a:latin typeface="Calibri"/>
                <a:hlinkClick r:id="rId4"/>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cccc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cccc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cccc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cccc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cccc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cccc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cccc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cccc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Times New Roman"/>
            </a:endParaRPr>
          </a:p>
        </p:txBody>
      </p:sp>
      <p:pic>
        <p:nvPicPr>
          <p:cNvPr id="535" name="Picture 1027" descr="C:\Documents and Settings\q\My Documents\My Pictures\F200511251351332815716430.jpg"/>
          <p:cNvPicPr/>
          <p:nvPr/>
        </p:nvPicPr>
        <p:blipFill>
          <a:blip r:embed="rId13"/>
          <a:stretch/>
        </p:blipFill>
        <p:spPr>
          <a:xfrm>
            <a:off x="2556000" y="2408400"/>
            <a:ext cx="3456000" cy="3987720"/>
          </a:xfrm>
          <a:prstGeom prst="rect">
            <a:avLst/>
          </a:prstGeom>
          <a:ln w="0">
            <a:noFill/>
          </a:ln>
        </p:spPr>
      </p:pic>
      <p:sp>
        <p:nvSpPr>
          <p:cNvPr id="536" name="Text Box 2"/>
          <p:cNvSpPr/>
          <p:nvPr/>
        </p:nvSpPr>
        <p:spPr>
          <a:xfrm>
            <a:off x="439560" y="260280"/>
            <a:ext cx="84582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Times New Roman"/>
              </a:rPr>
              <a:t>拟</a:t>
            </a:r>
            <a:r>
              <a:rPr b="1" lang="zh-CN" sz="5400" spc="-1" strike="noStrike">
                <a:solidFill>
                  <a:srgbClr val="3333cc"/>
                </a:solidFill>
                <a:latin typeface="Times New Roman"/>
              </a:rPr>
              <a:t>定   功</a:t>
            </a:r>
            <a:r>
              <a:rPr b="1" lang="zh-CN" sz="5400" spc="-1" strike="noStrike">
                <a:solidFill>
                  <a:srgbClr val="009900"/>
                </a:solidFill>
                <a:latin typeface="Times New Roman"/>
              </a:rPr>
              <a:t>勋</a:t>
            </a:r>
            <a:r>
              <a:rPr b="1" lang="zh-CN" sz="5400" spc="-1" strike="noStrike">
                <a:solidFill>
                  <a:srgbClr val="3333cc"/>
                </a:solidFill>
                <a:latin typeface="Times New Roman"/>
              </a:rPr>
              <a:t>   </a:t>
            </a:r>
            <a:r>
              <a:rPr b="1" lang="zh-CN" sz="5400" spc="-1" strike="noStrike">
                <a:solidFill>
                  <a:srgbClr val="009900"/>
                </a:solidFill>
                <a:latin typeface="Times New Roman"/>
              </a:rPr>
              <a:t>殉</a:t>
            </a:r>
            <a:r>
              <a:rPr b="1" lang="zh-CN" sz="5400" spc="-1" strike="noStrike">
                <a:solidFill>
                  <a:srgbClr val="3333cc"/>
                </a:solidFill>
                <a:latin typeface="Times New Roman"/>
              </a:rPr>
              <a:t>职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 </a:t>
            </a:r>
            <a:r>
              <a:rPr b="1" lang="zh-CN" sz="5400" spc="-1" strike="noStrike">
                <a:solidFill>
                  <a:srgbClr val="3333cc"/>
                </a:solidFill>
                <a:latin typeface="Times New Roman"/>
              </a:rPr>
              <a:t>奔</a:t>
            </a:r>
            <a:r>
              <a:rPr b="1" lang="zh-CN" sz="5400" spc="-1" strike="noStrike">
                <a:solidFill>
                  <a:srgbClr val="009900"/>
                </a:solidFill>
                <a:latin typeface="Times New Roman"/>
              </a:rPr>
              <a:t>赴</a:t>
            </a:r>
            <a:r>
              <a:rPr b="1" lang="zh-CN" sz="5400" spc="-1" strike="noStrike">
                <a:solidFill>
                  <a:srgbClr val="3333cc"/>
                </a:solidFill>
                <a:latin typeface="Times New Roman"/>
              </a:rPr>
              <a:t>   </a:t>
            </a:r>
            <a:r>
              <a:rPr b="1" lang="zh-CN" sz="5400" spc="-1" strike="noStrike">
                <a:solidFill>
                  <a:srgbClr val="009900"/>
                </a:solidFill>
                <a:latin typeface="Times New Roman"/>
              </a:rPr>
              <a:t>嘛</a:t>
            </a:r>
            <a:r>
              <a:rPr b="1" lang="zh-CN" sz="5400" spc="-1" strike="noStrike">
                <a:solidFill>
                  <a:srgbClr val="3333cc"/>
                </a:solidFill>
                <a:latin typeface="Times New Roman"/>
              </a:rPr>
              <a:t>   </a:t>
            </a:r>
            <a:r>
              <a:rPr b="1" lang="zh-CN" sz="5400" spc="-1" strike="noStrike">
                <a:solidFill>
                  <a:srgbClr val="009900"/>
                </a:solidFill>
                <a:latin typeface="Times New Roman"/>
              </a:rPr>
              <a:t>踌躇</a:t>
            </a:r>
            <a:r>
              <a:rPr b="1" lang="zh-CN" sz="5400" spc="-1" strike="noStrike">
                <a:solidFill>
                  <a:srgbClr val="3333cc"/>
                </a:solidFill>
                <a:latin typeface="Times New Roman"/>
              </a:rPr>
              <a:t>   </a:t>
            </a:r>
            <a:r>
              <a:rPr b="1" lang="zh-CN" sz="5400" spc="-1" strike="noStrike">
                <a:solidFill>
                  <a:srgbClr val="009900"/>
                </a:solidFill>
                <a:latin typeface="Times New Roman"/>
              </a:rPr>
              <a:t>黯</a:t>
            </a:r>
            <a:r>
              <a:rPr b="1" lang="zh-CN" sz="5400" spc="-1" strike="noStrike">
                <a:solidFill>
                  <a:srgbClr val="3333cc"/>
                </a:solidFill>
                <a:latin typeface="Times New Roman"/>
              </a:rPr>
              <a:t>然</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533520" y="1219320"/>
            <a:ext cx="8153280" cy="2831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隶书"/>
              </a:rPr>
              <a:t>自学要求：</a:t>
            </a:r>
            <a:endParaRPr b="0" lang="en-US" sz="5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自读课文，要求读准字音，通顺、流利，同时用笔勾画出不理解的生词。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默读课文，思考：课文讲了一件什么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2"/>
          <p:cNvSpPr/>
          <p:nvPr/>
        </p:nvSpPr>
        <p:spPr>
          <a:xfrm>
            <a:off x="457200" y="15238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3333cc"/>
                </a:solidFill>
                <a:latin typeface="Times New Roman"/>
              </a:rPr>
              <a:t>新中国刚成立，急需和平建设，但现在美帝的矛头直指我国的东北，假如它真的把朝鲜搞垮了，我们在它的威胁中过日子，要进行和平建设也会有困难。所以，我们对朝鲜问题假若置之不理，美帝必然得寸进尺，走日本侵略中国的老路，它要把三把尖刀插在中国的身上，从朝鲜一把刀插在我国的头上，从台湾一把刀插在我国的腰上，从越南一把刀插在我们的脚上。倘若天下有变，它就从三个方面向我们进攻，那我们就被动了。我们抗美援朝就是不许它的如意算盘得逞。打得一拳开，免得百拳来。我们抗美援朝，就是保家卫国。</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539" name="Text Box 3"/>
          <p:cNvSpPr/>
          <p:nvPr/>
        </p:nvSpPr>
        <p:spPr>
          <a:xfrm>
            <a:off x="1676520" y="457200"/>
            <a:ext cx="6095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为什么要抗美援朝？</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228600" y="201924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毛岸英，１９２２年１０月出生在湖南省长沙市。８岁时，由于母亲杨开慧被捕入狱，毛岸英也被关进牢房。杨开慧牺牲后，地下党安排毛岸英和两个弟弟来到上海。以后，由于地下党组织遭到破坏，毛岸英兄弟流落街头。他当过学徒，捡过破烂，卖过报纸，推过人力车。１９３６年，毛岸英和弟弟毛岸青被安排到苏联学习。在苏联期间，他开始在军政学校和军事学院学习，以后参加了苏联卫国战争，曾冒着枪林弹雨，转战欧洲战场。１９４６年，毛岸英回到延安，同年加入中国共产党。毛岸英遵照毛泽东“补上劳动大学这一课”的要求，在解放区搞过土改，做过宣传工作，当过秘书。解放初期，任过工厂的党委副书记。他虽然是毛泽东的儿子，但从不以领袖的儿子自居，相反，总是处处严格要求自己，努力和普通劳动群众打成一片。</a:t>
            </a:r>
            <a:endParaRPr b="0" lang="en-US" sz="2400" spc="-1" strike="noStrike">
              <a:solidFill>
                <a:srgbClr val="000000"/>
              </a:solidFill>
              <a:latin typeface="Times New Roman"/>
            </a:endParaRPr>
          </a:p>
        </p:txBody>
      </p:sp>
      <p:sp>
        <p:nvSpPr>
          <p:cNvPr id="541" name="Text Box 3"/>
          <p:cNvSpPr/>
          <p:nvPr/>
        </p:nvSpPr>
        <p:spPr>
          <a:xfrm>
            <a:off x="914400" y="685800"/>
            <a:ext cx="457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Times New Roman"/>
                <a:ea typeface="华文新魏"/>
              </a:rPr>
              <a:t>毛岸英简介</a:t>
            </a:r>
            <a:endParaRPr b="0" lang="en-US" sz="6000" spc="-1" strike="noStrike">
              <a:solidFill>
                <a:srgbClr val="000000"/>
              </a:solidFill>
              <a:latin typeface="Times New Roman"/>
            </a:endParaRPr>
          </a:p>
        </p:txBody>
      </p:sp>
      <p:pic>
        <p:nvPicPr>
          <p:cNvPr id="542" name="Picture 4" descr="C:\Documents and Settings\q\My Documents\My Pictures\F200511251351332815716430.jpg"/>
          <p:cNvPicPr/>
          <p:nvPr/>
        </p:nvPicPr>
        <p:blipFill>
          <a:blip r:embed="rId1"/>
          <a:stretch/>
        </p:blipFill>
        <p:spPr>
          <a:xfrm>
            <a:off x="5791320" y="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2"/>
          <p:cNvSpPr/>
          <p:nvPr/>
        </p:nvSpPr>
        <p:spPr>
          <a:xfrm>
            <a:off x="228600" y="1523880"/>
            <a:ext cx="8686800" cy="177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ea typeface="华文新魏"/>
              </a:rPr>
              <a:t>    </a:t>
            </a:r>
            <a:r>
              <a:rPr b="1" lang="zh-CN" sz="4000" spc="-1" strike="noStrike">
                <a:solidFill>
                  <a:srgbClr val="cc0000"/>
                </a:solidFill>
                <a:latin typeface="Times New Roman"/>
                <a:ea typeface="华文新魏"/>
              </a:rPr>
              <a:t>毛主席说：</a:t>
            </a:r>
            <a:r>
              <a:rPr b="1" lang="zh-CN" sz="2800" spc="-1" strike="noStrike">
                <a:solidFill>
                  <a:srgbClr val="3333cc"/>
                </a:solidFill>
                <a:latin typeface="Times New Roman"/>
              </a:rPr>
              <a:t>我作为党的主席，作为一个领导人，自己的儿子不派他去朝鲜，又派谁的儿子去呢？光派别人的儿子去前线打仗，这还算什么领导人呢？这是一方面；另一方面，岸英是个青年人，他从苏联留学回国后，到农村进行过劳动锻炼，但却没有正式上过战场。青年人就是要到艰苦的环境中去锻炼，要在战斗中成长。基于这些原因，我才派他到朝鲜去的。”</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380880" y="1219320"/>
            <a:ext cx="83822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3333cc"/>
                </a:solidFill>
                <a:latin typeface="Times New Roman"/>
              </a:rPr>
              <a:t>１９５０年，抗美援朝战争爆发。新婚不久的毛岸英主动请求入朝参战，任中国人民志愿军司令部俄语翻译和秘书。他工作积极，认真负责，迅速熟悉了机关业务。１９５０年１１月２５日上午，美空军轰炸机突然飞临志愿军司令部上空，投下了几十枚凝固汽油弹。在作战室紧张工作的毛岸英壮烈牺牲。毛泽东得知毛岸英牺牲的消息后，强忍丧子之痛，缓缓地说：“打仗总是要死人的。中国人民志愿军已经献出了那么多指战员的生命，他们的牺牲是光荣的。岸英是一个普通战士，不要因为是我的儿子，就当成一件大事。”这是毛泽东一家为了中国人民的革命事业献出的第六位亲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Text Box 3"/>
          <p:cNvSpPr/>
          <p:nvPr/>
        </p:nvSpPr>
        <p:spPr>
          <a:xfrm>
            <a:off x="2590920" y="1522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相关资料（一）</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zh-CN" sz="2800" spc="-1" strike="noStrike">
                <a:solidFill>
                  <a:srgbClr val="3333cc"/>
                </a:solidFill>
                <a:latin typeface="Times New Roman"/>
              </a:rPr>
              <a:t>志愿军司令部办公室实际上是一个小木房。早上</a:t>
            </a:r>
            <a:r>
              <a:rPr b="1" lang="en-US" sz="2800" spc="-1" strike="noStrike">
                <a:solidFill>
                  <a:srgbClr val="3333cc"/>
                </a:solidFill>
                <a:latin typeface="Times New Roman"/>
              </a:rPr>
              <a:t>9</a:t>
            </a:r>
            <a:r>
              <a:rPr b="1" lang="zh-CN" sz="2800" spc="-1" strike="noStrike">
                <a:solidFill>
                  <a:srgbClr val="3333cc"/>
                </a:solidFill>
                <a:latin typeface="Times New Roman"/>
              </a:rPr>
              <a:t>点多，毛岸英和参谋高瑞欣刚从休息的山志愿军司令部办公室实际上是一个小木房。早上</a:t>
            </a:r>
            <a:r>
              <a:rPr b="1" lang="en-US" sz="2800" spc="-1" strike="noStrike">
                <a:solidFill>
                  <a:srgbClr val="3333cc"/>
                </a:solidFill>
                <a:latin typeface="Times New Roman"/>
              </a:rPr>
              <a:t>9</a:t>
            </a:r>
            <a:r>
              <a:rPr b="1" lang="zh-CN" sz="2800" spc="-1" strike="noStrike">
                <a:solidFill>
                  <a:srgbClr val="3333cc"/>
                </a:solidFill>
                <a:latin typeface="Times New Roman"/>
              </a:rPr>
              <a:t>点多，毛岸英和参谋高瑞欣刚从休息的山洞回到办公室，两人还没有吃早点，正围着火炉热鸡蛋炒米饭。还没来得及吃，美军飞机来空袭了。杨凤安见有敌机飞来，便喊了一声</a:t>
            </a:r>
            <a:r>
              <a:rPr b="1" lang="en-US" sz="2800" spc="-1" strike="noStrike">
                <a:solidFill>
                  <a:srgbClr val="3333cc"/>
                </a:solidFill>
                <a:latin typeface="Times New Roman"/>
              </a:rPr>
              <a:t>:“</a:t>
            </a:r>
            <a:r>
              <a:rPr b="1" lang="zh-CN" sz="2800" spc="-1" strike="noStrike">
                <a:solidFill>
                  <a:srgbClr val="3333cc"/>
                </a:solidFill>
                <a:latin typeface="Times New Roman"/>
              </a:rPr>
              <a:t>不好，快跑！”这时敌机的凝固汽油弹已有几十枚投在办公室周围，成普、徐西元两位参谋和彭总的两个警卫员逃出了火海，可是离房门较远的毛岸英和高瑞欣却没跑出来。</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7" name="Text Box 3"/>
          <p:cNvSpPr/>
          <p:nvPr/>
        </p:nvSpPr>
        <p:spPr>
          <a:xfrm>
            <a:off x="1905120" y="4572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相关资料（二）</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1026"/>
          <p:cNvSpPr/>
          <p:nvPr/>
        </p:nvSpPr>
        <p:spPr>
          <a:xfrm>
            <a:off x="1143000" y="83808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Text Box 1027"/>
          <p:cNvSpPr/>
          <p:nvPr/>
        </p:nvSpPr>
        <p:spPr>
          <a:xfrm>
            <a:off x="18288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相关资料（三）</a:t>
            </a:r>
            <a:endParaRPr b="0" lang="en-US" sz="5400" spc="-1" strike="noStrike">
              <a:solidFill>
                <a:srgbClr val="000000"/>
              </a:solidFill>
              <a:latin typeface="Times New Roman"/>
            </a:endParaRPr>
          </a:p>
        </p:txBody>
      </p:sp>
      <p:pic>
        <p:nvPicPr>
          <p:cNvPr id="550" name="Picture 1028" descr="C:\Documents and Settings\q\My Documents\My Pictures\2024222_322944434.jpg"/>
          <p:cNvPicPr/>
          <p:nvPr/>
        </p:nvPicPr>
        <p:blipFill>
          <a:blip r:embed="rId1"/>
          <a:stretch/>
        </p:blipFill>
        <p:spPr>
          <a:xfrm>
            <a:off x="5867280" y="1905120"/>
            <a:ext cx="3276720" cy="2279520"/>
          </a:xfrm>
          <a:prstGeom prst="rect">
            <a:avLst/>
          </a:prstGeom>
          <a:ln w="0">
            <a:noFill/>
          </a:ln>
        </p:spPr>
      </p:pic>
      <p:pic>
        <p:nvPicPr>
          <p:cNvPr id="551" name="Picture 1029" descr="C:\Documents and Settings\q\My Documents\My Pictures\s_2024222_322944119.jpg"/>
          <p:cNvPicPr/>
          <p:nvPr/>
        </p:nvPicPr>
        <p:blipFill>
          <a:blip r:embed="rId2"/>
          <a:stretch/>
        </p:blipFill>
        <p:spPr>
          <a:xfrm>
            <a:off x="228600" y="4191120"/>
            <a:ext cx="3809880" cy="2401920"/>
          </a:xfrm>
          <a:prstGeom prst="rect">
            <a:avLst/>
          </a:prstGeom>
          <a:ln w="0">
            <a:noFill/>
          </a:ln>
        </p:spPr>
      </p:pic>
      <p:pic>
        <p:nvPicPr>
          <p:cNvPr id="552" name="Picture 1030" descr="C:\Documents and Settings\q\My Documents\My Pictures\s_2024222_322944223.jpg"/>
          <p:cNvPicPr/>
          <p:nvPr/>
        </p:nvPicPr>
        <p:blipFill>
          <a:blip r:embed="rId3"/>
          <a:stretch/>
        </p:blipFill>
        <p:spPr>
          <a:xfrm>
            <a:off x="4572000" y="4357800"/>
            <a:ext cx="3505320" cy="2408040"/>
          </a:xfrm>
          <a:prstGeom prst="rect">
            <a:avLst/>
          </a:prstGeom>
          <a:ln w="0">
            <a:noFill/>
          </a:ln>
        </p:spPr>
      </p:pic>
      <p:pic>
        <p:nvPicPr>
          <p:cNvPr id="553" name="Picture 1031" descr="C:\Documents and Settings\q\My Documents\My Pictures\s_2024222_322944521.jpg"/>
          <p:cNvPicPr/>
          <p:nvPr/>
        </p:nvPicPr>
        <p:blipFill>
          <a:blip r:embed="rId4"/>
          <a:stretch/>
        </p:blipFill>
        <p:spPr>
          <a:xfrm>
            <a:off x="1143000" y="1752480"/>
            <a:ext cx="3714840" cy="23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7T03:02:46Z</dcterms:created>
  <dc:creator>第一PPT模板网-WWW.1PPT.COM</dc:creator>
  <dc:description>第一PPT模板网-WWW.1PPT.COM
</dc:description>
  <dc:language>en-US</dc:language>
  <cp:lastModifiedBy>a</cp:lastModifiedBy>
  <dcterms:modified xsi:type="dcterms:W3CDTF">2015-02-09T02:48:53Z</dcterms:modified>
  <cp:revision>7</cp:revision>
  <dc:subject/>
  <dc:title>第一PPT模板网-WWW.1PPT.COM</dc:title>
</cp:coreProperties>
</file>