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type.wav" ContentType="audio/x-wav"/>
  <Override PartName="/ppt/media/image2.jpeg" ContentType="image/jpeg"/>
  <Override PartName="/ppt/media/whoosh.wav" ContentType="audio/x-wav"/>
  <Override PartName="/ppt/media/image3.jpeg" ContentType="image/jpeg"/>
  <Override PartName="/ppt/media/image4.png" ContentType="image/pn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18F-6196-4570-9794-C80A17F5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F40-BCAF-400C-9412-4EF65D61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2B48B-9A09-4A1E-94F0-39BD11BA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BA08F-27C4-473E-8195-3EC1E4B5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B7153-2EA7-44BB-92EC-EC2B0191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F1728-F013-4393-BAD2-78236A1F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36B5B-609B-4847-99AD-7E32A51B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E6AD3-F7F1-48C8-8EF5-4B7ABEA3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05BB1-BB87-4223-A56A-8C3BCC65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DA095-BFCF-4044-B139-D64BD4DE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3CED6-2C6F-46CD-8B21-50A021AC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1D7FE-66A3-4557-B00B-BE49E271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D869-441E-46EA-B0B6-BD83F90C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EEEF8-E2FE-44C0-AA54-ADCD4A3E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53DF3-AD4D-4300-8654-A6FB1478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A2723-12AC-40C2-ACA1-DF441124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14FE6-F7A8-4FBE-9BE7-F25FFD1B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31893-356C-4818-8436-E1E0B887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8D50D-9DE2-4FCB-812D-39BFA57F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BB6C8-378A-4346-A4F5-74C4EBC0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BAD3F-A8BE-4DE9-860B-30BBEECF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B242A-A91D-4E06-893A-3C1FA42C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76C53-89C9-422B-8323-97B2901B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FDD-4E3E-4928-887D-9051CC7C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5C25E-E081-470E-844D-73906194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AF61B-4F44-43F2-AFF9-5E082563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F6ACD-09AA-4C17-8A18-EC5EFD8C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BE3B2-C564-45F6-A830-2DCC5EE9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9692B-DDC1-4A57-ABA5-7FB7C9B3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36FE7-86E0-42B1-B3F0-2058D329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42E45-A764-43F0-B1E3-353768C6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A826A-B4F1-45E1-AC8F-4CC7CAF9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00CF1-618C-49AD-A445-037923A3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D4BB7-00DD-4C2E-A27B-21CEF569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B341-4710-4D39-ADDD-5AA59EF4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B9A75-E964-419E-8662-5ED8B6A1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42E6E-906F-40DA-8977-7E6D9E2C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2B44F-F886-43E9-B0C2-412CDEB4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A7557-BC11-4E93-BD37-D8168DEF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B619C-C43D-411C-BB15-7EBD4F97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17B53-E821-43D9-885D-C843F407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75078-3DB0-44E4-923A-ED15DB76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740D3-BE18-486F-B1F9-24C166F2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05C03-2690-4FDF-809B-AC3D11E8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B3204-DB1D-4666-ACBD-FB6DF946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82F1-76A7-4B90-9DE8-E4374791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4BD1F-A425-4C2E-ACB0-F4B16958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55C10-31ED-4DDD-941E-86F1618C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4D8C6-C995-4EA2-B13E-84E76BED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BCFAF-0B2B-4AC2-94E8-949800DA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BC004-D654-4398-9F71-589AFE27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FD792-D74F-41D4-BCD9-AC3F0E9F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D0255-0D0A-4E7D-B3D7-C4B0372C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E3250-7140-446F-95C7-40BF1E27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7EF45-2242-4AE0-88A0-DD3A04C8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E2D86-DA6B-4BFE-A6AF-970D1BCF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16D5-B8B3-419B-8F99-D0FD026D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DD101-706F-46E4-9F33-C70A7225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D950DE-2140-4D4C-BF3F-D5AFBD6D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C13A0-DC9B-472E-A738-38ACE9FD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29F68-2A3E-4391-8C68-5F392DA3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34F61-D9C2-4842-8BB6-E41C61B1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CF5F0-8352-4E65-828D-CEE82E74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BC4CF-EADF-4C5B-AE8C-17FA57F4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3585-EBA9-43D7-B1BA-8E10E2A4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732D-B762-482C-8D0A-23BD2AE5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253F-C2CE-47A8-93EE-98FFD843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DDBB-2E8D-4FF8-AABC-3017F7F3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4A57-861B-4F09-A128-6F666AE8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432C-4830-46B5-BB2B-0E26486C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D5E2-617A-44F2-9601-AB7907D9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3133-09D4-4442-BDD6-BA7AE17F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DC1E-E123-4D92-8F00-221CEBF9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1D72-271D-4D3B-B75B-14EE2CB8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3D569-C08E-4B1D-BF56-00022062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A841E-F5D4-414C-B34D-E8AE4E6A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2242E-1DBD-4628-BF69-F9E72D09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3EE21-4BC4-4577-890B-E3912202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191D0-9CE4-4EB1-B392-CF7F94C4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7A8-A173-4566-9F3F-FB224B8C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36CB7-EE47-45C2-9EE5-A673CC69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C6854-C62B-432A-A529-66F46DA2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DE6CD-1F36-4164-8899-1897429B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45203-F0BF-4AE6-B382-8DBB4ECC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875FB-0FAB-4470-808B-428B95EC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63DB-DCCB-4F7D-A449-7D293385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BC4C5-358A-421B-B161-88C756E8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5B8F3-1625-4311-A2A2-B73A7A2F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77D80-E481-4DEE-9216-4E7C49FE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A753C-60E8-47BB-869D-3147B3D1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EDB-29A2-4243-A83F-C8A7DC27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31BD9-C774-44C1-8819-8984DA98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36547-0BF0-4D39-95ED-381E2B35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DC564-CCAD-48CD-964D-164FF16E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F01FC-AD89-42BA-8861-C0C3D7F5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A9DED-9F0B-467E-BBBC-4910609A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17A2C-9583-4A2E-B1F8-CCD4C43C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19E40-B528-4D3F-8520-FEEF5DBF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D59CE-36CA-4AE7-BD93-91AF321C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968B2-5264-4095-8069-A8F92697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38E51-B0D4-4A4D-9709-9B23CC5E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924-5ACC-42C9-8959-ADA04D02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50120-9E09-46B4-B81B-DF2C10D3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7AF6F-1A84-4B00-9B49-EF4573C5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928AF-11DF-4143-B899-F21F37FC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AC620-58A7-4590-86C4-CFB7BBF4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28C82-B4E2-4371-A34A-A9C35868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B53A2-85D0-4A3A-8A0D-4FEC04F4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FA878-EA0D-42D3-BB09-D2A593AD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6216D-16DD-4987-B789-49929BBE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F9E73-A713-4A91-BEAD-1933EFC3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B16F4-F8BE-434D-98C4-F8326889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BE7-E242-4DA1-A9A6-91BE691B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65D3C-3AF1-4A87-B91F-90DDCE81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58131-B0D4-4F13-813A-F5A97ACC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96DB4-169E-4736-B2CD-C770F45D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786FC-CCC2-4050-85A0-A5DBB3BA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90411-F14B-41EA-85F9-C6C4D1D3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235A6-408C-42EC-9231-EEB6EB30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CCD9C-C5C0-4D7D-8A67-F3864700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9AA9E-8305-44D7-B24B-D5B9FD43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EA2FE-CBB2-4F7B-A1FF-6FE4701D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166BA-73ED-4F8F-AF0B-89F03884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0CB-7409-4F0B-AEE6-96316912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EECF2-303C-4833-ABDE-B766120D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AA6C6-C5C5-4E7D-A05A-A6B7A137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D83B0-48D9-4BA1-98B6-A3768055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08C0A-3D7A-4AD9-82EE-B4780A55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D0A76-555D-434C-9E24-9FEAF0DF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7DCC8-4A59-45FB-A8C3-E685F821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5FD6A-1759-4653-8AF8-0BB26BCA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1FD56-3CB8-4758-92B5-483D52C3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B5E33-E306-4F0F-9ED0-EF4B565B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0ABB6-08DF-4C52-85B0-BF084BD8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3D3-DC4E-465F-8A45-3ABA6C0D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B7427-52D0-43E8-9A2D-8D5E975D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B5E1C-96AE-4E88-8741-B5D242C7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F93C8-6C9E-4FFA-9676-302FE87A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1DDF7-85B6-4D2A-844B-6E737E89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142F0-F99D-4EF4-B7AF-E9E78957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C84F7-52EB-45A2-990E-D2E400F6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D101B-01E9-4125-B147-58947406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F528D-DF9C-4756-B5F1-38A815A2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79029-7714-4103-BF40-B8B757BF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5BFF9-4717-4CAC-A871-917FFBB6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CDE-12CD-4A83-8832-F7F00837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AD5B2-AF08-4AB3-B283-CDF6183A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35F1C-4542-4887-806A-FA5E35D8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28CBA-BD44-487E-AE19-BE8F82DE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FCD09-4501-4349-B594-365C03BC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41F8D-CDD3-49F8-B45A-39337390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58757-A79A-4266-8D35-CDEEF5C9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A3A88-9ABC-4FAE-91C8-445F860D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32A2C-CE98-4F02-9854-251AE6FF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E0382-FDD1-4A30-B94A-0B134F03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29283-CFEF-41AC-9F07-02638691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B72F-F9B3-406E-89AD-6023B3B9A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E076-A405-4487-80C6-D0F0FC66399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CD9A-2BAB-4311-B712-2B10B22D5E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2E3A-2881-49B9-91B6-18CC7588C0E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6AEB-AC8B-4F9F-A091-8C128131B1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80F2-85A3-4D7E-BEEB-7685D2A481A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0C74-9B81-48A4-B651-734BD04952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B59E-B5B3-4129-A8B3-BA35C8382C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788A-55B3-430D-BE09-A97D9452BB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55B8-33B3-40FE-B0CE-7BD76A4B9A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7CFA-CFFC-4F1D-A6CD-E9768A7807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C02C-76ED-4AD7-9E98-0120E912F5C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A204-C183-47CD-9D26-092B085E47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E070-DB64-46B1-9747-41A1CC8E50E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9739-E5E5-4C42-81CA-C7B013C3F9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FDDF-E060-45F7-9639-614EE005E54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B9C7-8B2D-44BC-BFD8-6469B16E57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B76A-02C2-4C6B-B371-25C3A62A924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C3AA-B203-4CEE-A7DF-C9395D5473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FDFD-D818-41B7-9B68-93674309138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1D41-AB9B-4FD6-A157-E5F0EE8A13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E4F2-2D37-47E5-AC4F-6646ECD2180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56B9-A16E-4703-96C9-0E0277FE99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1866-BF4E-4A88-963F-ACDB564EFE8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F5AD-5909-4354-9DCB-2B08EE2312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7"/>
          <p:cNvSpPr/>
          <p:nvPr/>
        </p:nvSpPr>
        <p:spPr>
          <a:xfrm>
            <a:off x="1609560" y="1712880"/>
            <a:ext cx="6121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ff"/>
                </a:solidFill>
                <a:latin typeface="华文隶书"/>
                <a:ea typeface="华文隶书"/>
              </a:rPr>
              <a:t>全神贯注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611280" y="76500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罗丹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40—191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近代法国著名大雕塑家。他出生于一个清贫的普通职员家庭，从小就对美术发生兴趣。他在学习，从事艺术学习、创作的同时，迫于生活，干过各种手艺，历经种种挫折，直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7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他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青铜时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完成，才促使罗丹成名。他的代表作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思想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沉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等等。罗丹还创作了各种形式的绘画作品和两本理论著述。他生前把自己的全部作品捐献给国家，政府以此建立了罗丹博物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75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5"/>
          <p:cNvSpPr/>
          <p:nvPr/>
        </p:nvSpPr>
        <p:spPr>
          <a:xfrm>
            <a:off x="4211640" y="1484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3" descr="曹1 副本1"/>
          <p:cNvPicPr/>
          <p:nvPr/>
        </p:nvPicPr>
        <p:blipFill>
          <a:blip r:embed="rId1"/>
          <a:stretch/>
        </p:blipFill>
        <p:spPr>
          <a:xfrm>
            <a:off x="108000" y="0"/>
            <a:ext cx="84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1"/>
          <p:cNvSpPr/>
          <p:nvPr/>
        </p:nvSpPr>
        <p:spPr>
          <a:xfrm>
            <a:off x="0" y="7621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见罗丹一会儿上前，一会儿后退，嘴里叽里咕噜的，好像跟谁在说悄悄话；忽然眼睛闪着异样的光，似乎在跟谁激烈地争吵。他把地板踩得吱吱响，手不停地挥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刻钟过去了，半小时过去了，罗丹越干越有劲，情绪更加激动了。他像喝醉了酒一样，整个世界对他来讲好像已经消失了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大约过了一个小时，罗丹才停下来 ，对着女像痴痴地微笑，然后轻轻地吁了口气，重新把湿布披在塑像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4191120" y="7621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29"/>
          <p:cNvSpPr/>
          <p:nvPr/>
        </p:nvSpPr>
        <p:spPr>
          <a:xfrm>
            <a:off x="4191120" y="990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6934320" y="990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3"/>
          <p:cNvSpPr/>
          <p:nvPr/>
        </p:nvSpPr>
        <p:spPr>
          <a:xfrm>
            <a:off x="609480" y="1600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 •   •  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4"/>
          <p:cNvSpPr/>
          <p:nvPr/>
        </p:nvSpPr>
        <p:spPr>
          <a:xfrm>
            <a:off x="2057400" y="2635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•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5"/>
          <p:cNvSpPr/>
          <p:nvPr/>
        </p:nvSpPr>
        <p:spPr>
          <a:xfrm>
            <a:off x="5029200" y="2666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•   •  •   •   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7"/>
          <p:cNvSpPr/>
          <p:nvPr/>
        </p:nvSpPr>
        <p:spPr>
          <a:xfrm>
            <a:off x="7924680" y="32004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8"/>
          <p:cNvSpPr/>
          <p:nvPr/>
        </p:nvSpPr>
        <p:spPr>
          <a:xfrm>
            <a:off x="0" y="38862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9"/>
          <p:cNvSpPr/>
          <p:nvPr/>
        </p:nvSpPr>
        <p:spPr>
          <a:xfrm>
            <a:off x="0" y="3733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41"/>
          <p:cNvSpPr/>
          <p:nvPr/>
        </p:nvSpPr>
        <p:spPr>
          <a:xfrm>
            <a:off x="8381880" y="4844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42"/>
          <p:cNvSpPr/>
          <p:nvPr/>
        </p:nvSpPr>
        <p:spPr>
          <a:xfrm>
            <a:off x="76320" y="5378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 •   •  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3"/>
          <p:cNvSpPr/>
          <p:nvPr/>
        </p:nvSpPr>
        <p:spPr>
          <a:xfrm>
            <a:off x="3276720" y="5378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 •   •  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44"/>
          <p:cNvSpPr/>
          <p:nvPr/>
        </p:nvSpPr>
        <p:spPr>
          <a:xfrm>
            <a:off x="3352680" y="16002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—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5"/>
          <p:cNvSpPr/>
          <p:nvPr/>
        </p:nvSpPr>
        <p:spPr>
          <a:xfrm>
            <a:off x="0" y="2133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———————————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46"/>
          <p:cNvSpPr/>
          <p:nvPr/>
        </p:nvSpPr>
        <p:spPr>
          <a:xfrm>
            <a:off x="4572000" y="3886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47"/>
          <p:cNvSpPr/>
          <p:nvPr/>
        </p:nvSpPr>
        <p:spPr>
          <a:xfrm>
            <a:off x="0" y="44197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—————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75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75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75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75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1027" descr="曹2 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533520" y="6858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那一 天下午，我在罗丹工作室里学到的，比我多年在学校里学到的还要多。因为从那时起，我知道人类的一切工作，如果值得去做，而且要做得好，就应该全神贯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0" y="2819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茨威格的这段话讲了几层意思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304920" y="388620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强调了这一天下午的收获非同寻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这一天下午他的感受和体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那一 天下午，我在罗丹工作室里学到的，比我多年在学校里学到的还要多。因为从那时起，我知道人类的一切工作，如果值得去做，而且要做得好，就应该全神贯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533520" y="26668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这段话是什么意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457200" y="3581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3"/>
          <p:cNvSpPr/>
          <p:nvPr/>
        </p:nvSpPr>
        <p:spPr>
          <a:xfrm>
            <a:off x="685800" y="41148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1"/>
          <p:cNvSpPr/>
          <p:nvPr/>
        </p:nvSpPr>
        <p:spPr>
          <a:xfrm>
            <a:off x="1219320" y="3352680"/>
            <a:ext cx="6629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切值得做的工作，想要做得好，就应该全神贯注。这是罗丹的工作态度对茨威格的启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2" descr="Fr50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762120" y="9144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学了这一 课，你想怎样做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0" y="2209680"/>
            <a:ext cx="9144000" cy="1434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老师希望大家：只要值得我们做的，                    都要全神贯注地去做。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02:59:47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6:00:55Z</dcterms:modified>
  <cp:revision>17</cp:revision>
  <dc:subject>第一PPT模板网-WWW.1PPT.COM</dc:subject>
  <dc:title>第一PPT模板网-WWW.1PPT.COM</dc:title>
</cp:coreProperties>
</file>