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93A-2CD2-45F4-8605-C0E2BD48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BFD-8B7C-4932-88CB-53CE329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8723-66A2-4235-816E-BD7E8D9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F848E-FD3C-447D-ABD0-1BCCC625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407DC-A906-43FE-BFFF-09E933B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918B8-BFA0-4FFC-878B-178C4C3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694A1-D99D-4AD8-B1CD-30BE04F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C56A4-B246-404F-951F-4EF5A8F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1AC6-8A83-44C0-A2DE-09C8733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D0218-AE4D-4D38-BE0B-625B839F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6E077-6F8B-4861-8D72-A1149F7C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8A6AF-24FF-47DB-8B40-26B96268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91A-A325-445E-9AAE-DCD3534A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AD059-93C1-45AB-9DB7-04AA0BF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08F19-79BA-4826-B713-DE164F1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948C3-FB57-4324-8CCF-BBF18A9F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F53A-F1B2-43CF-9B91-8443981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A5C3B-FA05-409F-951F-F73721B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2A3FB-738E-42B6-9671-B0562DB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8D662-00F2-4925-8895-1F6F0BE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5E7E2-7476-47A9-AEAA-07DBF55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485CD-E500-437C-B866-0304FEC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FE91B-37E0-49BD-BC6C-E788BC00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C5D-7A8B-4F1E-B68F-7D29BB8E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B331-AEC5-45D4-9C37-CD959426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9CF4D-3690-4EF0-BD19-67243D4B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28AC-22BC-42E2-85A6-8CD231C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59DC4-3F6B-464B-BA1D-804BE7FF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CD17-44B0-424C-B325-716A0AEB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E6322-D7C8-4CF4-B265-95EEAB0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65C7A-B43E-41F9-88C5-F32707E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54EE-F108-4B67-AF10-195081E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F9446-45B4-4C95-8960-A6C85BDA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18B57-202D-45CC-A8D7-EC5A22F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67CF-B6C1-4FC1-AE01-4E6A40AA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C8D77-9A29-44BD-91C0-886B5C8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F80CE-4270-45E9-BEBE-F4AE32DD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C4BAC-B0B7-4D32-85F4-2359156B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31070-F2C9-4BC2-8F1C-A7CCF3DE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9E224-C2F7-4431-9F48-055630C2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B5E52-582B-4624-BEF3-E3D7DC52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5D159-B2DD-49F8-9D9F-8BC142C8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23BFD-496D-4015-B4D7-20D3A992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D7DA8-C24B-4452-B35F-47189A6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172D6-E155-4BA3-BB5F-67C053D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BC9F-1599-4827-B899-D2F6922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A62E6-A538-4CCF-9686-3166407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CF22A-89A0-4365-B9B3-93626BF6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03651-DC28-4C60-BE5F-C2E800A4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61D82-6A3B-49C2-8526-EC2E87F7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4991F-D5E0-4013-9374-BE3C0ADB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E7BBC-0486-4B57-8EBB-BD74753D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83099-1EDB-48B6-8386-50273BD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1B6BA-7612-4E1C-989C-2EC06BC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E54E8-5FF3-4BD0-95B2-E480764B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5EB92-C57F-4D2D-8773-93A54ED3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CF94-96EC-4C95-8564-1F6C418F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2F9E6-BBF6-47E8-BDA3-6E81ABB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DE8AA-6BB1-49FE-9B82-2B88E8E7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BF19E-925D-410F-8B32-20DC7A3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4479F-DCC5-4DCD-ACDE-2B4D0A2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0368C-9DA7-4DBF-A708-770F2CC5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25AAD-590A-4786-8FC0-2C5924F4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A110D-89AF-4A9A-9384-91C46DA3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2037-21B2-4A90-9534-54712A9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A9DF-C4F0-4352-AA79-57F7C885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691-8F8F-4ED7-AFEA-8D0186A8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716-4B5A-4C7C-80EB-FA0CA2F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CD9-32C0-4EE1-A5D8-92DAFC96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B133-2A20-44CC-9B06-19195A5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1C80-F521-4C6E-A7C4-7923B8C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FD6-66BA-4CAF-8BDB-46514F02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59A-3E65-4DFB-8F36-35CEC40C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7759-DBC1-48B6-AA50-092B6456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CF56-D2E8-401E-9919-4B01BD75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6F71-21FC-4CBD-B1A7-6893B5B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3A87-C70C-4F16-89B5-76F732EC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C976-F2C9-4229-B87E-237501DC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720A-8017-43A0-8A85-6C5096C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3A7-ACAF-4D12-A94C-4F4FF79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D712-D799-43A1-B67F-ECA9667B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7BFB-B5C2-4D6E-985D-C5BDCA51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674D-F225-42C4-8C16-EDE8D557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E007-E439-4A10-81FA-A384C66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BB60-5DB0-4F4D-B4BD-B419BC3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82C6-1086-41EF-83D2-0FFDB8B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3CFB-1A7D-4FE8-94B7-EF773802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E19E-6B2A-4FAB-84B6-B0AA59F7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71DF-6E3F-49DB-90A7-A91060B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0318-EA07-4760-A925-5C26AE8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004-B4F8-4035-80F2-ECD9F6B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3332-0C3F-4EEF-8FB4-CC851238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AC63-7A4F-4EEF-B0C4-D1B6B03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8D23-E7F9-4493-9BED-B4CE9113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47A3-08AC-43F9-BF35-1D362C0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BCD6-0374-4DAC-A143-86356CF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1047-7CF9-430D-8C2C-47DB633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190E-5361-462A-935C-48985AAA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0DA4-840F-4C9B-ABF1-83379386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3DF4-3B80-486C-B114-08F48E1F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92A1-3410-430A-A246-82E0463D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D07-6B1F-4DE3-A901-016F645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50C7-BF26-4E32-ACB5-084ED83E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B53B-441B-4898-BCF9-129C8B3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7B85-331E-4272-A780-3B6FDDA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6B87-65BF-43D1-9EA5-EE4D60F6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B04C-1F94-47E9-BE34-E2D5BE2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9FA1-1112-4DDC-A806-0541F06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869C-0F4F-4197-8BBE-6DE92E1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287F-B636-49C2-908A-F614D307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5CE6-05A2-46C3-9545-6B3C996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BCA8-7613-4B00-9193-70A4D35E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11A-EA0E-4CE3-8036-4E3027E3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A68E-1257-4042-8948-533D0E11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B8F1-AA67-481D-88B6-B4E0757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8420E-AC67-4A8A-B8AB-666BCC9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5728-C621-432C-8DFB-EE204EC5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1087E-6A62-4884-B2F6-522F9CB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D60A-A48B-4FC0-B3AA-509491C0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6EDB-0C45-459C-90E2-439D4A8A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AF01-367E-420D-BF85-D33291C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A6F8-F797-4AE8-9FAF-7219354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E607-1ACA-4784-B872-4DA4870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FD7-2113-45AF-A55B-8CEA52E4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04E3C-D735-4397-854C-E244139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BC53-7D28-4B39-9668-C4B34675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26E1-E349-4489-B6D7-D1800DA9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6637-B4E3-4F10-8A54-FD0E2CCD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4679-5BE6-4869-8164-717749F0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3C37-E742-4936-8DDB-8AEEB81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4926-A342-4421-96B3-88A2600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D92E-BBE1-45AA-B6E5-775C80D0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7285-430F-4493-A21D-B8F2421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75E1-CDDE-4A7C-8419-5693C87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34B-9934-40AF-B590-334BA6E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B43F8-29EB-4730-8432-D15EAD4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8A4C-1731-4FE1-956D-806F31B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3EAA-89D9-4522-A871-55F0E83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AE206-0DCD-4A9D-9D0F-3CD42B2F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DDAF-E597-47E3-87E5-7FF9BB0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9548B-5EA4-4955-B5B1-CF2BC200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C47D9-BCD0-41C5-8820-7FF17EA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A7AD-3755-46CA-BEC9-A9956C7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04FAC-2B21-42B3-8DE8-191B9D9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9D684-EFF6-48A6-AE13-6E99F51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069-D937-4703-935B-A5AC0DC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AB12-0253-4F26-A75F-9659671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AAA34-A166-42DD-8655-9A0B030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45A4-ACAB-4A64-ACD8-26F229F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0F94-A13A-4F03-A2C7-C625E8B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4B99-1C52-4E1B-9668-22D7FDA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D048-97AF-4356-88BE-3F583455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51B7-E71A-4C75-A684-D015BF78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961AB-1FFD-44C9-A6C7-7244C61C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2C1D3-B3A4-4F7C-A14D-10D778F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13AB9-33AE-4DB7-967B-F0B57F5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683-9136-4B38-AB0B-3008766C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EA34-FC4C-4794-88DD-B9BE46E0EB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673C-DF08-4F06-9B1F-159C05857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7B4C-C5A0-4645-941B-3AEF65C2D3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CDCF-FED2-42E5-9F56-C76B430E1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DC7-0A87-4F4D-87D6-41590A29B0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779A-D48C-4793-855E-71EFA2EAF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3FB-C181-48D5-8C87-3EE696008A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6BC-9C23-4625-A4F0-3ED0A9951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6DDB-3058-4D67-9468-DF7B7CFB44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D0A0-63DE-4A2E-95C2-10E5C820C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B9E-12A3-42FC-B866-5B98DA7C75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C658-2B9F-4CB3-BF15-FB5C8FBB6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544-38C5-45AE-ACB1-1B99027FF8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518-735A-489A-BED3-827E0B0835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477-176C-4D9F-9BB2-48A89899D1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D297-C673-4C06-85DF-43F40BCB5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C82-DF7D-4E40-9FE0-CC2D6630B7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4DD-94D8-4240-8803-5BD99A0DE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3E1-3E9E-49C7-98F2-7FCE602CC8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CC3-63F2-4D4B-9B0F-E82E16C762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3072-8FD7-4D97-A732-700C81F5AF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DEBC-23CE-4BB2-B247-7F878BA2E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328-CC44-407F-B441-DF2653D35E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4D10-78A3-4ECA-B409-4694E5D817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0020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秋思"/>
          <p:cNvPicPr/>
          <p:nvPr/>
        </p:nvPicPr>
        <p:blipFill>
          <a:blip r:embed="rId1"/>
          <a:srcRect l="11263" t="7544" r="13401" b="9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3564000" y="328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7"/>
          <p:cNvSpPr txBox="1"/>
          <p:nvPr/>
        </p:nvSpPr>
        <p:spPr>
          <a:xfrm>
            <a:off x="538200" y="201600"/>
            <a:ext cx="4537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秋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3667320" y="1700280"/>
            <a:ext cx="20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"/>
          <p:cNvSpPr/>
          <p:nvPr/>
        </p:nvSpPr>
        <p:spPr>
          <a:xfrm>
            <a:off x="1619280" y="270828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风本无形，但它可以使树叶黄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花凋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自然界带来秋光秋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虽无形可见，却又处处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5"/>
          <p:cNvSpPr/>
          <p:nvPr/>
        </p:nvSpPr>
        <p:spPr>
          <a:xfrm>
            <a:off x="2608200" y="873000"/>
            <a:ext cx="50594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年一度的秋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又吹到了洛阳城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催我写一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家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将万重心意与亲人沟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捎信人即将出发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我又拆开了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的信封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赶快再添上几句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说不尽的心事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无奈太匆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4"/>
          <p:cNvSpPr txBox="1"/>
          <p:nvPr/>
        </p:nvSpPr>
        <p:spPr>
          <a:xfrm rot="19995000">
            <a:off x="6819480" y="4798800"/>
            <a:ext cx="2016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6"/>
          <p:cNvSpPr/>
          <p:nvPr/>
        </p:nvSpPr>
        <p:spPr>
          <a:xfrm>
            <a:off x="25092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秋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描绘的画面，把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秋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改写成一个小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人张籍在街上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清早了。忽然一阵萧瑟的秋风送来阵阵寒意，此刻，一排大雁从诗人张籍的 头顶飞过，飞向南方，诗人张籍不禁想起自己寄居他乡常年不归。大雁飞走了，但明年春天还会回来。可是自己什么时候能回来呢？想到这里，张籍落下了眼泪。树叶飘落了，荷花也枯萎了，习习秋风吹乱了他那长发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诗人张籍回到家中，望着那飘落的白杨叶无心写诗思前想后，他觉得应该给家人写封信了，便把笔墨纸都准备好，张籍提起笔，千言万语涌上心头，不知道从何说起此时张籍的脑海里不断出现当年自己离家之景，眼泪夺眶而出，千头万绪的情感，种种思念流露于字里行间。就这样一个小时过去了，二个小时过去了，三个小时过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籍花了整整一天来写这封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他觉得这封信是他的思念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好信后，张籍并不是马上用信封装上，而是反反复复地检查了一遍又一遍，生怕有什么重要内容落下了。就这样又过了一夜。在这一天一夜中张籍从未吃饭喝水心心念念的而是那封信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天亮了，公鸡开始打鸣了，这时，张籍不再睡觉，而是把信封好，早早地来到街口，来等待邮差，张籍现在心急如焚，希望邮差早点到来，亲人就能早日看到这封信。忽然街上传来马踢声，张籍便知道是邮差来了。邮差下马，从张籍手中接过了信，正要上马，忽听张籍说：“等一下，让我再看一遍，可能有什么内容写落了，好吗？”邮差把信又给了张籍，打开已经封好的信封，张籍便仔细看了一遍，又把信封封好交给了邮差，邮差上马，扬鞭而去，诗人注视着他，直到邮差从他的眼线中消失，习习秋风吹拂着张籍那张沧桑的面庞，泪水又从张籍眼中流出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回到家中，他提笔写下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前有个叫张籍的人，客居在洛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一年一度的秋天又到了，树叶都枯黄了，一片片地飘落下来，在旁人眼中，落叶好似一只只纷飞的、充满生机的彩蝶，装点着快乐的金色的秋天。而在张籍眼中，却一片荒凉、落寂。他已经离家很多年了，好久没有见到自己的亲人了，真思念他们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张籍想给远在家乡的亲人写一封信，但是想说的话实在太多了，一下子不止到从何说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在信中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爹，娘，你们在家乡过得好吗？我在洛阳一切都好，只是耳边没了娘那虽然喋喋不休但充满关爱的唠叨，眼前没了爹那慈祥的笑容。你们不用挂念我，我很好。我很想你们，你们一定也很想我吧？我保证，我有时间就会来看你们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中秋节快到了，这是我离家第几个中秋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爹娘，最近天气转凉了，你们多加些衣服、被子，千万别病了。还有，平时不要太劳累了，如果缺什么的话，给我捎个信，我会办好的！一定要保重身体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写着写着，脑中浮现出了久违爹娘的笑容，耳边响起了娘的唠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啪”的一声，扯回了他的思绪，原来，不知不觉中自己已泪流满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天，他把信交给了仆人，吩咐仆人一定要将信送到。就在仆人即将出发的时候，张籍又叫住了他，仆人转过身，不解地问：“老爷，您还有什么吩咐吗？”“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把信给我，让我再看几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接过信后，认认真真地读了好几遍，才双手颤抖着郑重的交给了仆人。并嘱咐道：“一定要把信送到啊，一定要一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仆人走了，他望着仆人远去的身影，口中不知道在嘀咕着什么。他的眼泪终于像断了线的珍珠，流了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那信中藏着一颗怎样的思乡之心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秋思"/>
          <p:cNvPicPr/>
          <p:nvPr/>
        </p:nvPicPr>
        <p:blipFill>
          <a:blip r:embed="rId1"/>
          <a:srcRect l="11263" t="7544" r="13401" b="9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11.mpg" descr=""/>
          <p:cNvPicPr/>
          <p:nvPr/>
        </p:nvPicPr>
        <p:blipFill>
          <a:blip r:embed="rId2"/>
          <a:stretch/>
        </p:blipFill>
        <p:spPr>
          <a:xfrm>
            <a:off x="611280" y="11853720"/>
            <a:ext cx="9144000" cy="16970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0" y="333360"/>
            <a:ext cx="827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搜集表达思乡情感的诗句、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8000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静夜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 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床前明月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疑是地上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举头望明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低头思故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684360" y="1341360"/>
            <a:ext cx="828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写作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籍，唐代诗人。张籍是韩愈的学生，他出身贫寒，常年过着四处奔波，漂泊异乡的生活。在唐朝安史之乱是兵荒马乱，民不聊生，离家十年的诗人深陷洛阳城，却不知战乱中的家人的信息。正在此时他在洛阳城里遇到了故人，并托他捎信给家人 。在此情此景下，写下了这首诗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九月九日忆山东兄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 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独在异乡为异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逢佳节倍思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遥知兄弟登高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遍插茱萸少一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驿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白居易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靖安宅思当窗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驿台前扑地花。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处春光同日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居人思客客思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1547640" y="1052640"/>
            <a:ext cx="720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净沙  秋思      （元）马致远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枯藤老树昏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桥流水人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古道西风瘦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夕阳西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断肠人在天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213536660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2627280" y="0"/>
            <a:ext cx="67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光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枚小小的邮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母亲在那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长大后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张窄窄的船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新娘在那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后来啊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方矮矮的坟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外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母亲在里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而现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湾浅浅的海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大陆在那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配乐诗朗诵 乡愁.mp3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40128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3498120" y="873000"/>
            <a:ext cx="30823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见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3780000" y="1773360"/>
            <a:ext cx="3024000" cy="1224000"/>
          </a:xfrm>
          <a:prstGeom prst="wedgeRoundRectCallout">
            <a:avLst>
              <a:gd name="adj1" fmla="val 35986"/>
              <a:gd name="adj2" fmla="val 75550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万重：形容要表达的意思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1403280" y="3429000"/>
            <a:ext cx="3097440" cy="936720"/>
          </a:xfrm>
          <a:prstGeom prst="wedgeRoundRectCallout">
            <a:avLst>
              <a:gd name="adj1" fmla="val 25805"/>
              <a:gd name="adj2" fmla="val 70509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人：这里指捎信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5003640" y="3357720"/>
            <a:ext cx="3168720" cy="934920"/>
          </a:xfrm>
          <a:prstGeom prst="wedgeRoundRectCallout">
            <a:avLst>
              <a:gd name="adj1" fmla="val -652"/>
              <a:gd name="adj2" fmla="val 82768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封：把封好的信拆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1979640" y="1125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1547640" y="234936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风本无形，但它可以使树叶黄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花凋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自然界带来秋光秋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虽无形可见，却又处处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风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形的，可闻、可触、可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却不可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但正如春风可以染绿大地，带来无边春色一样，秋风所包含的寂寥肃杀之气，也可使秋叶纷纷，落红遍地，给自然界和人间带来一片秋容秋态。那么，诗人见到的恐怕是这秋风带来的凄凉摇落之景。客居他乡的游子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见到这一切，怎能不勾起羁泊异乡的孤独寂落情怀，引起对家乡、亲人的悠长思念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平淡而富于含蕴的“见”字，给予读者多么丰富的想象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2124000" y="119700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欲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家书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意万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6"/>
          <p:cNvSpPr/>
          <p:nvPr/>
        </p:nvSpPr>
        <p:spPr>
          <a:xfrm>
            <a:off x="1332000" y="249228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封家书，一份情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有千言万语，他在信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4572000" y="116532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意万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5"/>
          <p:cNvSpPr/>
          <p:nvPr/>
        </p:nvSpPr>
        <p:spPr>
          <a:xfrm>
            <a:off x="3258360" y="1268280"/>
            <a:ext cx="34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 阳 城 里 见 秋 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 作 家 书 意 万 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767760" y="2924280"/>
            <a:ext cx="20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居洛阳，又见秋风。心中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千愁万绪，觉得有说不完、写不尽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倾吐，而一时间竟不知从何处说起，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知如何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3258360" y="1268280"/>
            <a:ext cx="34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 恐 匆 匆 说 不 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 人 临 发 又 开 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2192040" y="2852640"/>
            <a:ext cx="4965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带信的人将要出发的时候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又打开了封好的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034"/>
          <p:cNvGrpSpPr/>
          <p:nvPr/>
        </p:nvGrpSpPr>
        <p:grpSpPr>
          <a:xfrm>
            <a:off x="539640" y="4149720"/>
            <a:ext cx="8351640" cy="2232000"/>
            <a:chOff x="539640" y="4149720"/>
            <a:chExt cx="8351640" cy="2232000"/>
          </a:xfrm>
        </p:grpSpPr>
        <p:sp>
          <p:nvSpPr>
            <p:cNvPr id="560" name="Rectangle 1032"/>
            <p:cNvSpPr/>
            <p:nvPr/>
          </p:nvSpPr>
          <p:spPr>
            <a:xfrm>
              <a:off x="539640" y="4149720"/>
              <a:ext cx="8351640" cy="22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033"/>
            <p:cNvSpPr/>
            <p:nvPr/>
          </p:nvSpPr>
          <p:spPr>
            <a:xfrm>
              <a:off x="682560" y="4294080"/>
              <a:ext cx="813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书成封就之际，似乎已经言尽；但当捎信的行人就要上路的时候，却又忽然感到刚才由于匆忙，生怕信里漏写了什么重要的内容，于是又匆匆拆开信封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3498120" y="873000"/>
            <a:ext cx="30823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见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1:01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7T06:00:38Z</dcterms:modified>
  <cp:revision>17</cp:revision>
  <dc:subject/>
  <dc:title>第一PPT模板网-WWW.1PPT.COM</dc:title>
</cp:coreProperties>
</file>