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8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87C6-51B3-444A-8477-860C1381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14F-6979-436F-86C2-908597A7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09C1D-2924-457E-AAEF-23845F95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57C73-052A-4217-8A7A-6F8490EC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93AAF-D39C-4CED-8C62-D4A8ACA6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5EBA4-836A-4896-8E6D-70169FDE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19E03-50A2-4A8D-98F9-DFB9B8F0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7BA54-35C9-4F82-AB7D-6BE863E2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BE5AB-5EDD-4FE5-83D3-49532398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53643-03A5-4710-8021-E5CB01E8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0A5E5-E2F6-4D78-8E37-E9A79D1E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06D4C-A410-4C0A-AEE4-B3D0C876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E04-4FC8-4A85-BDC4-70DF44E2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3AD0C-90E1-40A9-BD49-26405094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BE441-21F5-4C09-9239-131ED754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EA086-8576-41CE-AA33-01E52BAB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7C385-B618-406B-8C90-D3D262D1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40077-E216-4FB8-A4CA-556B4241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D8CE9-869F-4234-B1D6-FCD6F651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34388-01F8-44EE-99D1-3C608B9B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C531F-C933-4CA8-AC80-82CA67D1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B08F2-89A4-4D61-9195-A3A04736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BFC8F-15B2-4D38-BF27-5487F85E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D84-0E96-4420-A649-9D3D75EA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772B0-A0CD-4139-A398-8A7A0DF2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FEA99-63AE-4C80-B045-95922D44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FBE3A-4E63-4543-9240-C88085AB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2E8AB-63DD-4F5A-9628-F4848513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019D5-F98C-47FB-91E0-18BB81EF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4727D-0CB7-4F32-85D7-4A0EEF51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1E93B-0416-4F49-B53B-9E5CF8D1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26D06-0BDC-40A4-B8B8-5C2069D7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43722-5B5E-48F3-9FC3-155F1C3A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AD7FC-2FBE-45A7-AE5C-59FCC5FC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862C-F86B-4EA3-A2FB-3C9AB70A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3C0E8-0E51-4652-9B2A-85A53964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F4451-484D-40E1-B1E5-DE2B32C4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34A76-C755-458C-AB20-AFFA5483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38EAB-057A-41DA-85F5-87256E61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871E6-091D-4061-9043-72E5F2A5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1A425-E615-496D-A20C-8B765ACE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36FA8-F8C4-4708-8274-36EBAA0E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083FB-E647-4B9D-9E73-C4485B8A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E4719-72D1-4EE4-8E71-C1662AAA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443E8-EEC1-4B71-A86F-7F59A984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C565-2E96-4C9E-94E8-F4354477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F64A8-172C-429E-8EC4-32E3EA9E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063FA-FC9F-4E62-9673-7E3B08EC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96F85-59DA-41BF-943C-FF5F25D0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C5A6B-E4BE-4A4F-ACED-C9EE7F25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A034C-2194-4F75-8203-83E9192A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460C3-B3D3-4499-92DF-2ABD4B1E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4F73D-E425-4E68-B5ED-B6DE1891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204A2-8533-4E84-BD37-E405F65A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5E460-3DF4-4976-ADDB-EFCACA46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CBFFD-6C69-4F84-9D75-4F24F8A7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2740-8D52-4F16-AB5A-F66A178F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81BFA-4CE8-478A-8986-96747228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E8615-5E94-4BC8-9849-ECBE27D1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F437F-37ED-4400-A896-0E3BC4BA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DB1C7-3230-4B63-A90A-DFF01308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B80CB8-9073-4EC5-B00C-B0773A23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27BDA-1FA3-4744-AE50-9AC2A308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09839-5C98-4200-B184-DFBC3EBA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0EE6-4B28-4A7C-8979-C4E06E9F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C3BC-06A9-4EF5-BA0C-E5E06007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1879-BB75-4C2D-8A22-766748E7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F3BC-0436-4A9C-8E89-971AF354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4A2-BE6C-429D-A2F6-04D5DA54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EA28-E578-45A8-B2D8-D879856B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4A35-D5FD-4167-872B-2DEF2704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219E-B903-4439-9FCF-4E7DCC4E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0189-6870-4B65-A9D0-EDFCBEFF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8041-1BEE-4E2E-A147-25A41008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0C2C7-22FA-481C-BE7A-475B102C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0DFF1-2EEB-4247-AE20-E1696553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64E1-1184-43F7-BE0F-9AD6C952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29157-F534-4D1D-9B57-BB547771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D5E04-6D5C-4D77-9E93-AA267648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167-6041-47F5-981C-16AEBD54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4348E-5E2A-42C2-9DBE-0E89BED1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64690-9FB4-4F54-9A20-DEDCE44F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95A30-DA55-4606-B402-F839C171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E896-753B-4676-872A-D281798E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8265D-B899-4A66-837B-4D1E669F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1958-F0FA-4FE4-9DCD-AE3B1458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0404D-5C42-4381-A7FF-2A079596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66518-69F2-449F-AEE3-53B7D408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83951-2051-418C-93BF-1D0DE84D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E0AED-B918-4BB1-9F88-E4658EF4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1B7-F9CD-4CF9-BEEB-837145FD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34459-B62C-4BD1-9FA8-62AF2B51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E567C-8329-4220-A322-ED216F28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C3ACB-5FAE-4361-B86D-416B0AD2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2F797-B69C-4557-8CE7-555F15A8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600E9-97F3-47C8-8002-B7B8787E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1F9FA-0407-42E1-BA5C-896A2D60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C5584-8E3E-4B13-A971-0A7DE5E3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952FF-CB2B-4468-9E54-FAAD94F9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BB7D8-4DE1-4D52-B1D4-2D5C7325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CD8F2-A85E-44D9-8887-FBA6125B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BA3-1A97-4D8C-B8AE-AEF6EAED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3B45C-2C7D-4ED3-A8A7-05C565EB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6AF45-9CD5-40C0-9653-6776ABEC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A90FA-3589-4B3B-90D3-391224FB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F1AF7-6975-4C40-8DEF-48E000CC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97683-EF7C-4BF1-81F6-6B9BE93E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48E11-D2AB-4CFE-A2B6-105BE69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A51AD-C6F7-4FE2-8F0A-C3345A0E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20D30-DB40-4494-88B8-BEA3580C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E40CC-1072-4ECC-9948-923936A5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8ACC4-BA59-47FE-96B3-5B298699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AA1-3D14-43B7-8630-35EDF9B7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C75AA-44AB-42B6-81CF-5BCFFE43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851AD-FD1C-4FA5-B029-71659495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F4C75-0FAF-49B5-A6AE-1C85C5B5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A2B32-E086-4B12-8344-28437A77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25A0B-D68D-4C03-9319-734DD484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7BE7F-D455-415C-81CF-8229256E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8CAD4-15DC-41C2-B204-5286CFF7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900CD-1208-4E25-A7D9-D143502C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84075-D543-47F5-BC8A-D7648A53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3047A-4DAC-4144-BDB6-DE275894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4C0-CE00-4283-AB6A-ECFD0915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2A792-69B8-49BA-B13D-B0A627D2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99BEF-1FAF-4A1A-B0D8-FF37F7DB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678E5-C5BA-4804-A56F-3EBF70A9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0E3A3-FFE6-42A1-84FA-BE38D630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ECC4D-01DB-42B0-BF91-352A447C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53C4B-C249-4FF2-B733-F34EE185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712D5-63E5-468B-8239-441867FC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6A0B2-DA45-4E20-B919-64DB38E6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F1382-7ACB-450C-B2C9-DBD84E35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58073-DC38-42DF-B977-D389EC06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D23-9AF0-4999-A2A5-65D80318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C7AEF-08C4-4140-95CC-1D3F8BE3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84189-B330-4E25-A36F-F07E42B8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B3076-7A50-4303-B697-48330EE3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D5377-D242-468F-9D7E-FBB050D5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273F0-B072-4085-B927-B5625867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76E34-63E7-4B3C-A193-48EA42A2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39BAF-8EF3-46CA-B562-FA42168F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37B72-E777-4729-B200-C46050B7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3B5D4-D794-486D-93AD-6C693375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48416-0E1F-4F94-BC82-96CA881E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066-00AB-4279-BDDB-5F94C191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41040-6453-4CF2-9F5C-08FEDCD2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99899-C272-42FE-B231-81505C07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9DD57-16BE-4088-92DA-ED51D95B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C49A2-7954-4CF0-9C52-BED72028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E2230-BB92-427A-BF2C-CD8DE966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A37E0-5850-49C7-B8CE-F0FF71A1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34C2E-1399-4725-850B-AFEEAD30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35C52-F191-47A7-946E-99B9DCAD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D72D3-ABEF-4738-82DE-2F46AA80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B5826-B14E-4FCA-9A91-696A3DB9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506F-9669-4581-8868-310E11B8B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606D-FAA6-4BDC-9AA5-A58742817D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BA23-DE72-42C5-8BED-1E31E2A166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86ED-6234-4789-85D3-5FB16248AC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95FC-5BE2-4EEA-A162-6A0A45E021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861B-5711-4346-A778-6356546632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6B4C-B3CE-4669-A527-62D37B928C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BC3E-24B9-4892-853D-4C0BC321AFA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1AC7-642B-4317-B625-5D7DAEB602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5BE4-2460-47B5-926E-E9B88438C7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EAEC-FED8-4D10-9E63-624B53A209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3BAB-339E-4C6E-8559-B70C202AAB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3F1A-6948-45A8-82F6-1E273517B0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0195-1D9F-4AB6-833E-27D63189A6D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29EA-63A0-49FB-ABE2-DADA3AA28F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9729-F075-4629-BBFE-CB011FBF93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BBAA-16AF-4220-ADF1-3696B87217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2F4E-0BD0-49E9-8428-9DCF219D7D9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7D08-0CC5-47B5-AD96-BCFEF77CFA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154C-7AD4-46C7-B21A-AA9B2E6A150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DEC5-0825-4FC9-9624-72090BCD4E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6504-8BD8-4C2D-BAA7-DD5D872175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DD00-7AF6-4F06-808B-4837942871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1AFD-829D-4474-9278-C4B5429BEA3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2B0A-C28F-437A-A52A-92108550FF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3000"/>
          <p:cNvPicPr/>
          <p:nvPr/>
        </p:nvPicPr>
        <p:blipFill>
          <a:blip r:embed="rId1"/>
          <a:stretch/>
        </p:blipFill>
        <p:spPr>
          <a:xfrm>
            <a:off x="-324000" y="-243000"/>
            <a:ext cx="9720360" cy="74170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685800" y="278136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10*  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秋 天 的 怀 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eqyy.mp3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7"/>
          <p:cNvSpPr/>
          <p:nvPr/>
        </p:nvSpPr>
        <p:spPr>
          <a:xfrm>
            <a:off x="0" y="0"/>
            <a:ext cx="22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Object 2" descr=""/>
          <p:cNvPicPr/>
          <p:nvPr/>
        </p:nvPicPr>
        <p:blipFill>
          <a:blip r:embed="rId1"/>
          <a:stretch/>
        </p:blipFill>
        <p:spPr>
          <a:xfrm>
            <a:off x="-3492360" y="-558720"/>
            <a:ext cx="13033080" cy="74167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567" name="Rectangle 3"/>
          <p:cNvSpPr/>
          <p:nvPr/>
        </p:nvSpPr>
        <p:spPr>
          <a:xfrm>
            <a:off x="-2341440" y="0"/>
            <a:ext cx="114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          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板书：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10*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秋 天 的 怀 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0" y="141300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                                                             母 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暴 怒 无 常                                                耐 心 抚 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0" y="3213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浑 然 不 知                                               重 病 缠 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0" y="407664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 意 看 花                                                喜 出 望 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-468360" y="501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懂 得母 亲                                                临 终 嘱 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8" descr="xing4"/>
          <p:cNvPicPr/>
          <p:nvPr/>
        </p:nvPicPr>
        <p:blipFill>
          <a:blip r:embed="rId2"/>
          <a:stretch/>
        </p:blipFill>
        <p:spPr>
          <a:xfrm>
            <a:off x="2700360" y="3645000"/>
            <a:ext cx="3384360" cy="20890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laoren"/>
          <p:cNvPicPr/>
          <p:nvPr/>
        </p:nvPicPr>
        <p:blipFill>
          <a:blip r:embed="rId3"/>
          <a:stretch/>
        </p:blipFill>
        <p:spPr>
          <a:xfrm>
            <a:off x="2771640" y="1557360"/>
            <a:ext cx="3384720" cy="2016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10"/>
          <p:cNvSpPr/>
          <p:nvPr/>
        </p:nvSpPr>
        <p:spPr>
          <a:xfrm>
            <a:off x="3851280" y="40053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2987640" y="3860640"/>
            <a:ext cx="898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愧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怀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3"/>
          <p:cNvSpPr/>
          <p:nvPr/>
        </p:nvSpPr>
        <p:spPr>
          <a:xfrm>
            <a:off x="4788000" y="4005360"/>
            <a:ext cx="1655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坚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伟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烛光里的妈妈.mp3" descr=""/>
          <p:cNvPicPr/>
          <p:nvPr/>
        </p:nvPicPr>
        <p:blipFill>
          <a:blip r:embed="rId4"/>
          <a:stretch/>
        </p:blipFill>
        <p:spPr>
          <a:xfrm>
            <a:off x="824400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22"/>
          <p:cNvSpPr/>
          <p:nvPr/>
        </p:nvSpPr>
        <p:spPr>
          <a:xfrm>
            <a:off x="1746360" y="3200400"/>
            <a:ext cx="56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菊花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04920" y="103320"/>
            <a:ext cx="8380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母爱是伟大的无私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1692360" y="26028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1908000" y="4076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6516720" y="350028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3132000" y="83664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2340000" y="1197000"/>
            <a:ext cx="43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5"/>
          <p:cNvSpPr/>
          <p:nvPr/>
        </p:nvSpPr>
        <p:spPr>
          <a:xfrm>
            <a:off x="2411280" y="1413000"/>
            <a:ext cx="547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22"/>
          <p:cNvSpPr/>
          <p:nvPr/>
        </p:nvSpPr>
        <p:spPr>
          <a:xfrm>
            <a:off x="1746360" y="3200400"/>
            <a:ext cx="56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826920" y="1773360"/>
            <a:ext cx="831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后作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完了这篇课文，你想怎样表达对母亲的一片深情呢？请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妈妈，我想对你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题，可运用本课的写作方法，给妈妈写一封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PM_001"/>
          <p:cNvPicPr/>
          <p:nvPr/>
        </p:nvPicPr>
        <p:blipFill>
          <a:blip r:embed="rId1"/>
          <a:stretch/>
        </p:blipFill>
        <p:spPr>
          <a:xfrm>
            <a:off x="0" y="0"/>
            <a:ext cx="9524880" cy="722304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3"/>
          <p:cNvSpPr/>
          <p:nvPr/>
        </p:nvSpPr>
        <p:spPr>
          <a:xfrm>
            <a:off x="1447920" y="2940120"/>
            <a:ext cx="58672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539640" y="1052640"/>
            <a:ext cx="6048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ān   huàn        pí                       n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瘫     痪          脾   气           暴 怒  无  常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ì          qiáo    cuì             ju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沉   寂           憔      悴             诀     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ǎ           mǐn                   x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淡    雅            敏    感             絮  絮  叨  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0022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3"/>
          <p:cNvSpPr/>
          <p:nvPr/>
        </p:nvSpPr>
        <p:spPr>
          <a:xfrm>
            <a:off x="-181080" y="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自学提纲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-181080" y="549360"/>
            <a:ext cx="932508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、母亲重病缠身，还要推着下肢瘫痪的“我”去北海公园看花，结果怎样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、母亲是怎样关心“我”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、作者是怎样透过这些小事，来表达对母亲   的一片深情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、假如清明节到了，作者会面对母亲的遗像，说些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468360" y="587700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395280" y="76500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听说北海的花儿都开了，我推着你去走走。”她总是这么说。母亲喜欢花，可自从我的腿瘫痪后，她侍养的那些花都死了。。“不，我不去！”我狠命捶打这两条可恨的腿，喊着：“我活着有什么劲！”母亲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扑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过来抓住我的手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住哭声说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：“咱娘儿俩在一块儿，好好儿活，好好儿活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…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9"/>
          <p:cNvSpPr/>
          <p:nvPr/>
        </p:nvSpPr>
        <p:spPr>
          <a:xfrm>
            <a:off x="1746360" y="3200400"/>
            <a:ext cx="56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《秋天的怀念》插图"/>
          <p:cNvPicPr/>
          <p:nvPr/>
        </p:nvPicPr>
        <p:blipFill>
          <a:blip r:embed="rId1"/>
          <a:stretch/>
        </p:blipFill>
        <p:spPr>
          <a:xfrm>
            <a:off x="-324000" y="0"/>
            <a:ext cx="378936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4140360" y="105264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4067280" y="836640"/>
            <a:ext cx="489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0"/>
          <p:cNvSpPr/>
          <p:nvPr/>
        </p:nvSpPr>
        <p:spPr>
          <a:xfrm>
            <a:off x="3780000" y="0"/>
            <a:ext cx="5364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天我又独自坐在屋里，看着窗外的树叶“刷刷拉拉”地飘落。母亲进来了， 挡在窗前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“北海的菊花开了，我推着你去看看吧。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憔悴的脸现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央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般的神色。“什么时候？”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“你要是愿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就明天。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说。我的回答已经让她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喜出望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了。“好吧，就明天。”我说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她高兴得一会儿坐下，一会儿站起：”那就赶紧准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“”哎呀，烦不烦？几步路，有什么好准备的！”她也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笑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坐在我身边，絮絮叨叨地说着：”看完菊花，咱们就去‘仿膳’，你小时侯最爱吃那儿的豌豆黄儿。还记得那回我带你去北海吗？你偏说那杨树花是毛毛虫，跑着，一脚踩扁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忽然不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了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对于”跑“和”踩“一类的字眼儿，她比我还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又悄悄地出去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1">
            <a:hlinkClick r:id="rId2" action="ppaction://hlinksldjump"/>
          </p:cNvPr>
          <p:cNvSpPr/>
          <p:nvPr/>
        </p:nvSpPr>
        <p:spPr>
          <a:xfrm>
            <a:off x="755640" y="566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邻居的小伙子背着我去看她的时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她正艰难地呼吸着。别人告诉我，她昏迷前的最后一句话是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我那个生病的儿子，还有那个未成年的女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又是秋天，妹妹推着我去北海看了菊花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黄色的花淡雅，白色的花高洁，紫红色的花热烈而深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泼泼洒洒，秋风中正开花得烂漫。我懂得母亲没有说完的话，妹妹也懂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我俩在一块儿，要好好儿活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1746360" y="3200400"/>
            <a:ext cx="56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DSCF13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324000" y="3789360"/>
            <a:ext cx="38163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2484360" y="25653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黑体"/>
              </a:rPr>
              <a:t>黄色的花淡雅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3"/>
          <p:cNvSpPr/>
          <p:nvPr/>
        </p:nvSpPr>
        <p:spPr>
          <a:xfrm>
            <a:off x="1746360" y="3200400"/>
            <a:ext cx="56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菊花6"/>
          <p:cNvPicPr/>
          <p:nvPr/>
        </p:nvPicPr>
        <p:blipFill>
          <a:blip r:embed="rId1"/>
          <a:stretch/>
        </p:blipFill>
        <p:spPr>
          <a:xfrm>
            <a:off x="0" y="0"/>
            <a:ext cx="9144000" cy="72709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4"/>
          <p:cNvSpPr/>
          <p:nvPr/>
        </p:nvSpPr>
        <p:spPr>
          <a:xfrm>
            <a:off x="1476360" y="292428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619280" y="2565360"/>
            <a:ext cx="6769080" cy="1557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黑体"/>
                <a:ea typeface="黑体"/>
              </a:rPr>
              <a:t>白的花高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1746360" y="3200400"/>
            <a:ext cx="56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4"/>
          <p:cNvSpPr/>
          <p:nvPr/>
        </p:nvSpPr>
        <p:spPr>
          <a:xfrm>
            <a:off x="1547640" y="2637000"/>
            <a:ext cx="68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177336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黑体"/>
                <a:ea typeface="黑体"/>
              </a:rPr>
              <a:t>紫红的花热烈而深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1"/>
          <p:cNvSpPr/>
          <p:nvPr/>
        </p:nvSpPr>
        <p:spPr>
          <a:xfrm>
            <a:off x="1746360" y="3200400"/>
            <a:ext cx="56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02:53:50Z</dcterms:created>
  <dc:creator>Den</dc:creator>
  <dc:description/>
  <dc:language>en-US</dc:language>
  <cp:lastModifiedBy>a</cp:lastModifiedBy>
  <dcterms:modified xsi:type="dcterms:W3CDTF">2015-02-10T11:33:16Z</dcterms:modified>
  <cp:revision>34</cp:revision>
  <dc:subject/>
  <dc:title>PowerPoint 演示文稿</dc:title>
</cp:coreProperties>
</file>