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F5C-47E8-4DD1-B06A-9699E954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DD5-3EA6-4BCE-8498-B9CF9F6F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BAB65-13D1-4F57-87C7-D8462CD9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8C7D7-6F06-447B-A853-C8EB48EC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0AEAD-1388-40A1-9F76-FBAB2574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DFDA0-FAE1-4507-921E-CAFD1D31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4CA2C-5510-4872-B8C2-57E4F033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77B2C-0F05-49C5-8CCD-3380E65F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D08A8-5567-49DF-BBF9-796386DF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909AF-977C-4743-A39B-3E68F0A0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B1F64-865C-4F53-B1DD-76C0E485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85822-A791-4789-A930-DEE17343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C78-4041-49E6-85BC-DE11DAB1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CE01C-5A92-4F4D-8F2C-11268C46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E6181-32B2-48C0-A845-1FD431F5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5265D-9A36-448F-8FF9-4F1DD444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04D6A-18FE-4A7F-A823-FE729022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8312D-D499-4DF2-B8FC-6A78E719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6042D-6688-4FFA-9C74-E236C827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C6C80-E2C3-418E-B2A8-1932CEE5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68153-412A-4704-91EE-B7BB4189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6DF6D-1C4A-4948-9F5B-B3E86A43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4FA05-6912-4745-B400-7A6B21D4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1C4-932A-410D-82C5-27B03FD3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A0F8E-4AAB-4FF1-AE77-260EC966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7A46D-1EAE-4720-A0EC-25A8BF5A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DAB9C-6B97-4C69-941F-6832E5BB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51A5F-1129-47DC-AC6C-288B79E7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CFCDD-F4FF-4308-9334-299ADB5B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CD2FA-2525-4816-AC10-D78F7693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5A032-C688-4F1E-AA1D-4F7D309E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2FB93-9686-463F-9E89-0C6C1A65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99662-5E0F-4033-B7DA-A18DB23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46535-C61A-4B8B-BD4C-A9851814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FF40-483A-4D32-AC71-71CD7D86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19372-A7F0-44D5-8BC4-DCF53DB6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C5753-B9C3-4E73-A67E-AC5AC818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6AFCB-2E22-4903-9353-409E8E19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CD0AF-D545-48F2-9338-039F53FE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E2E66-AE76-4A28-8EF6-A776DE7D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E8601-C3AF-456C-A163-A5562CBB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DE7B1-A0F8-4268-9D4D-A3CBB786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4228B-7C40-416A-8CA0-D17971F1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88025-1D70-4FD1-9A54-7672DC54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71CAA-5F6A-4057-9570-DE37EAF2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5336-B00C-4DFC-8C8C-E76D2ADB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FF565-FDA6-44A1-98A7-5A1F05F4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C9222-4D19-41E5-BC5C-D30C75D4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63F66-63C6-4B8F-82BD-22FCCA97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51717-00CC-4CF3-874A-4C9D8251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04AE9-5102-453E-88A1-2802DF8A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84B2E5-A1B9-4074-82B7-5CC48579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87E7B-30A6-4707-B5A2-06CF2F8C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91EE2-94A1-4C8B-A832-EA315EF2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3177D-17A8-40AE-B340-8EE341E0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E17E9-297A-43B9-8782-099FE4EF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4F41-D072-4234-8FD4-F95B0F8A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56207-45A4-4B98-BCB7-64B6BB31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203C1-222B-4021-A79C-DB8BD858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28EAF-C2B1-4E19-8C6C-C1734B8E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0249F-93BF-4378-84D5-9DBCDBE8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9ABC8-D66D-406A-8D74-083B5F3E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EC8A9-9C84-4BA7-9B57-3029D126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364F0-DC21-4A1B-815E-E9D44DEF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6CA15-8D69-48D9-A019-74D92A3D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26E72-BFFF-45BB-BB9A-A86DBD62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21AFD-F50D-45FD-AA2F-7806651D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8880-3882-4C47-AAC0-35B32EEC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18E03-5216-48A0-88B2-8D54D913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C12A2-5D43-48BE-95A1-F901B6CB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BB18B-EC48-4D7F-AB2A-10CA92C3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D1D1E-2988-4D4B-9512-60B4A0BA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27A29-7570-47A7-B7D2-CA7CF96B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D7AC8-983F-4FEA-841A-EED751D9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1F733-0D97-4812-8E33-5AB37A92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1E2B9-8FFF-4055-9BB5-143FE04F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B4D20-B9DF-429A-B67D-C6B8554B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C36E-AC2F-438E-A357-0CC9491C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4DC6-8B73-49AE-A110-926D3102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6B9D-4B3A-4434-AF0E-2734E778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DF0-CBC7-4F4A-B0FE-F53D577B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3FDF-EEB0-41B8-8DBE-DC014806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F4B5-F63A-4E60-8A67-615F5E3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F610-C25F-4FA1-A7FC-F07F58A8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EB03-5114-49C4-A5CE-BEB00F05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0BBD-4AAC-4589-AAE6-A97EE61F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8EAD-A7BA-4C29-B256-EEBBAFC4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3391-35A9-4043-B380-8E08B665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8CCF-5BC7-4A29-8E67-0EBB7827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8D77C-84A5-403B-B130-E418055E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0B35-2BB6-4CD5-82A1-8EFF227A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29A-8A63-423A-B861-F789E707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859AD-7E24-41B2-B8F8-D599D9B3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1878-E689-4554-AE46-856F4B79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D63B-531C-442D-89D2-1E99050E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E10CB-5B60-4DFF-A966-05BF639D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2898-698D-4307-887E-B612E911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F201-2EEE-4FED-BB74-C3EA7999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A04CB-CA5D-4869-8B86-D96D459A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02C7-2F8A-4ECD-B0DE-A0E63DA8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183CF-7D76-4E86-8CAC-257B7D5A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45EEE-E6AE-4AEE-96F4-164EE98C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B15-2B18-40C8-B828-A31E45CD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3DE3B-89FC-46D9-AA00-BFF567EE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B8FA-3725-4259-ACF7-53242326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4D66-0D14-4F0A-B73D-C2721D8E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6D869-0C18-4193-89F3-F05ADA7E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F78D1-9B61-4919-BD09-607A07EF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8DE51-2792-4F4B-B784-E5D374B4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A7101-CA05-4C69-9925-8F17B7F3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27DB-8EB5-408C-B0AE-782695AC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2FFC5-D666-433E-BB19-685D7DA3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BA9E7-1265-422F-92E7-BC5BAC82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D10-CC4B-4A57-9D8E-F1F98CE8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4EA53-DCF3-41FB-AF8F-BE8B8DDA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CF706-EB46-4F26-A0BF-096ADFB4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C6582-5316-4E3C-8F51-EE72F6EF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A22CF-6C7B-46AF-B632-3E5F6E50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4D06D-021B-45A5-88F6-ACC1F13E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08CB-7389-421F-A95C-B53F7938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1E74D-DEB5-463C-A74B-60F463A6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A1690-C7E5-4C2A-A1DD-59D27885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0B361-5F34-4162-80A3-E7F385A2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540C5-312E-45DA-B7ED-2A9C4802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94B-158A-437B-ADC6-FBD23D06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8106B-A2FE-4391-BB31-0076E854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988C4-33A8-492A-AE2C-C764375B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28239-3AFC-4DF4-AF5E-84794088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10553-AD1E-4ADC-9245-6E058986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85AC9-CEFE-4368-96A3-CB6914D3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67D08-1266-4271-AE69-3C5BF1B8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875D3-7892-450F-B55A-BBD45A64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3262B-0B48-433B-996B-E31CFB52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6E05B-FD29-45C4-87C4-B7FC3AF5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89EA8-0D2A-4B3A-A0B0-70634584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F999-44D6-4BDF-BCD9-2A76F089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2B578-5309-41DE-AC0B-30956BF4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285E4-FDC6-4D03-9D0E-01D69879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F1DB5-2897-4207-93B5-8ADA8887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B09C8-2C11-43B3-A733-77FD679F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C6F1A-9DDB-4864-868B-F39CE810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090FA-46EA-4C2F-87E0-C7C3BDB5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F723F-8A48-495F-A6ED-7C109CF6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2ECC0-817C-4FAC-88AB-7C35F2E1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563C5-4A50-424C-8C28-4F191566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B7A3E-9DDE-4B57-BF36-95060540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E58-B041-41EA-A41B-37E7D12B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1CB81-3A10-4F06-9314-F99B1FAA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94783-1CD7-498C-AD6A-47341843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A6F8E-D427-439F-908F-D08B3198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90032-3EC9-410D-8981-6EDF692F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EA3EF-3CD7-42C2-BD36-26585428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E2F35-F7CB-41FB-975E-9E95641B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5757E-533A-44C7-A733-CD6CECFA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D5224-300A-4F28-8E8B-C0CABBA1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2E9DE-EC3D-4216-BB05-A357BFB7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B044A-B68C-43AC-840A-5116744D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1D6-3613-4313-9C06-10F10382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9275E-F656-46E5-8DEA-16396E71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91A51-1837-4F44-B3ED-A20A5E55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2753F-2479-4EFB-8094-56849811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A9BE9-F246-492E-9CB6-BB91BDD5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0D318-AD9E-4CBA-B622-C691D1A3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778E8-F971-48AB-9B70-EDC5CA2C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6252F-9A81-4481-92B6-BEDCDF6A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EBD89-44F8-41A4-9287-842F2BB2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DDA58-AD33-4D5F-B927-3E592FDD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F0106-DCA4-4E2E-AE91-BE4B8F84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69B8-3874-4211-A9DA-B0D847144ED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AC0E-A87C-477C-ABC9-FDD692AF856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1403-5E9C-4CF1-951B-05807CDCF1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CBD9-2A03-4939-9700-519FEDDBF8D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DFDE-2667-4F6D-BC23-E3C078A754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5473-1F1C-4D42-B3D4-20F14A7FFA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BD81-2F8D-4951-8273-305CA57CC6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46D8-3270-4D17-A2CA-F5648C840A5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595D-F00B-4E6B-A8F5-B9FFF5F24A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0A6E-AA2E-4B3B-B406-3C72B20BE1E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0BC7-7BE3-4104-AA24-2FE9762C10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8AEC-3347-416A-9784-D6C2E30F5B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60A9-5A07-417A-A35B-9E92FB75A9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87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D388-72DB-4EB6-BE1A-653C33141E8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4F80-47E6-4A01-AB31-12016882BE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DE4E-9177-4DAB-8333-E59DCE50AA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1AEC-E8BB-4F0F-9CC4-7F65861204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201B-EDC4-4F8B-AD8A-A1D5F80A2B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6C51-20C3-4E60-B3D4-9BFD8505D5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28FE-A288-4886-9E76-BDFE74D5E9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1110-885A-46F2-B021-29714D627B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9726-28DC-40CB-AF84-D373CAE551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E710-4195-4860-B2D2-C2AF634A80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86BD-156E-43E3-A332-FB68E732DE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954F-6601-44D2-ADBD-D3E44F2EF5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5616-12F9-432E-82D6-D81CAB2594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赵州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6765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单　位：曲阜市董庄乡中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执教人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翟 国 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129528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桥  之  美</a:t>
            </a:r>
            <a:br>
              <a:rPr sz="4800"/>
            </a:b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作  者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吴冠中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为说明这一中心对象，作者举了哪些桥的例子？说明了桥有什么美学效果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17" name="Group 6"/>
          <p:cNvGrpSpPr/>
          <p:nvPr/>
        </p:nvGrpSpPr>
        <p:grpSpPr>
          <a:xfrm>
            <a:off x="2057400" y="3124080"/>
            <a:ext cx="6267240" cy="2364840"/>
            <a:chOff x="2057400" y="3124080"/>
            <a:chExt cx="6267240" cy="2364840"/>
          </a:xfrm>
        </p:grpSpPr>
        <p:pic>
          <p:nvPicPr>
            <p:cNvPr id="618" name="Picture 7" descr="清明上河图1"/>
            <p:cNvPicPr/>
            <p:nvPr/>
          </p:nvPicPr>
          <p:blipFill>
            <a:blip r:embed="rId1"/>
            <a:stretch/>
          </p:blipFill>
          <p:spPr>
            <a:xfrm>
              <a:off x="2057400" y="3124080"/>
              <a:ext cx="626724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8"/>
            <p:cNvSpPr/>
            <p:nvPr/>
          </p:nvSpPr>
          <p:spPr>
            <a:xfrm>
              <a:off x="3429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《清明上河图》虹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为说明这一中心对象，作者举了哪些桥的例子？说明了桥有什么美学效果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2" name="Picture 7" descr="赵州桥"/>
          <p:cNvPicPr/>
          <p:nvPr/>
        </p:nvPicPr>
        <p:blipFill>
          <a:blip r:embed="rId1"/>
          <a:stretch/>
        </p:blipFill>
        <p:spPr>
          <a:xfrm>
            <a:off x="1905120" y="2849400"/>
            <a:ext cx="62481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为说明这一中心对象，作者举了哪些桥的例子？说明了桥有什么美学效果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5" name="Picture 7" descr="南京长江大桥"/>
          <p:cNvPicPr/>
          <p:nvPr/>
        </p:nvPicPr>
        <p:blipFill>
          <a:blip r:embed="rId1"/>
          <a:stretch/>
        </p:blipFill>
        <p:spPr>
          <a:xfrm>
            <a:off x="1600200" y="2971800"/>
            <a:ext cx="71629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762120" y="2514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正面举例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4800600" y="1600200"/>
            <a:ext cx="2666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芦苇—舒畅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细柳—销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孔—满足         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廊、亭—驻足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行人—高潮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形与色—乐曲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7391520" y="195264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不同环境中的多种多样的形式作用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8380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面举例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746748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欠缺配合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4648320" y="4479840"/>
            <a:ext cx="26668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想寻找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构不成图画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—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划断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33" name="Group 16"/>
          <p:cNvGrpSpPr/>
          <p:nvPr/>
        </p:nvGrpSpPr>
        <p:grpSpPr>
          <a:xfrm>
            <a:off x="2666880" y="1600200"/>
            <a:ext cx="2895480" cy="4913640"/>
            <a:chOff x="2666880" y="1600200"/>
            <a:chExt cx="2895480" cy="4913640"/>
          </a:xfrm>
        </p:grpSpPr>
        <p:sp>
          <p:nvSpPr>
            <p:cNvPr id="634" name="Text Box 13"/>
            <p:cNvSpPr/>
            <p:nvPr/>
          </p:nvSpPr>
          <p:spPr>
            <a:xfrm>
              <a:off x="2666880" y="4495680"/>
              <a:ext cx="2743200" cy="20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南京长江大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钱塘江大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成昆铁路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Text Box 15"/>
            <p:cNvSpPr/>
            <p:nvPr/>
          </p:nvSpPr>
          <p:spPr>
            <a:xfrm>
              <a:off x="2666880" y="1600200"/>
              <a:ext cx="2895480" cy="30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故乡乌镇石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江南乡间石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湖 上  长 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山区 风雨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清明上河图虹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小径尽头小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比较本文与《中国石拱桥》一文在表达手法和阅读感受上的不同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拓展迁移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请用上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小桥、流水、人家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”三个词写一段话，最好能用上一两种修辞手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0" y="22860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6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作者简介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99"/>
                </a:solidFill>
                <a:latin typeface="Times New Roman"/>
                <a:ea typeface="黑体"/>
              </a:rPr>
              <a:t>吴冠中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，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919—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江苏宜兴人，中国现代画家，油画代表作有《长江三峡》、《鲁迅的故乡》，中国画有《春雪》、《狮子林》、《长城》。散文作品《吴冠中人生小品》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99"/>
                </a:solidFill>
                <a:latin typeface="Times New Roman"/>
              </a:rPr>
              <a:t>学习目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有感情的朗读课文，理解作者爱桥的原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品味优美而又富有意味的语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学习从某一角度欣赏艺术作品的方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eaeaea"/>
                </a:solidFill>
                <a:latin typeface="Times New Roman"/>
              </a:rPr>
              <a:t>）、</a:t>
            </a:r>
            <a:r>
              <a:rPr b="1" lang="zh-CN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zh-CN" sz="2200" spc="-1" strike="noStrike">
                <a:solidFill>
                  <a:srgbClr val="eaeaea"/>
                </a:solidFill>
                <a:latin typeface="Times New Roman"/>
              </a:rPr>
              <a:t>正音正字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媒介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）  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煞风景（   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） 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和谐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）  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纤细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 ）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销魂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）  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颐和园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）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点缀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）  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摄影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      ）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eaeaea"/>
                </a:solidFill>
                <a:latin typeface="Times New Roman"/>
              </a:rPr>
              <a:t>）、</a:t>
            </a:r>
            <a:r>
              <a:rPr b="1" lang="zh-CN" sz="2200" spc="-1" strike="noStrike">
                <a:solidFill>
                  <a:srgbClr val="eaeaea"/>
                </a:solidFill>
                <a:latin typeface="Times New Roman"/>
              </a:rPr>
              <a:t>理解下列词语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美感：对于美的感受或体会。　　驻足：停止脚步。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煞它风景：破坏人的兴致的意思。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失之毫厘，差之千里：相差虽小而造成的误差或错误极大。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eaeaea"/>
                </a:solidFill>
                <a:latin typeface="Times New Roman"/>
              </a:rPr>
              <a:t>）文章引用或化用的名言诗句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</a:t>
            </a:r>
            <a:r>
              <a:rPr b="0" lang="zh-CN" sz="2200" spc="-1" strike="noStrike" u="sng">
                <a:solidFill>
                  <a:srgbClr val="eaeaea"/>
                </a:solidFill>
                <a:uFillTx/>
                <a:latin typeface="Times New Roman"/>
              </a:rPr>
              <a:t>落霞与孤鹜齐飞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，秋水共长天一色。     王勃 《滕王阁序》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</a:t>
            </a:r>
            <a:r>
              <a:rPr b="0" lang="zh-CN" sz="2200" spc="-1" strike="noStrike" u="sng">
                <a:solidFill>
                  <a:srgbClr val="eaeaea"/>
                </a:solidFill>
                <a:uFillTx/>
                <a:latin typeface="Times New Roman"/>
              </a:rPr>
              <a:t>今宵酒醒何处？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杨柳岸晓风残月。       柳永 《雨 霖 铃》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失之毫厘，</a:t>
            </a:r>
            <a:r>
              <a:rPr b="0" lang="zh-CN" sz="2200" spc="-1" strike="noStrike" u="sng">
                <a:solidFill>
                  <a:srgbClr val="eaeaea"/>
                </a:solidFill>
                <a:uFillTx/>
                <a:latin typeface="Times New Roman"/>
              </a:rPr>
              <a:t>谬以千里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。                                   《易》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　　</a:t>
            </a:r>
            <a:r>
              <a:rPr b="0" lang="zh-CN" sz="2200" spc="-1" strike="noStrike" u="sng">
                <a:solidFill>
                  <a:srgbClr val="eaeaea"/>
                </a:solidFill>
                <a:uFillTx/>
                <a:latin typeface="Times New Roman"/>
              </a:rPr>
              <a:t>枯藤老树昏鸦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，小桥流水人家，古道西风瘦马。夕阳西下，　断肠人在天涯。                  马致远  《天净沙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0" lang="zh-CN" sz="2200" spc="-1" strike="noStrike">
                <a:solidFill>
                  <a:srgbClr val="eaeaea"/>
                </a:solidFill>
                <a:latin typeface="Times New Roman"/>
              </a:rPr>
              <a:t>秋思》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371600" y="1219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99"/>
                </a:solidFill>
                <a:latin typeface="Times New Roman"/>
              </a:rPr>
              <a:t>词语卡片：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92" name="Group 7"/>
          <p:cNvGrpSpPr/>
          <p:nvPr/>
        </p:nvGrpSpPr>
        <p:grpSpPr>
          <a:xfrm>
            <a:off x="2590920" y="1981080"/>
            <a:ext cx="6553080" cy="825480"/>
            <a:chOff x="2590920" y="1981080"/>
            <a:chExt cx="6553080" cy="825480"/>
          </a:xfrm>
        </p:grpSpPr>
        <p:sp>
          <p:nvSpPr>
            <p:cNvPr id="593" name="Text Box 5"/>
            <p:cNvSpPr/>
            <p:nvPr/>
          </p:nvSpPr>
          <p:spPr>
            <a:xfrm>
              <a:off x="2590920" y="198108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  <a:ea typeface="PMingLiU"/>
                </a:rPr>
                <a:t>méi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              shà             xié              xiān</a:t>
              </a:r>
              <a:endParaRPr b="1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2590920" y="228600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xiāo                yí              zhuì              shè</a:t>
              </a:r>
              <a:r>
                <a:rPr b="0" lang="en-US" sz="28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99"/>
                </a:solidFill>
                <a:latin typeface="Times New Roman"/>
                <a:ea typeface="黑体"/>
              </a:rPr>
              <a:t>说明文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是客观的说明事物、阐明事理的一种文体，目的是给读者以科学的知识，科学的认识事物的方法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99"/>
                </a:solidFill>
                <a:latin typeface="Times New Roman"/>
                <a:ea typeface="黑体"/>
              </a:rPr>
              <a:t>常见说明方法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：举例子、作比较、下定义、打比方、分类别、列数字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98" name="Group 8"/>
          <p:cNvGrpSpPr/>
          <p:nvPr/>
        </p:nvGrpSpPr>
        <p:grpSpPr>
          <a:xfrm>
            <a:off x="1981080" y="2362320"/>
            <a:ext cx="6267240" cy="2364480"/>
            <a:chOff x="1981080" y="2362320"/>
            <a:chExt cx="6267240" cy="2364480"/>
          </a:xfrm>
        </p:grpSpPr>
        <p:pic>
          <p:nvPicPr>
            <p:cNvPr id="599" name="Picture 9" descr="清明上河图1"/>
            <p:cNvPicPr/>
            <p:nvPr/>
          </p:nvPicPr>
          <p:blipFill>
            <a:blip r:embed="rId1"/>
            <a:stretch/>
          </p:blipFill>
          <p:spPr>
            <a:xfrm>
              <a:off x="1981080" y="2362320"/>
              <a:ext cx="626724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10"/>
            <p:cNvSpPr/>
            <p:nvPr/>
          </p:nvSpPr>
          <p:spPr>
            <a:xfrm>
              <a:off x="3352680" y="42670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eaeaea"/>
                  </a:solidFill>
                  <a:latin typeface="Times New Roman"/>
                </a:rPr>
                <a:t>《清明上河图》虹桥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602" name="Picture 9" descr="南京长江大桥"/>
          <p:cNvPicPr/>
          <p:nvPr/>
        </p:nvPicPr>
        <p:blipFill>
          <a:blip r:embed="rId1"/>
          <a:stretch/>
        </p:blipFill>
        <p:spPr>
          <a:xfrm>
            <a:off x="1143000" y="1752480"/>
            <a:ext cx="4572000" cy="28958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南京长江大桥1"/>
          <p:cNvPicPr/>
          <p:nvPr/>
        </p:nvPicPr>
        <p:blipFill>
          <a:blip r:embed="rId2"/>
          <a:stretch/>
        </p:blipFill>
        <p:spPr>
          <a:xfrm>
            <a:off x="5638680" y="3809880"/>
            <a:ext cx="3505320" cy="28576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2"/>
          <p:cNvSpPr/>
          <p:nvPr/>
        </p:nvSpPr>
        <p:spPr>
          <a:xfrm>
            <a:off x="2133720" y="5029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南京长江大桥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思      考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、作者是怎样引出“桥”这一话题的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、人们（美术工作者）爱桥的原因是什么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、作者爱桥的原因是什么？作者如何产生这样的感情的呢？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447920" y="2743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用一句俗语“我走过的桥比你走过的路还长”引出“桥”的。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08" name="Group 8"/>
          <p:cNvGrpSpPr/>
          <p:nvPr/>
        </p:nvGrpSpPr>
        <p:grpSpPr>
          <a:xfrm>
            <a:off x="2362320" y="3767040"/>
            <a:ext cx="5943600" cy="1572120"/>
            <a:chOff x="2362320" y="3767040"/>
            <a:chExt cx="5943600" cy="1572120"/>
          </a:xfrm>
        </p:grpSpPr>
        <p:sp>
          <p:nvSpPr>
            <p:cNvPr id="609" name="Text Box 5"/>
            <p:cNvSpPr/>
            <p:nvPr/>
          </p:nvSpPr>
          <p:spPr>
            <a:xfrm>
              <a:off x="2362320" y="3767040"/>
              <a:ext cx="59436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                     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圆的桥洞      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结构美      方的石块     相处和谐 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                     </a:t>
              </a: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弧的桥背 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AutoShape 6"/>
            <p:cNvSpPr/>
            <p:nvPr/>
          </p:nvSpPr>
          <p:spPr>
            <a:xfrm>
              <a:off x="3657600" y="3886200"/>
              <a:ext cx="304920" cy="12193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AutoShape 7"/>
            <p:cNvSpPr/>
            <p:nvPr/>
          </p:nvSpPr>
          <p:spPr>
            <a:xfrm>
              <a:off x="5257800" y="3886200"/>
              <a:ext cx="304920" cy="12193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2" name="Text Box 9"/>
          <p:cNvSpPr/>
          <p:nvPr/>
        </p:nvSpPr>
        <p:spPr>
          <a:xfrm>
            <a:off x="1066680" y="6248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缘于桥在不同环境中的多种多样的形式作用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桥之美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用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并非……也并非……而是……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一组关联词语仿写一个句子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10:39:03Z</dcterms:created>
  <dc:creator>print</dc:creator>
  <dc:description/>
  <dc:language>en-US</dc:language>
  <cp:lastModifiedBy>a</cp:lastModifiedBy>
  <dcterms:modified xsi:type="dcterms:W3CDTF">2015-02-10T11:32:58Z</dcterms:modified>
  <cp:revision>26</cp:revision>
  <dc:subject/>
  <dc:title>桥之美 作者：吴冠中</dc:title>
</cp:coreProperties>
</file>