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4.png" ContentType="image/png"/>
  <Override PartName="/ppt/media/image12.wmf" ContentType="image/x-wmf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8E2E-E990-4BD7-ACD0-F16104C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8D78-F8FD-480D-AD27-EA363E7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CF801-F22F-4B69-8676-07CC1DD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F4E95-0D25-4850-B27A-751FE74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44DA9-78C2-440B-9032-6E8AF07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7721-7A16-41D0-B451-93553C0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677C-042C-48FA-979E-F809CC9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9F3C-BB45-4F55-9337-E5A529A6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9D40-3AB5-42A1-A651-9E9703E3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9A2E7-F951-45D5-8DB2-3340470B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D53F-C2B8-47B0-A02A-21E8EEB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C2983-3450-4378-9C78-EFA8BAF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34089-5B52-42EC-957C-2C7FACA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1471-6617-415D-964C-5278D05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C7E2D-1C35-459A-8760-311CF1BE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7389A-807E-4CC8-BC10-E7B7EAB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1A211-AA2E-4F47-B955-59B52E1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B726A-E7B4-4A53-85B2-285EF3FC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F01DD-3DC2-4C15-9388-A3BF252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2EF9-AB0C-4C40-94F1-0E7064AF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D9765-224E-4D47-B252-9956D3E5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A3CA-579E-4805-918D-639EF332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665C4-C898-4403-BF5D-3DD8C31F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2CF7-4966-48D9-A09D-420BAC7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F39D9-C0A9-4034-9B80-EAF8607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85921-A3A7-4667-93BE-D8965DCC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AD9F-D4FC-474A-89D5-9E0191B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9716C-53D6-497A-AF9D-A96D3F9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09FC3-DA77-4281-9513-DCC503C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7454D-D000-43C6-A979-92F4059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FA2-A9F0-4060-90A6-415A4661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ED21A-82E8-411E-8AF6-4837E6A8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DA2F-8E54-426C-971D-94F1B35F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FAED-A202-45E7-8A5C-E693FC5F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C650-E39C-4D5F-B6E0-6A0A8071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47628-21E9-4090-909E-1A2C8FFB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9966C-69DC-48A3-AD5A-7FB1223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50FB-7D23-4D4F-9669-D3E0255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EED4-3957-439E-84A0-C653007C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9840D-C38E-47A9-9398-53CF18F8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6BAE-4827-47C6-9FD3-A4DA71D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870-9F0B-41CF-80B7-06B8648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3578-1F0D-46B1-8330-4F21E4E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F02D-5356-4B4E-AF15-644F40B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8F46E-A1A5-4D62-AD46-09980C95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0AA5A-BFA6-47E2-9137-35115A94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3E711-2F8F-4B58-BBAD-2F4B23A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EDC5F-FCFC-4EB1-AEF1-7969EE64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EB7AA-AC80-4BF2-AFFB-9E17790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4A8E7-5DD3-44FC-9676-4AEC1880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49353-90F6-45DD-8513-2844D34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4AB59-EE55-4E1C-867A-3D136DA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F06-9DD4-451F-981B-CA27A20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76EB4-3B01-4B59-83C2-68DCA85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D9F18-90B4-4EBD-967F-BB6157A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74B0F-F3E3-412E-B2C1-E519942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173A8-6B92-445B-A6C4-F201A040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104E6-09DE-426F-BCAC-53D4630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85D58-580E-4C1B-8D68-CE772A80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454BB-B513-4A40-B8EE-9C3E8F7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820-B042-4E9F-9CB8-E4DE780C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5C7-B563-4168-AE16-295652C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14F-ED38-4144-BA56-98B89E5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E5D-BD0C-4AB5-8DB3-E8288E5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8E4-2A9D-495D-A66C-AC12F60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9EB-08DA-4D6E-ADED-1B711A5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410-9832-40AE-B7B4-901D63A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3E3-06B4-4AF7-B30C-3719A25A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C1D-C193-43BC-BB47-55E88605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3178-FD7F-4E6A-8312-43759CCE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6D5F-5CD4-4D68-ADCC-010EDA1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49A-BE42-40E8-98E8-906CDDBB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CCE-83C8-443A-849F-22AB4D9B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956-34BE-4763-BECF-ECDA66D7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5F37-0148-4873-9497-2EDEF9A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A37-0120-4968-BDA0-64DC754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BA42-F7BB-4F68-B96F-77F2638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C39-7108-40F8-9BED-8429601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DE83-9A07-48B1-A743-41499D64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6DFB-D070-4126-A529-804E0C4D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3F87-6D73-451D-97DE-70F532D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E981-69F5-4EC3-8F72-AFAA22D0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8B3F-FD4F-4783-BBD5-6AB806E3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F028-B674-476D-9B6A-76D2E74A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04AC-19D8-4335-9B14-318099B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ABD1-F4F5-4887-BF97-9855C77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512B-92ED-452E-ACEB-0860DC4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8380-AD57-4099-9661-BE6328E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267C-B21A-4F17-912A-F4BA394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5C1B-4718-4AAC-A333-FE64D1C2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5EEF-74DF-4B98-AC0B-A958AB1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4C05-4B72-4CC0-9843-2F18AEBC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9671-1297-498D-9462-FA8A746F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AFFD-9866-4FD2-9FE5-11BCCB04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1EE6-0EE0-4D0D-9BB4-5A640C1F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7D69-816A-435E-B5D5-B476BE6E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475B-7AF6-4767-99F6-C33D6F66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5118-9FEB-47DF-977A-49357D0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C472-430F-41C9-A382-4613B1A6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8E80-711F-4AF5-A14A-03F52487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5ED9-DA68-449E-BEA8-701932F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56025-6EA7-4BFB-9BCE-F9578CD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D25A-8343-4FFB-A3B2-F9477DEA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9F1E-166B-4354-9B19-1D8F9EB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52B4-C2C5-4164-BFCA-ABC4AD5E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96C7-A767-48DA-99A8-436BD54B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0969-B8DD-4972-9177-8B9C151B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0D6D5-2929-4A3D-B734-2D61DF4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C5B4-D5A5-4301-B2F2-26C5A835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CFBD1-9AF4-4B52-9629-1725CAE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60A3-BA26-47FD-805F-0D8EC97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1C7B-C16D-4857-B09F-D9F0108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8AFD-9F76-4908-80F9-C00BED3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6B52D-BCF1-4BAA-9B52-40E5512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6CD7-9104-4935-B5D8-CDC9B08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26C0-78C8-4B6D-9100-91AC8617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4B22-9D1A-4B9D-9652-C1C2B338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301A5-7363-46CD-A735-31EE828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4BCD-BB26-41DC-BF18-7B088929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55E4-73CE-41C9-8E16-2E5FDA1A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58F8-0966-4714-8369-E50F4ED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446C-809E-43A0-BE9D-17D4732E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FB31-9A89-4242-8BB6-31A07B86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1DE85-BEB4-4CF6-A35F-FA0E61C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FA46-064E-4D14-8DF2-2FCF94F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F00D-B2F7-49C3-87A9-BD318B8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EA81-F69A-4E2E-9E8B-ED664E1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EBF3-15C2-408A-80C7-10C8E881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F8C0-AC25-4766-BFA7-B5FEF704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C147-FBFD-44BB-A139-FE6F73E1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D883-EDF5-48A1-90C1-AD51E3A7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EC30-709C-4050-82C0-ECFC514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AF55-6442-42F3-BCBA-081EB1F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0A7E-39E7-4130-938A-6B3BC68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8410-C5F0-42E3-8D9E-DEF189B6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706D-E1D9-4990-944A-7660EA7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91E59-231C-46AB-A4EA-2891B1E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2EC8-7055-4555-8654-D6DC0ED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E1CF-0CF9-49A8-91AC-27F6F3E7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F925-208E-46AD-B094-BDD0598B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9732-6002-403C-B848-BB52582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5E33C-FF4E-4F08-AFAF-2812D14D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0E42-8690-4C76-BCC3-E519BDC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9CB0-E602-483B-B235-1CF46B0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2" name="Rectangle 9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5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9" name="Freeform 16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Group 1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3" name="Freeform 20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AutoShape 21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AutoShape 22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AutoShape 23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AutoShape 24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AutoShape 25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AutoShape 26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AutoShape 27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AutoShape 28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AutoShape 29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" name="Text Box 30"/>
          <p:cNvSpPr/>
          <p:nvPr/>
        </p:nvSpPr>
        <p:spPr>
          <a:xfrm>
            <a:off x="6095880" y="6477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  <a:ea typeface="华文楷体"/>
              </a:rPr>
              <a:t>中央电教馆资源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Group 31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25" name="Rectangle 32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33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EFB5-407F-4070-ABE8-D5B7D12139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FE8-DFC9-4778-9058-8D848675B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9922-D095-440D-B643-B7D73F95EB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9C0-85C2-42E7-A7BC-87B4376BB7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095-416C-420E-8A38-989BE8F087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8E8-1013-4846-9A31-2DEEBC492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771-3B52-44CD-BE9C-A7E4637374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E2D-5CFF-4875-BACF-2423E2052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D08-A53B-46A7-8CB7-5AFAD97773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F71-E8A3-43DE-AFE3-83D708CD82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B52-25C9-4C56-8079-7E3F3620D9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879E-15C1-4E3F-BB0C-39CEB1150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EEC-5B08-40FC-A928-F94A3F6F05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3ED1-062A-4267-A915-24157C744E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968-48B2-48BB-A9DB-DE8CEE4ED4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8E74-0E99-4B25-8743-95A980B29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B1A6-5547-4F87-9BDF-958BDFFD2E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38D-CE07-403A-8CDB-5634C5FC4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236-70C1-483D-90C7-E398EF1D85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110-8B84-49DB-9F37-10F2D4DEAB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1569-D9AF-483C-9DE0-3F18ED8928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51A-515B-4751-B2D5-8B36D6D7C5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36E-CBAA-44D3-9902-AC7E08305C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3430-EA14-4435-ACEC-73133D073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1000song.mid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2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6" descr="C:\Documents and Settings\yjl\My Documents\My Pictures\scenery_49.jpg"/>
          <p:cNvPicPr/>
          <p:nvPr/>
        </p:nvPicPr>
        <p:blipFill>
          <a:blip r:embed="rId2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2.wav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"/>
          <p:cNvSpPr/>
          <p:nvPr/>
        </p:nvSpPr>
        <p:spPr>
          <a:xfrm>
            <a:off x="-380880" y="0"/>
            <a:ext cx="95248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28600" y="1219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  <a:ea typeface="宋体"/>
              </a:rPr>
              <a:t> 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阿普顿是美国普林斯顿大学数学系毕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有一次，爱迪生让他测算一只梨形灯泡的容积。于是，他拿起灯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然后加以计算。阿普顿在好几张白纸上写满了密密麻麻的数据和算式，也没算出来。爱迪生等了很长时间，也不见阿普顿报告结果，只见爱迪生取来一大杯水，轻轻地往灯泡里倒满了水，然后把水倒进量筒，几秒钟就量出了水的体积，当然也就等于算出了玻璃灯泡的容积。这时，羞红了脸的阿普顿傻呆呆地站在一旁，恨不得找条地缝钻下去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609480" y="44136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小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2" descr="C:\Documents and Settings\yjl\My Documents\My Pictures\1.gif"/>
          <p:cNvPicPr/>
          <p:nvPr/>
        </p:nvPicPr>
        <p:blipFill>
          <a:blip r:embed="rId2"/>
          <a:stretch/>
        </p:blipFill>
        <p:spPr>
          <a:xfrm>
            <a:off x="0" y="0"/>
            <a:ext cx="10317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14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65" name="Rectangle 8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Rectangle 2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4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572" name="Freeform 25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3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576" name="Freeform 29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AutoShape 30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AutoShape 34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35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AutoShape 36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AutoShape 37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8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49"/>
          <p:cNvGrpSpPr/>
          <p:nvPr/>
        </p:nvGrpSpPr>
        <p:grpSpPr>
          <a:xfrm>
            <a:off x="8153280" y="304920"/>
            <a:ext cx="990720" cy="1523880"/>
            <a:chOff x="8153280" y="304920"/>
            <a:chExt cx="990720" cy="1523880"/>
          </a:xfrm>
        </p:grpSpPr>
        <p:sp>
          <p:nvSpPr>
            <p:cNvPr id="587" name="Rectangle 47"/>
            <p:cNvSpPr/>
            <p:nvPr/>
          </p:nvSpPr>
          <p:spPr>
            <a:xfrm>
              <a:off x="8153280" y="30492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45"/>
            <p:cNvSpPr/>
            <p:nvPr/>
          </p:nvSpPr>
          <p:spPr>
            <a:xfrm>
              <a:off x="8305920" y="38124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54"/>
          <p:cNvGrpSpPr/>
          <p:nvPr/>
        </p:nvGrpSpPr>
        <p:grpSpPr>
          <a:xfrm>
            <a:off x="1523880" y="2133720"/>
            <a:ext cx="6628680" cy="2209320"/>
            <a:chOff x="1523880" y="2133720"/>
            <a:chExt cx="6628680" cy="2209320"/>
          </a:xfrm>
        </p:grpSpPr>
        <p:sp>
          <p:nvSpPr>
            <p:cNvPr id="590" name="Rectangle 55"/>
            <p:cNvSpPr/>
            <p:nvPr/>
          </p:nvSpPr>
          <p:spPr>
            <a:xfrm>
              <a:off x="1839240" y="2354400"/>
              <a:ext cx="6102720" cy="176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6"/>
            <p:cNvSpPr/>
            <p:nvPr/>
          </p:nvSpPr>
          <p:spPr>
            <a:xfrm>
              <a:off x="1523880" y="3900960"/>
              <a:ext cx="420480" cy="442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7"/>
            <p:cNvSpPr/>
            <p:nvPr/>
          </p:nvSpPr>
          <p:spPr>
            <a:xfrm>
              <a:off x="1523880" y="2133720"/>
              <a:ext cx="420480" cy="441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8"/>
            <p:cNvSpPr/>
            <p:nvPr/>
          </p:nvSpPr>
          <p:spPr>
            <a:xfrm>
              <a:off x="7731720" y="3900960"/>
              <a:ext cx="420840" cy="442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59"/>
            <p:cNvSpPr/>
            <p:nvPr/>
          </p:nvSpPr>
          <p:spPr>
            <a:xfrm>
              <a:off x="7731720" y="2133720"/>
              <a:ext cx="420840" cy="441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60"/>
            <p:cNvSpPr/>
            <p:nvPr/>
          </p:nvSpPr>
          <p:spPr>
            <a:xfrm>
              <a:off x="1944360" y="2243520"/>
              <a:ext cx="57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61"/>
            <p:cNvSpPr/>
            <p:nvPr/>
          </p:nvSpPr>
          <p:spPr>
            <a:xfrm>
              <a:off x="1734120" y="2575080"/>
              <a:ext cx="0" cy="13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62"/>
            <p:cNvSpPr/>
            <p:nvPr/>
          </p:nvSpPr>
          <p:spPr>
            <a:xfrm>
              <a:off x="1944360" y="4232520"/>
              <a:ext cx="58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63"/>
            <p:cNvSpPr/>
            <p:nvPr/>
          </p:nvSpPr>
          <p:spPr>
            <a:xfrm>
              <a:off x="8047440" y="2575080"/>
              <a:ext cx="0" cy="13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Text Box 66"/>
          <p:cNvSpPr/>
          <p:nvPr/>
        </p:nvSpPr>
        <p:spPr>
          <a:xfrm>
            <a:off x="2286000" y="2819520"/>
            <a:ext cx="5257800" cy="764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楷体_GB2312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楷体_GB2312"/>
              </a:rPr>
              <a:t>容积和容积单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0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029" descr="C:\Documents and Settings\yjl\My Documents\My Pictures\u=570964172,2928837345&amp;gp=2.jpg"/>
          <p:cNvPicPr/>
          <p:nvPr/>
        </p:nvPicPr>
        <p:blipFill>
          <a:blip r:embed="rId1"/>
          <a:stretch/>
        </p:blipFill>
        <p:spPr>
          <a:xfrm>
            <a:off x="6248520" y="12193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030"/>
          <p:cNvSpPr/>
          <p:nvPr/>
        </p:nvSpPr>
        <p:spPr>
          <a:xfrm>
            <a:off x="304920" y="4572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31"/>
          <p:cNvSpPr/>
          <p:nvPr/>
        </p:nvSpPr>
        <p:spPr>
          <a:xfrm>
            <a:off x="388620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集装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32"/>
          <p:cNvSpPr/>
          <p:nvPr/>
        </p:nvSpPr>
        <p:spPr>
          <a:xfrm>
            <a:off x="7162920" y="4572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冰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033" descr="6-1"/>
          <p:cNvPicPr/>
          <p:nvPr/>
        </p:nvPicPr>
        <p:blipFill>
          <a:blip r:embed="rId2"/>
          <a:srcRect l="3505" t="15445" r="14035" b="9927"/>
          <a:stretch/>
        </p:blipFill>
        <p:spPr>
          <a:xfrm>
            <a:off x="3048120" y="12952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34" descr="C:\Documents and Settings\yjl\My Documents\My Pictures\u=2711249505,539998275&amp;gp=3.jpg"/>
          <p:cNvPicPr/>
          <p:nvPr/>
        </p:nvPicPr>
        <p:blipFill>
          <a:blip r:embed="rId3"/>
          <a:stretch/>
        </p:blipFill>
        <p:spPr>
          <a:xfrm>
            <a:off x="76320" y="1676520"/>
            <a:ext cx="297180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09" name="Rectangle 4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5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16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20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Group 26"/>
          <p:cNvGrpSpPr/>
          <p:nvPr/>
        </p:nvGrpSpPr>
        <p:grpSpPr>
          <a:xfrm>
            <a:off x="8153280" y="228600"/>
            <a:ext cx="990720" cy="1523880"/>
            <a:chOff x="8153280" y="228600"/>
            <a:chExt cx="990720" cy="1523880"/>
          </a:xfrm>
        </p:grpSpPr>
        <p:sp>
          <p:nvSpPr>
            <p:cNvPr id="631" name="Rectangle 27"/>
            <p:cNvSpPr/>
            <p:nvPr/>
          </p:nvSpPr>
          <p:spPr>
            <a:xfrm>
              <a:off x="8153280" y="228600"/>
              <a:ext cx="990720" cy="1523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d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8"/>
            <p:cNvSpPr/>
            <p:nvPr/>
          </p:nvSpPr>
          <p:spPr>
            <a:xfrm>
              <a:off x="8305920" y="30492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3d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Text Box 88"/>
          <p:cNvSpPr/>
          <p:nvPr/>
        </p:nvSpPr>
        <p:spPr>
          <a:xfrm>
            <a:off x="1219320" y="160020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、在括号里填上适当的单位名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一瓶钢笔水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摩托车油箱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一瓶农夫果园的容积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89"/>
          <p:cNvSpPr/>
          <p:nvPr/>
        </p:nvSpPr>
        <p:spPr>
          <a:xfrm>
            <a:off x="6095880" y="2362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60958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91"/>
          <p:cNvSpPr/>
          <p:nvPr/>
        </p:nvSpPr>
        <p:spPr>
          <a:xfrm>
            <a:off x="48610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3"/>
          <p:cNvSpPr/>
          <p:nvPr/>
        </p:nvSpPr>
        <p:spPr>
          <a:xfrm>
            <a:off x="6781680" y="5257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5"/>
          <p:cNvSpPr/>
          <p:nvPr/>
        </p:nvSpPr>
        <p:spPr>
          <a:xfrm>
            <a:off x="914400" y="5335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宋体"/>
              </a:rPr>
              <a:t>试一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96" descr="C:\Documents and Settings\yjl\My Documents\My Pictures\u=3244391978,1749246268&amp;gp=2.jpg"/>
          <p:cNvPicPr/>
          <p:nvPr/>
        </p:nvPicPr>
        <p:blipFill>
          <a:blip r:embed="rId4"/>
          <a:stretch/>
        </p:blipFill>
        <p:spPr>
          <a:xfrm>
            <a:off x="3886200" y="297180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7" descr="C:\Documents and Settings\yjl\My Documents\My Pictures\u=2122981743,421636503&amp;gp=2.jpg"/>
          <p:cNvPicPr/>
          <p:nvPr/>
        </p:nvPicPr>
        <p:blipFill>
          <a:blip r:embed="rId5"/>
          <a:stretch/>
        </p:blipFill>
        <p:spPr>
          <a:xfrm>
            <a:off x="3809880" y="4419720"/>
            <a:ext cx="1270080" cy="838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9" descr="C:\Documents and Settings\yjl\My Documents\My Pictures\u=3521728828,50884117&amp;gp=3.jpg"/>
          <p:cNvPicPr/>
          <p:nvPr/>
        </p:nvPicPr>
        <p:blipFill>
          <a:blip r:embed="rId6"/>
          <a:stretch/>
        </p:blipFill>
        <p:spPr>
          <a:xfrm>
            <a:off x="8112240" y="5029200"/>
            <a:ext cx="103176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050"/>
          <p:cNvSpPr/>
          <p:nvPr/>
        </p:nvSpPr>
        <p:spPr>
          <a:xfrm>
            <a:off x="1295280" y="20574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一种汽车上的油箱，里面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这个油箱可以装汽油多少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051"/>
          <p:cNvSpPr/>
          <p:nvPr/>
        </p:nvSpPr>
        <p:spPr>
          <a:xfrm>
            <a:off x="838080" y="914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考考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053"/>
          <p:cNvSpPr/>
          <p:nvPr/>
        </p:nvSpPr>
        <p:spPr>
          <a:xfrm>
            <a:off x="1143000" y="236232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种汽车上的油箱，里面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，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，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。这个油箱可以装汽油多少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2055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5048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056"/>
          <p:cNvSpPr/>
          <p:nvPr/>
        </p:nvSpPr>
        <p:spPr>
          <a:xfrm>
            <a:off x="23623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宋体"/>
              </a:rPr>
              <a:t>考考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650" name="Rectangle 4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5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6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57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61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Text Box 59"/>
          <p:cNvSpPr/>
          <p:nvPr/>
        </p:nvSpPr>
        <p:spPr>
          <a:xfrm>
            <a:off x="1295280" y="1828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扶拖拉机的油箱，从里面量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，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，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米。这个油箱可以装柴油多少升？每升柴油重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计算，装的柴油重多少千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74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78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>
                  <a:gd name="textAreaLeft" fmla="*/ 27720 w 122040"/>
                  <a:gd name="textAreaRight" fmla="*/ 94320 w 1220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>
                  <a:gd name="textAreaLeft" fmla="*/ 20160 w 84960"/>
                  <a:gd name="textAreaRight" fmla="*/ 64800 w 84960"/>
                  <a:gd name="textAreaTop" fmla="*/ 74520 h 705960"/>
                  <a:gd name="textAreaBottom" fmla="*/ 447480 h 70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>
                  <a:gd name="textAreaLeft" fmla="*/ 28080 w 122400"/>
                  <a:gd name="textAreaRight" fmla="*/ 94320 w 1224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7200 w 2444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74520 h 706680"/>
                  <a:gd name="textAreaBottom" fmla="*/ 447840 h 70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>
                  <a:gd name="textAreaLeft" fmla="*/ 14040 w 61200"/>
                  <a:gd name="textAreaRight" fmla="*/ 47160 w 6120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>
                  <a:gd name="textAreaLeft" fmla="*/ 71280 w 305640"/>
                  <a:gd name="textAreaRight" fmla="*/ 234360 w 30564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>
                  <a:gd name="textAreaLeft" fmla="*/ 29160 w 123120"/>
                  <a:gd name="textAreaRight" fmla="*/ 93960 w 123120"/>
                  <a:gd name="textAreaTop" fmla="*/ 74520 h 706320"/>
                  <a:gd name="textAreaBottom" fmla="*/ 447480 h 70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Rectangle 77"/>
          <p:cNvSpPr/>
          <p:nvPr/>
        </p:nvSpPr>
        <p:spPr>
          <a:xfrm>
            <a:off x="3200400" y="45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5"/>
          <p:cNvSpPr/>
          <p:nvPr/>
        </p:nvSpPr>
        <p:spPr>
          <a:xfrm>
            <a:off x="1295280" y="68580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一个正方体水槽，棱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分米，向水槽中倒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升水后，再把一个鹅卵石放入水中，这时量得水深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仿宋_GB2312"/>
              </a:rPr>
              <a:t>分米，石头的体积是多少立方分米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130" descr="C:\Documents and Settings\yjl\My Documents\My Pictures\u=1651109874,2230947165&amp;gp=0.jpg"/>
          <p:cNvPicPr/>
          <p:nvPr/>
        </p:nvPicPr>
        <p:blipFill>
          <a:blip r:embed="rId2"/>
          <a:stretch/>
        </p:blipFill>
        <p:spPr>
          <a:xfrm>
            <a:off x="762120" y="3733920"/>
            <a:ext cx="2687400" cy="2743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2" descr="C:\Documents and Settings\yjl\My Documents\My Pictures\u=1651109874,2230947165&amp;gp=0.jpg"/>
          <p:cNvPicPr/>
          <p:nvPr/>
        </p:nvPicPr>
        <p:blipFill>
          <a:blip r:embed="rId3"/>
          <a:stretch/>
        </p:blipFill>
        <p:spPr>
          <a:xfrm>
            <a:off x="5181480" y="3657600"/>
            <a:ext cx="2687760" cy="2743200"/>
          </a:xfrm>
          <a:prstGeom prst="rect">
            <a:avLst/>
          </a:prstGeom>
          <a:ln w="0">
            <a:noFill/>
          </a:ln>
        </p:spPr>
      </p:pic>
      <p:sp>
        <p:nvSpPr>
          <p:cNvPr id="692" name="Line 133"/>
          <p:cNvSpPr/>
          <p:nvPr/>
        </p:nvSpPr>
        <p:spPr>
          <a:xfrm>
            <a:off x="838080" y="5410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36"/>
          <p:cNvSpPr/>
          <p:nvPr/>
        </p:nvSpPr>
        <p:spPr>
          <a:xfrm>
            <a:off x="10666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37"/>
          <p:cNvSpPr/>
          <p:nvPr/>
        </p:nvSpPr>
        <p:spPr>
          <a:xfrm>
            <a:off x="1828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8"/>
          <p:cNvSpPr/>
          <p:nvPr/>
        </p:nvSpPr>
        <p:spPr>
          <a:xfrm>
            <a:off x="228600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0"/>
          <p:cNvSpPr/>
          <p:nvPr/>
        </p:nvSpPr>
        <p:spPr>
          <a:xfrm flipV="1">
            <a:off x="3048120" y="487656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1"/>
          <p:cNvSpPr/>
          <p:nvPr/>
        </p:nvSpPr>
        <p:spPr>
          <a:xfrm flipH="1">
            <a:off x="31240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143"/>
          <p:cNvSpPr/>
          <p:nvPr/>
        </p:nvSpPr>
        <p:spPr>
          <a:xfrm>
            <a:off x="6629400" y="5791320"/>
            <a:ext cx="5335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44"/>
          <p:cNvSpPr/>
          <p:nvPr/>
        </p:nvSpPr>
        <p:spPr>
          <a:xfrm>
            <a:off x="54864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45"/>
          <p:cNvSpPr/>
          <p:nvPr/>
        </p:nvSpPr>
        <p:spPr>
          <a:xfrm>
            <a:off x="5334120" y="4800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4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47"/>
          <p:cNvSpPr/>
          <p:nvPr/>
        </p:nvSpPr>
        <p:spPr>
          <a:xfrm>
            <a:off x="563868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48"/>
          <p:cNvSpPr/>
          <p:nvPr/>
        </p:nvSpPr>
        <p:spPr>
          <a:xfrm flipH="1">
            <a:off x="754344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49"/>
          <p:cNvSpPr/>
          <p:nvPr/>
        </p:nvSpPr>
        <p:spPr>
          <a:xfrm flipH="1">
            <a:off x="754344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0"/>
          <p:cNvSpPr/>
          <p:nvPr/>
        </p:nvSpPr>
        <p:spPr>
          <a:xfrm flipH="1">
            <a:off x="754344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52"/>
          <p:cNvSpPr/>
          <p:nvPr/>
        </p:nvSpPr>
        <p:spPr>
          <a:xfrm>
            <a:off x="2590920" y="4800600"/>
            <a:ext cx="3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3"/>
          <p:cNvSpPr/>
          <p:nvPr/>
        </p:nvSpPr>
        <p:spPr>
          <a:xfrm>
            <a:off x="12952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54"/>
          <p:cNvSpPr/>
          <p:nvPr/>
        </p:nvSpPr>
        <p:spPr>
          <a:xfrm>
            <a:off x="30481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56"/>
          <p:cNvSpPr/>
          <p:nvPr/>
        </p:nvSpPr>
        <p:spPr>
          <a:xfrm>
            <a:off x="4952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57"/>
          <p:cNvSpPr/>
          <p:nvPr/>
        </p:nvSpPr>
        <p:spPr>
          <a:xfrm>
            <a:off x="495288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59"/>
          <p:cNvSpPr/>
          <p:nvPr/>
        </p:nvSpPr>
        <p:spPr>
          <a:xfrm flipV="1">
            <a:off x="51055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0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62"/>
          <p:cNvSpPr/>
          <p:nvPr/>
        </p:nvSpPr>
        <p:spPr>
          <a:xfrm>
            <a:off x="41148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26"/>
          <p:cNvSpPr/>
          <p:nvPr/>
        </p:nvSpPr>
        <p:spPr>
          <a:xfrm>
            <a:off x="-228600" y="0"/>
            <a:ext cx="9372600" cy="7086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27"/>
          <p:cNvSpPr/>
          <p:nvPr/>
        </p:nvSpPr>
        <p:spPr>
          <a:xfrm>
            <a:off x="1447920" y="1295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宋体"/>
              </a:rPr>
              <a:t>考考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28"/>
          <p:cNvSpPr/>
          <p:nvPr/>
        </p:nvSpPr>
        <p:spPr>
          <a:xfrm>
            <a:off x="762120" y="2514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种背负式喷雾器，药液箱的容积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升。如果每分钟喷出药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毫升，喷完一箱药液需用多少分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1029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-457200" y="380880"/>
            <a:ext cx="2438280" cy="15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yangjiuling</dc:creator>
  <dc:description/>
  <dc:language>en-US</dc:language>
  <cp:lastModifiedBy>a</cp:lastModifiedBy>
  <dcterms:modified xsi:type="dcterms:W3CDTF">2015-03-17T06:01:08Z</dcterms:modified>
  <cp:revision>176</cp:revision>
  <dc:subject/>
  <dc:title>PowerPoint 演示文稿</dc:title>
</cp:coreProperties>
</file>