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gif" ContentType="image/gif"/>
  <Override PartName="/ppt/media/image6.gif" ContentType="image/gif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C0F-4F26-4E89-B21F-E1FF4716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53F-6FFA-43B4-B385-E822BD4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42658-580A-4D9F-A1CB-3F0A084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D9F9-A1E7-4F81-8B71-E4FEB1EB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A0B8-2935-4DF0-9FD7-998B7EC4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4199E-384C-4A3C-A0C8-DE31EA9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F2119-287F-4245-B5AA-7C9A80F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98AD9-D84E-4EA0-B02A-10DDF82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9D803-E70F-46F4-B566-E897F85D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E60FC-691F-4E45-B0EE-973930D7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459D-CEE5-42E9-BE85-B1BB3EA2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C3051-7233-41C5-8833-5FA245F9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69C-FA3D-40A4-BBCC-93BBCC8D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54598-5403-49B2-8B31-A791CBF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4D821-B8D1-4CF2-B924-0FF16D3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9F7F2-2A28-48F8-9896-809C3EDB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ED43-AF99-48DA-86FD-A861CDB9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A3117-BEC5-4EFA-9825-D28EC21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F25D8-EFEA-4E71-A1DF-958860E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4B9A-7C91-41B1-8E00-2A8005B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C2017-71D8-44D1-803F-490DDA7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D9E02-AF4E-4A92-B474-34FFF4C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1BCAF-3E0B-4E5C-8512-2E7E273F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7A7-BA3C-41A6-BF33-FAB5C54A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BFD41-2657-40EB-BE1A-1495E202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CB61-862D-4215-BE66-7B7D93E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75DC7-00E4-4032-923A-F179D74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AD4A2-8487-4F1B-B4FA-60FC044B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245A-F3A3-4AB5-B16F-8EB1D6C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597A2-9656-4698-BA6A-6A97E36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4621C-7E04-473F-A511-17414EE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A198-D1D6-41AC-8708-4816A87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4938F-9C43-44EC-9448-B6B8203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27E49-EF69-4A1A-9D0D-A618542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982-F427-4BAF-9C0C-02555C2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46AD5-6620-462D-AEFD-47A937C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51124-BD99-47E9-B991-2D099356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4AB4-E212-44EF-8888-B94065C9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CCA57-6048-4C11-B447-CF5E4C53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F805E-88DB-4356-A268-D2FD23D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5E58-3D1C-4568-A86F-BC87B88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49D10-DD51-4B82-8C08-0C7B943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86C6C-4EAA-46C2-A8B0-2197F0B6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F18C-A17A-4DE0-AEB7-4C31F37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42F45-B875-4B39-8BF1-EFF7F26B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933-3D3C-4804-AC13-D4E0B661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330A9-47C9-48C8-B95E-0151681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64BB-1F1A-4020-B058-B6E0F529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AEA2E-E695-4E73-9FB4-02407B5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3FAC3-9F05-40FC-B2DE-E0B2E916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CE59-E1EC-4738-8D1E-C9F7940E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83866-6FF4-444E-A545-4C3DA4CE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8C83E-17AC-4898-9A3F-0717531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EEE62-54E0-4C6B-B606-B1E69D48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05746-E548-4886-B854-59218C01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E6910-B8B8-4C4C-8223-C79E0FE5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A808-B327-40A7-A264-FD34B4F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6B57D-6C9C-4DCB-A23F-15762749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16696-F139-40FF-B216-1F47CA0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D837E-6952-4106-AD3D-D070C7C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8686C-EE79-4E5A-B6AE-74C8F41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F8D55-6A6B-47BA-88B2-D5892D6E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D380D-17F9-43D7-BAC0-053B7D3F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9555C-AA0B-48B5-9DFE-6EBB215E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9E8-44A3-4518-9C0E-E3583EE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5888-54BB-4F39-9952-35F6CF9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006B-1F43-46C5-9A25-896CF785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D41C-AF0A-4F8E-8775-87A08BA8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469-3D85-4339-BFD5-C74520C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6EFA-D53C-498A-A4A7-34A457C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974B-110A-4B02-87D1-D5BB6BF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CE7-655C-4FAA-BBDF-CF8D900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9E6E-251B-4A6F-BFBF-8EF58EBB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3446-1F03-4B54-8FDB-F79D8F8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4A31-1196-4DE2-A13F-1B07E286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9DFD-D6FC-4BEA-8B53-A11F2769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5E35-4927-4585-9595-6A86239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4D48-3836-4D4A-B4FE-40143501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7B24-84B9-4DF2-95E4-7FD8E28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CCB-DD1D-4FA7-8BDB-8CB2D30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6044-A5A2-451C-89F5-C067CBA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5AD7-74EA-4CCD-9ADA-DAC34CE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A7A5-22AA-4CDE-A044-70083E5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8554-0505-4A94-A1F2-84AAE4C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C893-1F55-4F25-A860-E0F297A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4BEE-1AAD-4017-B7DF-E0CDB243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5D1B-8FFC-476B-96D4-412A15BB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7B01-D984-451B-BEEC-968E5214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E59B-1755-4D06-8ED1-BD7CEF7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FDF8-E59B-4740-8498-04F7240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F33-5ED2-45A9-B2C8-9D13034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A797-0000-495E-8B9C-08DC2FF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76B7-1173-457B-9850-84A7E20A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DAF1-EE57-4F06-9840-B5D48D02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6119-255E-4C55-B425-BF5C4CF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1E44-4E31-4A53-B7F4-270C7B9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9ADD-2508-4F74-8E1C-7C70070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BD60-3E88-4E08-93F2-AA204EA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C55C-E2EE-4637-9358-5AADA9D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D3C4-547D-401D-A054-78CF0146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F919-C186-456F-8370-6F9F8EB8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A1D-CA54-4CA7-A93D-F70806CD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E43E-7697-4DB8-B91C-417DF1D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649BC-2897-4837-B4B6-FE39881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D6A1-74F5-4894-AFCF-EAE3EE5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ECEB-D686-4B26-BBC0-2FD49477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415E-8C5F-4730-93FE-8D3F194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DD5F-A2E2-436D-AF3C-4231219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7C20-060A-4BFB-9BD3-14E0319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4867-F386-420D-B784-7552D4D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8861-EE66-4FC9-9079-2C83E6FF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0D6B-0CDE-4C81-B342-AEC6BCE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B45-2A7A-4CB2-A528-7DACC2C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E655-3267-43B0-B45B-A492FD0D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7834-74C0-4873-B626-E9C5D9A5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95AEF-9864-4D94-9340-680C7F6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4311-FDE1-4892-9529-FD5DB081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A87D-71D7-4189-BC16-D114E9CF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F8E7-4EC3-4B09-AE06-95BEDBF4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121A-680D-4C55-A579-385D823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756D-0C58-419F-AA12-2ACDAF1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D3D91-1D19-420E-A805-5931940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750D-6F52-487D-9A2D-171EC22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ABA-FC41-4C50-882D-7496482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7429-BF7A-41EF-82A0-3982C84C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663D7-86E0-4FA2-A60A-B27F21CD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31CD-6BAE-427C-902E-AAC12125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6432-0464-4787-86FC-152C2565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210D-7662-4243-A1E2-BBC1DA4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480A-4178-4443-8171-90C227F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1E7F0-4D57-41F6-8A01-8C06ABD8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E56E9-8AD0-486A-AA68-EF7E831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2621-7159-4FB8-916B-686E382C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52F4-E529-483A-98A8-3C916C5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EBC-24D7-453C-BBC5-79BB604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323EF-5FB7-43DC-A62E-24B612D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4150-5F5E-400A-A365-FBFA142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A762F-16B2-4EFF-A077-7D397B96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2683-78B2-479F-BCB7-182414E6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B37A-FD80-4341-B946-ED9C2F2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CB68-1D2D-4011-B0D3-3AC30B8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7CD8-E0DE-4144-AA0D-C37DF74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7315-56E6-41CD-A173-6DEAD89E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5B464-D944-4945-B06A-3924C935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4124-7B82-4954-AD08-E8607CE9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B88-FB27-485B-8CC7-9917BAC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D1EE6-2128-4E84-BF99-34537F9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423E6-E27C-43F3-89A4-A8F08573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05BEF-6822-4C64-8FDF-E5A533F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8936-B2AC-4F80-932F-1C14660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1FD3-B87B-4B3B-8F35-7763E945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E72BF-41FD-4897-ADA9-DD09AE30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770F-DB29-43CD-8710-E345C4CE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DBC02-FAD9-4965-81BD-502DD6F4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FA24-0944-47EF-AEFA-26B5D39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BE697-4D04-43A4-BB7F-4E834BC7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BA8F-3B3E-412E-97A9-28A62952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294-72CE-435E-894C-337D08AB46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E09-5887-46F8-BC9A-93D3D1C71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4066-BCBC-4247-A479-5ACEA17EFC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6E2-0B9E-41A5-9A5A-9F06273256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AEA7-40D6-4D8E-B615-F0D83B91E8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447E-6EE7-4479-ADC3-F6113CBB46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B89-BAF8-45B0-848F-98CD48ABDD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386-26D6-4041-A2D8-5A58C28C3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93C-E6F8-44F5-A65D-47DD412750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9FD-CBA4-4D4A-8EE1-0406662488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F63-0EED-465B-B1E8-DE3082E3EB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D54-EAAB-4A4C-8A04-7CEB2C9C8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B9B8-FD53-46FC-B482-F86995F0A8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F794-41D4-4569-92E9-5A5C2A561B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09F-F92A-4BF1-AF31-20E4312263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ACB-D43E-46F1-BF17-416173499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3ED-6084-49E7-8737-0CC9A1594C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B86-6014-4256-A228-D1833A1A4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911B-5A9F-4AE0-99AA-0F5BC292FA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228-00DB-40EF-B730-96F243AB23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DDD-2682-4964-99C7-E7029ACBA4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821-19D5-4CC2-B3DB-17F26506B1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827C-4B7C-420F-BF82-4FD917C5EE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2B8-424F-4BC6-8A3F-44C21CB78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1981080" y="1676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</a:rPr>
              <a:t>散   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34120" y="33526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莫怀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685800" y="685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1981080" y="3886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浓 浓 的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亲 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57200" y="173844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文 中 的 词  语、句 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 似               却 传 达 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3048120" y="25909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平 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685800" y="685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819520" y="35053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浓 浓 的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亲 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90920" y="1143000"/>
            <a:ext cx="579096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文 中看似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平 淡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词 语、句 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04920" y="304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圈 划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6" descr="1-47"/>
          <p:cNvPicPr/>
          <p:nvPr/>
        </p:nvPicPr>
        <p:blipFill>
          <a:blip r:embed="rId1"/>
          <a:stretch/>
        </p:blipFill>
        <p:spPr>
          <a:xfrm>
            <a:off x="6324480" y="4300560"/>
            <a:ext cx="2819520" cy="2557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304920" y="33526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体 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a1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"/>
          <p:cNvSpPr/>
          <p:nvPr/>
        </p:nvSpPr>
        <p:spPr>
          <a:xfrm>
            <a:off x="533520" y="152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老师的理解和认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0" y="838080"/>
            <a:ext cx="8534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曲温馨隽永亲情 之歌、伦理之歌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命之歌；展示了家人间浓浓的亲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中年人所肩负的责任感、使命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家人，两对母子，这是世代的延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现了生命“生生不息”的哲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语言看似平淡，却饱含深情，值得体会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066680" y="1143000"/>
            <a:ext cx="6934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在你们的日常生活中，有没有虽平淡，却很生动、有趣儿的词语？想一想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说一说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bear015"/>
          <p:cNvPicPr/>
          <p:nvPr/>
        </p:nvPicPr>
        <p:blipFill>
          <a:blip r:embed="rId1"/>
          <a:stretch/>
        </p:blipFill>
        <p:spPr>
          <a:xfrm>
            <a:off x="586728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1828800" y="2286000"/>
            <a:ext cx="5715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谈 谈 你 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收 获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6" descr="2-346"/>
          <p:cNvPicPr/>
          <p:nvPr/>
        </p:nvPicPr>
        <p:blipFill>
          <a:blip r:embed="rId2"/>
          <a:stretch/>
        </p:blipFill>
        <p:spPr>
          <a:xfrm>
            <a:off x="609480" y="457200"/>
            <a:ext cx="16002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03.mp3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0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WordArt 5"/>
          <p:cNvSpPr txBox="1"/>
          <p:nvPr/>
        </p:nvSpPr>
        <p:spPr>
          <a:xfrm>
            <a:off x="1828800" y="2057400"/>
            <a:ext cx="5562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光临指导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1:54:21Z</dcterms:created>
  <dc:creator/>
  <dc:description>中小学教育资源中心 全心全意为中小学教育服务</dc:description>
  <dc:language>en-US</dc:language>
  <cp:lastModifiedBy>a</cp:lastModifiedBy>
  <dcterms:modified xsi:type="dcterms:W3CDTF">2015-02-10T11:48:22Z</dcterms:modified>
  <cp:revision>12</cp:revision>
  <dc:subject/>
  <dc:title>中小学教育资源站www.edudown.net</dc:title>
</cp:coreProperties>
</file>