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D47-9920-4FB5-AED5-6F138F5B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5FC0-69B4-416B-8AE7-B5E53FBE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F586F-4749-4514-90C1-68F63E8E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E409D-7270-4550-84FA-75A7284F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3CAD3-5E09-4F76-8C81-AD14046F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117D8-BEAD-4014-855F-E8181169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6DC5C-E9F4-4590-AC4B-06F09950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67626-323D-4701-9DBA-D4C8BD14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0869A-F41D-4C6C-A41E-3649764D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C2FD1-68BC-460C-B378-7A5BE08A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697C3-6EBB-4FB0-93EB-9E8ED407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74DC5-10DF-4BD7-B2F9-CADE38EA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963D-27A9-4D07-922B-2FD987BF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36DEE-57A2-4B5B-8EFA-A532A9E5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A0638-ACBD-491F-A020-2BBB8259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5C1EE-61E7-40AC-987C-146266A4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F9F38-BBC3-4FEE-B636-C55CC21A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C9E79-BB94-4C68-95BB-77C01724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845F6-1F7A-4639-9AFA-3B2ED4D7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E6EF9-07DB-4BC0-8F20-051906F7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AF673-FF21-433C-83C9-F44A8FC6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D9B7E-446A-41FD-8166-154484D8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D1D98-9DA2-44D4-9207-41346E8B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7C2-9316-4031-AD5D-B5FB1552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508E1-1F7C-40BE-B5C5-E45278CE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7F9B2-8621-4DD0-81C7-170430D8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D55F3-FB9A-4DFC-A08B-4C8143B2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1AC72-BB1D-4492-A9CA-E0588EFE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B0207-D49F-47F1-BB56-1268A73E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A35A3-57A1-47C0-A2ED-D5218173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AFB58-34CE-4F99-87F0-1F126B4F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8E71D-FB03-4DC2-9FF7-34C933E2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B43C9-5BCF-42E3-BA96-E109D3F5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36240-713B-45CE-ACA3-978E047C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035D-36F3-43E6-A96C-6A348C0D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F6DE0-4665-4DEE-842E-A7838A31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BBDE7-DE2D-4578-9033-355BBED0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BE0DA-1213-4C7D-BB42-DE46A2A2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26D6C-3707-48EB-9F4A-F55FA663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4E6B4-F583-4C52-A384-D877D781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0B1ED-EE2D-43A1-BB13-D804CAC2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E8F9A-185F-4BEE-BA7B-661EF7E2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26938-C00E-4B7A-8D30-F35E7C24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3C9D9-067E-440A-89DE-020B3A71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6AC44-F3BC-4719-A230-12CD9CAA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733E-248F-4621-A654-5B2C2C41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5AE4F-296F-4006-BDF8-852F47CA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0906D-3ED8-4928-B541-F896ADD0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DB05A-849F-40A7-9F59-8502BD32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9FFBF-C241-442B-B1B5-C0C643EF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342C9-5853-465D-A8EE-50C639AE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90C17-2B98-417A-BFE1-A4F0471C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DF0BB5-C75F-438D-B5B2-1D5723D5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F78D2-A830-43C0-A150-55A8A086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777C5-8B86-4ED7-81D4-320D04E5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BE40F9-FAB6-40E0-AD8C-4C5E6E32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5E25-9EE7-429D-8F7E-A5EB8679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FC6CF9-227A-478E-9747-4732C659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F8672-F2F2-4D70-A21E-4190C5A2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51E44-27D9-41A0-A433-B40F40EF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246B2-6121-40CC-8818-0B19BDE4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09DA2-28DC-4073-B94B-6F948CBA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4FB12-96DC-4549-80D9-C80F1328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12C7C-71A7-4D8A-B596-7247A002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96F3-38BC-4943-B94F-3F4803E4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C298-F3F8-4C36-8D9F-D4476BEB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C85E-9745-45AD-8C59-8045F02C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4D0D-D3DF-4783-B0A9-1DDF8971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92A-E499-4C8B-9DAA-9F99D474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9724-5EED-4945-AAFE-6EEFE91F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B28E-C421-476D-B16A-D50CD39C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5BC6-8E2D-494F-BE90-60B54F03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E3C4-5315-4E2A-8512-77D3D212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C43D-DA82-4FAB-8C9F-2A257784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3C8E2-639D-4D20-8E1C-9AD78F81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B9DD7-759F-4A3D-ACD8-1254EF13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A2DD3-880C-454D-97DD-7DDA5960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36A24-0E37-4FE6-AA44-BF1064C4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5FC1B-3542-4B8C-A301-5C1C9271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029-8482-44ED-B158-B9F9255F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53F92-6E18-41A2-84AD-3B0C2B12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195D8-8BD6-4BDF-BBA1-44492124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64001-82B7-4F68-A32C-5F9CE034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B3493-04A9-4982-805C-670C3249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7B6E6-2079-4E97-A0B2-BEB7CDF6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9256E-23C8-4E6E-84E3-AA400E73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58C4B-F03D-4C8D-9D96-91A543FF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98B86-CAC7-42A8-B1ED-B458C785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26D72-DA69-4A74-91E2-C4C3D780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5CD8B-2728-403E-A521-A7841761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B20-22EC-43F8-814A-3A9E758C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787CB-7B93-4C34-8AA9-9DFD06AD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A7E0C-BD8D-4714-9CF1-3481D13F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9F5B7-E496-4AA6-9204-AEE6FA18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93534-5C17-45C9-9404-83650B49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AF1F4-85FD-429F-996B-6A26A085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BDE7A-7736-4F1D-97CB-B8EE36F9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2D4FD-42FF-464F-885E-99B13B7D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427B9-B39B-490C-8CFB-EF352C82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65EDD-12DA-4A8A-A8A0-B3A26E6F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DDD10-A005-4D12-AC3C-83119211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A4CD-488D-40FB-B759-8E9DBA7B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66245-1148-48ED-8860-F9E77C25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D2108-018B-434A-8ED6-F95265B3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BFEDB-AC4C-4D5B-AF38-80568E6B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30D4D-DAC8-4E60-A583-2939FA8F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1256E-F34F-4DCC-BF11-80C7E9D5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815C3-BEF2-40EA-BFD2-859F9BF9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88FDE-CDF6-466A-B859-D0A44FD9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38D8E-6E6C-45AA-A749-73DE6C6C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34D59-DE13-4133-85F0-20C25E85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75C7C-1F77-417D-A3E5-828E7D8F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C257-076A-4D21-8D2E-23DF2607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35FE7-CEE6-46D1-A207-961903E6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999BA-BFFF-4655-96F1-552D1949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D7B85-89C8-4E17-9426-3D53903D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3C3B4-46BC-471C-BEAB-37906517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54659-D397-463B-BB38-D56794C1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7D1C5-21F4-4EDA-BD78-D4071A27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7FA5B-0A11-41DD-BEA4-BB99FC76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AE7C0-19E7-4EC4-9E35-219ADC71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423DC-DDD8-42B3-8246-2C2CF7BC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9A887-0E60-407C-8EC3-6CE00565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C59-BC8F-4FC0-BB9C-1A1F6F18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ECE19-29E8-4194-ABE7-11BA5FAA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461BD-50E6-4A11-AE50-5D6B3CE6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5B750-9D62-49FD-B304-128D737F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0B5B2-A858-4FCC-98B2-EEEBCB38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AD130-0430-4D4D-9DCE-32F4171C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78C5F-C459-47EA-82FB-6874E9D5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DCB19-E280-4CCF-8985-05F78FB9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AE2FB-F5B8-4FC8-AEC1-9AAA0F58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39C5B-A8E6-4C8F-A8DE-17131F43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B3204-2F84-4CC4-B754-8FE73D72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8085-9B4E-4BAA-9B0D-B8728E77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58640-C89E-4B9A-86C8-243003A4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BE610-512D-4647-B4DB-ED502C50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A94B9-F1CF-41FC-9117-64594301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DB646-8EE5-4869-859E-A8183302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32A67-4C40-4479-9A36-8E721136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C850F-E628-443A-A830-CE56A493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61B3A-B874-49B1-9EC4-4D6A1583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298F6-B384-4CED-A9F0-8A8D8955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BCFB9-1DEC-4774-9D19-789F515E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EEFB1-497F-4768-8B09-00E71202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8DF8-66BE-4DDC-811B-5F013E95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D7B2F-03AF-4F66-9082-023384F1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5AFF8-C371-4AFB-BFCF-0A99068E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EBEA9-D09C-426D-BBD3-720BF2A1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D1C13-6A39-49A2-8BF9-C9D32190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7ACC1-BB1B-4898-8960-FDE14E54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69D4B-2F60-4F24-8357-EC0D34C9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3760A-48F9-457C-9BE2-49D0DE1E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7C2BF-12CF-4924-8DE3-A2910D3F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C1831-7B58-493D-A80A-4CFD369F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E11E3-4F80-4572-82E1-157CDA0E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7940-C94B-4816-97DA-D31E58F90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8BC7-BB77-400D-A8F2-37897AFF27E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7F59-C2ED-4DA1-BCF0-6C8D88CE26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DC61-2187-4C3E-BAB0-771FD36D75A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1BD0-3B46-41CB-8352-5555D3ADE4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C340-AF5A-4F5D-B7CD-BE40F3E1743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EC6B-E0A2-4950-A91D-A873AECFB9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3645-7E9C-4468-B4DB-D1A1F28D6E5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CCE4-D002-42B3-BEEB-8059CCD665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F569-4A3D-44C3-84F5-F14393FAA8D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5D36-F93E-4B44-882A-0B926E30DA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5C9C-1DB0-433E-8616-6FECD087291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6C69-C922-4C60-A6BA-C9F6F94B69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4E2B-09DE-4D01-ABBF-B80A7F3235F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6007-0589-4A11-A5D8-9A5992ADC5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CCA3-A608-4DE6-A6E0-E3C2FDAFDD0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3AF2-D44E-4282-8854-51924D0065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41D2-4A88-4BF5-B50A-7B6CCA732D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E0B2-CA9D-4BBB-844D-AC154D11E1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0A2A-618F-4802-B2E6-8890B494E68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085B-BA38-413C-95BD-EBA996AC42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346A-B8D0-4423-9062-A580E9DE410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2B29-A70E-484B-B5F2-AC8D54FBDE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EC16-2DF1-4377-A4E8-1C6F45438ED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9D4F-BBEF-41FD-A69B-B5722ADBB4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E:\李红\图片\2002118172497888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4"/>
          <p:cNvSpPr/>
          <p:nvPr/>
        </p:nvSpPr>
        <p:spPr>
          <a:xfrm>
            <a:off x="3962520" y="2590920"/>
            <a:ext cx="17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宋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WordArt 6"/>
          <p:cNvSpPr txBox="1"/>
          <p:nvPr/>
        </p:nvSpPr>
        <p:spPr>
          <a:xfrm>
            <a:off x="1357200" y="685800"/>
            <a:ext cx="6872400" cy="14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送东阳马生序 </a:t>
            </a:r>
            <a:endParaRPr b="1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WordArt 2" descr=""/>
          <p:cNvPicPr/>
          <p:nvPr/>
        </p:nvPicPr>
        <p:blipFill>
          <a:blip r:embed="rId1"/>
          <a:stretch/>
        </p:blipFill>
        <p:spPr>
          <a:xfrm>
            <a:off x="128520" y="2517840"/>
            <a:ext cx="1949400" cy="212724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3"/>
          <p:cNvSpPr/>
          <p:nvPr/>
        </p:nvSpPr>
        <p:spPr>
          <a:xfrm>
            <a:off x="1371600" y="0"/>
            <a:ext cx="21337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楷体_GB2312"/>
              </a:rPr>
              <a:t>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楷体_GB2312"/>
              </a:rPr>
              <a:t>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 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2895480" y="152280"/>
            <a:ext cx="39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快步走，奔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3157920" y="885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担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2971800" y="1600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向、跟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0" y="4038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到成年时候，更加仰慕古代圣贤的学说，又担心没有大师、名人交游，向他们请教，曾跑到百里之外，捧着经书向当地有名望的前辈请教。那位前辈道德高、声望高，向他求教的学生挤满了屋子，他的言辞态度一直极为严肃。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2971800" y="2438280"/>
            <a:ext cx="32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充塞，挤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WordArt 2" descr=""/>
          <p:cNvPicPr/>
          <p:nvPr/>
        </p:nvPicPr>
        <p:blipFill>
          <a:blip r:embed="rId1"/>
          <a:stretch/>
        </p:blipFill>
        <p:spPr>
          <a:xfrm>
            <a:off x="128520" y="2365200"/>
            <a:ext cx="1949400" cy="212760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3"/>
          <p:cNvSpPr/>
          <p:nvPr/>
        </p:nvSpPr>
        <p:spPr>
          <a:xfrm>
            <a:off x="609480" y="0"/>
            <a:ext cx="71629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侍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〗         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〗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〗           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欣悦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〗           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焉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〗           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卒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5791320" y="228600"/>
            <a:ext cx="2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有时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5867280" y="1676520"/>
            <a:ext cx="19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2732760" y="228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站着陪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2367720" y="990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回答，解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8"/>
          <p:cNvSpPr/>
          <p:nvPr/>
        </p:nvSpPr>
        <p:spPr>
          <a:xfrm>
            <a:off x="6510600" y="914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9"/>
          <p:cNvSpPr/>
          <p:nvPr/>
        </p:nvSpPr>
        <p:spPr>
          <a:xfrm>
            <a:off x="2144160" y="1720800"/>
            <a:ext cx="177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于之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向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1"/>
          <p:cNvSpPr/>
          <p:nvPr/>
        </p:nvSpPr>
        <p:spPr>
          <a:xfrm>
            <a:off x="457200" y="3886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站在他的身边，提出疑难，探问道理，弯着身子，侧着耳朵，恭恭敬敬地求教；有时遇到他的斥责，（我的）态度更加恭顺，礼节更加周到，一句话也不敢辩说；等他高兴了，就又去请教。所以我虽然愚笨，但终于还能够有所收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WordArt 2" descr=""/>
          <p:cNvPicPr/>
          <p:nvPr/>
        </p:nvPicPr>
        <p:blipFill>
          <a:blip r:embed="rId1"/>
          <a:stretch/>
        </p:blipFill>
        <p:spPr>
          <a:xfrm>
            <a:off x="128520" y="2749680"/>
            <a:ext cx="1949400" cy="212076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3"/>
          <p:cNvSpPr/>
          <p:nvPr/>
        </p:nvSpPr>
        <p:spPr>
          <a:xfrm>
            <a:off x="609480" y="46080"/>
            <a:ext cx="457200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僵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2438280" y="95868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僵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1981080" y="1752480"/>
            <a:ext cx="51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缓解过来，暖和过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2534760" y="763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时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2557440" y="26082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热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304920" y="38098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当从师求学的时候，背着书箱，拖着鞋子，走在深山大谷里，冒着严冬凛冽的寒风，踏着几尺深的积雪，脚上皮肤冻裂了（我）还不知道。到了住所，四肢冻僵了不能动弹，服侍的人拿来热水（给我）洗手暖脚，用被子（替我）盖上，很久很久（我）才暖和过来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WordArt 2" descr=""/>
          <p:cNvPicPr/>
          <p:nvPr/>
        </p:nvPicPr>
        <p:blipFill>
          <a:blip r:embed="rId1"/>
          <a:stretch/>
        </p:blipFill>
        <p:spPr>
          <a:xfrm>
            <a:off x="128520" y="2517840"/>
            <a:ext cx="1949400" cy="212724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295280" y="0"/>
            <a:ext cx="4572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绮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2590920" y="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两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2971800" y="16765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绣有彩色花纹的丝织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6"/>
          <p:cNvSpPr/>
          <p:nvPr/>
        </p:nvSpPr>
        <p:spPr>
          <a:xfrm>
            <a:off x="2590920" y="2438280"/>
            <a:ext cx="18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帽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3222000" y="806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给饭吃，动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152280" y="388620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在旅店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旅训主人每天给准备两顿饭，没有新鲜肥美的东西可以享受。跟我同住在旅舍的同学们都穿着华丽的衣服，头戴红缨和宝石装饰的帽子，腰上佩有白玉圈子，左边带着佩刀，右边挂着香袋子。浑身光闪闪的，就像神仙一样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WordArt 2" descr=""/>
          <p:cNvPicPr/>
          <p:nvPr/>
        </p:nvPicPr>
        <p:blipFill>
          <a:blip r:embed="rId1"/>
          <a:stretch/>
        </p:blipFill>
        <p:spPr>
          <a:xfrm>
            <a:off x="128520" y="2212920"/>
            <a:ext cx="1949400" cy="212724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3"/>
          <p:cNvSpPr/>
          <p:nvPr/>
        </p:nvSpPr>
        <p:spPr>
          <a:xfrm>
            <a:off x="1459440" y="0"/>
            <a:ext cx="9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楷体_GB2312"/>
              </a:rPr>
              <a:t>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507680" y="152388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楷体_GB2312"/>
              </a:rPr>
              <a:t>口体之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1491480" y="76212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楷体_GB2312"/>
              </a:rPr>
              <a:t>足乐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3831840" y="7333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足以快乐的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4808880" y="1492200"/>
            <a:ext cx="11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吃的穿的。奉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304920" y="3733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可是我却穿着旧棉袄，破衣衫，生活在他们当中，一点也没有羡慕他们的意思。因为我心中有自己的乐趣，不感到吃的穿的不如他人。我求学时辛勤艰苦的情况大体就是这样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2590920" y="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13" descr="E:\韩秋英\图片\扇面\P1000495_JPG.jpg"/>
          <p:cNvPicPr/>
          <p:nvPr/>
        </p:nvPicPr>
        <p:blipFill>
          <a:blip r:embed="rId1"/>
          <a:stretch/>
        </p:blipFill>
        <p:spPr>
          <a:xfrm>
            <a:off x="0" y="76320"/>
            <a:ext cx="3581280" cy="159516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4"/>
          <p:cNvSpPr/>
          <p:nvPr/>
        </p:nvSpPr>
        <p:spPr>
          <a:xfrm>
            <a:off x="914400" y="304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结构内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15"/>
          <p:cNvSpPr/>
          <p:nvPr/>
        </p:nvSpPr>
        <p:spPr>
          <a:xfrm>
            <a:off x="4267080" y="2362320"/>
            <a:ext cx="152640" cy="3429000"/>
          </a:xfrm>
          <a:custGeom>
            <a:avLst/>
            <a:gdLst>
              <a:gd name="textAreaLeft" fmla="*/ 0 w 152640"/>
              <a:gd name="textAreaRight" fmla="*/ 55080 w 1526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6"/>
          <p:cNvSpPr/>
          <p:nvPr/>
        </p:nvSpPr>
        <p:spPr>
          <a:xfrm>
            <a:off x="4621680" y="2209680"/>
            <a:ext cx="11552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青少年时期求学经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19"/>
          <p:cNvSpPr/>
          <p:nvPr/>
        </p:nvSpPr>
        <p:spPr>
          <a:xfrm>
            <a:off x="1897200" y="1752480"/>
            <a:ext cx="66780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幼时抄书之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成年叩问之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求师奔走之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住读生活之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总括：勤且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9" descr="E:\韩秋英\图片\扇面\P1000495_JPG.jpg"/>
          <p:cNvPicPr/>
          <p:nvPr/>
        </p:nvPicPr>
        <p:blipFill>
          <a:blip r:embed="rId1"/>
          <a:stretch/>
        </p:blipFill>
        <p:spPr>
          <a:xfrm>
            <a:off x="0" y="55440"/>
            <a:ext cx="3124080" cy="139248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4"/>
          <p:cNvSpPr/>
          <p:nvPr/>
        </p:nvSpPr>
        <p:spPr>
          <a:xfrm>
            <a:off x="832680" y="304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讨论探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152280" y="1219320"/>
            <a:ext cx="8839440" cy="53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在求学过程中遇到了哪些困难？他是如何克服的？（可引用原文的词语或者句子回答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困难：无书、无师、家贫（生活艰苦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为什么能克服种种困难，而“卒获有所闻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依靠精神的力量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中有足乐者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写自己艰苦求学的经历的目的是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勉励马生勤奋学习，成为德才兼备的人才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6"/>
          <p:cNvSpPr/>
          <p:nvPr/>
        </p:nvSpPr>
        <p:spPr>
          <a:xfrm>
            <a:off x="76320" y="0"/>
            <a:ext cx="8915400" cy="53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为什么要写同舍生的衣饰豪华的情节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通过对比写自己生活的艰苦，突出学习勤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成年求学时对老师是什么态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态度：毕恭毕敬，不敢出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本文作者勉励马生勤奋学习，并不讲大道理，却直接以自身经历相告，这样写有什么好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自身经历相告，现身说法，晓之以理，动之以情，态度恳切，易于接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ff"/>
                </a:solidFill>
                <a:latin typeface="Times New Roman"/>
                <a:ea typeface="隶书"/>
              </a:rPr>
              <a:t>小资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囊萤映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晋车胤和孙康的学习故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悬梁刺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战国苏秦的学习故事，也叫“头悬梁，锥刺股”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凿壁偷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西汉匡衡的学习故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韦编三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孔子晚年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故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画荻教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欧阳修的学习故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5" descr="E:\韩秋英\图片\扇面\P1000495_JPG.jpg"/>
          <p:cNvPicPr/>
          <p:nvPr/>
        </p:nvPicPr>
        <p:blipFill>
          <a:blip r:embed="rId1"/>
          <a:stretch/>
        </p:blipFill>
        <p:spPr>
          <a:xfrm>
            <a:off x="0" y="76320"/>
            <a:ext cx="3962520" cy="17650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2"/>
          <p:cNvSpPr/>
          <p:nvPr/>
        </p:nvSpPr>
        <p:spPr>
          <a:xfrm>
            <a:off x="762120" y="1752480"/>
            <a:ext cx="7315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理清思路，理解全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理解“以”字的用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学习古人求知若渴，克服艰难困苦勤奋学习的精神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762120" y="45720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030" descr="E:\韩秋英\图片\扇面\P1000495_JPG.jpg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1628640"/>
          </a:xfrm>
          <a:prstGeom prst="rect">
            <a:avLst/>
          </a:prstGeom>
          <a:ln w="0">
            <a:noFill/>
          </a:ln>
        </p:spPr>
      </p:pic>
      <p:pic>
        <p:nvPicPr>
          <p:cNvPr id="540" name="Object 1028" descr=""/>
          <p:cNvPicPr/>
          <p:nvPr/>
        </p:nvPicPr>
        <p:blipFill>
          <a:blip r:embed="rId2"/>
          <a:stretch/>
        </p:blipFill>
        <p:spPr>
          <a:xfrm>
            <a:off x="5943600" y="1676520"/>
            <a:ext cx="2743200" cy="451476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1027"/>
          <p:cNvSpPr/>
          <p:nvPr/>
        </p:nvSpPr>
        <p:spPr>
          <a:xfrm>
            <a:off x="152280" y="201600"/>
            <a:ext cx="5639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宋濂</a:t>
            </a:r>
            <a:r>
              <a:rPr b="1" lang="en-US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(1310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细黑"/>
              </a:rPr>
              <a:t>—</a:t>
            </a:r>
            <a:r>
              <a:rPr b="1" lang="en-US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1381)</a:t>
            </a:r>
            <a:r>
              <a:rPr b="1" lang="zh-CN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，字景濂，号潜溪，谥文宪，浦江</a:t>
            </a:r>
            <a:r>
              <a:rPr b="1" lang="en-US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(</a:t>
            </a:r>
            <a:r>
              <a:rPr b="1" lang="zh-CN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在今浙江义乌县西北</a:t>
            </a:r>
            <a:r>
              <a:rPr b="1" lang="en-US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)</a:t>
            </a:r>
            <a:r>
              <a:rPr b="1" lang="zh-CN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人。明朝初期著名文学家。受业于元末古文大家吴莱、柳贯等，明初主修</a:t>
            </a:r>
            <a:r>
              <a:rPr b="1" lang="en-US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《</a:t>
            </a:r>
            <a:r>
              <a:rPr b="1" lang="zh-CN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元史</a:t>
            </a:r>
            <a:r>
              <a:rPr b="1" lang="en-US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》</a:t>
            </a:r>
            <a:r>
              <a:rPr b="1" lang="zh-CN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，后历任国子司业、侍讲学士，后官至翰林学士承旨，知制诰。学识渊博，工散文，文字简练朴素，与刘基、高启并列为明初诗文三大家。宋濂很受朱元璋器重，为明代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细黑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开国文臣之首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细黑"/>
              </a:rPr>
              <a:t>”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华文细黑"/>
                <a:ea typeface="华文细黑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。平生著作很多，有</a:t>
            </a:r>
            <a:r>
              <a:rPr b="1" lang="en-US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《</a:t>
            </a:r>
            <a:r>
              <a:rPr b="1" lang="zh-CN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宋学士文集</a:t>
            </a:r>
            <a:r>
              <a:rPr b="1" lang="en-US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》</a:t>
            </a:r>
            <a:r>
              <a:rPr b="1" lang="zh-CN" sz="3200" spc="-1" strike="noStrike">
                <a:solidFill>
                  <a:srgbClr val="000066"/>
                </a:solidFill>
                <a:latin typeface="华文细黑"/>
                <a:ea typeface="华文细黑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029"/>
          <p:cNvSpPr/>
          <p:nvPr/>
        </p:nvSpPr>
        <p:spPr>
          <a:xfrm>
            <a:off x="6248520" y="3808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E:\韩秋英\图片\扇面\P1000495_JPG.jpg"/>
          <p:cNvPicPr/>
          <p:nvPr/>
        </p:nvPicPr>
        <p:blipFill>
          <a:blip r:embed="rId1"/>
          <a:stretch/>
        </p:blipFill>
        <p:spPr>
          <a:xfrm>
            <a:off x="0" y="76320"/>
            <a:ext cx="3429000" cy="152712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2"/>
          <p:cNvSpPr/>
          <p:nvPr/>
        </p:nvSpPr>
        <p:spPr>
          <a:xfrm>
            <a:off x="685800" y="3048840"/>
            <a:ext cx="76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写于洪武十一年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7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这一年，辞官归里的宋濂又从家乡到应天府（今江苏省南京市，当时是国都）朝见朱元璋。他的同乡晚辈马君则来拜见他，他便写了这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赠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给东阳马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369800" y="2728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解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026"/>
          <p:cNvSpPr/>
          <p:nvPr/>
        </p:nvSpPr>
        <p:spPr>
          <a:xfrm>
            <a:off x="533520" y="5335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序，文体名。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本文是一篇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赠序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赠序是古代的一种文体，其中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并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序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而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赠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作为文章的体裁，序有书序和赠序之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书序，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即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序言，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相当于前言后记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。赠序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多为推重、赞许或勉励之辞。它与书序的性质不同，为文人之间的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赠言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本文即属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东阳，在今浙江省，当时与浦江、义乌等县同属金华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Object 1027" descr=""/>
          <p:cNvPicPr/>
          <p:nvPr/>
        </p:nvPicPr>
        <p:blipFill>
          <a:blip r:embed="rId1"/>
          <a:stretch/>
        </p:blipFill>
        <p:spPr>
          <a:xfrm>
            <a:off x="7620120" y="5541840"/>
            <a:ext cx="15238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5" descr="E:\韩秋英\图片\扇面\P1000495_JPG.jpg"/>
          <p:cNvPicPr/>
          <p:nvPr/>
        </p:nvPicPr>
        <p:blipFill>
          <a:blip r:embed="rId1"/>
          <a:stretch/>
        </p:blipFill>
        <p:spPr>
          <a:xfrm>
            <a:off x="0" y="76320"/>
            <a:ext cx="2819520" cy="1255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2"/>
          <p:cNvSpPr/>
          <p:nvPr/>
        </p:nvSpPr>
        <p:spPr>
          <a:xfrm>
            <a:off x="1366920" y="-105120"/>
            <a:ext cx="7777080" cy="76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嗜（       ）                硕（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叱咄（              ）     俟（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负箧（      ）曳（      ）屣（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皲（      ）裂             媵（         ）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衾（       ）                绮（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容臭（       ）            烨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缊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2514600" y="1371600"/>
            <a:ext cx="95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304920" y="3049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舒体"/>
              </a:rPr>
              <a:t>读准字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2743200" y="1981080"/>
            <a:ext cx="22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ì  du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6248520" y="1371600"/>
            <a:ext cx="14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u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6400800" y="198108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2819520" y="259092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i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4800600" y="2514600"/>
            <a:ext cx="16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6705720" y="2514600"/>
            <a:ext cx="13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514600" y="3124080"/>
            <a:ext cx="15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ū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6172200" y="3124080"/>
            <a:ext cx="13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ì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6324480" y="3581280"/>
            <a:ext cx="12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2438280" y="3657600"/>
            <a:ext cx="13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ī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2895480" y="42670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i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16"/>
          <p:cNvSpPr/>
          <p:nvPr/>
        </p:nvSpPr>
        <p:spPr>
          <a:xfrm>
            <a:off x="6400800" y="4267080"/>
            <a:ext cx="12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2514600" y="4876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ù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9" descr="E:\韩秋英\图片\扇面\P1000495_JPG.jpg"/>
          <p:cNvPicPr/>
          <p:nvPr/>
        </p:nvPicPr>
        <p:blipFill>
          <a:blip r:embed="rId1"/>
          <a:stretch/>
        </p:blipFill>
        <p:spPr>
          <a:xfrm>
            <a:off x="0" y="76320"/>
            <a:ext cx="3124080" cy="139212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2"/>
          <p:cNvSpPr/>
          <p:nvPr/>
        </p:nvSpPr>
        <p:spPr>
          <a:xfrm>
            <a:off x="380880" y="36504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翻译课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371600"/>
            <a:ext cx="457200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〗 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1981080" y="144792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喜欢，爱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2438280" y="281952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常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4359240" y="220968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知从何处。这里指没有办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57200" y="456876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小时就爱好读书。家里穷，没有办法找到书来读，常向有书的人家去借，（借来）就亲手抄写，计算着日子（按时）归还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WordArt 8" descr=""/>
          <p:cNvPicPr/>
          <p:nvPr/>
        </p:nvPicPr>
        <p:blipFill>
          <a:blip r:embed="rId2"/>
          <a:stretch/>
        </p:blipFill>
        <p:spPr>
          <a:xfrm>
            <a:off x="128520" y="3279600"/>
            <a:ext cx="1949400" cy="21276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10"/>
          <p:cNvSpPr/>
          <p:nvPr/>
        </p:nvSpPr>
        <p:spPr>
          <a:xfrm>
            <a:off x="3124080" y="35053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3124080" y="3505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亲手。  用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WordArt 2" descr=""/>
          <p:cNvPicPr/>
          <p:nvPr/>
        </p:nvPicPr>
        <p:blipFill>
          <a:blip r:embed="rId1"/>
          <a:stretch/>
        </p:blipFill>
        <p:spPr>
          <a:xfrm>
            <a:off x="360360" y="2749680"/>
            <a:ext cx="1949400" cy="21207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838080" y="0"/>
            <a:ext cx="4572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弗之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2438280" y="380880"/>
            <a:ext cx="56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跑，引伸为“赶快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3200400" y="13716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否定句代词作宾语前置  之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抄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533520" y="41911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有时）天气很冷，砚池里（的水）结成很硬的冰，手指（冻僵）不能弯曲和伸直，也不（因此有所）放松。抄完，赶快送还，不敢稍稍超过期限。因此，人家多愿意把书借给我，我因此能够看到各种各样的书籍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3:03:59Z</dcterms:created>
  <dc:creator>hanqy</dc:creator>
  <dc:description/>
  <dc:language>en-US</dc:language>
  <cp:lastModifiedBy>a</cp:lastModifiedBy>
  <dcterms:modified xsi:type="dcterms:W3CDTF">2015-02-09T03:21:17Z</dcterms:modified>
  <cp:revision>21</cp:revision>
  <dc:subject/>
  <dc:title>PowerPoint 演示文稿</dc:title>
</cp:coreProperties>
</file>