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15.jpeg" ContentType="image/jpeg"/>
  <Override PartName="/ppt/media/image9.gif" ContentType="image/gif"/>
  <Override PartName="/ppt/media/image14.gif" ContentType="image/gif"/>
  <Override PartName="/ppt/media/type.wav" ContentType="audio/x-wav"/>
  <Override PartName="/ppt/media/image13.png" ContentType="image/pn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50F-5B0F-404E-B69F-C9350C59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8C0-DE75-40BE-8CBD-87EE9C49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848C-CA5D-4FFB-A1F5-625D7409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EC1EF-DE33-422B-B50C-102DAE16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13FFC-0230-4856-B420-2BCE154B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C0D46-2C22-4E27-BB86-948CF0C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A5717-C766-4498-9599-D022032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20CE3-02C8-4849-AB23-5F49412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71787-5800-455A-B75E-8DA43CB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2ECBB-FFF4-40AF-A39C-861741A3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EF33A-0EDD-4C3E-8110-3A75219D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A233-2245-4123-80A1-A57F3E4C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3F7-F806-41A2-9E9E-95899298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713F2-5764-47C4-B4C4-7E1FDBA8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C393E-7093-46F8-8D86-2B80FC27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A293C-E7CF-4F4E-9DCC-8CE2616C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846F6-E591-4C8C-8D6E-C6F3F3BD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4B1BE-89C5-4F4B-8BB3-8EDCC156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4DAAD-814F-413B-8065-A97EDE8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9809A-A00B-48E9-BB2C-2AFD3C1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EF987-376C-4CC3-B67F-67F76F33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CA0F6-9430-40FD-A9E8-3C8739BA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0F48-2F15-4D9F-9228-677096D7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D95-E1C1-4760-B327-AC50B22E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30C21-0BA2-451A-A30B-E5363D5D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4EB77-266D-43C2-87D1-5A1EABD1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37448-E074-4C9E-BB51-0D6B95EE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240EA-3E11-45B3-95C6-49D78C4C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8C3FA-101B-40D0-821A-957BE79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16CEE-8083-4238-9736-88EE828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D4957-D00D-4B05-84D7-D4A4C88A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876E3-2977-4428-B65D-0ACBAD2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5CF8-7745-4F01-8E44-B56770E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D006F-BEDF-4961-AE14-65C88CA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9890-B122-4D0D-9832-884A902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4E9F9-E322-48C2-96BA-77E629B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3F9E9-369B-4082-9A34-595AB67B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310EB-6818-4AB3-8EC7-3DA339E4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62472-4336-497F-9C1A-91020A09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C1C41-9DEB-4110-BF4A-CD47972E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F8908-CDF3-4F4A-8BFA-4F1870D8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62E25-8D4F-43EF-A394-5FD4F596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56F73-4D42-4962-851B-3AA79A7C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61080-137E-489F-B6AC-DBD8F88F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B9CC9-F748-48F3-A0E4-1E5C8BC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9AF2-A3CC-4876-A888-B84A9A0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827F7-004A-420F-9617-35CBDC5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64071-00D7-46E9-9FB4-CAF8CD47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96B45-773C-49DC-8AFA-2B9753C4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E193D-9171-4E3C-99A7-663582BA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480F4-BC10-495E-9408-C38F1E6A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01027-E8DF-4195-AB59-9F330CC1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F9803-50CD-4C9C-9C9C-1D5FEEB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02C47-3C83-41AB-A8D0-2A49CFC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2B9FA-1E46-4A54-9E07-819A351D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55002-7988-41F9-A764-7AF82C91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0519-1FD1-4274-85D8-B80268D3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2CECA-798C-4787-9B1F-F5E4D898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8EFD6-90BF-43D2-BAB8-06AB077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4CE5B-017D-4D32-97C7-7F3BEFE5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EAAF3-2270-43D9-AE49-41C554C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926B3-C6F2-4641-B4BB-29E7F58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37C80-728F-47C2-B202-811D1D0D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ED7D4-2AA6-4D98-8149-4E00F47C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FBC8-0183-486D-8D32-181D91C6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7DF-8786-4ED2-B129-081303C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A8F9-1EC1-40B1-85C8-63C17DC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FB61-C680-4581-94A0-C06D4EF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251-6DC4-4EA0-8196-1090148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B29-84D3-4276-B4B3-69FB08F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103-F800-4207-A304-48D476D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6811-E615-4908-A2F3-3549ED8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5F5A-53FA-43F5-8277-A9ADF5C6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9C30-C095-4D95-BE46-691A0C09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33EB-4D16-4C74-A640-6896056E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74E5-37CD-41DD-BD27-0201933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BC53-6B49-4476-A2A0-4B2E77F7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9A54-98BA-462A-9C4E-F088849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B042-40E5-4CDE-822F-CF4A252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053-03AE-4F9E-A2E1-154C1E9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D186-F2E2-4001-9D54-3D0058FA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1C0F-81B4-4126-9E8A-090A679B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F7E2-83D1-4125-B38F-C641238B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0D2D-783C-4AAE-A070-EAA5B53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EC2B-B17E-48ED-A956-2B55F98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ECC4-08E0-4FA3-94A5-C2BD053D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71EB-8AE2-44E0-AA7D-724FF456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22EC-1D18-4EAD-B17C-A1A4373F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5687-7E84-4F5C-AB1A-815A13E3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D422-4139-465A-A58E-E24C1C5D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730-F04C-41A5-B02E-1FC79F1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7FC5-8015-4CA8-A482-9BE7509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6796-D591-450E-8EC1-8FF62223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F709-BC3E-41FE-AB90-C31CF2B4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B572-6DD4-4986-8751-3B9803F0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D9C0-E3DA-4046-AEC2-C89AAE2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E33E-3264-44D5-B6AD-9795545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1182-B118-48C8-ACFE-ECCFED6A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1F12-3C33-4F2C-B33A-29AC5D6C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028B-0DDD-4F62-99B1-70F88200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5883-377F-4FD3-837C-C62DEA6C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7D5-5AD1-415E-AD2B-E3D52D69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352B-E6DB-4A30-A11A-C01789EE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66A0-84DE-4FD9-8534-4542487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CCC2-7AEB-4279-8269-6B8205B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F7AA-1113-44E7-B2E3-400B4CD9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3B04-F322-4D43-B382-BEB9441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95434-E9CB-4101-997B-76ECEA7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C5598-0B1A-423C-8F7C-A45FEB8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4123-FDEF-4E9A-AD62-D59426B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C33C-D156-4286-B7A6-BF36A959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0D76-C65E-4312-86C8-A90FA2F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D9F-CB17-4AD0-B80D-9666205F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2534-B7A9-44AE-8C2C-5ECD79FE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2EE1E-A094-4CED-83A0-F9E5BBB4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2A38-51C0-47D2-B1F4-C53DF14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8F5D-5CC8-4C6C-B94F-90D2799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9183-8EC6-442A-B37A-A0419DD6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EE17-A99C-4C5D-90D4-2FA11E64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4051-D879-47E9-BD0F-FB895AC8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8FB7-2436-411F-9161-AE9D0C3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19319-9DA8-4DDB-9B75-308B394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E5DFF-A31C-4357-948F-5E85F71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10F-4E2E-4954-9047-65FA4C3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91F6-0AC1-4449-92BF-875AC9A5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D131-B080-4619-8595-577EA1A6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851B-0401-4657-A1B9-2FD0A340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6F46E-46C7-43F8-9836-9E47ADCC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5E87B-7AD1-4C03-AFBB-4314D1E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8811-5B37-47A4-9683-7C8D94DD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4D62-6D99-4402-8AC3-BD36555C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DAC56-09AB-4352-B6E4-AD0C908E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868A-F908-4647-B645-9D5F990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6DD73-C6DA-427E-9A0C-FF0FF246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E29-6854-4BD3-B7AD-ECA35EF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EF94-2488-4C8A-8058-F42EC9C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9D33-C6EC-447A-8C33-664D73FC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6BFF-CBF9-4BB1-9985-5B892E7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D89C-D28F-4AF6-8BD4-38438BD5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EA7B-24D1-4F3E-8631-806A49AD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D107A-24C1-4678-A98F-BD1C1A58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56F83-C66B-4AC2-89EA-F58DBB3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B8053-8101-4A68-B168-C50A86C5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C624-9449-449B-8BAA-9622AF8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A5C6-081D-4C4E-A081-21ADF4C8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6A0-EE44-4F26-97D4-5D93CC46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C224-0638-48FE-AB65-27254427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F0FD0-013F-4A14-A291-04BD856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C01E-D7FF-4CE9-AA5C-960EF0E7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72721-0EF1-4025-98DE-61C57C27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F83C-EB52-414F-AEAF-AEBE8F01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4DAA6-6E70-4009-8056-5F080C05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ECE4A-AF88-472B-B4B1-CA86F3BA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E86D-5C7F-4FA7-BCC7-E4A5AEA5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78CDA-F109-4F4F-AD77-DFED8B63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C9C31-17B0-4C36-9035-26717834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1AB-2093-4256-873F-E73F3E01C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7789-EFBF-456D-81F2-76E1BC5D7F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66E9-1CAC-4E0A-AEA0-1FDCB1C18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210-09AB-4BBA-83C6-649E6A621E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2ECA-D760-401D-92F1-2117AA5622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75E-7808-455E-9640-341D0F4661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510-7BFD-477E-87BC-923312CE3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5B3-233D-47C3-A277-8036799AB4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44D4-E67A-4811-A438-4CF14C6AA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E25-61CF-4A22-9984-14203E6BF2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37E-2E5F-4D06-9505-5CACA9B6C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F25C-A25D-42AB-98EF-AAA8D7E795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B8DD-E8EF-42CF-91A2-DCEE35841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56E-A2BD-41D7-8702-F930232A6A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534C-3C07-492F-A221-0FC058BA0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3103-7B87-49AA-B1C2-A82F8BBF93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7DC-B606-4C7A-9969-DB553D55C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8A9-2F9C-4D16-A476-5B75E8F903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E94D-8308-4CC5-9BAB-B5B105D2D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3EA-8260-43D0-9D48-550256341A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24A-C094-4926-9617-D07C6B61E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9B7D-8F90-4A06-8FE3-326CA33C06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40D-2D20-4318-AB84-F03A76693A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73DC-D99F-4E67-95D6-0F10B175DE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42C-51AF-4CB6-B0DB-FBCE689FA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gif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2195640" y="170028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ff"/>
                </a:solidFill>
                <a:latin typeface="Arial"/>
                <a:ea typeface="华文行楷"/>
              </a:rPr>
              <a:t>稍复杂的方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归纳总结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1116000" y="1557360"/>
            <a:ext cx="698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今天这节课你学到了什么知识？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29" name="Group 9"/>
          <p:cNvGrpSpPr/>
          <p:nvPr/>
        </p:nvGrpSpPr>
        <p:grpSpPr>
          <a:xfrm>
            <a:off x="8305920" y="6324480"/>
            <a:ext cx="838080" cy="533520"/>
            <a:chOff x="8305920" y="6324480"/>
            <a:chExt cx="838080" cy="533520"/>
          </a:xfrm>
        </p:grpSpPr>
        <p:pic>
          <p:nvPicPr>
            <p:cNvPr id="630" name="Picture 10" descr="D_020"/>
            <p:cNvPicPr/>
            <p:nvPr/>
          </p:nvPicPr>
          <p:blipFill>
            <a:blip r:embed="rId3"/>
            <a:stretch/>
          </p:blipFill>
          <p:spPr>
            <a:xfrm>
              <a:off x="8610840" y="632448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1">
              <a:hlinkClick r:id="" action="ppaction://hlinkshowjump?jump=endshow"/>
              <a:hlinkClick r:id="rId4"/>
            </p:cNvPr>
            <p:cNvSpPr/>
            <p:nvPr/>
          </p:nvSpPr>
          <p:spPr>
            <a:xfrm>
              <a:off x="8305920" y="6324480"/>
              <a:ext cx="304920" cy="52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611280" y="42775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鸡有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  <a:ea typeface="华文楷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母鸡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比公鸡只数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。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21"/>
          <p:cNvGrpSpPr/>
          <p:nvPr/>
        </p:nvGrpSpPr>
        <p:grpSpPr>
          <a:xfrm>
            <a:off x="324000" y="523800"/>
            <a:ext cx="6408720" cy="1034280"/>
            <a:chOff x="324000" y="523800"/>
            <a:chExt cx="6408720" cy="1034280"/>
          </a:xfrm>
        </p:grpSpPr>
        <p:sp>
          <p:nvSpPr>
            <p:cNvPr id="536" name="Text Box 5"/>
            <p:cNvSpPr/>
            <p:nvPr/>
          </p:nvSpPr>
          <p:spPr>
            <a:xfrm>
              <a:off x="324000" y="523800"/>
              <a:ext cx="374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一、解下列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6"/>
            <p:cNvSpPr/>
            <p:nvPr/>
          </p:nvSpPr>
          <p:spPr>
            <a:xfrm>
              <a:off x="5005440" y="1098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y</a:t>
              </a:r>
              <a:r>
                <a:rPr b="1" lang="zh-CN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－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4=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7"/>
            <p:cNvSpPr/>
            <p:nvPr/>
          </p:nvSpPr>
          <p:spPr>
            <a:xfrm>
              <a:off x="1333800" y="1098360"/>
              <a:ext cx="17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</a:t>
              </a:r>
              <a:r>
                <a:rPr b="1" lang="en-US" sz="2400" spc="-1" strike="noStrike">
                  <a:solidFill>
                    <a:srgbClr val="333399"/>
                  </a:solidFill>
                  <a:latin typeface="Lucida Calligraphy"/>
                  <a:ea typeface="隶书"/>
                </a:rPr>
                <a:t>x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=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 Box 9"/>
          <p:cNvSpPr/>
          <p:nvPr/>
        </p:nvSpPr>
        <p:spPr>
          <a:xfrm>
            <a:off x="250920" y="1531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147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1405080" y="1963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3780000" y="1531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34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71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5437080" y="1963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=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395280" y="3701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二、根据下面叙述说说相等关系，并写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684360" y="490680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684360" y="548316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鸡的只数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684360" y="605808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6013440" y="490680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6013440" y="548316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0"/>
          <p:cNvSpPr/>
          <p:nvPr/>
        </p:nvSpPr>
        <p:spPr>
          <a:xfrm>
            <a:off x="6013440" y="605808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23"/>
          <p:cNvSpPr txBox="1"/>
          <p:nvPr/>
        </p:nvSpPr>
        <p:spPr>
          <a:xfrm>
            <a:off x="6084720" y="549360"/>
            <a:ext cx="18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349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×49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47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5"/>
          <p:cNvSpPr/>
          <p:nvPr/>
        </p:nvSpPr>
        <p:spPr>
          <a:xfrm>
            <a:off x="3995640" y="2313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05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4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71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9"/>
          <p:cNvSpPr/>
          <p:nvPr/>
        </p:nvSpPr>
        <p:spPr>
          <a:xfrm>
            <a:off x="4017960" y="654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7093080" y="62064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三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9"/>
          <p:cNvGrpSpPr/>
          <p:nvPr/>
        </p:nvGrpSpPr>
        <p:grpSpPr>
          <a:xfrm>
            <a:off x="1187280" y="5443200"/>
            <a:ext cx="5977080" cy="1191240"/>
            <a:chOff x="1187280" y="5443200"/>
            <a:chExt cx="5977080" cy="1191240"/>
          </a:xfrm>
        </p:grpSpPr>
        <p:sp>
          <p:nvSpPr>
            <p:cNvPr id="557" name="Rectangle 8"/>
            <p:cNvSpPr/>
            <p:nvPr/>
          </p:nvSpPr>
          <p:spPr>
            <a:xfrm>
              <a:off x="1187280" y="5443200"/>
              <a:ext cx="295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解：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12×2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4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（块）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"/>
            <p:cNvSpPr/>
            <p:nvPr/>
          </p:nvSpPr>
          <p:spPr>
            <a:xfrm>
              <a:off x="3780000" y="616464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答：共有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块白色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3"/>
          <p:cNvSpPr/>
          <p:nvPr/>
        </p:nvSpPr>
        <p:spPr>
          <a:xfrm>
            <a:off x="3635280" y="620640"/>
            <a:ext cx="2521080" cy="1035000"/>
          </a:xfrm>
          <a:prstGeom prst="wedgeRoundRectCallout">
            <a:avLst>
              <a:gd name="adj1" fmla="val 7555"/>
              <a:gd name="adj2" fmla="val 147240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黑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白色皮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6443640" y="1341360"/>
            <a:ext cx="2627280" cy="1035000"/>
          </a:xfrm>
          <a:prstGeom prst="wedgeRoundRectCallout">
            <a:avLst>
              <a:gd name="adj1" fmla="val -8550"/>
              <a:gd name="adj2" fmla="val 103375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5"/>
          <p:cNvSpPr/>
          <p:nvPr/>
        </p:nvSpPr>
        <p:spPr>
          <a:xfrm>
            <a:off x="0" y="3933720"/>
            <a:ext cx="1657440" cy="792360"/>
          </a:xfrm>
          <a:prstGeom prst="wedgeRoundRectCallout">
            <a:avLst>
              <a:gd name="adj1" fmla="val 39560"/>
              <a:gd name="adj2" fmla="val -9989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白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637236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378000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1401840" y="4976640"/>
            <a:ext cx="18730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20"/>
          <p:cNvGrpSpPr/>
          <p:nvPr/>
        </p:nvGrpSpPr>
        <p:grpSpPr>
          <a:xfrm>
            <a:off x="179280" y="836640"/>
            <a:ext cx="3311640" cy="581400"/>
            <a:chOff x="179280" y="836640"/>
            <a:chExt cx="3311640" cy="581400"/>
          </a:xfrm>
        </p:grpSpPr>
        <p:sp>
          <p:nvSpPr>
            <p:cNvPr id="566" name="Text Box 21"/>
            <p:cNvSpPr/>
            <p:nvPr/>
          </p:nvSpPr>
          <p:spPr>
            <a:xfrm>
              <a:off x="179280" y="8366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2"/>
            <p:cNvSpPr/>
            <p:nvPr/>
          </p:nvSpPr>
          <p:spPr>
            <a:xfrm>
              <a:off x="1906560" y="8838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3" descr="ball2"/>
          <p:cNvPicPr/>
          <p:nvPr/>
        </p:nvPicPr>
        <p:blipFill>
          <a:blip r:embed="rId4"/>
          <a:stretch/>
        </p:blipFill>
        <p:spPr>
          <a:xfrm rot="10800000">
            <a:off x="3676680" y="2852280"/>
            <a:ext cx="750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70" name="Group 8"/>
          <p:cNvGrpSpPr/>
          <p:nvPr/>
        </p:nvGrpSpPr>
        <p:grpSpPr>
          <a:xfrm>
            <a:off x="108000" y="1481040"/>
            <a:ext cx="3311640" cy="581400"/>
            <a:chOff x="108000" y="1481040"/>
            <a:chExt cx="3311640" cy="581400"/>
          </a:xfrm>
        </p:grpSpPr>
        <p:sp>
          <p:nvSpPr>
            <p:cNvPr id="571" name="Text Box 6"/>
            <p:cNvSpPr/>
            <p:nvPr/>
          </p:nvSpPr>
          <p:spPr>
            <a:xfrm>
              <a:off x="108000" y="14810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1835280" y="1528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Picture 9" descr="ball2"/>
          <p:cNvPicPr/>
          <p:nvPr/>
        </p:nvPicPr>
        <p:blipFill>
          <a:blip r:embed="rId4"/>
          <a:stretch/>
        </p:blipFill>
        <p:spPr>
          <a:xfrm rot="10800000">
            <a:off x="3635280" y="3736800"/>
            <a:ext cx="750960" cy="77184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10"/>
          <p:cNvSpPr/>
          <p:nvPr/>
        </p:nvSpPr>
        <p:spPr>
          <a:xfrm>
            <a:off x="3564000" y="1052640"/>
            <a:ext cx="2160360" cy="1035000"/>
          </a:xfrm>
          <a:prstGeom prst="wedgeRoundRectCallout">
            <a:avLst>
              <a:gd name="adj1" fmla="val 13481"/>
              <a:gd name="adj2" fmla="val 18757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6516720" y="1773360"/>
            <a:ext cx="2627280" cy="1035000"/>
          </a:xfrm>
          <a:prstGeom prst="wedgeRoundRectCallout">
            <a:avLst>
              <a:gd name="adj1" fmla="val 2930"/>
              <a:gd name="adj2" fmla="val 135583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/>
          <p:cNvSpPr/>
          <p:nvPr/>
        </p:nvSpPr>
        <p:spPr>
          <a:xfrm>
            <a:off x="34920" y="4724280"/>
            <a:ext cx="1657440" cy="792360"/>
          </a:xfrm>
          <a:prstGeom prst="wedgeRoundRectCallout">
            <a:avLst>
              <a:gd name="adj1" fmla="val 55842"/>
              <a:gd name="adj2" fmla="val -78254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黑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15636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356400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1185840" y="6093000"/>
            <a:ext cx="18734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6" descr="图片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49296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4"/>
          <p:cNvGrpSpPr/>
          <p:nvPr/>
        </p:nvGrpSpPr>
        <p:grpSpPr>
          <a:xfrm>
            <a:off x="7596360" y="6021360"/>
            <a:ext cx="1547640" cy="503280"/>
            <a:chOff x="7596360" y="6021360"/>
            <a:chExt cx="1547640" cy="503280"/>
          </a:xfrm>
        </p:grpSpPr>
        <p:pic>
          <p:nvPicPr>
            <p:cNvPr id="582" name="Picture 5" descr="W_046"/>
            <p:cNvPicPr/>
            <p:nvPr/>
          </p:nvPicPr>
          <p:blipFill>
            <a:blip r:embed="rId2"/>
            <a:stretch/>
          </p:blipFill>
          <p:spPr>
            <a:xfrm>
              <a:off x="8028000" y="6048360"/>
              <a:ext cx="525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6">
              <a:hlinkClick r:id="rId3" action="ppaction://hlinksldjump"/>
            </p:cNvPr>
            <p:cNvSpPr/>
            <p:nvPr/>
          </p:nvSpPr>
          <p:spPr>
            <a:xfrm>
              <a:off x="7596360" y="602136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返    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变式练习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华文楷体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9"/>
          <p:cNvGrpSpPr/>
          <p:nvPr/>
        </p:nvGrpSpPr>
        <p:grpSpPr>
          <a:xfrm>
            <a:off x="826920" y="1100160"/>
            <a:ext cx="6697800" cy="1251720"/>
            <a:chOff x="826920" y="1100160"/>
            <a:chExt cx="6697800" cy="1251720"/>
          </a:xfrm>
        </p:grpSpPr>
        <p:sp>
          <p:nvSpPr>
            <p:cNvPr id="588" name="Text Box 4"/>
            <p:cNvSpPr/>
            <p:nvPr/>
          </p:nvSpPr>
          <p:spPr>
            <a:xfrm>
              <a:off x="826920" y="110016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足球上黑色的皮都是五边形的，白色的皮都是六边形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白色皮共有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0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，比黑色皮的 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 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8"/>
            <p:cNvSpPr/>
            <p:nvPr/>
          </p:nvSpPr>
          <p:spPr>
            <a:xfrm>
              <a:off x="900000" y="1892160"/>
              <a:ext cx="39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共有多少块黑色皮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10"/>
          <p:cNvSpPr/>
          <p:nvPr/>
        </p:nvSpPr>
        <p:spPr>
          <a:xfrm>
            <a:off x="1763640" y="2373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设共有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2484360" y="3381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2195640" y="280512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色皮的块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白色皮的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050920" y="3741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2987640" y="4102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132000" y="44625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1835280" y="48211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检验：左边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×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3349800" y="5996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remove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0" descr="RWHELP"/>
          <p:cNvPicPr/>
          <p:nvPr/>
        </p:nvPicPr>
        <p:blipFill>
          <a:blip r:embed="rId2"/>
          <a:stretch/>
        </p:blipFill>
        <p:spPr>
          <a:xfrm>
            <a:off x="6156360" y="260280"/>
            <a:ext cx="2987640" cy="26640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18"/>
          <p:cNvSpPr/>
          <p:nvPr/>
        </p:nvSpPr>
        <p:spPr>
          <a:xfrm>
            <a:off x="1258920" y="3284640"/>
            <a:ext cx="6264360" cy="2520720"/>
          </a:xfrm>
          <a:prstGeom prst="rect">
            <a:avLst/>
          </a:prstGeom>
          <a:solidFill>
            <a:srgbClr val="e6e6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总结思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1332000" y="39560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分析、找出数量之间的相等关系，列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1301760" y="4532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1767960" y="51325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检验，写出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521000" y="1628640"/>
            <a:ext cx="5787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列方程解决问题的一般步骤是什么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1332000" y="3500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弄清题意，找出未知数，用</a:t>
            </a:r>
            <a:r>
              <a:rPr b="1" lang="en-US" sz="2400" spc="-1" strike="noStrike">
                <a:solidFill>
                  <a:srgbClr val="cc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108000" y="292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养鸡厂养母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公鸡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公鸡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324000" y="39337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校饲养小组今年养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去年养的只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去年养兔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826920" y="530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等腰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底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．它的腰是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0"/>
          <p:cNvGrpSpPr/>
          <p:nvPr/>
        </p:nvGrpSpPr>
        <p:grpSpPr>
          <a:xfrm>
            <a:off x="324000" y="1051560"/>
            <a:ext cx="8280360" cy="1036800"/>
            <a:chOff x="324000" y="1051560"/>
            <a:chExt cx="8280360" cy="1036800"/>
          </a:xfrm>
        </p:grpSpPr>
        <p:sp>
          <p:nvSpPr>
            <p:cNvPr id="610" name="Rectangle 5"/>
            <p:cNvSpPr/>
            <p:nvPr/>
          </p:nvSpPr>
          <p:spPr>
            <a:xfrm>
              <a:off x="466560" y="1051560"/>
              <a:ext cx="38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只列方程不解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"/>
            <p:cNvSpPr/>
            <p:nvPr/>
          </p:nvSpPr>
          <p:spPr>
            <a:xfrm>
              <a:off x="324000" y="1628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书室有文艺书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比科技书的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倍多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科技书</a:t>
              </a:r>
              <a:r>
                <a:rPr b="1" lang="en-US" sz="2400" spc="-1" strike="noStrike">
                  <a:solidFill>
                    <a:srgbClr val="000000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WordArt 1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巩固应用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1042920" y="2421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2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1042920" y="3476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= 4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8"/>
          <p:cNvSpPr/>
          <p:nvPr/>
        </p:nvSpPr>
        <p:spPr>
          <a:xfrm>
            <a:off x="1042920" y="47721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= 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9"/>
          <p:cNvSpPr/>
          <p:nvPr/>
        </p:nvSpPr>
        <p:spPr>
          <a:xfrm>
            <a:off x="1042920" y="6140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3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17"/>
          <p:cNvGrpSpPr/>
          <p:nvPr/>
        </p:nvGrpSpPr>
        <p:grpSpPr>
          <a:xfrm>
            <a:off x="1403280" y="548280"/>
            <a:ext cx="6624720" cy="1611720"/>
            <a:chOff x="1403280" y="548280"/>
            <a:chExt cx="6624720" cy="1611720"/>
          </a:xfrm>
        </p:grpSpPr>
        <p:sp>
          <p:nvSpPr>
            <p:cNvPr id="618" name="Rectangle 4"/>
            <p:cNvSpPr/>
            <p:nvPr/>
          </p:nvSpPr>
          <p:spPr>
            <a:xfrm>
              <a:off x="1708560" y="548280"/>
              <a:ext cx="7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、解下列方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5"/>
            <p:cNvSpPr/>
            <p:nvPr/>
          </p:nvSpPr>
          <p:spPr>
            <a:xfrm>
              <a:off x="1403280" y="112536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6"/>
            <p:cNvSpPr/>
            <p:nvPr/>
          </p:nvSpPr>
          <p:spPr>
            <a:xfrm>
              <a:off x="4932360" y="11253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7.5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"/>
            <p:cNvSpPr/>
            <p:nvPr/>
          </p:nvSpPr>
          <p:spPr>
            <a:xfrm>
              <a:off x="1403280" y="170028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9"/>
            <p:cNvSpPr/>
            <p:nvPr/>
          </p:nvSpPr>
          <p:spPr>
            <a:xfrm>
              <a:off x="4932360" y="17002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×9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 Box 14"/>
          <p:cNvSpPr/>
          <p:nvPr/>
        </p:nvSpPr>
        <p:spPr>
          <a:xfrm>
            <a:off x="971640" y="465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共有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428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网球，每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装一筒，装完后还剩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。一共装了多少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971640" y="2565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北京故宫的面积是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，比天安门广场面积的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。天安门广场的面积是都是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8" descr=""/>
          <p:cNvPicPr/>
          <p:nvPr/>
        </p:nvPicPr>
        <p:blipFill>
          <a:blip r:embed="rId2"/>
          <a:stretch/>
        </p:blipFill>
        <p:spPr>
          <a:xfrm>
            <a:off x="5796000" y="270972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9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232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51:5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56:03Z</dcterms:modified>
  <cp:revision>51</cp:revision>
  <dc:subject>第一PPT模板网-WWW.1PPT.COM</dc:subject>
  <dc:title>第一PPT模板网-WWW.1PPT.COM</dc:title>
</cp:coreProperties>
</file>