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18.png" ContentType="image/png"/>
  <Override PartName="/ppt/media/type.wav" ContentType="audio/x-wav"/>
  <Override PartName="/ppt/media/image4.png" ContentType="image/png"/>
  <Override PartName="/ppt/media/image12.wmf" ContentType="image/x-wmf"/>
  <Override PartName="/ppt/media/image21.jpeg" ContentType="image/jpeg"/>
  <Override PartName="/ppt/media/camera.wav" ContentType="audio/x-wav"/>
  <Override PartName="/ppt/media/image25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13.wmf" ContentType="image/x-wmf"/>
  <Override PartName="/ppt/media/image27.jpeg" ContentType="image/jpeg"/>
  <Override PartName="/ppt/media/image1.wmf" ContentType="image/x-wmf"/>
  <Override PartName="/ppt/media/image11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B85-4DC6-4950-89DD-B23DD56D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AE9-6604-4F85-B2E3-4999F7E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52D2B-DFDB-423A-8DA9-1F5F02B9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4BE0-AB4F-4763-B0C1-04E57EB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824B-851E-4C86-83F8-6FEB3B6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57B27-BC39-49C6-B9C4-800875A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6FC09-AF2E-4698-B544-90B345D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30B38-2E19-4085-BECC-3DA3BC0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0855B-0951-4EF3-94F9-8D8BFF7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4DCE3-9864-4D3B-9544-1F30593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EC0A5-419B-47F8-98D7-A551C0FF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37D24-A691-4F1D-955F-AAD7E157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27F-4CE1-4899-B46F-54E48BE2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F1B0B-1501-4088-8EC0-68DEA934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BB3E2-8A5B-4979-A3F3-0B4E8CAB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24EDD-AF31-45C4-B4B0-EEDF3408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5107-7480-42E2-8B88-4DA02C6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0F3BA-CF03-4881-B3FD-564BE2D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844B0-6442-4D63-86E2-F55F5ED9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D29E-1D2C-4CF6-AEA8-EC58924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443B2-137B-4AB5-BEF0-2348724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4E2D1-8D25-4B60-B698-A4607D4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A47F-15FE-4E76-AE59-98C8EBEB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0F-FEDC-4D56-849C-8B0D8146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C579-A813-464A-8BA7-290C0B7F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538CF-7C99-449A-8E5B-7BF451C4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68566-8BFB-4754-922A-72C0485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9392-8362-4CA9-9412-E948B07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E6042-9448-498F-A177-B8DA90F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19408-6E60-4331-8D4E-56662C1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ABF7-C2A1-4204-BD38-E6D9ECF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74F93-380B-46D0-A212-A35EE99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BDB3A-97AC-49E2-AF93-6480EB7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A004F-21AA-49F1-9325-164F933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D08-FCAC-4B40-9772-3F816128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31DE-0C6D-4892-B0DA-DAB46E1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E005A-91B8-4681-952F-AACEECA5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993C8-9EEE-4368-80B2-614E387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4895D-7BD4-4994-AC2E-51CF83AD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F8EE7-B668-4ABF-92B4-1373EFE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3A986-5096-489C-8EC6-6D33378B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36D4B-AC26-41DA-9186-F598D1B2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7CB7D-8296-4251-A053-C342479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35F24-39E8-4535-B2C2-874B16F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5288E-A816-4492-A599-0BFCF1E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02C8-420F-4600-A78C-73DDC753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56193-3D20-4013-8BD9-61AFFDD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15740-678E-47A6-941F-A7EB039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92ED3-6FB2-46D3-9458-0EB3DBAD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050CB-2168-46A0-83E5-1E7B665F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78A28-980F-4DE0-96FC-CEC8629F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A1EE8-1859-4F4C-A600-27D9C571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F9DE6-1FA6-45D2-BA13-FD1CB35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1FB1C-3AEA-4996-B387-22492C0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A1651-A2C2-4DCC-9B1F-CC68712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02B12-635F-48CC-B3D8-9EBE49A1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F58C-1FD9-4E18-8932-CE5529E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E08AE-C6C0-4A9F-97F7-792F5F7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03031-FEBF-4DE3-B512-04FCCFB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FBA4F-342A-47B2-9E5C-0D686AE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1CE32-EBC6-4989-9E25-B35271E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157E4-27C3-41BF-8470-68A404A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8F71F-5A0D-487E-889D-28A5B2B1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151FB-753B-4404-9FD5-074461B3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0C23-2990-4A1A-8049-AC4B99C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A333-7721-4F77-B133-8312642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5E8-60F9-41F7-939E-32AD8DF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6029-FAB0-4FDE-B5FF-24FFD5E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A8F-3980-4E80-A0BF-8068D2D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34B-D0A2-4E8D-82C5-3A6B8DE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1AF2-D55F-49DE-8D0C-75F65CB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FC2-1597-47F4-9EF9-DF386AF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652C-38F6-4BD5-B40B-238A37FD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7C17-877B-4A50-B207-2FC485DC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2738-4647-4B07-98C2-7D315305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122A-E28A-4A88-B299-30D3801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E3E4-65CE-4B89-83B1-B367387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7E8E-4084-4B15-A17B-7E224B5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482E-20F6-431D-A293-77A4A9E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A89-275B-4240-8E15-70922B8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2106-3628-44D0-939C-DC9ED27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020D-D6FC-4AD6-85FC-1002008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34DA-1270-46C2-A925-2C1BA2A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E2F8-8550-4FFF-9102-6842AE0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3E32-A95E-4514-B7EE-F89100A0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6628-AD30-4F32-84A1-6D76FC6C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8955-6641-4C14-8676-EDD17B2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47B3-5BCB-4429-8FF3-AE8FA7B2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B3B1-6FBF-4180-A211-E3479CD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248E-B5D6-4B34-B320-A18F315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0B7-EDCB-4036-AC47-26599BE4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7C82-2B25-455A-B6B6-BEBB144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D93C-5B09-4039-AA62-59A576B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E2EE-4DA5-4AFF-88B5-2DE6A372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2536-5EBD-432F-A2F3-A9A6780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9197-F536-4AF7-AA60-F905FC3E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A4DA-2B92-4EA5-A79C-E138789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9FFD-7055-45BF-AD00-64753438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5828-54E3-4F09-8F19-2929FF8A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6BA6-A5EC-4D9C-8775-FC4D21B5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029E-B8E7-4FE6-8073-9EA9AE24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FD0-FC7A-4146-B4A4-9649AAE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C59A-BC89-4501-86C1-8A424241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02663-F762-47F1-850D-6C4EEA6D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019F-CFF5-4B54-BCCF-C418F79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2697B-1D1E-42A5-876B-CB47F57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FE88-E5A5-4D4F-B4B4-282B8EF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6EA5-D590-4E46-8CDF-0A8E9EA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4315-9D06-4694-B700-B738FE0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E713-3554-4335-B2B1-81EBCF1E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972E-0E21-4B71-BE8B-235783F7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76CE-8175-474E-9DB6-08E53D5B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686-537C-4675-B21C-F981B11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2765-AC06-4DBD-97F6-0BE2D2B8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1ADC-B4C0-4609-83A8-B32B6E10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BB3FA-8CC1-40F9-A56D-4DF7FFD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2D8F7-2887-4AB9-9B9C-22D49E7B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454C-9BEF-4590-BF35-C28D1D4C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5762-31E5-42A3-A303-F8724AE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FAB7-BDDF-4A78-86B8-6274A1B3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CF74-5B5A-4270-A0FC-4E905D1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83B04-977A-4E19-BD2D-E369796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585A-CA0A-40F9-9E95-D8CA04A1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817-04DC-467B-BAE5-07D1D6D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5A4F-E496-4CB7-B71D-0C81577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F663-C2A6-471A-9503-D49EA032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6473-14C8-43FD-B752-AC30ADB0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3B24-78CC-49DF-9B0C-5E5F4A23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6DA0-48FF-448C-B5D5-95CC37EE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EB48-19A2-413F-B7CF-236B8C3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D9AF-1E1C-439E-A2F2-EE35DECE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D061-BE96-4A51-8190-631EAFBA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E9861-B337-4ED6-97E0-C7A83EF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D893-F028-40AD-9A0A-B7B4E38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ADC-8B2C-48FD-B756-F9BD8F26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F83A6-1001-4667-B04A-E4E2395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472E3-10B1-4BC8-87BB-FE1B95E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B089-ED6C-4400-89D3-76DD0D3D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C5D6-CD4E-417D-9EF4-7BC2CF88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AB7B-E7D5-4D0E-8B29-E8D28696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004A8-25EA-4914-9242-B73E994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7849D-A7F0-4388-87B9-89C7001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F9AD3-4F9C-4F25-881B-807001B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8CB2-9946-49BB-AAAC-C0E3BDA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8407-70AA-495E-9478-A39AEF12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8E8-6413-4AA8-A3A0-9E67BA3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797C-5832-41B2-B3D9-3ECA3FA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4D32-72EB-41E4-8F93-3296F4F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6DBAA-DF2B-482E-A29E-29DABE1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C7E5-6A00-4537-A923-CAF6E24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6F25E-1663-4E56-94F9-07CEABA3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EF72-F7CC-45A2-9F78-3D71404D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654A2-9756-4005-B85F-846557A6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56389-B26B-428F-A73A-3C3F1EF6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EA9C0-660F-4DFF-B3B4-D3825FA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FEB4-DE1A-4E44-8EBF-E67BACE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419-84B4-4A31-AC79-5A4D7FDD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E4D-1B1C-44A2-BA87-9923BC3EC2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280-47F5-410B-8712-C9514F2BB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690-CC09-4191-ACD5-AA2FE2D4BE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3EB-46C6-4A59-878E-32ED661BB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C895-2C92-4A9F-B4E0-82A6B45C9A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312E-6D8B-43C2-87D1-7A189C41B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F4A-EB58-4A03-8B70-934ECA2F8B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52D0-CB54-4C8C-BA5F-0AFAE70BF2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7D3A-01E0-4440-9D93-E26F9504F6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0581-9C08-4E13-BC7A-0A077FD9D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9DF-8962-4210-8A6D-342BC2DEE6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34B-F1A4-46B5-B451-10CFA23B7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0DDF-7645-4560-ACAB-023329904B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82E-A4CB-484A-B0A4-8A1F0340C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82B-D1A5-453E-95F1-355BCA0780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E7AA-A1E0-402D-9D7E-3758E069C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3F4-8379-4B88-B8B5-C7F78A0095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349-5429-4E24-837B-653FB3A00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8EA-271A-499B-AAA0-6E2B78DF8C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E295-5014-4F84-B667-7EFC9DFF3D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F70-A866-48E6-9954-739BB725A6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6D5-955A-4375-A098-B8D2A4769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90D-1621-4ACA-9D59-F1BD319B0D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557-F58B-4D13-B05D-B3D31855B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0" y="1523880"/>
            <a:ext cx="8964720" cy="5191200"/>
            <a:chOff x="0" y="1523880"/>
            <a:chExt cx="8964720" cy="5191200"/>
          </a:xfrm>
        </p:grpSpPr>
        <p:sp>
          <p:nvSpPr>
            <p:cNvPr id="534" name="Rectangle 3"/>
            <p:cNvSpPr/>
            <p:nvPr/>
          </p:nvSpPr>
          <p:spPr>
            <a:xfrm>
              <a:off x="2773440" y="1523880"/>
              <a:ext cx="6191280" cy="22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苏科版初一数学第一章</a:t>
              </a:r>
              <a:br>
                <a:rPr sz="4400"/>
              </a:br>
              <a:br>
                <a:rPr sz="4400"/>
              </a:br>
              <a:r>
                <a:rPr b="0" lang="zh-CN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1.1   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生活  数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4" descr="BS00580_"/>
            <p:cNvPicPr/>
            <p:nvPr/>
          </p:nvPicPr>
          <p:blipFill>
            <a:blip r:embed="rId1"/>
            <a:stretch/>
          </p:blipFill>
          <p:spPr>
            <a:xfrm>
              <a:off x="0" y="3505320"/>
              <a:ext cx="3809880" cy="3209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BS00823_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34686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457200" y="4572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楷体_GB2312"/>
              </a:rPr>
              <a:t>日用之</a:t>
            </a:r>
            <a:r>
              <a:rPr b="1" lang="zh-CN" sz="8000" spc="-1" strike="noStrike">
                <a:solidFill>
                  <a:srgbClr val="009999"/>
                </a:solidFill>
                <a:latin typeface="Tahoma"/>
                <a:ea typeface="楷体_GB2312"/>
              </a:rPr>
              <a:t>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BS00975_"/>
          <p:cNvPicPr/>
          <p:nvPr/>
        </p:nvPicPr>
        <p:blipFill>
          <a:blip r:embed="rId2"/>
          <a:stretch/>
        </p:blipFill>
        <p:spPr>
          <a:xfrm>
            <a:off x="0" y="1905120"/>
            <a:ext cx="4584600" cy="282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BRIDGE"/>
          <p:cNvPicPr/>
          <p:nvPr/>
        </p:nvPicPr>
        <p:blipFill>
          <a:blip r:embed="rId3"/>
          <a:stretch/>
        </p:blipFill>
        <p:spPr>
          <a:xfrm>
            <a:off x="1752480" y="3733920"/>
            <a:ext cx="6443640" cy="26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3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70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数学无处不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1-02汽车票"/>
          <p:cNvPicPr/>
          <p:nvPr/>
        </p:nvPicPr>
        <p:blipFill>
          <a:blip r:embed="rId1"/>
          <a:stretch/>
        </p:blipFill>
        <p:spPr>
          <a:xfrm>
            <a:off x="108000" y="1257480"/>
            <a:ext cx="882000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1-03自行车"/>
          <p:cNvPicPr/>
          <p:nvPr/>
        </p:nvPicPr>
        <p:blipFill>
          <a:blip r:embed="rId1"/>
          <a:stretch/>
        </p:blipFill>
        <p:spPr>
          <a:xfrm>
            <a:off x="34920" y="595440"/>
            <a:ext cx="889308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1-04高速公路服务区"/>
          <p:cNvPicPr/>
          <p:nvPr/>
        </p:nvPicPr>
        <p:blipFill>
          <a:blip r:embed="rId1"/>
          <a:stretch/>
        </p:blipFill>
        <p:spPr>
          <a:xfrm>
            <a:off x="144360" y="333360"/>
            <a:ext cx="8820360" cy="621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371600" y="-144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4a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644a"/>
                </a:solidFill>
                <a:latin typeface="Tahoma"/>
              </a:rPr>
              <a:t>当天最高价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4a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00644a"/>
                </a:solidFill>
                <a:latin typeface="Tahoma"/>
              </a:rPr>
              <a:t>13:00</a:t>
            </a:r>
            <a:r>
              <a:rPr b="0" lang="zh-CN" sz="4000" spc="-1" strike="noStrike">
                <a:solidFill>
                  <a:srgbClr val="00644a"/>
                </a:solidFill>
                <a:latin typeface="Tahoma"/>
              </a:rPr>
              <a:t>时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复件 600057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50562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0" y="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补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1-05股市行情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1-06水果价格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1-07身份证"/>
          <p:cNvPicPr/>
          <p:nvPr/>
        </p:nvPicPr>
        <p:blipFill>
          <a:blip r:embed="rId1"/>
          <a:stretch/>
        </p:blipFill>
        <p:spPr>
          <a:xfrm>
            <a:off x="0" y="1076400"/>
            <a:ext cx="914400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-08五环旗"/>
          <p:cNvPicPr/>
          <p:nvPr/>
        </p:nvPicPr>
        <p:blipFill>
          <a:blip r:embed="rId1"/>
          <a:stretch/>
        </p:blipFill>
        <p:spPr>
          <a:xfrm>
            <a:off x="71280" y="514440"/>
            <a:ext cx="9072720" cy="59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识技能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过对生活中常见的图形、数字的观察、思考，感受生活中处处有数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了解数学是我们表达和交流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力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触社会环境中的数字，图形信息，了解数学是我们表带交流的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感态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学会尊重他人的见解，敢于发表自己的见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议一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0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途汽车票中的数字告诉了我们哪些 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息？你的学籍号表达了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1-09红十字"/>
          <p:cNvPicPr/>
          <p:nvPr/>
        </p:nvPicPr>
        <p:blipFill>
          <a:blip r:embed="rId1"/>
          <a:stretch/>
        </p:blipFill>
        <p:spPr>
          <a:xfrm>
            <a:off x="1476360" y="371628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1-10农行标志"/>
          <p:cNvPicPr/>
          <p:nvPr/>
        </p:nvPicPr>
        <p:blipFill>
          <a:blip r:embed="rId2"/>
          <a:stretch/>
        </p:blipFill>
        <p:spPr>
          <a:xfrm>
            <a:off x="4716360" y="3357720"/>
            <a:ext cx="3095640" cy="30859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6"/>
          <p:cNvSpPr/>
          <p:nvPr/>
        </p:nvSpPr>
        <p:spPr>
          <a:xfrm>
            <a:off x="1258920" y="2419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从下面图形中你获得了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处处有数学，你能举出一些例子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估一估大树有多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让学生动脑如何设计方案估算树有多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学校打算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的篱笆围成长方形形状的生物园来饲养小兔．可以围成的面积是多少？怎样围可使小兔的活动范围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1-12篱笆"/>
          <p:cNvPicPr/>
          <p:nvPr/>
        </p:nvPicPr>
        <p:blipFill>
          <a:blip r:embed="rId1"/>
          <a:stretch/>
        </p:blipFill>
        <p:spPr>
          <a:xfrm>
            <a:off x="1763640" y="1844640"/>
            <a:ext cx="7020000" cy="53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Line 2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193840" y="42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ART_2797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447920"/>
            <a:ext cx="7543800" cy="541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594" name="Text Box 6"/>
          <p:cNvSpPr/>
          <p:nvPr/>
        </p:nvSpPr>
        <p:spPr>
          <a:xfrm>
            <a:off x="3635280" y="285264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学伴我们成长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类离不开数学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人都能学会数学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要与数学交朋友，数学是人们生活、劳动和学习必不可少的工具，能够帮助人们处理数据、进行计算、推理和证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1736640" y="523800"/>
            <a:ext cx="34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琥珀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91760" y="2925360"/>
            <a:ext cx="606960" cy="8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回头一看，我想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5"/>
          <p:cNvPicPr/>
          <p:nvPr/>
        </p:nvPicPr>
        <p:blipFill>
          <a:blip r:embed="rId2"/>
          <a:stretch/>
        </p:blipFill>
        <p:spPr>
          <a:xfrm>
            <a:off x="44280" y="7920"/>
            <a:ext cx="1422720" cy="13111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0"/>
          <p:cNvSpPr/>
          <p:nvPr/>
        </p:nvSpPr>
        <p:spPr>
          <a:xfrm>
            <a:off x="7949880" y="420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3564000" y="2276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谈谈你这节课学习的感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335556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p1-2 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生活与数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准备剪刀，两张长方形的纸，日历，牙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152280" y="380880"/>
            <a:ext cx="6705720" cy="2243160"/>
            <a:chOff x="152280" y="380880"/>
            <a:chExt cx="6705720" cy="2243160"/>
          </a:xfrm>
        </p:grpSpPr>
        <p:grpSp>
          <p:nvGrpSpPr>
            <p:cNvPr id="602" name="Group 4"/>
            <p:cNvGrpSpPr/>
            <p:nvPr/>
          </p:nvGrpSpPr>
          <p:grpSpPr>
            <a:xfrm>
              <a:off x="152280" y="380880"/>
              <a:ext cx="3048120" cy="2133720"/>
              <a:chOff x="152280" y="380880"/>
              <a:chExt cx="3048120" cy="2133720"/>
            </a:xfrm>
          </p:grpSpPr>
          <p:pic>
            <p:nvPicPr>
              <p:cNvPr id="603" name="Picture 5" descr="D096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80880"/>
                <a:ext cx="304812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WordArt 6"/>
              <p:cNvSpPr txBox="1"/>
              <p:nvPr/>
            </p:nvSpPr>
            <p:spPr>
              <a:xfrm>
                <a:off x="1092600" y="1143000"/>
                <a:ext cx="1477440" cy="62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latin typeface="宋体"/>
                  </a:rPr>
                  <a:t>布置作业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宋体"/>
                  <a:ea typeface="宋体"/>
                </a:endParaRPr>
              </a:p>
            </p:txBody>
          </p:sp>
        </p:grpSp>
        <p:pic>
          <p:nvPicPr>
            <p:cNvPr id="605" name="Picture 7" descr="B_023"/>
            <p:cNvPicPr/>
            <p:nvPr/>
          </p:nvPicPr>
          <p:blipFill>
            <a:blip r:embed="rId4"/>
            <a:stretch/>
          </p:blipFill>
          <p:spPr>
            <a:xfrm>
              <a:off x="4952880" y="1143000"/>
              <a:ext cx="1905120" cy="148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24000" y="2852640"/>
            <a:ext cx="784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24000" y="3786120"/>
            <a:ext cx="82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68360" y="1897200"/>
            <a:ext cx="8136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重点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充分利用数学的内在规律，解决现实生活中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 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能够读取一些图形、表格中的信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用数学知识，对图形、表格中所提供信息，作出的判断的准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066680" y="16765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371600" y="44643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PE07677_"/>
          <p:cNvPicPr/>
          <p:nvPr/>
        </p:nvPicPr>
        <p:blipFill>
          <a:blip r:embed="rId2"/>
          <a:stretch/>
        </p:blipFill>
        <p:spPr>
          <a:xfrm>
            <a:off x="0" y="39625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6"/>
          <p:cNvSpPr/>
          <p:nvPr/>
        </p:nvSpPr>
        <p:spPr>
          <a:xfrm>
            <a:off x="38098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宇宙之</a:t>
            </a:r>
            <a:r>
              <a:rPr b="1" i="1" lang="zh-CN" sz="8800" spc="-1" strike="noStrike">
                <a:solidFill>
                  <a:srgbClr val="009999"/>
                </a:solidFill>
                <a:latin typeface="Tahoma"/>
              </a:rPr>
              <a:t>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3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705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19200" y="1600200"/>
            <a:ext cx="654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8" name="Picture 4" descr="BD15056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DD00261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HM00363_"/>
          <p:cNvPicPr/>
          <p:nvPr/>
        </p:nvPicPr>
        <p:blipFill>
          <a:blip r:embed="rId4"/>
          <a:stretch/>
        </p:blipFill>
        <p:spPr>
          <a:xfrm>
            <a:off x="1371600" y="2209680"/>
            <a:ext cx="5791320" cy="41911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609480" y="68580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粒子之</a:t>
            </a:r>
            <a:r>
              <a:rPr b="1" i="1" lang="zh-CN" sz="4400" spc="-1" strike="noStrike">
                <a:solidFill>
                  <a:srgbClr val="009999"/>
                </a:solidFill>
                <a:latin typeface="Tahoma"/>
              </a:rPr>
              <a:t>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3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SHUTT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7623000" y="0"/>
            <a:ext cx="152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ahoma"/>
                <a:ea typeface="华文新魏"/>
              </a:rPr>
              <a:t>火箭之</a:t>
            </a:r>
            <a:r>
              <a:rPr b="1" lang="zh-CN" sz="8800" spc="-1" strike="noStrike">
                <a:solidFill>
                  <a:srgbClr val="99cc00"/>
                </a:solidFill>
                <a:latin typeface="Tahoma"/>
                <a:ea typeface="华文新魏"/>
              </a:rPr>
              <a:t>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3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DD00261_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25360" y="-50760"/>
            <a:ext cx="9369360" cy="6908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CLASS1"/>
          <p:cNvPicPr/>
          <p:nvPr/>
        </p:nvPicPr>
        <p:blipFill>
          <a:blip r:embed="rId2"/>
          <a:stretch/>
        </p:blipFill>
        <p:spPr>
          <a:xfrm>
            <a:off x="609480" y="1905120"/>
            <a:ext cx="7099560" cy="46735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2411280" y="620640"/>
            <a:ext cx="4876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999"/>
                </a:solidFill>
                <a:latin typeface="Tahoma"/>
              </a:rPr>
              <a:t>化工之</a:t>
            </a:r>
            <a:r>
              <a:rPr b="1" i="1" lang="zh-CN" sz="8000" spc="-1" strike="noStrike">
                <a:solidFill>
                  <a:srgbClr val="00644a"/>
                </a:solidFill>
                <a:latin typeface="Tahoma"/>
                <a:ea typeface="黑体"/>
              </a:rPr>
              <a:t>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3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3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838080" y="66996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WATERCY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MP00640_"/>
          <p:cNvPicPr/>
          <p:nvPr/>
        </p:nvPicPr>
        <p:blipFill>
          <a:blip r:embed="rId2"/>
          <a:srcRect l="10338" t="0" r="0" b="20756"/>
          <a:stretch/>
        </p:blipFill>
        <p:spPr>
          <a:xfrm>
            <a:off x="5727600" y="3416400"/>
            <a:ext cx="3416400" cy="34416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5"/>
          <p:cNvSpPr txBox="1"/>
          <p:nvPr/>
        </p:nvSpPr>
        <p:spPr>
          <a:xfrm rot="21347400">
            <a:off x="5562360" y="609120"/>
            <a:ext cx="304776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192000"/>
                </a:gradFill>
                <a:latin typeface="华文新魏"/>
              </a:rPr>
              <a:t>地球之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192000"/>
              </a:gra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76320" y="-73080"/>
            <a:ext cx="906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SY3"/>
          <p:cNvPicPr/>
          <p:nvPr/>
        </p:nvPicPr>
        <p:blipFill>
          <a:blip r:embed="rId1"/>
          <a:stretch/>
        </p:blipFill>
        <p:spPr>
          <a:xfrm>
            <a:off x="1295280" y="1676520"/>
            <a:ext cx="6946920" cy="4673520"/>
          </a:xfrm>
          <a:prstGeom prst="rect">
            <a:avLst/>
          </a:prstGeom>
          <a:ln w="0">
            <a:noFill/>
          </a:ln>
        </p:spPr>
      </p:pic>
      <p:sp>
        <p:nvSpPr>
          <p:cNvPr id="564" name="WordArt 4"/>
          <p:cNvSpPr txBox="1"/>
          <p:nvPr/>
        </p:nvSpPr>
        <p:spPr>
          <a:xfrm>
            <a:off x="251460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0000"/>
                  </a:outerShdw>
                </a:effectLst>
                <a:latin typeface="华文新魏"/>
              </a:rPr>
              <a:t>生物之谜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2:20:31Z</dcterms:created>
  <dc:creator>wwh</dc:creator>
  <dc:description/>
  <dc:language>en-US</dc:language>
  <cp:lastModifiedBy>a</cp:lastModifiedBy>
  <dcterms:modified xsi:type="dcterms:W3CDTF">2015-03-18T05:56:18Z</dcterms:modified>
  <cp:revision>2</cp:revision>
  <dc:subject/>
  <dc:title>幻灯片 1</dc:title>
</cp:coreProperties>
</file>