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7C21-1ED0-4A7E-B044-DA49F7575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6F65-72F1-48A7-AFB3-F1135C314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EF52A6-4AE6-4841-834C-B51D4A7E2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25E2A1-F10B-4F4C-A59A-7F7D7F8A8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B96F5E-38AC-45FF-A727-0099E0B6D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83FD07-656A-43EB-82C2-341CE2E5F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CCEE51-41D1-4D97-9A75-A3121C1FB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A23229-10F0-4E48-805F-7621E9072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532799-1A64-4691-B684-51EB3746D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9CB225-F94F-4E88-A052-1EC467279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965D3F-DF20-4464-BCE3-5C4D17C83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51E60F-C2C1-46D9-A212-DB8B475AF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B5A9-7804-4FB2-B237-50A791E9A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BB96CE-3D32-4C4E-A4D9-07AB42D76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79A421-77FF-4059-9C4F-3F39ECEC4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1A43D0-C96D-45F4-9B21-4D6674880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9399C9-5BD9-4721-B1F9-A52468A79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87E68D-E824-4F8F-AC35-6FA9F02A8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F4C017-448F-4686-96EB-2D6CA9CCB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EE6EC1-C5FB-411E-B2F6-6E253389B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7BBFB8-F78E-4B4A-926F-4EA8616D2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6BE6B9-EBAF-4ED5-B893-DB0EA8215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D424A7-1EEB-413C-81FA-33F1E3105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914E-23A3-4946-A62C-5E6B920B4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ADCE72-B0F6-47F1-8930-5910E12C2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4B2004-2B29-4F5A-A3F6-E1B2BD52F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B70565-8EF5-43D6-932C-EAE4415FF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C38FED-649E-47AE-B3BE-584112A5F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55E33C-F493-45F6-93C6-91EFF9264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996606-FF00-4C99-B016-E67B0F920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BEF0CE-693F-472C-9262-7641E2646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F75B10-6CA5-4E71-ACED-8717BF05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DD60C3-B99E-4C65-85DA-88EE098A6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E79F2F-9EC0-4E96-9503-01C8DF8D2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16F28-CF2D-4D83-B5A5-C1C449EDD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3FCA13-9A08-4B0B-B1B1-56D62C305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2A3715-8B9D-4A2A-A6B5-C91C8C1A1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D187DC-BB25-489D-830E-4021096A3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9E855E-D012-4362-A511-84504EC09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D08F36-1986-4383-BCF5-3CBAC7AED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A4B0C3-5FC5-41B9-BC13-8E19E95C9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1EEC73-8C2B-4185-92A6-4D40D65E9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B8EEF1-C42B-4E69-A340-73F8F57A2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9E16F1-D842-4174-BFE6-BA5BA88EA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B79C21-206D-48DF-B7A8-9E6F99041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3EA3D-BC58-406A-8BD6-F9BF36769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FBF476-B3D6-483F-88C1-6F7BBE072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26ADA6-DA7C-4737-91AB-B5BD0C354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6E9F84-E052-49DB-8A51-B67952DB9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4CC415-0526-4B4F-8F4F-CB7CD3800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004678-CBEB-4AB1-8516-E81E234E6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BB2765-C323-44F1-903C-A2BB8A8E7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656AA9-7031-4923-8E65-2732D7F26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C17004-B08D-4D04-841C-771BABAE8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44E7B3-8369-44C3-8B49-7A3AC1185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3572A7-AE29-4875-BCD1-A4C193487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9D504-659B-4B3A-AABD-53FB1EA4F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1244F1-4544-4C5E-9C8F-A42FD30D8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118568-2CD7-4B5B-99E4-522F45D46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601FF1-8BB5-4BB3-847C-3C5421CE2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FEDC89-EA8F-41EA-B955-1EB52C4A0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31AC16-3908-4221-8DB5-BD40EF0DA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7B1E8F-1F7F-4167-A8A6-260B6B62A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68B554-55D1-44BD-97E4-A2DB2AA79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B9933-2477-4C55-B742-B7524CE32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E72A4-ABD2-4B86-ADC9-F918D0FBB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D73AE-9579-4917-A52C-79B462458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29A01-E828-450E-B373-99882405E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7E2F-8907-49DB-B64E-504CE3D85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8F8DB-5A35-4EB6-858D-2F0138607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09AFE-377D-4D13-AB0C-54DD56F03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62DBF-9F0A-41C3-A3DF-B06FEE9D1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615BE-B549-4734-8999-0364BF6A7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7D5A8-7D18-4CF6-8726-0B1AF9EA0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54F21-01D8-49B6-8AB8-3F0EFB43B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5E4CF-583A-4F87-9D97-1F67306EB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2BC4A-8330-4388-B898-CADE47D75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63721-969F-4407-8A23-5B9A0ADE5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5BB4D-0AE8-45E4-8CB8-CA922B926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FFCD-E166-40CF-B185-CE6C7CD02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23CB0-0E14-41EA-92A4-1B72DD535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FD95D-558C-4E65-A372-192B28EAC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8AC06-8357-49C9-9C2D-3D4B35875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A8C22-DAAC-4096-A3CE-00BBDEEA5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12D3B-9BC4-4D4E-A73D-256114CE4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512EB-2963-4BE5-85BB-911A37FBE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BA494-00A6-4704-8BFA-0DFA1013C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11A83-BF6E-45F0-A275-B59DE7CB2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DE92C4-E5DF-4EC3-A94C-D62BF86DF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265A6-4C1C-4A48-A27F-0D79D5FC2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EB2D-52FD-42AE-A7AC-66470A12C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BCDBD-3EE5-48C9-8910-381AD006E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BAFD0-6BC5-4D23-9AF4-6529B0511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E3D31-041D-45E1-B140-7D15D88AA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8B47F-FF92-4815-8E21-76364FFAE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049F0-8DB4-4F91-A65E-D5F61C533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10CDD-29EE-46C5-B0EE-88215EC5A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98625-77A2-4E86-8016-12EF8C90C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AF69B-E29E-4CB8-B6BD-81D3AB012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907DEF-174F-4609-9A3F-61326C055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3995FA-81E9-4E5E-A5E3-525394974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FDD3-7275-4116-9B66-EE5B2319F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606F5B-EC9B-493A-85F4-03A1DF97D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164060-408C-4E5C-83BB-0B8476426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75CF0B-3188-4638-83AA-B82FA30C1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35F6DC-8B43-4332-8B23-E30BA359E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0E1DFD-0131-4454-961B-09124F899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E617E6-AF4A-45D2-B09E-8A9B5683A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36C2C2-2DED-44E3-9DCB-6858DE243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2D80CD-0E12-48D6-84BF-F593A5AFF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9876B5-AFA2-4073-9518-E8CBA7433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88C550-5561-4560-B42B-0B20AC6FE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E070-988D-4425-86D6-408E49DFE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BEB07D-0869-42D7-BB97-F77BFD2F8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4F5545-68C6-4EB3-9CE4-A593FA16F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36C85E-6251-4ED2-BFC4-40FAC30E4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84EEB2-8AD2-43C3-8F55-E9285FC17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D85A58-D9F2-4EB9-9750-3D669EC1F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A782E2-F62B-4A7D-8E46-BC5076602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D46EE7-52C1-43D7-8EE3-6C6800F7D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BA26C9-E06E-45F2-98C7-D1F7F0AD6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CFD1D9-1ED8-4723-AFD0-DE3989529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DBC082-BD0C-4364-BD87-0DFB4F070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436D-D072-4874-A825-41EA5FE99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944955-1C2A-4A4E-A990-B558DD9C1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F110D4-A1CA-4C37-B47D-4243461CF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5DAF28-1EAC-4F12-BB76-DE343D231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B77906-961B-4768-B291-20553E8D3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E66FCB-4AF3-4ECF-BE7A-1309C673C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BA2043-E493-4D88-9E03-926088DAC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44EE64-38FE-43A4-960E-F98402F8D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152E50-707A-4D36-AE6D-9C7E2D757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3316AA-0010-4CF6-8F1C-EFF613FA0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8B928B-4D74-4B05-84F7-4FDEB91EA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C566-8C71-440F-B3A6-FD3868E0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1CBB48-536F-4EE7-9ABB-08C6255CC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9D1F7E-D0C3-493D-B3E3-F9C043744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5A0ECE-984B-47CA-B26B-D03505E31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D753CD-64F9-4B9E-8ED1-0B28D932F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0A5D6D-2777-42B1-9BE9-A8E486B45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27C615-810D-446E-AFB1-8B1FC5F72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2A63D7-F451-4186-9BD8-D31548A76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466480-B078-4FD9-BE8B-0093FFA92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CEF852-E962-42A3-826B-CE75B3076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4DD435-878A-48E2-82EE-4BEC51FCC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CEFF-DB4A-482B-8AB5-94DF9C5F6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48231D-AED7-42B0-A384-D8FC8B458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22FF31-8CC4-41A7-AEC8-D651A8F3B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B9A436-5FD1-48A7-B401-B86357444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720EF3-4428-4CC4-8D15-3A6CB277F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3B55A6-4052-4B44-BF42-E6C1CF0D4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80B7FC-2086-4F7F-B1CA-C0C0AA0AE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7B61AC-7381-4AA7-B501-5F7F4E210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8F3BE1-144D-475F-A861-9F2ED6250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F5F8FC-DE49-406B-A613-2EDEEFB82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6F675C-9F18-4839-98FD-2C8F04872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3EBE1-5497-420B-A2C2-A0F87DC546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2825E-10BA-4A67-BB8A-DCD5C914BAF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A2CFF-2624-4473-ABF1-C215DDAF784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C4F6E-0D4D-4EC9-A79F-0919F62CD2C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71CDC-7ED0-442A-890C-A11FF80C7EE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81A74-BEF7-4FA1-9F0E-F9BA2376D68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F6123-FCF5-45B7-A87B-4E12BF7A4D7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CF279-B7D6-4E4E-B7AA-DC8CAD0F0F2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B2067-C6A8-4ECA-BD07-9C4DEDBBD46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F21B7-65C5-45AE-83E3-7B3DF38D0B0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CEB7D-5D7D-4A51-AAF1-E6455A6ED8C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F5A8C-55AF-4B8B-8B23-3D3AC2A3F9F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8B81E-5976-48AB-8C1B-FEFF7BD53A5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B6608-CAF9-4293-9EB1-F023CE476DF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ED8B9-EF74-4FD9-BCDD-9054D98E88A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A2BAE-5851-4538-8838-EA4630199DB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8B65E-62F2-4DED-B923-59769CED885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BC414-B968-4BF1-8B2C-7B8E090F094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BF281-9C9F-496F-B07A-B2ADC15A4CA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53973-A5D3-45C2-A424-397C9F4AF1E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8E32E-5B64-43B1-BC56-2FAD94D5CAC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E7EE2-C21D-41F9-8658-01E1160278A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C7D51-4DDE-412E-80D7-528B5652ECE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7E978-367A-41B6-B307-87D90453CC0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B6629-B309-4109-A2D3-7BA9C3D1AE9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2"/>
          <p:cNvSpPr/>
          <p:nvPr/>
        </p:nvSpPr>
        <p:spPr>
          <a:xfrm>
            <a:off x="2209680" y="457200"/>
            <a:ext cx="40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二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.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生活中的透镜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 Box 3"/>
          <p:cNvSpPr/>
          <p:nvPr/>
        </p:nvSpPr>
        <p:spPr>
          <a:xfrm>
            <a:off x="380880" y="114300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复习相关知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AutoShape 5">
            <a:hlinkClick r:id="rId1" action="ppaction://hlinksldjump"/>
          </p:cNvPr>
          <p:cNvSpPr/>
          <p:nvPr/>
        </p:nvSpPr>
        <p:spPr>
          <a:xfrm>
            <a:off x="380880" y="762120"/>
            <a:ext cx="2895840" cy="1143000"/>
          </a:xfrm>
          <a:custGeom>
            <a:avLst/>
            <a:gdLst>
              <a:gd name="textAreaLeft" fmla="*/ 73800 w 2895840"/>
              <a:gd name="textAreaRight" fmla="*/ 2822040 w 28958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54714" h="21600">
                <a:moveTo>
                  <a:pt x="0" y="0"/>
                </a:moveTo>
                <a:lnTo>
                  <a:pt x="54714" y="0"/>
                </a:lnTo>
                <a:lnTo>
                  <a:pt x="54714" y="21600"/>
                </a:lnTo>
                <a:lnTo>
                  <a:pt x="0" y="21600"/>
                </a:lnTo>
                <a:close/>
              </a:path>
              <a:path fill="lightenLess" w="54714" h="21600">
                <a:moveTo>
                  <a:pt x="0" y="0"/>
                </a:moveTo>
                <a:lnTo>
                  <a:pt x="54714" y="0"/>
                </a:lnTo>
                <a:lnTo>
                  <a:pt x="53314" y="1400"/>
                </a:lnTo>
                <a:lnTo>
                  <a:pt x="1400" y="1400"/>
                </a:lnTo>
                <a:close/>
              </a:path>
              <a:path fill="darken" w="54714" h="21600">
                <a:moveTo>
                  <a:pt x="54714" y="0"/>
                </a:moveTo>
                <a:lnTo>
                  <a:pt x="54714" y="21600"/>
                </a:lnTo>
                <a:lnTo>
                  <a:pt x="53314" y="20200"/>
                </a:lnTo>
                <a:lnTo>
                  <a:pt x="53314" y="1400"/>
                </a:lnTo>
                <a:close/>
              </a:path>
              <a:path fill="darkenLess" w="54714" h="21600">
                <a:moveTo>
                  <a:pt x="547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314" y="20200"/>
                </a:lnTo>
                <a:close/>
              </a:path>
              <a:path fill="lighten" w="547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Text Box 6"/>
          <p:cNvSpPr/>
          <p:nvPr/>
        </p:nvSpPr>
        <p:spPr>
          <a:xfrm>
            <a:off x="457200" y="205740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照相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AutoShape 7">
            <a:hlinkClick r:id="rId2" action="ppaction://hlinksldjump"/>
          </p:cNvPr>
          <p:cNvSpPr/>
          <p:nvPr/>
        </p:nvSpPr>
        <p:spPr>
          <a:xfrm>
            <a:off x="304920" y="2057400"/>
            <a:ext cx="2057400" cy="838080"/>
          </a:xfrm>
          <a:custGeom>
            <a:avLst/>
            <a:gdLst>
              <a:gd name="textAreaLeft" fmla="*/ 54000 w 2057400"/>
              <a:gd name="textAreaRight" fmla="*/ 2003400 w 2057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53012" h="21600">
                <a:moveTo>
                  <a:pt x="0" y="0"/>
                </a:moveTo>
                <a:lnTo>
                  <a:pt x="53012" y="0"/>
                </a:lnTo>
                <a:lnTo>
                  <a:pt x="53012" y="21600"/>
                </a:lnTo>
                <a:lnTo>
                  <a:pt x="0" y="21600"/>
                </a:lnTo>
                <a:close/>
              </a:path>
              <a:path fill="lightenLess" w="53012" h="21600">
                <a:moveTo>
                  <a:pt x="0" y="0"/>
                </a:moveTo>
                <a:lnTo>
                  <a:pt x="53012" y="0"/>
                </a:lnTo>
                <a:lnTo>
                  <a:pt x="51612" y="1400"/>
                </a:lnTo>
                <a:lnTo>
                  <a:pt x="1400" y="1400"/>
                </a:lnTo>
                <a:close/>
              </a:path>
              <a:path fill="darken" w="53012" h="21600">
                <a:moveTo>
                  <a:pt x="53012" y="0"/>
                </a:moveTo>
                <a:lnTo>
                  <a:pt x="53012" y="21600"/>
                </a:lnTo>
                <a:lnTo>
                  <a:pt x="51612" y="20200"/>
                </a:lnTo>
                <a:lnTo>
                  <a:pt x="51612" y="1400"/>
                </a:lnTo>
                <a:close/>
              </a:path>
              <a:path fill="darkenLess" w="53012" h="21600">
                <a:moveTo>
                  <a:pt x="530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612" y="20200"/>
                </a:lnTo>
                <a:close/>
              </a:path>
              <a:path fill="lighten" w="530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8"/>
          <p:cNvSpPr/>
          <p:nvPr/>
        </p:nvSpPr>
        <p:spPr>
          <a:xfrm>
            <a:off x="533520" y="289548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凸透镜成缩小的倒立的实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9"/>
          <p:cNvSpPr/>
          <p:nvPr/>
        </p:nvSpPr>
        <p:spPr>
          <a:xfrm>
            <a:off x="4572000" y="28954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暗箱长度是像距（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f&lt;v&lt;2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AutoShape 11">
            <a:hlinkClick r:id="rId3" action="ppaction://hlinksldjump"/>
          </p:cNvPr>
          <p:cNvSpPr/>
          <p:nvPr/>
        </p:nvSpPr>
        <p:spPr>
          <a:xfrm>
            <a:off x="609480" y="2209680"/>
            <a:ext cx="2057400" cy="838440"/>
          </a:xfrm>
          <a:custGeom>
            <a:avLst/>
            <a:gdLst>
              <a:gd name="textAreaLeft" fmla="*/ 54360 w 2057400"/>
              <a:gd name="textAreaRight" fmla="*/ 2003040 w 2057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52990" h="21600">
                <a:moveTo>
                  <a:pt x="0" y="0"/>
                </a:moveTo>
                <a:lnTo>
                  <a:pt x="52990" y="0"/>
                </a:lnTo>
                <a:lnTo>
                  <a:pt x="52990" y="21600"/>
                </a:lnTo>
                <a:lnTo>
                  <a:pt x="0" y="21600"/>
                </a:lnTo>
                <a:close/>
              </a:path>
              <a:path fill="lightenLess" w="52990" h="21600">
                <a:moveTo>
                  <a:pt x="0" y="0"/>
                </a:moveTo>
                <a:lnTo>
                  <a:pt x="52990" y="0"/>
                </a:lnTo>
                <a:lnTo>
                  <a:pt x="51590" y="1400"/>
                </a:lnTo>
                <a:lnTo>
                  <a:pt x="1400" y="1400"/>
                </a:lnTo>
                <a:close/>
              </a:path>
              <a:path fill="darken" w="52990" h="21600">
                <a:moveTo>
                  <a:pt x="52990" y="0"/>
                </a:moveTo>
                <a:lnTo>
                  <a:pt x="52990" y="21600"/>
                </a:lnTo>
                <a:lnTo>
                  <a:pt x="51590" y="20200"/>
                </a:lnTo>
                <a:lnTo>
                  <a:pt x="51590" y="1400"/>
                </a:lnTo>
                <a:close/>
              </a:path>
              <a:path fill="darkenLess" w="52990" h="21600">
                <a:moveTo>
                  <a:pt x="52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590" y="20200"/>
                </a:lnTo>
                <a:close/>
              </a:path>
              <a:path fill="lighten" w="52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AutoShape 12">
            <a:hlinkClick r:id="rId4" action="ppaction://hlinksldjump"/>
          </p:cNvPr>
          <p:cNvSpPr/>
          <p:nvPr/>
        </p:nvSpPr>
        <p:spPr>
          <a:xfrm>
            <a:off x="4067280" y="1844640"/>
            <a:ext cx="4038480" cy="990720"/>
          </a:xfrm>
          <a:custGeom>
            <a:avLst/>
            <a:gdLst>
              <a:gd name="textAreaLeft" fmla="*/ 64080 w 4038480"/>
              <a:gd name="textAreaRight" fmla="*/ 3974400 w 4038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88024" h="21600">
                <a:moveTo>
                  <a:pt x="0" y="0"/>
                </a:moveTo>
                <a:lnTo>
                  <a:pt x="88024" y="0"/>
                </a:lnTo>
                <a:lnTo>
                  <a:pt x="88024" y="21600"/>
                </a:lnTo>
                <a:lnTo>
                  <a:pt x="0" y="21600"/>
                </a:lnTo>
                <a:close/>
              </a:path>
              <a:path fill="lightenLess" w="88024" h="21600">
                <a:moveTo>
                  <a:pt x="0" y="0"/>
                </a:moveTo>
                <a:lnTo>
                  <a:pt x="88024" y="0"/>
                </a:lnTo>
                <a:lnTo>
                  <a:pt x="86624" y="1400"/>
                </a:lnTo>
                <a:lnTo>
                  <a:pt x="1400" y="1400"/>
                </a:lnTo>
                <a:close/>
              </a:path>
              <a:path fill="darken" w="88024" h="21600">
                <a:moveTo>
                  <a:pt x="88024" y="0"/>
                </a:moveTo>
                <a:lnTo>
                  <a:pt x="88024" y="21600"/>
                </a:lnTo>
                <a:lnTo>
                  <a:pt x="86624" y="20200"/>
                </a:lnTo>
                <a:lnTo>
                  <a:pt x="86624" y="1400"/>
                </a:lnTo>
                <a:close/>
              </a:path>
              <a:path fill="darkenLess" w="88024" h="21600">
                <a:moveTo>
                  <a:pt x="88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6624" y="20200"/>
                </a:lnTo>
                <a:close/>
              </a:path>
              <a:path fill="lighten" w="88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13"/>
          <p:cNvSpPr/>
          <p:nvPr/>
        </p:nvSpPr>
        <p:spPr>
          <a:xfrm>
            <a:off x="685800" y="36576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投影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AutoShape 14">
            <a:hlinkClick r:id="rId5" action="ppaction://hlinksldjump"/>
          </p:cNvPr>
          <p:cNvSpPr/>
          <p:nvPr/>
        </p:nvSpPr>
        <p:spPr>
          <a:xfrm>
            <a:off x="609480" y="3352680"/>
            <a:ext cx="2514600" cy="914400"/>
          </a:xfrm>
          <a:custGeom>
            <a:avLst/>
            <a:gdLst>
              <a:gd name="textAreaLeft" fmla="*/ 59040 w 2514600"/>
              <a:gd name="textAreaRight" fmla="*/ 2455560 w 2514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59385" h="21600">
                <a:moveTo>
                  <a:pt x="0" y="0"/>
                </a:moveTo>
                <a:lnTo>
                  <a:pt x="59385" y="0"/>
                </a:lnTo>
                <a:lnTo>
                  <a:pt x="59385" y="21600"/>
                </a:lnTo>
                <a:lnTo>
                  <a:pt x="0" y="21600"/>
                </a:lnTo>
                <a:close/>
              </a:path>
              <a:path fill="lightenLess" w="59385" h="21600">
                <a:moveTo>
                  <a:pt x="0" y="0"/>
                </a:moveTo>
                <a:lnTo>
                  <a:pt x="59385" y="0"/>
                </a:lnTo>
                <a:lnTo>
                  <a:pt x="57985" y="1400"/>
                </a:lnTo>
                <a:lnTo>
                  <a:pt x="1400" y="1400"/>
                </a:lnTo>
                <a:close/>
              </a:path>
              <a:path fill="darken" w="59385" h="21600">
                <a:moveTo>
                  <a:pt x="59385" y="0"/>
                </a:moveTo>
                <a:lnTo>
                  <a:pt x="59385" y="21600"/>
                </a:lnTo>
                <a:lnTo>
                  <a:pt x="57985" y="20200"/>
                </a:lnTo>
                <a:lnTo>
                  <a:pt x="57985" y="1400"/>
                </a:lnTo>
                <a:close/>
              </a:path>
              <a:path fill="darkenLess" w="59385" h="21600">
                <a:moveTo>
                  <a:pt x="593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85" y="20200"/>
                </a:lnTo>
                <a:close/>
              </a:path>
              <a:path fill="lighten" w="593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15"/>
          <p:cNvSpPr/>
          <p:nvPr/>
        </p:nvSpPr>
        <p:spPr>
          <a:xfrm>
            <a:off x="685800" y="42670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凸透镜成放大的倒立的实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5" name="Group 19"/>
          <p:cNvGrpSpPr/>
          <p:nvPr/>
        </p:nvGrpSpPr>
        <p:grpSpPr>
          <a:xfrm>
            <a:off x="609480" y="4267080"/>
            <a:ext cx="7924680" cy="993240"/>
            <a:chOff x="609480" y="4267080"/>
            <a:chExt cx="7924680" cy="993240"/>
          </a:xfrm>
        </p:grpSpPr>
        <p:sp>
          <p:nvSpPr>
            <p:cNvPr id="546" name="Text Box 17"/>
            <p:cNvSpPr/>
            <p:nvPr/>
          </p:nvSpPr>
          <p:spPr>
            <a:xfrm>
              <a:off x="4647960" y="4267080"/>
              <a:ext cx="38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幻灯片和透镜的距离是物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Text Box 18"/>
            <p:cNvSpPr/>
            <p:nvPr/>
          </p:nvSpPr>
          <p:spPr>
            <a:xfrm>
              <a:off x="609480" y="4800600"/>
              <a:ext cx="403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（</a:t>
              </a:r>
              <a:r>
                <a:rPr b="1" lang="en-US" sz="24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f&lt; u &lt;2f)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8" name="Text Box 20"/>
          <p:cNvSpPr/>
          <p:nvPr/>
        </p:nvSpPr>
        <p:spPr>
          <a:xfrm>
            <a:off x="609480" y="53341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放大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21"/>
          <p:cNvSpPr/>
          <p:nvPr/>
        </p:nvSpPr>
        <p:spPr>
          <a:xfrm>
            <a:off x="685800" y="57913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凸透镜成放大的正立的虚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Group 24"/>
          <p:cNvGrpSpPr/>
          <p:nvPr/>
        </p:nvGrpSpPr>
        <p:grpSpPr>
          <a:xfrm>
            <a:off x="685800" y="5791320"/>
            <a:ext cx="8458200" cy="840600"/>
            <a:chOff x="685800" y="5791320"/>
            <a:chExt cx="8458200" cy="840600"/>
          </a:xfrm>
        </p:grpSpPr>
        <p:sp>
          <p:nvSpPr>
            <p:cNvPr id="551" name="Text Box 22"/>
            <p:cNvSpPr/>
            <p:nvPr/>
          </p:nvSpPr>
          <p:spPr>
            <a:xfrm>
              <a:off x="4876920" y="5791320"/>
              <a:ext cx="426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人要透过凸透镜才能看到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Text Box 23"/>
            <p:cNvSpPr/>
            <p:nvPr/>
          </p:nvSpPr>
          <p:spPr>
            <a:xfrm>
              <a:off x="685800" y="617220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(u&lt;f)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3" name="ShockwaveFlash1"/>
          <p:cNvGraphicFramePr/>
          <p:nvPr/>
        </p:nvGraphicFramePr>
        <p:xfrm>
          <a:off x="-380880" y="457200"/>
          <a:ext cx="9370800" cy="26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4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80880" y="457200"/>
                    <a:ext cx="937080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5" name="Text Box 3"/>
          <p:cNvSpPr/>
          <p:nvPr/>
        </p:nvSpPr>
        <p:spPr>
          <a:xfrm>
            <a:off x="2057400" y="-7632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透镜成像规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6" name=""/>
          <p:cNvGraphicFramePr/>
          <p:nvPr/>
        </p:nvGraphicFramePr>
        <p:xfrm>
          <a:off x="0" y="3179880"/>
          <a:ext cx="8915400" cy="3676680"/>
        </p:xfrm>
        <a:graphic>
          <a:graphicData uri="http://schemas.openxmlformats.org/drawingml/2006/table">
            <a:tbl>
              <a:tblPr/>
              <a:tblGrid>
                <a:gridCol w="1486080"/>
                <a:gridCol w="1485720"/>
                <a:gridCol w="1486080"/>
                <a:gridCol w="1485720"/>
                <a:gridCol w="1486080"/>
                <a:gridCol w="1485720"/>
              </a:tblGrid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物距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即物体到凸透镜的距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像距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即像到凸透镜的距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像的大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（放大或缩小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像的正倒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像与物同侧或异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实像或虚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7" name="Text Box 55"/>
          <p:cNvSpPr/>
          <p:nvPr/>
        </p:nvSpPr>
        <p:spPr>
          <a:xfrm>
            <a:off x="152280" y="40384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&gt;2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56"/>
          <p:cNvSpPr/>
          <p:nvPr/>
        </p:nvSpPr>
        <p:spPr>
          <a:xfrm>
            <a:off x="228600" y="46483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=2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57"/>
          <p:cNvSpPr/>
          <p:nvPr/>
        </p:nvSpPr>
        <p:spPr>
          <a:xfrm>
            <a:off x="152280" y="51814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&lt;u&lt;2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58"/>
          <p:cNvSpPr/>
          <p:nvPr/>
        </p:nvSpPr>
        <p:spPr>
          <a:xfrm>
            <a:off x="152280" y="5791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=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59"/>
          <p:cNvSpPr/>
          <p:nvPr/>
        </p:nvSpPr>
        <p:spPr>
          <a:xfrm>
            <a:off x="228600" y="6400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&lt;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60"/>
          <p:cNvSpPr/>
          <p:nvPr/>
        </p:nvSpPr>
        <p:spPr>
          <a:xfrm>
            <a:off x="1676520" y="4114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&lt;v&lt;2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61"/>
          <p:cNvSpPr/>
          <p:nvPr/>
        </p:nvSpPr>
        <p:spPr>
          <a:xfrm>
            <a:off x="3200400" y="4114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缩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62"/>
          <p:cNvSpPr/>
          <p:nvPr/>
        </p:nvSpPr>
        <p:spPr>
          <a:xfrm>
            <a:off x="4648320" y="4114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倒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63"/>
          <p:cNvSpPr/>
          <p:nvPr/>
        </p:nvSpPr>
        <p:spPr>
          <a:xfrm>
            <a:off x="6248520" y="4114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异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64"/>
          <p:cNvSpPr/>
          <p:nvPr/>
        </p:nvSpPr>
        <p:spPr>
          <a:xfrm>
            <a:off x="7620120" y="40384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实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65"/>
          <p:cNvSpPr/>
          <p:nvPr/>
        </p:nvSpPr>
        <p:spPr>
          <a:xfrm>
            <a:off x="1523880" y="52578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&gt;2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66"/>
          <p:cNvSpPr/>
          <p:nvPr/>
        </p:nvSpPr>
        <p:spPr>
          <a:xfrm>
            <a:off x="3048120" y="5257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放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67"/>
          <p:cNvSpPr/>
          <p:nvPr/>
        </p:nvSpPr>
        <p:spPr>
          <a:xfrm>
            <a:off x="4495680" y="52578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倒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68"/>
          <p:cNvSpPr/>
          <p:nvPr/>
        </p:nvSpPr>
        <p:spPr>
          <a:xfrm>
            <a:off x="6095880" y="52578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异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69"/>
          <p:cNvSpPr/>
          <p:nvPr/>
        </p:nvSpPr>
        <p:spPr>
          <a:xfrm>
            <a:off x="7467480" y="51814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实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70"/>
          <p:cNvSpPr/>
          <p:nvPr/>
        </p:nvSpPr>
        <p:spPr>
          <a:xfrm>
            <a:off x="7543800" y="5715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无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71"/>
          <p:cNvSpPr/>
          <p:nvPr/>
        </p:nvSpPr>
        <p:spPr>
          <a:xfrm>
            <a:off x="3124080" y="64008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放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72"/>
          <p:cNvSpPr/>
          <p:nvPr/>
        </p:nvSpPr>
        <p:spPr>
          <a:xfrm>
            <a:off x="4572000" y="6400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正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73"/>
          <p:cNvSpPr/>
          <p:nvPr/>
        </p:nvSpPr>
        <p:spPr>
          <a:xfrm>
            <a:off x="6172200" y="6400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同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74"/>
          <p:cNvSpPr/>
          <p:nvPr/>
        </p:nvSpPr>
        <p:spPr>
          <a:xfrm>
            <a:off x="7543800" y="63244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虚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75"/>
          <p:cNvSpPr/>
          <p:nvPr/>
        </p:nvSpPr>
        <p:spPr>
          <a:xfrm>
            <a:off x="1676520" y="46483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=2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76"/>
          <p:cNvSpPr/>
          <p:nvPr/>
        </p:nvSpPr>
        <p:spPr>
          <a:xfrm>
            <a:off x="3200400" y="46483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等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 Box 77"/>
          <p:cNvSpPr/>
          <p:nvPr/>
        </p:nvSpPr>
        <p:spPr>
          <a:xfrm>
            <a:off x="4643280" y="46530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倒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78"/>
          <p:cNvSpPr/>
          <p:nvPr/>
        </p:nvSpPr>
        <p:spPr>
          <a:xfrm>
            <a:off x="6248520" y="46483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异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79"/>
          <p:cNvSpPr/>
          <p:nvPr/>
        </p:nvSpPr>
        <p:spPr>
          <a:xfrm>
            <a:off x="7620120" y="4572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实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AutoShape 80">
            <a:hlinkClick r:id="" action="ppaction://hlinkshowjump?jump=firstslide"/>
          </p:cNvPr>
          <p:cNvSpPr/>
          <p:nvPr/>
        </p:nvSpPr>
        <p:spPr>
          <a:xfrm>
            <a:off x="0" y="0"/>
            <a:ext cx="8763120" cy="838080"/>
          </a:xfrm>
          <a:custGeom>
            <a:avLst/>
            <a:gdLst>
              <a:gd name="textAreaLeft" fmla="*/ 54000 w 8763120"/>
              <a:gd name="textAreaRight" fmla="*/ 8709120 w 8763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25766" h="21600">
                <a:moveTo>
                  <a:pt x="0" y="0"/>
                </a:moveTo>
                <a:lnTo>
                  <a:pt x="225766" y="0"/>
                </a:lnTo>
                <a:lnTo>
                  <a:pt x="225766" y="21600"/>
                </a:lnTo>
                <a:lnTo>
                  <a:pt x="0" y="21600"/>
                </a:lnTo>
                <a:close/>
              </a:path>
              <a:path fill="lightenLess" w="225766" h="21600">
                <a:moveTo>
                  <a:pt x="0" y="0"/>
                </a:moveTo>
                <a:lnTo>
                  <a:pt x="225766" y="0"/>
                </a:lnTo>
                <a:lnTo>
                  <a:pt x="224366" y="1400"/>
                </a:lnTo>
                <a:lnTo>
                  <a:pt x="1400" y="1400"/>
                </a:lnTo>
                <a:close/>
              </a:path>
              <a:path fill="darken" w="225766" h="21600">
                <a:moveTo>
                  <a:pt x="225766" y="0"/>
                </a:moveTo>
                <a:lnTo>
                  <a:pt x="225766" y="21600"/>
                </a:lnTo>
                <a:lnTo>
                  <a:pt x="224366" y="20200"/>
                </a:lnTo>
                <a:lnTo>
                  <a:pt x="224366" y="1400"/>
                </a:lnTo>
                <a:close/>
              </a:path>
              <a:path fill="darkenLess" w="225766" h="21600">
                <a:moveTo>
                  <a:pt x="225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366" y="20200"/>
                </a:lnTo>
                <a:close/>
              </a:path>
              <a:path fill="lighten" w="225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4" name="ShockwaveFlash1"/>
          <p:cNvGraphicFramePr/>
          <p:nvPr/>
        </p:nvGraphicFramePr>
        <p:xfrm>
          <a:off x="0" y="152280"/>
          <a:ext cx="9144000" cy="563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5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2280"/>
                    <a:ext cx="9144000" cy="563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AutoShape 6">
            <a:hlinkClick r:id="" action="ppaction://hlinkshowjump?jump=firstslide"/>
          </p:cNvPr>
          <p:cNvSpPr/>
          <p:nvPr/>
        </p:nvSpPr>
        <p:spPr>
          <a:xfrm>
            <a:off x="838080" y="6027840"/>
            <a:ext cx="5562720" cy="838080"/>
          </a:xfrm>
          <a:custGeom>
            <a:avLst/>
            <a:gdLst>
              <a:gd name="textAreaLeft" fmla="*/ 54000 w 5562720"/>
              <a:gd name="textAreaRight" fmla="*/ 5508720 w 5562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143317" h="21600">
                <a:moveTo>
                  <a:pt x="0" y="0"/>
                </a:moveTo>
                <a:lnTo>
                  <a:pt x="143317" y="0"/>
                </a:lnTo>
                <a:lnTo>
                  <a:pt x="143317" y="21600"/>
                </a:lnTo>
                <a:lnTo>
                  <a:pt x="0" y="21600"/>
                </a:lnTo>
                <a:close/>
              </a:path>
              <a:path fill="lightenLess" w="143317" h="21600">
                <a:moveTo>
                  <a:pt x="0" y="0"/>
                </a:moveTo>
                <a:lnTo>
                  <a:pt x="143317" y="0"/>
                </a:lnTo>
                <a:lnTo>
                  <a:pt x="141917" y="1400"/>
                </a:lnTo>
                <a:lnTo>
                  <a:pt x="1400" y="1400"/>
                </a:lnTo>
                <a:close/>
              </a:path>
              <a:path fill="darken" w="143317" h="21600">
                <a:moveTo>
                  <a:pt x="143317" y="0"/>
                </a:moveTo>
                <a:lnTo>
                  <a:pt x="143317" y="21600"/>
                </a:lnTo>
                <a:lnTo>
                  <a:pt x="141917" y="20200"/>
                </a:lnTo>
                <a:lnTo>
                  <a:pt x="141917" y="1400"/>
                </a:lnTo>
                <a:close/>
              </a:path>
              <a:path fill="darkenLess" w="143317" h="21600">
                <a:moveTo>
                  <a:pt x="143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1917" y="20200"/>
                </a:lnTo>
                <a:close/>
              </a:path>
              <a:path fill="lighten" w="143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8" name="MediaPlayer1"/>
          <p:cNvGraphicFramePr/>
          <p:nvPr/>
        </p:nvGraphicFramePr>
        <p:xfrm>
          <a:off x="304920" y="228600"/>
          <a:ext cx="8534160" cy="56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9" name="MediaPlayer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28600"/>
                    <a:ext cx="853416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0" name="AutoShape 5">
            <a:hlinkClick r:id="" action="ppaction://hlinkshowjump?jump=firstslide"/>
          </p:cNvPr>
          <p:cNvSpPr/>
          <p:nvPr/>
        </p:nvSpPr>
        <p:spPr>
          <a:xfrm>
            <a:off x="838080" y="6172200"/>
            <a:ext cx="5562720" cy="838080"/>
          </a:xfrm>
          <a:custGeom>
            <a:avLst/>
            <a:gdLst>
              <a:gd name="textAreaLeft" fmla="*/ 54000 w 5562720"/>
              <a:gd name="textAreaRight" fmla="*/ 5508720 w 5562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143317" h="21600">
                <a:moveTo>
                  <a:pt x="0" y="0"/>
                </a:moveTo>
                <a:lnTo>
                  <a:pt x="143317" y="0"/>
                </a:lnTo>
                <a:lnTo>
                  <a:pt x="143317" y="21600"/>
                </a:lnTo>
                <a:lnTo>
                  <a:pt x="0" y="21600"/>
                </a:lnTo>
                <a:close/>
              </a:path>
              <a:path fill="lightenLess" w="143317" h="21600">
                <a:moveTo>
                  <a:pt x="0" y="0"/>
                </a:moveTo>
                <a:lnTo>
                  <a:pt x="143317" y="0"/>
                </a:lnTo>
                <a:lnTo>
                  <a:pt x="141917" y="1400"/>
                </a:lnTo>
                <a:lnTo>
                  <a:pt x="1400" y="1400"/>
                </a:lnTo>
                <a:close/>
              </a:path>
              <a:path fill="darken" w="143317" h="21600">
                <a:moveTo>
                  <a:pt x="143317" y="0"/>
                </a:moveTo>
                <a:lnTo>
                  <a:pt x="143317" y="21600"/>
                </a:lnTo>
                <a:lnTo>
                  <a:pt x="141917" y="20200"/>
                </a:lnTo>
                <a:lnTo>
                  <a:pt x="141917" y="1400"/>
                </a:lnTo>
                <a:close/>
              </a:path>
              <a:path fill="darkenLess" w="143317" h="21600">
                <a:moveTo>
                  <a:pt x="143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1917" y="20200"/>
                </a:lnTo>
                <a:close/>
              </a:path>
              <a:path fill="lighten" w="143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自制照相机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MP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2" name="ShockwaveFlash1"/>
          <p:cNvGraphicFramePr/>
          <p:nvPr/>
        </p:nvGraphicFramePr>
        <p:xfrm>
          <a:off x="0" y="0"/>
          <a:ext cx="9144000" cy="594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3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4" name="AutoShape 5">
            <a:hlinkClick r:id="" action="ppaction://hlinkshowjump?jump=firstslide"/>
          </p:cNvPr>
          <p:cNvSpPr/>
          <p:nvPr/>
        </p:nvSpPr>
        <p:spPr>
          <a:xfrm>
            <a:off x="1447920" y="6400800"/>
            <a:ext cx="6933960" cy="685800"/>
          </a:xfrm>
          <a:custGeom>
            <a:avLst/>
            <a:gdLst>
              <a:gd name="textAreaLeft" fmla="*/ 44280 w 6933960"/>
              <a:gd name="textAreaRight" fmla="*/ 6889680 w 69339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8289" h="21600">
                <a:moveTo>
                  <a:pt x="0" y="0"/>
                </a:moveTo>
                <a:lnTo>
                  <a:pt x="218289" y="0"/>
                </a:lnTo>
                <a:lnTo>
                  <a:pt x="218289" y="21600"/>
                </a:lnTo>
                <a:lnTo>
                  <a:pt x="0" y="21600"/>
                </a:lnTo>
                <a:close/>
              </a:path>
              <a:path fill="lightenLess" w="218289" h="21600">
                <a:moveTo>
                  <a:pt x="0" y="0"/>
                </a:moveTo>
                <a:lnTo>
                  <a:pt x="218289" y="0"/>
                </a:lnTo>
                <a:lnTo>
                  <a:pt x="216889" y="1400"/>
                </a:lnTo>
                <a:lnTo>
                  <a:pt x="1400" y="1400"/>
                </a:lnTo>
                <a:close/>
              </a:path>
              <a:path fill="darken" w="218289" h="21600">
                <a:moveTo>
                  <a:pt x="218289" y="0"/>
                </a:moveTo>
                <a:lnTo>
                  <a:pt x="218289" y="21600"/>
                </a:lnTo>
                <a:lnTo>
                  <a:pt x="216889" y="20200"/>
                </a:lnTo>
                <a:lnTo>
                  <a:pt x="216889" y="1400"/>
                </a:lnTo>
                <a:close/>
              </a:path>
              <a:path fill="darkenLess" w="218289" h="21600">
                <a:moveTo>
                  <a:pt x="218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889" y="20200"/>
                </a:lnTo>
                <a:close/>
              </a:path>
              <a:path fill="lighten" w="218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5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9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7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8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4T13:14:12Z</dcterms:created>
  <dc:creator>ll</dc:creator>
  <dc:description/>
  <dc:language>en-US</dc:language>
  <cp:lastModifiedBy>a</cp:lastModifiedBy>
  <dcterms:modified xsi:type="dcterms:W3CDTF">2015-03-17T07:14:31Z</dcterms:modified>
  <cp:revision>11</cp:revision>
  <dc:subject/>
  <dc:title>PowerPoint 演示文稿</dc:title>
</cp:coreProperties>
</file>