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阿里巧巧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aliqq.com.cn</a:t>
            </a:r>
            <a:endParaRPr b="1" i="1" lang="en-US" sz="12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dt" idx="40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9621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709D-137A-49B2-938E-2740606BEDF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阿里巧巧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aliqq.com.cn</a:t>
            </a:r>
            <a:endParaRPr b="1" i="1" lang="en-US" sz="12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6BE8-43C0-475C-B6AA-2B3315653A4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1AF8-C602-47C5-8C5F-048EE1F3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06D7-E05D-4438-8E02-074EE634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BC24D-83DF-45E2-96BD-CE61656D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B4382-A07D-4383-ADB9-58FF16BC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B9ACE-4549-4390-BECA-8D7F1DBD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3024F-9416-4000-9111-023FE28F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1E2BF-8D4B-4716-90A4-2954659C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2670F-F737-4FEF-8EA9-F964CE59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15EE5-3283-42C5-905F-764C1E44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424A9-73D9-4EF7-A1DA-E38FE175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3066A-E1DB-438F-A86E-4EA6CCA3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64848-8A7B-45F4-B2D9-38C15B1E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4269-157B-4797-A728-E7BA5FBD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4F632-33E1-465B-9021-7F06B7B8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A604C-DAA3-4CD5-BBB4-F2DF9B8A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F6E86-E0CE-43C6-8267-9B7EBC6E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EA4C4-7B1A-41D1-BDA0-9E5D839B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94DFE-F85F-48D1-A49E-87478C9D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05151-BCFA-4A05-B6A8-F81BCD3C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8D3B4-6122-401C-A737-B73396A9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C2D0F-92D9-4A35-BCBD-AC87356A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C5DAF-EDE7-4BA6-B470-EABF5DD4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AA89B-1800-45D0-B47F-A1724E10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78E9-3B0B-4C82-B2E3-4CFAF56E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429FE-BBC9-4AA4-AF97-79BB25D0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1AADC-89F9-4EB0-8AD1-8674F03F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216A9-1EC0-40D8-8173-489611DA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29B8D-8CEA-47D6-B06F-ED7DD025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76C44-5F45-49A4-BE83-D869D810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A26A1-13C8-4E23-BCA0-B4A00F6A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6E1F6-0B80-46A8-BD41-241FC99E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AA296-CCD4-4879-8F06-6C94155D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FCACA-8449-485B-9786-CC2B45F2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F0627-C62F-457C-8835-D1A5B988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BD35-BB07-4630-8610-FD07E0DC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452D4-602F-4BC9-9998-2B69F891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719C4-66A7-42B3-AE10-92FC2D9F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E8A1C-ACEA-4AB8-A2DA-2F239878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D04F9-D724-4B19-87A9-950FB11A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83363-9043-4674-9904-947A9F22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DE47A-87EC-424E-8B61-77C4A7F1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8B248-44E9-46E4-AF69-697939D9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8E5EB-065F-422B-ACB3-9128D797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C7E9C-CF76-4870-9D4A-FA8AC017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71D95-F54C-43AF-8B56-0AB48791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D7CA-2809-4D5B-85B4-3B45BE3E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38358-1D65-40D5-892F-3E59E4E9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682D3-FB34-48A2-9389-C669AB11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6598D-36CD-4812-9F7F-22A0F331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336F1-6B8F-402C-A92B-40D5D5B9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F743A-7E76-4A12-9FE4-11BEB8E6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A8A909-7771-4FFF-A270-E95ADD7B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CEA0B6-261D-4FA8-8312-AC0B909D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C0A05A-D74B-4DDF-A86F-AF6CBB62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801F24-BCAF-4137-8F6B-47E67A11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A51FD-F9EC-4B3B-997A-F92BA88C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BCD7-BF82-4D54-84B5-D1F8D5E1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4F8B54-F7FE-4C0F-9051-720BB722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97FBB3-ECB6-459C-AB2E-F1B1ACFF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E7344C-2705-4CBA-9D0C-5A974A54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E25233-257D-4D4B-9F90-478CD622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15076-6C05-4A97-8372-B16C7FED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326985-D962-4EA9-A69F-F3F714B2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23D7C7-45CC-4914-9E9A-C239CA57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5844-8287-48CE-88B6-5B0998B3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988C-3982-4897-8EA2-4CB2FE20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BEDF-ACAB-4B1B-93B3-9D1AC736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F902-C017-419E-BDB9-4405E68B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94C2-FBBF-414B-917E-7CADC6D1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4151-9FE2-45EF-B370-A3C2A13C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9100-DCFD-4CAA-9387-B7ADF3E3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F7E2-39AB-4543-B361-8EE71202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FC20-F699-4854-A3D0-FE9771D4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A00E-50E6-419D-8C5F-989BD934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1A49B-7982-4365-92F7-CF885737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4F63D-B9B9-4E8F-A6AB-CD3A8037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91304-2701-4DA5-8045-74065357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F9C0E-C509-4EF9-9E4E-4E95D342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A79B0-8904-4FDE-B263-E2E7689B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5725-5732-448E-87F6-6488DAAE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2CC5C-2EEF-429B-A71D-BC01F1EE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A62BA-6AFF-4703-8F5B-FE091863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AD96A-93A1-44BF-92B2-81B1F4CD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743D4-C46D-4BAD-8F01-A61D73D0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4DFC2-45B5-4C09-BDAD-F3492C18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28461-6F72-46F2-AB4C-233B7CD2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21F49-E235-4DDA-A71B-21D35FA6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F671B-872E-4F33-A9E6-5580C7E5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BE95D-F122-47CF-8F73-DAA0BE98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098BB-4729-40EE-885F-0EA87BDF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27EE-0EC4-4169-9E05-BD996EC6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77071-7C40-48AF-8050-C1E59DC3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A47CC-8EF9-4EBE-A10A-5C930E8F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F8D4B-438D-4BF7-BADE-6E273F34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A6245-5E5B-42AD-A62A-2C1A1FB3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9EA72-5741-4E82-99A9-F1BF7AE4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E12E0-AAF7-434A-B495-884BF4E0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DB4BB-9B78-432F-BC0B-D98536AE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0C1CD-B90A-4543-A9AA-CB722B04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79C4F-8993-4D8F-AE73-64CCA62F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5C1BB-ED40-4609-92B0-D2CC6DA5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11B1-C54D-48E3-AA93-0D37021B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863B9-CEF4-4D13-B2C1-C6F207DD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14CB3-F31C-4436-9DD1-3C2B993B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261ED-95BF-46F2-869F-CC65CF21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E8CCE-C776-436B-870F-DA66BAC0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A2B7C-1714-4996-B858-59C460FE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30706-3483-4457-8640-E65F1FDC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C625E-2031-4905-AFD2-EED23C91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FCAFC-C589-4999-B9B6-2BAC63EB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5E4FF-103E-4F68-B0F0-4B946138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48B14-8860-4D9D-B9C1-B1140DF3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50E4-DCA9-4416-9477-7BC9011B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5CBC2-EE6B-4D0A-ABA9-F1A288F0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03AF4-A271-4F61-90BC-0E24258C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63CB6-6C7A-4728-A40E-55E3AAF2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DE213-D655-4573-B837-11E7A212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490B1-2C3D-490F-B216-DA392A8E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2D4D3-3850-411B-B2A9-D1D3425C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54D60-9414-4581-862C-01B1E1A1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B7522-60A5-4937-A33E-052E97F1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8B655-4576-40C7-98A0-DAAE78DD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BEE3A-B063-4676-96D7-7294E02D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B6D3-9BAE-46B8-86D4-0C46641A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28CA6-65B4-4D85-9CB7-F76DA4D4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F7D11-DE77-474B-9D7C-C358938C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E568A-6FD6-43BF-BCCA-B50D0F58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5FE30-78C8-401B-9F5C-E305DB37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69D7D-DE3F-4DB5-A9B8-06B8431A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9AD6B-E9DF-4FD8-9F8C-E439572B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BF49F-F0DC-469B-973D-F66E6357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39835-836F-47AC-A8A1-511E8302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34A58-C420-4AEE-8293-0CEC38BB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FA74A-98FA-46EA-8EA2-EF9E3914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F8F0-AE38-47DC-9A9D-6F356776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317F1-D00F-4411-AA7E-9C4DD281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7900B-AA95-415D-88B4-3FE5B305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0631C-724E-4BEE-8FF7-434B31B3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7B175-BBA6-44F1-BAE5-99BE4C1D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C7C61-EDE6-48DF-9DC2-3DB617EF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EFCD3-5E32-4932-94C5-8B0C156E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93570-E9A2-43D0-BA23-AC51D931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92938-EABC-41EF-B3AF-58F1CC90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670C8-F7D4-4559-9591-4D0C5A3D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3B06D-9019-449B-94BA-2FA60B06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64E7-F2B9-445A-A01D-7AF96B6C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1675F-C81E-42ED-BDBB-E292EF4F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D0BF9-7FD1-4DED-BFA0-AD095F29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5C3BA-DFBC-414B-97F9-97BBB806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8CE9A-C83C-475D-8A46-A647B05D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5239F-889B-4727-A2D8-FA2879F5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484A3-8C4F-4514-A4F0-10B856BF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8608B-D15B-4734-B516-F58AE64D8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AE0BD-A15B-4531-B3AC-AF8A3865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CADD5-C2BE-4571-8188-506C80BB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1B8BB-E65C-46A3-99C8-15201913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E383-EC34-436A-BD0F-22095782B7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A6B9-19EE-44F3-9C86-5503774B070A}" type="datetime">
              <a:rPr b="1" i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26/7/30</a:t>
            </a:fld>
            <a:endParaRPr b="1" i="1" lang="en-US" sz="1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7128-3E0A-4D97-9AD4-C256A461123E}" type="slidenum">
              <a:rPr b="1" i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D8D9-1EB7-4715-8095-74E7C1D2B3B3}" type="datetime">
              <a:rPr b="1" i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26/7/30</a:t>
            </a:fld>
            <a:endParaRPr b="1" i="1" lang="en-US" sz="1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AC8D-6EDC-4010-91A3-C6395B8AF54C}" type="slidenum">
              <a:rPr b="1" i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6698-CDF2-4F67-A64B-4E959B0C09BF}" type="datetime">
              <a:rPr b="1" i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26/7/30</a:t>
            </a:fld>
            <a:endParaRPr b="1" i="1" lang="en-US" sz="1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D2AC-1177-4DD8-9869-2170D3F56E5E}" type="slidenum">
              <a:rPr b="1" i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F2DB-D2C8-40A0-8F54-2C929BB71F1B}" type="datetime">
              <a:rPr b="1" i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26/7/30</a:t>
            </a:fld>
            <a:endParaRPr b="1" i="1" lang="en-US" sz="1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F3D0-F8AD-4335-83B1-9751F1BB0406}" type="slidenum">
              <a:rPr b="1" i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8C50-EB7B-480E-97D0-5921EA3C0FC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1" i="1" lang="en-US" sz="1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5864-4DF0-4B68-8FFF-9B771F1A3F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5ABB-FAEA-47D1-8A6E-D38391049BD4}" type="datetime">
              <a:rPr b="1" i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26/7/30</a:t>
            </a:fld>
            <a:endParaRPr b="1" i="1" lang="en-US" sz="1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C76D-82BB-41D4-B751-183B70440570}" type="slidenum">
              <a:rPr b="1" i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35F7-C976-449D-A41B-F7389B472B95}" type="datetime">
              <a:rPr b="1" i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26/7/30</a:t>
            </a:fld>
            <a:endParaRPr b="1" i="1" lang="en-US" sz="1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3799-2A3A-433A-A6A9-01CBF3AA05CB}" type="slidenum">
              <a:rPr b="1" i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8294-B0E1-4CF7-8316-0B07036359BD}" type="datetime">
              <a:rPr b="1" i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26/7/30</a:t>
            </a:fld>
            <a:endParaRPr b="1" i="1" lang="en-US" sz="1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2CAB-8784-44B0-AA74-4CD1B6941C30}" type="slidenum">
              <a:rPr b="1" i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C0A6-4254-43AA-8E83-CFC30F599798}" type="datetime">
              <a:rPr b="1" i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26/7/30</a:t>
            </a:fld>
            <a:endParaRPr b="1" i="1" lang="en-US" sz="1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BE56-BA32-4F26-9C6F-DFB7798EB3AB}" type="slidenum">
              <a:rPr b="1" i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20E9-9311-4781-8916-4DFCAEC8CCD0}" type="datetime">
              <a:rPr b="1" i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26/7/30</a:t>
            </a:fld>
            <a:endParaRPr b="1" i="1" lang="en-US" sz="1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9440-DEC1-4D95-AA92-E3CDB5CA902A}" type="slidenum">
              <a:rPr b="1" i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3E15-CC75-4EC3-BFDC-59639C7DB791}" type="datetime">
              <a:rPr b="1" i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26/7/30</a:t>
            </a:fld>
            <a:endParaRPr b="1" i="1" lang="en-US" sz="1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1DF8-5132-4D82-AB79-FB64F4EEFE86}" type="slidenum">
              <a:rPr b="1" i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E476-8656-42CC-965C-EC6F623C2875}" type="datetime">
              <a:rPr b="1" i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26/7/30</a:t>
            </a:fld>
            <a:endParaRPr b="1" i="1" lang="en-US" sz="1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1918-6520-4F88-B85E-2C9C8359BB1A}" type="slidenum">
              <a:rPr b="1" i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社  交  礼  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3504960" y="2743200"/>
            <a:ext cx="4800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礼仪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社交礼仪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同场合的社交礼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同方式的社交礼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人礼仪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5"/>
          <p:cNvSpPr/>
          <p:nvPr/>
        </p:nvSpPr>
        <p:spPr>
          <a:xfrm>
            <a:off x="2998800" y="2771640"/>
            <a:ext cx="399960" cy="4003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543" name="Oval 8"/>
          <p:cNvSpPr/>
          <p:nvPr/>
        </p:nvSpPr>
        <p:spPr>
          <a:xfrm>
            <a:off x="2998800" y="3352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544" name="Oval 10"/>
          <p:cNvSpPr/>
          <p:nvPr/>
        </p:nvSpPr>
        <p:spPr>
          <a:xfrm>
            <a:off x="2998800" y="3933720"/>
            <a:ext cx="399960" cy="4003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545" name="Oval 12"/>
          <p:cNvSpPr/>
          <p:nvPr/>
        </p:nvSpPr>
        <p:spPr>
          <a:xfrm>
            <a:off x="29988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546" name="Oval 14"/>
          <p:cNvSpPr/>
          <p:nvPr/>
        </p:nvSpPr>
        <p:spPr>
          <a:xfrm>
            <a:off x="2998800" y="5153040"/>
            <a:ext cx="399960" cy="4096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同事关系中的礼仪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同事之间应相互尊重，相互关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年轻者应虚心向年长者求教，以尽快提高自己的工作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年长者要关心爱护年轻者，学习他们身上的长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同事之间要相互照顾，相互帮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请求同事帮忙时要用商量的口吻提出，事成之后，要诚心地表示感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同事相处，要以大局为重，求大同、存小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工作上发生分歧时，态度要冷静，虚心地听对方解释自己的意见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事之间，不能以自己为标准去苛求别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办公室员工礼仪要求与禁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树立整洁、端庄的个人礼仪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班时间应尽量穿着工作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男士以西装为主，女士着装要尽量美观大方，不要过于夺目和暴露，也不要浓妆艳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夏天不能穿拖鞋、短裤、背心甚至赤脚出现在办公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在办公室上班要做到“六不”：不随意对他人评头论足，不接听私人电话，不打探别人隐私，不谈论个人薪金，不委过于同事，不干私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还要做到“四要”：办公室卫生要主动打扫，同事见面要问好 ，办公室来人要接待，个人桌面要整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电话礼仪（怎样接、打电话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通话过程中应注意哪些事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参加会议应注意哪些礼仪要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1066680" y="624240"/>
            <a:ext cx="7391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不同方式的社交礼仪</a:t>
            </a:r>
            <a:endParaRPr b="1" i="1" lang="en-US" sz="48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2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5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500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怎样接电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 电话接通，要礼貌主动地介绍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询问对方打电话之目的时，要用婉转的语气，礼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语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要弄清对方意图，才可以告诉对方要找的人的联系方式，必要时记下对方的联系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对方有话别之意时，方可顺势结束谈话并做话别语“再见”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怎样打电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礼貌用语，表明自己的意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你要找的人不在，接电话者答应给你找，你应表示非常感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若对方暂时脱不开身，你也要表示谢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你有重要之事，需要留下自己的联系方式及姓名，要用婉转的语气告诉对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6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1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6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1" dur="5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通话过程中注意事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语调要温和，语气要平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打电话时学会使用使人愉快 电话礼貌用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打电话时交待时间、地点、姓名要准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接电话时，要控制好顺序与持续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打电话要注意环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4" dur="5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9" dur="5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4" dur="500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9" dur="500"/>
                                        <p:tgtEl>
                                          <p:spTgt spid="5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4" dur="500"/>
                                        <p:tgtEl>
                                          <p:spTgt spid="5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c0ff"/>
                </a:solidFill>
                <a:latin typeface="Arial"/>
              </a:rPr>
              <a:t>参加会议各方应注意的礼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组织者礼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保持清醒的头脑和细致的洞察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热情、耐心，力求做到有求必应，有问必答，    不厌其烦，准备充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主持人礼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注意自己的一言一行，做到大方，符合自己的身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议主持人的言谈要根据不同的会议气氛调整；要处处尊重他人的发言和提问；口齿清楚，思维敏捷；要善于调节，控制会议的气氛和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6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1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6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1" dur="5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6" dur="5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1" dur="5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6" dur="500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3"/>
          <p:cNvSpPr/>
          <p:nvPr/>
        </p:nvSpPr>
        <p:spPr>
          <a:xfrm>
            <a:off x="533520" y="2362320"/>
            <a:ext cx="4038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仪表礼仪</a:t>
            </a:r>
            <a:endParaRPr b="1" i="1" lang="en-US" sz="3200" spc="-1" strike="noStrike" u="sng">
              <a:solidFill>
                <a:srgbClr val="ccec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 u="sng">
              <a:solidFill>
                <a:srgbClr val="ccec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语言礼仪</a:t>
            </a:r>
            <a:endParaRPr b="1" i="1" lang="en-US" sz="3200" spc="-1" strike="noStrike" u="sng">
              <a:solidFill>
                <a:srgbClr val="ccec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 u="sng">
              <a:solidFill>
                <a:srgbClr val="ccec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行为礼仪</a:t>
            </a:r>
            <a:endParaRPr b="1" i="1" lang="en-US" sz="3200" spc="-1" strike="noStrike" u="sng">
              <a:solidFill>
                <a:srgbClr val="ccec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 u="sng">
              <a:solidFill>
                <a:srgbClr val="ccec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电话礼仪</a:t>
            </a:r>
            <a:endParaRPr b="1" i="1" lang="en-US" sz="32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pic>
        <p:nvPicPr>
          <p:cNvPr id="580" name="Object 4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3598920" cy="3598920"/>
          </a:xfrm>
          <a:prstGeom prst="rect">
            <a:avLst/>
          </a:prstGeom>
          <a:ln w="0">
            <a:noFill/>
          </a:ln>
        </p:spPr>
      </p:pic>
      <p:pic>
        <p:nvPicPr>
          <p:cNvPr id="581" name="WordArt 6" descr=""/>
          <p:cNvPicPr/>
          <p:nvPr/>
        </p:nvPicPr>
        <p:blipFill>
          <a:blip r:embed="rId2"/>
          <a:stretch/>
        </p:blipFill>
        <p:spPr>
          <a:xfrm>
            <a:off x="334800" y="219240"/>
            <a:ext cx="4065840" cy="126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4800" spc="-1" strike="noStrike">
                <a:solidFill>
                  <a:srgbClr val="66ff33"/>
                </a:solidFill>
                <a:latin typeface="Arial"/>
              </a:rPr>
              <a:t>* * *</a:t>
            </a:r>
            <a:r>
              <a:rPr b="1" lang="zh-CN" sz="4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i="1" lang="zh-CN" sz="4800" spc="-1" strike="noStrike">
                <a:solidFill>
                  <a:srgbClr val="66ff33"/>
                </a:solidFill>
                <a:latin typeface="Arial"/>
              </a:rPr>
              <a:t>礼 表 礼 仪</a:t>
            </a:r>
            <a:br>
              <a:rPr sz="4800"/>
            </a:br>
            <a:r>
              <a:rPr b="0" lang="zh-CN" sz="3600" spc="-1" strike="noStrike">
                <a:solidFill>
                  <a:srgbClr val="66ff33"/>
                </a:solidFill>
                <a:latin typeface="Arial"/>
              </a:rPr>
              <a:t>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0" y="1447920"/>
            <a:ext cx="9144000" cy="63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正确的着装</a:t>
            </a:r>
            <a:endParaRPr b="1" i="1" lang="en-US" sz="2400" spc="-1" strike="noStrike" u="sng">
              <a:solidFill>
                <a:srgbClr val="ccecff"/>
              </a:solidFill>
              <a:uFillTx/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 u="sng">
              <a:solidFill>
                <a:srgbClr val="ccecff"/>
              </a:solidFill>
              <a:uFillTx/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 u="sng">
              <a:solidFill>
                <a:srgbClr val="ccecff"/>
              </a:solidFill>
              <a:uFillTx/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 u="sng">
              <a:solidFill>
                <a:srgbClr val="ccecff"/>
              </a:solidFill>
              <a:uFillTx/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 u="sng">
              <a:solidFill>
                <a:srgbClr val="ccecff"/>
              </a:solidFill>
              <a:uFillTx/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 u="sng">
              <a:solidFill>
                <a:srgbClr val="ccecff"/>
              </a:solidFill>
              <a:uFillTx/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礼”在《辞海》中注释为敬神，可引申为表示敬意的通称；为表示敬意而隆重举行的仪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《诗经》和《周礼》中，礼仪一词的内涵是典章制度和道德教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4"/>
          <p:cNvSpPr/>
          <p:nvPr/>
        </p:nvSpPr>
        <p:spPr>
          <a:xfrm>
            <a:off x="685800" y="487440"/>
            <a:ext cx="7924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ecff"/>
                </a:solidFill>
                <a:latin typeface="Arial"/>
              </a:rPr>
              <a:t>礼 仪 的 概 念</a:t>
            </a:r>
            <a:endParaRPr b="1" i="1" lang="en-US" sz="48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  <p:sp>
        <p:nvSpPr>
          <p:cNvPr id="549" name="Text Box 16"/>
          <p:cNvSpPr/>
          <p:nvPr/>
        </p:nvSpPr>
        <p:spPr>
          <a:xfrm>
            <a:off x="457200" y="4017600"/>
            <a:ext cx="380988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韦氏词典中，含有“礼仪”意义的单词主要有四个：</a:t>
            </a:r>
            <a:endParaRPr b="1" i="1" lang="en-US" sz="1800" spc="-1" strike="noStrike" u="sng">
              <a:solidFill>
                <a:srgbClr val="ccecff"/>
              </a:solidFill>
              <a:uFillTx/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rtes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意指言辞和行为谦恭有加。</a:t>
            </a:r>
            <a:endParaRPr b="1" i="1" lang="en-US" sz="1800" spc="-1" strike="noStrike" u="sng">
              <a:solidFill>
                <a:srgbClr val="ccecff"/>
              </a:solidFill>
              <a:uFillTx/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iquet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现代英语中有三层含义：一是指礼仪，二是批礼节（即言辞或行为以既定的习惯、约束为标准；三是批规范，是规范同行业人员的行为、言辞等规矩的总称。</a:t>
            </a:r>
            <a:endParaRPr b="1" i="1" lang="en-US" sz="1800" spc="-1" strike="noStrike" u="sng">
              <a:solidFill>
                <a:srgbClr val="ccecff"/>
              </a:solidFill>
              <a:uFillTx/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指一种公认的相处准则。</a:t>
            </a:r>
            <a:endParaRPr b="1" i="1" lang="en-US" sz="1800" spc="-1" strike="noStrike" u="sng">
              <a:solidFill>
                <a:srgbClr val="ccecff"/>
              </a:solidFill>
              <a:uFillTx/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批仪式和典礼；另外指由习惯、惯例和仪式等构成的礼仪行为或一系列此类行为。</a:t>
            </a:r>
            <a:endParaRPr b="1" i="1" lang="en-US" sz="1800" spc="-1" strike="noStrike" u="sng">
              <a:solidFill>
                <a:srgbClr val="ccecff"/>
              </a:solidFill>
              <a:uFillTx/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1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2" presetSubtype="1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" nodeType="afterEffect" fill="hold" presetClass="entr" presetID="2" presetSubtype="1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3" nodeType="afterEffect" fill="hold" presetClass="entr" presetID="2" presetSubtype="1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" nodeType="afterEffect" fill="hold" presetClass="entr" presetID="2" presetSubtype="1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i="1" lang="en-US" sz="4000" spc="-1" strike="noStrike" u="sng">
                <a:solidFill>
                  <a:srgbClr val="ccecff"/>
                </a:solidFill>
                <a:uFillTx/>
                <a:latin typeface="Arial"/>
              </a:endParaRPr>
            </a:p>
          </p:txBody>
        </p:sp>
        <p:pic>
          <p:nvPicPr>
            <p:cNvPr id="59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1" i="1" lang="en-US" sz="3200" spc="-1" strike="noStrike" u="sng">
                <a:solidFill>
                  <a:srgbClr val="ccecff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社   交   礼   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Object 8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3200400" cy="403884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9"/>
          <p:cNvSpPr/>
          <p:nvPr/>
        </p:nvSpPr>
        <p:spPr>
          <a:xfrm>
            <a:off x="4343400" y="4589640"/>
            <a:ext cx="380988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人类区别于动物的一个显著特征是人的社会性。置身一社会中的人与人之间总会有各种交往活动，即我们所说的社交。</a:t>
            </a:r>
            <a:endParaRPr b="1" i="1" lang="en-US" sz="2800" spc="-1" strike="noStrike" u="sng">
              <a:solidFill>
                <a:srgbClr val="ccecff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 u="sng">
              <a:solidFill>
                <a:srgbClr val="ccecff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2" presetSubtype="2">
                                  <p:stCondLst>
                                    <p:cond delay="3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" dur="3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办公室的礼仪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上下级关系中的礼仪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听取汇报时的礼仪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汇报工作时的礼仪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同事关系中的礼仪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办公室员工礼仪要求与禁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685800" y="700200"/>
            <a:ext cx="7924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不 同 场 合 的 社 交 礼 仪</a:t>
            </a:r>
            <a:endParaRPr b="1" i="1" lang="en-US" sz="4800" spc="-1" strike="noStrike" u="sng">
              <a:solidFill>
                <a:srgbClr val="ccec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" presetSubtype="5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3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87" nodeType="afterEffect" fill="hold" presetClass="entr" presetID="3" presetSubtype="5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3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4200"/>
                            </p:stCondLst>
                            <p:childTnLst>
                              <p:par>
                                <p:cTn id="91" nodeType="afterEffect" fill="hold" presetClass="entr" presetID="3" presetSubtype="5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3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6600"/>
                            </p:stCondLst>
                            <p:childTnLst>
                              <p:par>
                                <p:cTn id="95" nodeType="afterEffect" fill="hold" presetClass="entr" presetID="3" presetSubtype="5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3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9000"/>
                            </p:stCondLst>
                            <p:childTnLst>
                              <p:par>
                                <p:cTn id="99" nodeType="afterEffect" fill="hold" presetClass="entr" presetID="3" presetSubtype="5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3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14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300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办 公 室 礼 仪 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自己的外衣、外套不能随手乱扔、乱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办公室穿鞋不能过于随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办公桌保持整洁、干净、清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办公桌上装饰品的摆放不能太过怪异、太私人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太大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办公室里的举止要文明得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只会完成工作的职员不一定是好职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办公室中最忌讳的就是公私不分，这种行为表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多方面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3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1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上下级关系的礼仪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上级对下级的一切工作负有指导的责任；下级应服从上级，并把上级的意图变为具体的行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礼仪决定了上下级之间在遇到事情时所采取的言谈举止，都必须以礼待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上级应率先垂范，做到对下级既关心爱护，又严格管理和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管理过程中，上级要态度和蔼，平心静气，接待下级时要热情，对下级反映的意见和问题要仔细倾听，耐心解释，合理解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上级对对下级生活要关心，但对下级的私事则不应干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下级的错误要给予批评指正，但同时也要欢迎下级的批评，只有这样，才能体现出领导者的风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下级对上级的礼仪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感情上要高度尊重和组织上的服从，而不是表面上谦恭和服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工作上，下级要自觉服从上级的正确领导和指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在领导遇到困难时，下级应协助解决，而不能拆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领导不了解情况时，要帮助他们了解情况，辅佐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当领导和群众有矛盾时，要积极从中调解、解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如果与领导发生意见分歧，不要当面顶撞领导，而应从尊重领导、维护领导的威信的角度出发，婉转地表达自己的意见和看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如果遇到不关心下级、以权压人，甚至给人“穿小鞋”的领导时，也不要消极怠工或到处发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学会在矛盾激化时化解矛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5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500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听取汇报时的礼仪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守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善于倾听，适当提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礼貌地结束交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汇报工作时的礼仪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守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进办公室要注意礼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汇报要实事求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恰当的催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非到催问时不要随便催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催问时要用询问的口气进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要把感情色彩带到语言中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当自己的意见被否定时，要冷静对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汇报结束时应注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4:05:54Z</dcterms:created>
  <dc:creator/>
  <dc:description/>
  <cp:keywords/>
  <dc:language>en-US</dc:language>
  <cp:lastModifiedBy>a</cp:lastModifiedBy>
  <cp:lastPrinted>1995-12-08T18:33:06Z</cp:lastPrinted>
  <dcterms:modified xsi:type="dcterms:W3CDTF">2015-03-17T05:46:19Z</dcterms:modified>
  <cp:revision>147</cp:revision>
  <dc:subject/>
  <dc:title>社交礼仪</dc:title>
</cp:coreProperties>
</file>