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D8B-1271-40E0-BE83-108F6C9D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3F-0983-4C1A-B12D-B3B58174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3EEDE-EAFC-49D6-AF22-739D9C2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9025-1126-4E16-9061-847108F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1D057-5673-4A6B-B958-9636864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2870A-A847-43CA-AB11-07D58F11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5DD26-826C-4B8B-B615-CB1EAA7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3AAC5-598D-4E41-8892-0F80388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3527-2483-4022-8380-3D69241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1D0A-E930-469C-8C42-E872BEF8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9F77-7E1F-4FFE-8DFD-A788CDA9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2B652-A826-499A-AB7A-73C90FB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E03-CA25-4CF4-A153-D2AB9F83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6070C-FB50-415E-AF92-8A380C0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896B-5663-4C7F-8B91-CA8CBB1A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2C0E6-F30D-4174-B066-5DD5700E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E70B2-EDD6-4838-A871-7BF955C5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AEB7-3285-4814-8FB7-1FB5D59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80332-313A-4CDC-9D0A-F00C3F99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E72F0-F470-407C-AC81-4C58CC1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E7F87-736E-4BFE-809E-DBDA6A5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D49D-B31D-42ED-AC30-BB06AB39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3992E-4453-4DC6-A745-F7FD78F5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4ED-742E-4F77-9C10-1C2B29DD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AF304-C0A8-495B-BD4C-890CFFCE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A61C-7E28-4C3E-B981-EAC22060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396A2-88A0-4416-BE70-88329B7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F98A8-EE6D-4DBF-90BA-E35C5245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C7505-5AC8-4D74-9E02-BDE15646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58A2-1BEC-4E4C-ACEA-DBD1300F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43909-8F59-4285-B354-85951BE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65F69-184E-480A-9A71-BE2DFF8A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5928B-B845-44F6-B08F-9F3987A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B6C15-77FB-4483-B2EB-DCDD424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BC55-95EA-44BD-A5AE-873ED17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1DA44-BA39-47FC-98FE-96456FD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88B3-4503-4F14-BF96-F81D4E0B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9DDA-04E2-4DF4-9763-799B9C6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4B76D-E32F-4940-95E2-ED94AD23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3083B-DE77-41E6-ABA3-03F45E4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ECE7E-CDA8-4807-9398-E66EB14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BE033-2BBF-405B-9186-4A755CD2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B7769-3D8D-4141-B594-AD134905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0DD4E-7BEA-4C2A-863D-3A8C76DF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FDA06-BDEA-438A-85D7-E6A3C6C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E075-CAA9-4B6A-B6C9-DFC4AAEF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41C3-0C5E-431C-938A-7557CAE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4300B-ECFC-4404-8062-E0F1EC5E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CF03-255F-4882-96DB-795B50B4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F8437-3497-4DC6-BE5B-DA7D590F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D5884-9ED7-4A21-B096-674945F6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C25E0-B026-4173-AA1C-E7580C34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D49BF-3672-4E41-A197-14A89736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BBA80-74CF-4987-8DB3-8DFBC86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D0FF0-F897-4C9A-9EA9-352C802D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26EEB-6CB9-47E4-8B7A-2093B3A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087C-874A-4CD9-A532-C069718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9084E-BFD8-47AD-9E28-04B6F68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08501-10BD-41DE-BADF-41AC05A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38FB-2845-41D8-B1D7-132F742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65F3C-41C0-4F03-93EF-4AEDDFA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477B0-BC01-4876-939A-DA3F3A8C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46890-7691-40E3-914B-14C48D5C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0C647-76BD-4A36-A850-BD61D935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4C717-D9F4-456C-ACBE-B034D2D9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79FD7-B03A-4CB3-9D06-CDB0517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E1FF6-8CC5-4293-BFB7-7FF7BEAD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105A-0942-478E-864F-2B16780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E790A-27F1-42B4-96B5-31B4BE5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E8248-8105-4C45-BF83-E98A6E5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5AC15-15ED-498D-B357-9D13A263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11E3A-15F5-4000-8E2A-F06C0EB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1E8B2-BDC6-4D1F-A8B6-6FC9867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23DD4-B88F-4025-ADA5-B314D76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77A9D-20BA-4798-ACF3-A03E879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3315A-007F-4171-A590-DD6E2C21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00947-45F5-4CCD-8C66-5F063A05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D23-A594-4A32-BC9B-DF93068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32B-F4DA-4244-9967-9B42CED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490-2C50-4B05-8A88-A5B7CDA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1F7-6516-428F-BE68-12773D6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399-991E-4F96-AA79-34B1C26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B03-B9B4-4B68-A925-17D6BFF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DAF6-A78E-47CC-A8F6-4F947CB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382B-1E53-4D20-96A0-B60E778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9E3-E88C-4F9E-84C7-B5329AA9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8790-C9D6-4737-9AF3-3C6A5EE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4494-698F-4220-AD1B-B38E043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C77C-37D5-41B4-81E2-E127F64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AB3E-0BC1-48BA-9D9D-D800BFA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79E1-63D4-4A6C-9063-1D9EED4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3D1-0AD8-42C5-A983-A22014F8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855A-10CA-4F6D-8E41-06FB480D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914B-B593-4681-9C39-60783DE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63F8-66EA-40D3-ABBA-EB3F2B9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1FAE-AF58-49ED-8151-E5C0B16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B329-8D15-4AE5-AA4F-D0B00BB7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4EB0-A987-4A2B-B926-73394ADB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9467-5BDB-4162-A8DD-DDE831C9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638D-0EA1-4FFA-A2CD-63EEECB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993C-83DC-4B63-9F09-9033108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BC4A-9D32-4F89-8508-423F4C23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673-B467-4125-A442-90CE7758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4558-4A08-4E45-8266-83E3051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E363-7298-4751-823A-30F16603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2257-AF87-4BAD-AB61-EEFEEC9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3836-2917-4780-984A-D3EAB16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224C-2D43-4F99-BF7E-645E421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A568-B067-40B6-B241-26CECD8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CA26-B185-4760-B6B0-F5FC8D6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5E2D-E5F1-42D8-B773-10364F60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2155-A7C3-409F-80EA-CB1372B5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D397-DC39-47C8-89EE-CCF58E02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FB5-CFE9-4546-9476-DD4ED1D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018A-F868-405D-80C5-960BF9A9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2CF82-9AB3-40BC-95FB-A8BF9C3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83F36-8FD9-4652-8FAB-D5636FE1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0772-F4E9-4DF8-AE82-6EF9628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A612-AF26-4EEC-80DE-21C9D64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9C66-9897-45B8-8ACB-E5B6E3E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C952-EABD-4EB7-A76B-2AD7969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9EFD3-CC99-4129-BBFF-1D0A28A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B5C4-8B37-4782-8C85-E266812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54D4F-9E13-4483-9BC4-8CC8A052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CF4-6056-4964-885A-414F6F5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8E68-801D-4937-A192-65065615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D486-90F0-485C-BDA5-DAFABC40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30F0-FE1E-4015-BD69-516BE2D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919D-633B-484C-9B9F-3981C9E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A8BF-D1AE-4474-AD63-5E04EC6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EC76-AF0E-400A-8551-6CF1A4B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CECF-D4BC-4E33-8318-F5A6556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3259-8AAF-44E6-9022-C7032A5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1028-B948-4FD8-B2F8-0B84E70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29D8-6014-4352-94ED-85832F4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CC2-F15C-430A-A92A-F6871D1B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03D6-454B-4F42-ABB6-13271C44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F5A4-6841-4914-8B01-51AB5BDD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DD780-D78C-4BBD-90FC-F358F01F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564A-D3BE-4AAD-8CB9-332BCCB6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98423-31E0-438C-A82D-39A7A6BB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CDACA-CE03-49AD-A377-EA28D723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9CD7-80F4-474B-A10C-0ABDB7C3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94B9-C6D2-44DF-8B90-C25FD87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F339-2748-438C-A364-7EEBE23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5CD2-AB7F-44D0-8A89-A8125E53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EB8-CDB9-48F0-8C8B-BC591E34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1AE9-9FB5-4DE2-A668-861E6704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6A6C-4296-4A08-B218-2BC231E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64C0F-11BD-401F-B795-9BF0B46D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FE45-5ACE-4511-81F2-D209E440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B8F2-8475-4234-89B2-1C566E2E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C138-4E23-4D40-AEAF-2070D9C5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88C85-B6B5-421F-8DC1-B3A6FF2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E66D-393F-4E11-856C-AC75D95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8F85-C39C-4B50-9D2C-644E223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B8F2-5105-49E9-BB27-7D6B1463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B35-43A0-43D6-A00D-F7644005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3A81-8FD4-48C3-A612-C75FEC2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9E69-0C94-44E7-B26A-5E16EC1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959C-7397-4F28-B61A-C56A21B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CF89-E0C0-4CD4-A560-CBC6E003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62FF-6A5D-4B85-A89E-3679AEC2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DA42-5FAE-4861-92EE-7474CC79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2318-995A-49F3-88F8-B0D9FF88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08F04-E241-4A14-BC8B-D9178091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94D8F-A639-47AF-90D8-DFF7634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09F0E-9FA5-4835-A3BF-A415504A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D58-69B8-4E9F-8AC6-BD60F881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96F-0978-4A1C-B9B0-C68C68386A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5D51-AF94-4727-B473-053CD50F31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0573-C8BB-4567-A991-C59046550F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9ABB-E4FE-4655-B673-CBC11F694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81F-081E-4E01-A582-B3855DCEE5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321A-E3F3-4C3E-9F51-797F1F7B2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DBE5-D961-4DA0-A80E-F311008843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1E3A-E092-4935-B7E1-77CE55813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B24C-100E-4F4F-8B6C-3EDBC2EE28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CE0A-3025-4F0E-8B35-EE6075C29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E878-A4B3-4A8C-A170-0A435E7B34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D1FC-6EFF-4FA8-8D26-28933039D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747-DC0B-494B-B25A-B780310B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957-12AB-4E66-BBDD-B993679A31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702-15FA-47A7-966D-949692487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D438-D47C-4D84-8A34-1CFEB20EB2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B45D-64DA-4538-9D10-1958E2A3AC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B371-E476-4450-BCF7-EE80A5BD7B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E7B0-99CC-4C8E-B82A-9A5244979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A61-D4B5-413B-A4F6-31AA6F3E32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38A-E90A-489D-A76F-4683622BD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683-C961-4F68-A578-509D8F06BE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E4D8-026E-4F6A-A6DF-BAAFBB453F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AA6-B99B-486A-A10D-AABF1A9064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C2B-A9C2-407F-B6FF-6DAD9A690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32" descr="\\2\课件制作素材\图片\边框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26"/>
          <p:cNvSpPr/>
          <p:nvPr/>
        </p:nvSpPr>
        <p:spPr>
          <a:xfrm>
            <a:off x="2057400" y="228600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        </a:t>
            </a:r>
            <a:r>
              <a:rPr b="0" i="1" lang="zh-CN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第六章第二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9933"/>
                </a:solidFill>
                <a:latin typeface="华文行楷"/>
                <a:ea typeface="华文行楷"/>
              </a:rPr>
              <a:t>    </a:t>
            </a:r>
            <a:r>
              <a:rPr b="0" i="1" lang="zh-CN" sz="4800" spc="-1" strike="noStrike">
                <a:solidFill>
                  <a:srgbClr val="339933"/>
                </a:solidFill>
                <a:latin typeface="华文行楷"/>
                <a:ea typeface="华文行楷"/>
              </a:rPr>
              <a:t>神经系统的组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029"/>
          <p:cNvSpPr/>
          <p:nvPr/>
        </p:nvSpPr>
        <p:spPr>
          <a:xfrm>
            <a:off x="5225760" y="59436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件制作：荆溪中学  薛小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1" descr="\\2\课件制作素材\图片\边框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2"/>
          <p:cNvSpPr/>
          <p:nvPr/>
        </p:nvSpPr>
        <p:spPr>
          <a:xfrm>
            <a:off x="3679200" y="1295280"/>
            <a:ext cx="34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339933"/>
                </a:solidFill>
                <a:latin typeface="Times New Roman"/>
                <a:ea typeface="华文行楷"/>
              </a:rPr>
              <a:t>第二节  神经系统的组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965240" y="33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19520" y="2133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学习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58128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541008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894200" y="3505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Times New Roman"/>
                <a:ea typeface="华文行楷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257800" y="411480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神经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2"/>
          <p:cNvSpPr/>
          <p:nvPr/>
        </p:nvSpPr>
        <p:spPr>
          <a:xfrm>
            <a:off x="68580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利用学习资料，学会分析并解决问题，说明人体各部分的协调动作主要靠神经系统的调节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685800" y="2286000"/>
            <a:ext cx="74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通过观察、阅读、自学、讨论和总结，描述神经系统与神经元的组成和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85800" y="350532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尝试从自己的生活经验出发，提出问题、作出假设。体验科学发现的本来面目，激励自己更加有效地学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7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4038480" y="50292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9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2"/>
          <p:cNvSpPr/>
          <p:nvPr/>
        </p:nvSpPr>
        <p:spPr>
          <a:xfrm>
            <a:off x="5335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老人突患脑血栓。脑血栓是指因脑动脉硬化、血管腔狭窄、血流缓慢而导致血栓形成，致使局部脑的血液供应受到影响。这时，老人的四肢没有任何损伤，却出现了一侧肢体不能活动的症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457200" y="3352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运动员在跳马比赛中，不幸摔伤腰部，腰部脊髓因此受到了严重损害。尽管及时进行了治疗，并且该运动员的下肢没有任何损伤，动形成了截瘫：下肢丧失运动功能，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12984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由于一侧肢体的运动受到脑血栓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80880" y="5334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可能损伤了控制排尿的神经，由此推断排尿中枢在腰部脊髓。另外脊髓还有向下传导的功能，因为此人的下肢功能丧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8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010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9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2"/>
          <p:cNvSpPr/>
          <p:nvPr/>
        </p:nvSpPr>
        <p:spPr>
          <a:xfrm>
            <a:off x="13557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4" descr="C:\Program Files\Common Files\Microsoft Shared\Clipart\cagcat50\BD00028_.WMF"/>
          <p:cNvPicPr/>
          <p:nvPr/>
        </p:nvPicPr>
        <p:blipFill>
          <a:blip r:embed="rId2"/>
          <a:stretch/>
        </p:blipFill>
        <p:spPr>
          <a:xfrm>
            <a:off x="8001000" y="30492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609480" y="83808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小伙子在劳动中不慎将腰部扭伤，致使由腰部脊髓通向右下肢的神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右侧坐骨神经受到了压迫。这位小伙子的右下肢没有任何损伤，却出现了麻木和疼痛等症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3965400" y="3048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支配右下肢的神经与右侧的坐骨神经受损引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685800" y="39625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患者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位妇女脑颅内长了肿瘤。肿瘤压迫大脑，结果造成了这位妇女失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670120" y="5410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肿瘤压迫了大脑中的视觉中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033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10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2" name="Picture 1027" descr="http://www.pep.com.cn/images/200306/pic_32036.jpg"/>
            <p:cNvPicPr/>
            <p:nvPr/>
          </p:nvPicPr>
          <p:blipFill>
            <a:blip r:embed="rId2"/>
            <a:stretch/>
          </p:blipFill>
          <p:spPr>
            <a:xfrm>
              <a:off x="5181480" y="0"/>
              <a:ext cx="39625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029" descr="http://www.syjy.cn/jxzyk/sck/czsw/pjesa4/h09/h0901/h0901-01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814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Object 7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7816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"/>
          <p:cNvSpPr/>
          <p:nvPr/>
        </p:nvSpPr>
        <p:spPr>
          <a:xfrm>
            <a:off x="22860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所有活动都受神系统的控制。不论是人的内部器官的机能、身体的动作、各种知觉或是人的思想、感情，如没有神经系统的统一调控，人就会变成由一堆盲目的细胞胡乱堆砌而成的行尸走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304920" y="441972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的神经系统分成两个主要部分：一是中枢神经系统，包括脑和脊髓；二是周围神经系统，包括脑神经、脊神经和内脏神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2"/>
          <p:cNvSpPr/>
          <p:nvPr/>
        </p:nvSpPr>
        <p:spPr>
          <a:xfrm>
            <a:off x="539640" y="387504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4" descr="大脑和神经细胞"/>
          <p:cNvPicPr/>
          <p:nvPr/>
        </p:nvPicPr>
        <p:blipFill>
          <a:blip r:embed="rId2"/>
          <a:stretch/>
        </p:blipFill>
        <p:spPr>
          <a:xfrm>
            <a:off x="0" y="0"/>
            <a:ext cx="3352680" cy="231624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5"/>
          <p:cNvSpPr/>
          <p:nvPr/>
        </p:nvSpPr>
        <p:spPr>
          <a:xfrm>
            <a:off x="380880" y="6094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人如果学习、工作成绩优异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会说 他“头脑很聪明”，而如果一个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是犯错误，人们就会说他“没脑子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子很笨”。人之所以比所有的动物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（总的说来如此，但不是所有方面，人许多地方不如一些动物），全靠人的头脑。人的思维活动在大脑里进行，人之所以能说话、写字、作出判断、学习绘画和音乐，全是头脑的作用。人的一切活动，都由头脑控制和调节。没有头脑，这个人就不成为一个人。而且，一旦脑子停止工作，死亡了，即使肉体一些细胞还活着，还有一些功能，这个人也被医生认为已经死亡了，这就是脑死亡。有的科学家认为，人的所有精神活动，本质上都是脑子工作的结果，因此，一切精神活动都是头脑中的电化学生物活动造成的。人的感觉、情绪、动作，包括人自己不能意识和控制的体内活动，全由头脑左右。人类的所有的有意识活动和无意识活动，都出自头脑的功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6"/>
          <p:cNvGrpSpPr/>
          <p:nvPr/>
        </p:nvGrpSpPr>
        <p:grpSpPr>
          <a:xfrm>
            <a:off x="2932200" y="-4869000"/>
            <a:ext cx="7497720" cy="360"/>
            <a:chOff x="2932200" y="-4869000"/>
            <a:chExt cx="7497720" cy="360"/>
          </a:xfrm>
        </p:grpSpPr>
        <p:sp>
          <p:nvSpPr>
            <p:cNvPr id="634" name="Rectangle 2"/>
            <p:cNvSpPr/>
            <p:nvPr/>
          </p:nvSpPr>
          <p:spPr>
            <a:xfrm>
              <a:off x="2932200" y="-4869000"/>
              <a:ext cx="7497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2932200" y="-4869000"/>
              <a:ext cx="7497720" cy="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6" name="Picture 4" descr="http://www.pep.com.cn/images/200306/pic_32016.jpg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32767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7"/>
          <p:cNvSpPr/>
          <p:nvPr/>
        </p:nvSpPr>
        <p:spPr>
          <a:xfrm>
            <a:off x="304920" y="91440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体的其他器官和脑子比较起来，简单得几乎不值一提。脑子虽然也被列为一个系统中的器官，但是一个超出所有器官之上的统领。其他器官不像脑子那么重要。脑子是一个核心。因为脑子是人的意识中心，也是潜意识中心。使人成为万物之灵的，是脑子而不是其他器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子由大脑、小脑和脑干三大部分组成。大脑分为左右两个半球状部分。人的智力、学问和判断力受大脑两个斗球所左右和控制。大脑占据了头颅的整个上部，光从这一点可知道大脑的重要性了。小脑的体积约只有大脑的八分之一，主要功能是维持平衡和协调肌肉活动。脑干又称为下脑，内有控制饥、渴、睡眠等行为的丘脑和下丘脑；以及在脑子各部分之间传递脉冲的中脑和脑桥；还有控制呼吸、血压、心搏及其他重要功能的延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些部分组成了人的脑子，使人聪明敏捷、生龙活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033"/>
          <p:cNvSpPr/>
          <p:nvPr/>
        </p:nvSpPr>
        <p:spPr>
          <a:xfrm>
            <a:off x="44798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1037" descr="http://www.snsyzx.cn/wx/czpdx/jxzyc/sw/2/20/01/jasl2.files/image0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7"/>
          <p:cNvGrpSpPr/>
          <p:nvPr/>
        </p:nvGrpSpPr>
        <p:grpSpPr>
          <a:xfrm>
            <a:off x="0" y="228600"/>
            <a:ext cx="9372600" cy="4876560"/>
            <a:chOff x="0" y="228600"/>
            <a:chExt cx="9372600" cy="4876560"/>
          </a:xfrm>
        </p:grpSpPr>
        <p:pic>
          <p:nvPicPr>
            <p:cNvPr id="642" name="Picture 4" descr="http://etc.cmu.edu.cn/n03/03/web/jipo/xitong/shenjing/zhongshu/xunhuan/image/jishui.jpg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2664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5"/>
            <p:cNvSpPr/>
            <p:nvPr/>
          </p:nvSpPr>
          <p:spPr>
            <a:xfrm>
              <a:off x="2438280" y="914040"/>
              <a:ext cx="670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脊髓能对外界的刺激产生有规律的反应，还能将对这些刺激的反应传导到大脑，是脑与躯干、内脏之间联系的通道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2133720" y="2514240"/>
              <a:ext cx="7238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脊髓里的神经中枢，是受大脑控制的，人能有意识地控制排便和排尿就是一个例证。小儿因大脑的发育尚未完善，对排尿的抑制能力较弱，所以排尿次数多，而且容易发生夜间遗尿现象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5" name="Picture 8" descr="http://gxschool.beelink.com.cn/mid_edu/midschool/biology3/images/back1.gif"/>
          <p:cNvPicPr/>
          <p:nvPr/>
        </p:nvPicPr>
        <p:blipFill>
          <a:blip r:embed="rId3"/>
          <a:stretch/>
        </p:blipFill>
        <p:spPr>
          <a:xfrm>
            <a:off x="701028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http://bj.cmr.com.cn/soccerclub/images/1_04.jpg"/>
          <p:cNvPicPr/>
          <p:nvPr/>
        </p:nvPicPr>
        <p:blipFill>
          <a:blip r:embed="rId1"/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shimianmaifu.mp3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7" name=""/>
          <p:cNvGraphicFramePr/>
          <p:nvPr/>
        </p:nvGraphicFramePr>
        <p:xfrm>
          <a:off x="0" y="76320"/>
          <a:ext cx="9448920" cy="655308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280"/>
                <a:gridCol w="6782040"/>
              </a:tblGrid>
              <a:tr h="76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Rectangle 21"/>
          <p:cNvSpPr/>
          <p:nvPr/>
        </p:nvSpPr>
        <p:spPr>
          <a:xfrm>
            <a:off x="733320" y="303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系统的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165240" y="6904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77"/>
          <p:cNvSpPr/>
          <p:nvPr/>
        </p:nvSpPr>
        <p:spPr>
          <a:xfrm>
            <a:off x="231840" y="424188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神经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8"/>
          <p:cNvSpPr/>
          <p:nvPr/>
        </p:nvSpPr>
        <p:spPr>
          <a:xfrm>
            <a:off x="884880" y="146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9"/>
          <p:cNvSpPr/>
          <p:nvPr/>
        </p:nvSpPr>
        <p:spPr>
          <a:xfrm>
            <a:off x="1342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脊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8"/>
          <p:cNvSpPr/>
          <p:nvPr/>
        </p:nvSpPr>
        <p:spPr>
          <a:xfrm>
            <a:off x="1707840" y="93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90"/>
          <p:cNvSpPr/>
          <p:nvPr/>
        </p:nvSpPr>
        <p:spPr>
          <a:xfrm>
            <a:off x="180000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1"/>
          <p:cNvSpPr/>
          <p:nvPr/>
        </p:nvSpPr>
        <p:spPr>
          <a:xfrm>
            <a:off x="172368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92"/>
          <p:cNvSpPr/>
          <p:nvPr/>
        </p:nvSpPr>
        <p:spPr>
          <a:xfrm>
            <a:off x="1327680" y="4800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脑神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93"/>
          <p:cNvSpPr/>
          <p:nvPr/>
        </p:nvSpPr>
        <p:spPr>
          <a:xfrm>
            <a:off x="125136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脊神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5"/>
          <p:cNvSpPr/>
          <p:nvPr/>
        </p:nvSpPr>
        <p:spPr>
          <a:xfrm>
            <a:off x="4390920" y="3049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系统各组成部分的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6"/>
          <p:cNvSpPr/>
          <p:nvPr/>
        </p:nvSpPr>
        <p:spPr>
          <a:xfrm>
            <a:off x="2666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有感觉、语言、运动等多种神经中枢，调节人体多种生理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00"/>
          <p:cNvSpPr/>
          <p:nvPr/>
        </p:nvSpPr>
        <p:spPr>
          <a:xfrm>
            <a:off x="5113080" y="1828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运动协调、准确，维持身体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2"/>
          <p:cNvSpPr/>
          <p:nvPr/>
        </p:nvSpPr>
        <p:spPr>
          <a:xfrm>
            <a:off x="3124080" y="2362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专门调节心跳、呼吸、血压等人体基本生命活动的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8"/>
          <p:cNvSpPr/>
          <p:nvPr/>
        </p:nvSpPr>
        <p:spPr>
          <a:xfrm>
            <a:off x="3352680" y="502920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9"/>
          <p:cNvSpPr/>
          <p:nvPr/>
        </p:nvSpPr>
        <p:spPr>
          <a:xfrm>
            <a:off x="3643920" y="58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8"/>
          <p:cNvSpPr/>
          <p:nvPr/>
        </p:nvSpPr>
        <p:spPr>
          <a:xfrm>
            <a:off x="2955960" y="327672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对外界或体内的刺激产生有规律的反应，还能将对这些刺激的反应传导到大脑，是脑与躯干、内脏之间的联系通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39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701028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42080" y="3525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腔上皮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8" name="Picture 3" descr="http://www.wx.net.cn/qyxz/no31/21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240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http://www.northeast.com.cn/kjnews/80200309050378_22508.jpg"/>
            <p:cNvPicPr/>
            <p:nvPr/>
          </p:nvPicPr>
          <p:blipFill>
            <a:blip r:embed="rId2"/>
            <a:stretch/>
          </p:blipFill>
          <p:spPr>
            <a:xfrm>
              <a:off x="3124080" y="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8" descr="将心脏内部图像放大，即可看到表面覆盖的扁平的内皮细胞，内皮细胞表面除圆盘状的红细胞外，还可看到球形的、有小小突起的白细胞"/>
            <p:cNvPicPr/>
            <p:nvPr/>
          </p:nvPicPr>
          <p:blipFill>
            <a:blip r:embed="rId3"/>
            <a:stretch/>
          </p:blipFill>
          <p:spPr>
            <a:xfrm>
              <a:off x="6553080" y="0"/>
              <a:ext cx="25909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" descr="http://www.pep.com.cn/images/20021201/import82031_1.jpg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39625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0" descr="http://www.bhimage.com/images/size4.jpg"/>
            <p:cNvPicPr/>
            <p:nvPr/>
          </p:nvPicPr>
          <p:blipFill>
            <a:blip r:embed="rId5"/>
            <a:stretch/>
          </p:blipFill>
          <p:spPr>
            <a:xfrm>
              <a:off x="3962520" y="3429000"/>
              <a:ext cx="51814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 Box 14"/>
          <p:cNvSpPr/>
          <p:nvPr/>
        </p:nvSpPr>
        <p:spPr>
          <a:xfrm>
            <a:off x="1067760" y="2840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皮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4528080" y="2819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2388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7483680" y="2840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白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8"/>
          <p:cNvSpPr/>
          <p:nvPr/>
        </p:nvSpPr>
        <p:spPr>
          <a:xfrm>
            <a:off x="1372680" y="611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肌肉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5182560" y="6269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经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0" y="1663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7" descr="http://202.38.91.222/physiology/xyq/f300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399960" y="400860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99960" y="2590920"/>
            <a:ext cx="8344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136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838080" y="238932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http://202.38.91.222/physiology/xyq/shjy2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9"/>
          <p:cNvSpPr/>
          <p:nvPr/>
        </p:nvSpPr>
        <p:spPr>
          <a:xfrm>
            <a:off x="7848720" y="19051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神经元的电镜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6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0" y="197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4" descr="http://gxschool.beelink.com.cn/mid_edu/midschool/biology3/d9z/78_2.gif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5"/>
          <p:cNvSpPr/>
          <p:nvPr/>
        </p:nvSpPr>
        <p:spPr>
          <a:xfrm>
            <a:off x="4783320" y="54864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神经元模式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http://www.pep.com.cn/images/200306/pic_32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http://gxschool.beelink.com.cn/mid_edu/midschool/biology3/images/back1.gif"/>
          <p:cNvPicPr/>
          <p:nvPr/>
        </p:nvPicPr>
        <p:blipFill>
          <a:blip r:embed="rId2"/>
          <a:stretch/>
        </p:blipFill>
        <p:spPr>
          <a:xfrm>
            <a:off x="5257800" y="5715000"/>
            <a:ext cx="2133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0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399960" y="2452680"/>
            <a:ext cx="834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7" descr="http://gxschool.beelink.com.cn/mid_edu/midschool/biology3/images/xyx3.gif"/>
          <p:cNvPicPr/>
          <p:nvPr/>
        </p:nvPicPr>
        <p:blipFill>
          <a:blip r:embed="rId2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8"/>
          <p:cNvSpPr/>
          <p:nvPr/>
        </p:nvSpPr>
        <p:spPr>
          <a:xfrm>
            <a:off x="0" y="3733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胸段脊髓完全横断的病人，为什么会出现大小便失禁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"/>
          <p:cNvSpPr/>
          <p:nvPr/>
        </p:nvSpPr>
        <p:spPr>
          <a:xfrm>
            <a:off x="457200" y="13716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某人右侧躯体半身不遂，这是由于此人大脑的什么中枢受到损伤而引起的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900000"/>
                </a:solidFill>
                <a:latin typeface="Times New Roman"/>
                <a:ea typeface="宋体"/>
              </a:rPr>
              <a:t>．人喝酒喝醉了，走路摇晃，站立不稳，这是由于脑的哪一部分被酒精麻痹而引起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4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2"/>
          <p:cNvSpPr/>
          <p:nvPr/>
        </p:nvSpPr>
        <p:spPr>
          <a:xfrm>
            <a:off x="838080" y="198108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如果你是一名神经科医生，对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人们在日常生活中应该如何保护神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系统，你有什么建议？如果保护不当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会引起哪些神经系统疾病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http://gxschool.beelink.com.cn/mid_edu/midschool/biology3/images/xyx3.gif"/>
          <p:cNvPicPr/>
          <p:nvPr/>
        </p:nvPicPr>
        <p:blipFill>
          <a:blip r:embed="rId2"/>
          <a:stretch/>
        </p:blipFill>
        <p:spPr>
          <a:xfrm>
            <a:off x="609480" y="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4625280" y="114444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在训练时，应做好充分的准备活动后再进行锻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3884040" y="1752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与同学玩闹时，不要拍打头部和脖子部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3580200" y="25160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多吃一些有益于神经系统健康的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3926880" y="320184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按时睡觉，让神经系统得到充分的休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838080" y="3886200"/>
            <a:ext cx="73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经常运动可使神经细胞的反应灵活，提高大脑皮层的兴奋性，保持神经系统的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838080" y="50292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与神经系统有关的疾病有神经衰弱、脑血栓、癫痫、神经性皮炎、脑瘫、神经性耳聋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\\2\课件制作素材\图片\蝴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1647720" y="2365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http://www.zaobao.com/games/olympics/sydney2000/images/soccer300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http://manutd.nease.net/20032004/ecl/2003-10-01_stuttgart/sturu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3" descr="http://redsky.vip.sina.com/20012002/naruuda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3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http://www.zaobao.com/zaobao/games/foreign_match/images/david030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027" descr="http://photo.yztoday.com/2004-01/16_04_6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http://redsky.vip.sina.com/20012002/clsh_ruu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2" descr="\\2\课件制作素材\图片\图片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6"/>
          <p:cNvGrpSpPr/>
          <p:nvPr/>
        </p:nvGrpSpPr>
        <p:grpSpPr>
          <a:xfrm>
            <a:off x="3457440" y="-5989680"/>
            <a:ext cx="7497720" cy="360"/>
            <a:chOff x="3457440" y="-5989680"/>
            <a:chExt cx="7497720" cy="360"/>
          </a:xfrm>
        </p:grpSpPr>
        <p:sp>
          <p:nvSpPr>
            <p:cNvPr id="589" name="Rectangle 2"/>
            <p:cNvSpPr/>
            <p:nvPr/>
          </p:nvSpPr>
          <p:spPr>
            <a:xfrm>
              <a:off x="3457440" y="-5989680"/>
              <a:ext cx="7497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"/>
            <p:cNvSpPr/>
            <p:nvPr/>
          </p:nvSpPr>
          <p:spPr>
            <a:xfrm>
              <a:off x="3457440" y="-5989680"/>
              <a:ext cx="7497720" cy="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2" name="Object 7" descr=""/>
            <p:cNvPicPr/>
            <p:nvPr/>
          </p:nvPicPr>
          <p:blipFill>
            <a:blip r:embed="rId2"/>
            <a:stretch/>
          </p:blipFill>
          <p:spPr>
            <a:xfrm>
              <a:off x="3657600" y="76320"/>
              <a:ext cx="5486400" cy="67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4" descr="http://www.pep.com.cn/images/200306/pic_32036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73392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7:41:58Z</dcterms:created>
  <dc:creator>uuu</dc:creator>
  <dc:description/>
  <dc:language>en-US</dc:language>
  <cp:lastModifiedBy>a</cp:lastModifiedBy>
  <dcterms:modified xsi:type="dcterms:W3CDTF">2015-03-17T05:46:38Z</dcterms:modified>
  <cp:revision>125</cp:revision>
  <dc:subject/>
  <dc:title>PowerPoint 演示文稿</dc:title>
</cp:coreProperties>
</file>