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504-67A1-44A9-A376-FDA1D2FE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33E-1D51-4508-94DA-45E4D89B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1876-5079-4A15-BB98-67ABFDF2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9AA58-DDC7-422A-9D95-54F4AAB5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982C9-BA84-462C-9AB4-2CA71449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0723B-FE7B-42E2-8B58-D033BC6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451A2-D121-4178-9310-1AE173A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3E029-BBF9-490C-B52B-75CEDE63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B9DD0-259F-431A-A42C-24805579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A8C60-2B03-4CDB-BC4A-625C0B0B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EB754-DF61-4226-B369-941973B0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60451-E86B-4F93-AE56-42ABE30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62B-284D-4F9E-B029-B461EDD1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23BC5-5CCA-41D9-A692-5C57515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62DB1-750E-4BED-93CC-CD5F834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39946-BF06-4FB2-81D7-7A8BEAA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3C4C9-F810-4B1E-9438-C4A379C0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C0704-8CC6-452A-A1E7-D69052DA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389C3-0AA2-4BA5-AD85-C2DF9DD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F1ED5-5B15-4B7C-99E7-45E1A1E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B8E92-6473-4CFC-AB49-097CAD2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B89EF-8298-41AF-88AB-F8DD8C2A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1EF55-FAF8-4582-B6C4-F8904D68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338-775D-48B4-9004-FF3D53AD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F0ADC-E622-41B8-A4D3-7984D770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8DF16-5932-4B86-B044-F334BFDF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77FC-5969-4117-94C9-7328FC5A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742B2-D703-4E87-92AE-4526F9F5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D5F7-1A71-4950-B25C-C2ED632D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D0A6D-E513-4FAA-B6E8-4F88987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13D2-4032-4973-8966-DC65FFE9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D303-B261-4054-9227-979F9B4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16FBA-5B84-483D-B574-8FE6A61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3DFE0-1AE9-40EB-9F7E-1305DF8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543E-8CC3-405D-9C01-B3C24618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EDC7B-7324-4496-B859-85D96712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EAE9-741F-4514-BABA-7CDFAECF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DCE9-832C-469A-8486-50E3CA3E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F87D3-DC3B-4430-8D71-728F63C5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08E8B-6A4B-4BE7-A651-11C50A2B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682FA-F25E-4D9E-8FC6-F97A8DA6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1EAF5-275D-44CD-A6A4-41A4C72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10096-9F9E-45C4-837C-3D4AA42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B47E8-B7E3-450E-847B-73B2D904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AE45D-4E16-44E7-A183-99F6BAD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E973-DF9F-4012-840B-0FE5C56F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F4A2A-6565-4CC0-B66A-80F6399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21382-4C04-4090-9284-48C05F5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10A10-FBF5-45CB-88DB-AAD7D97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30696-A93D-4634-A42D-1B860DB1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296B6-20B9-4F1B-AA5B-63F4E196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F0069-211A-4AE6-B8CE-32D72198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AE247-3391-48A2-B62D-293B9C7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CF3F0-C175-41AD-ADD2-CE6991F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6A2E6-279F-4C77-A556-2E238D4A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6D184-2613-4BCC-BA0F-C48AE95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FDF7-F1B0-4668-9D75-8BFE9E7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152C2-A649-4318-98D6-9287B185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BF83D-C682-48E6-86D8-7517A04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B8CC5-F086-4DB4-8E51-42495B9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D5B62-466D-4E2A-99A8-8080CE5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2E43C-5EEB-42C4-87D8-958320B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F0B84-A6C7-446E-BE38-8AAC9E78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A08F6-0770-4F8C-BA5E-349C7415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FF5E-D41D-4BE6-B1AD-9849D9F5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6D95-4505-46D1-9733-CDE633B3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F417-D885-4CA7-AE22-5170576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84B8-3F9A-4C39-A342-0D9B635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C65-4664-41B4-B17F-141A48CA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4246-93F2-4FD2-ACCF-0D767B79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0CCC-DF8D-4F37-9DEE-DF49F213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5C57-D04D-4331-BC5B-93B4514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8D4-791D-4F72-B6C3-1380BB5E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923F-6B10-4C52-ACBE-49540922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08CF-FBB1-460F-8A62-9D8981E1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C655-C51A-4F0D-992A-1513BA54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A001-0E0D-41C0-9329-63C706FD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9296-DC6B-4BF6-B7A1-6B7FE3EE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9EDC-C54E-4C38-8BD0-F8A9C091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194-24AC-428E-B00F-2C9913B1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3E70-2022-4444-8AFF-84C33AD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8C78-F90E-4FE1-A684-9E40BD3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4766-C007-4BB3-813C-47744E27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3889-CAED-4A4F-BBEB-BE17E2B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7C47-350A-4D74-BD8B-D0B9B6D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75BD-6763-4662-AB35-22AB4A54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1064-78BD-4A15-A675-BCDD368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625C-BCB2-4BCC-ACD0-2426B77E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E7AF-BE6B-40D8-BC1F-F5D2434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705B-9C74-4328-9EA8-34606DA0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C14-4BB4-4033-9FF9-19051A6E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555C-51D0-4F01-992F-4548CEF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3559-8AA9-4782-BBEC-D410262E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FA00-3DC1-4950-869D-065C76A9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260E-C64B-48EA-AD4A-923A610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21A7-21B7-4EAE-BE0F-B491231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82C4-D308-4D2D-857F-11A781E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8598-FA73-4B2F-8229-CC31D27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B433-320F-44F6-8B54-639263E3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0071-5954-4686-8F13-51594C6B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346E-A7B2-46FD-8659-27C367C4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A20-DF1D-4450-AB75-68FADF9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D4F0-F270-40BC-962F-A08EE8F0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8BA8-573B-4C97-82CA-7C56C77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32DF-DCEC-4B1C-9DCA-FAAB237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01FC-5E54-4BC4-9A5B-23557B4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015F-628E-44D0-879B-843A1FE7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A475-BFFF-45D7-8C10-2975AC7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24C4-1341-43A9-9B04-C184C421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C0FF3-EA95-454B-81D2-81A0D76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B089-910A-40EC-B53C-35FAD31C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F0E4-A2ED-4363-985E-94698BE6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AB5-1B61-4091-A451-4D970E0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01A7-2AD1-4B7D-A22F-63638A41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59D97-D504-4E49-97A2-3B5D83FE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44C4-970C-46FE-BD18-C20D7C1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E4EE7-0598-432F-B13D-6EC8A9A2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6551-7B29-4D5E-A686-6DCABCF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9B5D-37DF-4658-A465-C5481452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3D33-2EA7-4FCD-B4D6-1B4CD32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49CB-8C58-4163-B782-DDAD4EE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48C3-11E5-479A-A5B4-87B1A662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02AA4-41C8-4D4C-A616-D1C61E0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F9A-ABA4-4F6E-B0E8-D4C1E25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24991-113E-4F01-AC34-4E66796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8D90-400F-4C69-A9BC-3DB28285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AB02-1832-49A6-B38C-B2BBCECD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93B2-B197-40B7-9B02-DCFDE0C4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3626-F50E-4F2C-84FF-39DA25B5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F4751-88AC-42F2-8FD6-29089357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D030-EC35-4DCE-AD47-288099BE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6CFF9-1FC7-4817-94EF-99655E75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BAE1-4183-41FF-9BB0-D4118144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EBBD-6E19-41B1-B4FE-D7E9A36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181-2D91-4179-9B06-D4957FC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F5363-9BC4-4577-A7C1-0FAD9B3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D005-3BCE-450E-9DA7-CB522F5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952F-B7B2-428E-B578-6DDD52C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7FC3-FBCE-4A71-B2ED-C123924D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99CA-4B4B-4540-AD13-14F5FDAF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0061-EA3A-4BF9-ADB5-A29516AB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B155-7043-4D50-A439-4F29F02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9B199-9408-4F60-AAA8-6D905688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463D2-7BA9-4D5C-8BC8-82EBECA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20E76-A458-4641-A3BF-EE251811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4A2-658A-434B-A1B9-9F8AE66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8D8B-9699-4D61-A876-D90BC7F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3DDCD-B83B-4D2B-825C-651D50C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3117-9159-485D-B10A-62697E5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273C-FE30-4A8D-A9CB-B2BED32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800A8-DF69-45AF-B7CD-B3DFD37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46216-75F7-49FE-9B18-52CC7C41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DE9A4-B2CD-4354-A37E-68840EBD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C3548-A210-4F94-9406-6D02A839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7140-2942-4C89-9AD6-1736E54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E690B-B4CD-44E5-9C9E-ACDC9307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93C4-4B13-493D-86F2-7C192B44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1147-8C47-4810-BE98-A8D7CFEE9B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F228-144D-4E9D-AE4A-1FD7D44DF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79D-E504-4C8C-B886-146B5CB479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507-D8A8-4BE6-9914-075C0A014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ABE9-98C4-447D-9881-A49321DFA7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B5B5-7D70-4835-9275-7543278C4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BF9-ADDF-4C75-AF80-9172F9F101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665-9904-44C9-8FB3-DF8F7BF93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68CE-AAFB-4327-A964-2E4BFF6F2F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D42-FFA4-452E-88F7-9DD8CB854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1AB1-85C3-4A1F-9CE0-6979D690B1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F49-4330-494F-9CFD-C00F3FBAE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A1E1-644C-4A83-9407-1BE0F2E943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28F-DA1E-43BC-91F1-1EB30DEB79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1A19-F0CB-43F5-A0EB-2555D1D073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4FA1-09F6-4221-8ED8-2021D75AD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F61E-AAB1-454F-B102-E1D9A09EAE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82A-AB62-41F6-BA52-4E1AEE92A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B0A-2122-4942-AFE7-99C932EC36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957C-0239-4A57-8674-C14E4056B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260-C1D3-4E67-9BFB-2946D02E7B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55A7-4CFD-46F8-AAB4-C06A334F0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1E2-8571-4A12-9D12-4EDA828127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E593-427B-4B8B-A0C2-734FFD054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200581814024574"/>
          <p:cNvPicPr/>
          <p:nvPr/>
        </p:nvPicPr>
        <p:blipFill>
          <a:blip r:embed="rId1"/>
          <a:stretch/>
        </p:blipFill>
        <p:spPr>
          <a:xfrm>
            <a:off x="900000" y="1128600"/>
            <a:ext cx="7218360" cy="4687920"/>
          </a:xfrm>
          <a:prstGeom prst="rect">
            <a:avLst/>
          </a:prstGeom>
          <a:ln w="0">
            <a:noFill/>
          </a:ln>
        </p:spPr>
      </p:pic>
      <p:sp>
        <p:nvSpPr>
          <p:cNvPr id="535" name="WordArt 5"/>
          <p:cNvSpPr txBox="1"/>
          <p:nvPr/>
        </p:nvSpPr>
        <p:spPr>
          <a:xfrm>
            <a:off x="1547640" y="692280"/>
            <a:ext cx="59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宋庆龄故居的樟树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果说充满生命力是它外在美，那么樟树的内在美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而樟树本身却有一种香气，而且这种香气能永久保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　　　石榴树　　　　　　　　樟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　　　　　　　　　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　　　　　　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樟树的可贵之处就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这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j0398685_70464s"/>
          <p:cNvPicPr/>
          <p:nvPr/>
        </p:nvPicPr>
        <p:blipFill>
          <a:blip r:embed="rId1"/>
          <a:stretch/>
        </p:blipFill>
        <p:spPr>
          <a:xfrm>
            <a:off x="395280" y="5105520"/>
            <a:ext cx="1873080" cy="1363680"/>
          </a:xfrm>
          <a:prstGeom prst="rect">
            <a:avLst/>
          </a:prstGeom>
          <a:ln w="0">
            <a:noFill/>
          </a:ln>
        </p:spPr>
      </p:pic>
      <p:sp>
        <p:nvSpPr>
          <p:cNvPr id="559" name="Line 5"/>
          <p:cNvSpPr/>
          <p:nvPr/>
        </p:nvSpPr>
        <p:spPr>
          <a:xfrm>
            <a:off x="3203640" y="3573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801"/>
          <p:cNvPicPr/>
          <p:nvPr/>
        </p:nvPicPr>
        <p:blipFill>
          <a:blip r:embed="rId1"/>
          <a:srcRect l="0" t="0" r="0" b="9063"/>
          <a:stretch/>
        </p:blipFill>
        <p:spPr>
          <a:xfrm>
            <a:off x="1476360" y="260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2142360" y="51246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种兼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外在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内在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樟树，让你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到了什么样的高贵品质吗？请结合它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人谈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实，樟树即是它们的主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宋庆龄的化身。她永葆革命青春和旺盛的革命斗志，把毕生的精力献给世界和平和人类进步事业。在任何情况下都保持着坚定的政治原则，威武不屈，富贵不淫，贫贱不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j0398685_70464s"/>
          <p:cNvPicPr/>
          <p:nvPr/>
        </p:nvPicPr>
        <p:blipFill>
          <a:blip r:embed="rId1"/>
          <a:stretch/>
        </p:blipFill>
        <p:spPr>
          <a:xfrm>
            <a:off x="468360" y="4941720"/>
            <a:ext cx="22320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200781822912963"/>
          <p:cNvPicPr/>
          <p:nvPr/>
        </p:nvPicPr>
        <p:blipFill>
          <a:blip r:embed="rId1"/>
          <a:stretch/>
        </p:blipFill>
        <p:spPr>
          <a:xfrm>
            <a:off x="611280" y="2133720"/>
            <a:ext cx="3630600" cy="27003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4624560" y="1413000"/>
            <a:ext cx="412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“人们怀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崇敬的心情前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瞻仰宋庆龄的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居，也总爱在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两棵樟树前留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影，作为永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纪念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们爱在樟树前留影，是因为樟树所表现出的特点与宋庆龄的伟大人格有相似之处，体现了宋庆龄崇高的人格风范和高贵品质，人们在樟树前留影纪念，表达了人们对故居主人宋庆龄同志的衷心爱戴和怀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j0398685_70464s"/>
          <p:cNvPicPr/>
          <p:nvPr/>
        </p:nvPicPr>
        <p:blipFill>
          <a:blip r:embed="rId1"/>
          <a:stretch/>
        </p:blipFill>
        <p:spPr>
          <a:xfrm>
            <a:off x="468360" y="4941720"/>
            <a:ext cx="22320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200621321242894"/>
          <p:cNvPicPr/>
          <p:nvPr/>
        </p:nvPicPr>
        <p:blipFill>
          <a:blip r:embed="rId1"/>
          <a:stretch/>
        </p:blipFill>
        <p:spPr>
          <a:xfrm>
            <a:off x="539640" y="836640"/>
            <a:ext cx="3440160" cy="4680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4211640" y="69228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庆龄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政治家，社会活动家，广东文昌（今属海南）人。宋庆龄，是举世闻名的爱国主义、民主主义、共产主义和国际主义的伟大战士，是杰出的国际政治活动家、中华人民共和国卓越的领导人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7"/>
          <p:cNvSpPr/>
          <p:nvPr/>
        </p:nvSpPr>
        <p:spPr>
          <a:xfrm>
            <a:off x="900000" y="1895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200581814024574"/>
          <p:cNvPicPr/>
          <p:nvPr/>
        </p:nvPicPr>
        <p:blipFill>
          <a:blip r:embed="rId1"/>
          <a:stretch/>
        </p:blipFill>
        <p:spPr>
          <a:xfrm>
            <a:off x="250920" y="549360"/>
            <a:ext cx="8640720" cy="5611680"/>
          </a:xfrm>
          <a:prstGeom prst="rect">
            <a:avLst/>
          </a:prstGeom>
          <a:ln w="0">
            <a:noFill/>
          </a:ln>
        </p:spPr>
      </p:pic>
      <p:pic>
        <p:nvPicPr>
          <p:cNvPr id="541" name="1.wma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29772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0170050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1547640" y="105264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庆龄为什么不愿意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离那栋房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上海宋庆龄故居的庭院里有两棵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有一次，周恩来同志觉得那房子小了一点，就劝宋庆龄同志搬个家。她不肯，说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舍不得这两棵树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0170050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547640" y="105264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庆龄为什么不愿意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离那栋房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上海宋庆龄故居的庭院里有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两棵树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有一次，周恩来同志觉得那房子小了一点，就劝宋庆龄同志搬个家。她不肯，说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舍不得这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两棵树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801"/>
          <p:cNvPicPr/>
          <p:nvPr/>
        </p:nvPicPr>
        <p:blipFill>
          <a:blip r:embed="rId1"/>
          <a:srcRect l="0" t="0" r="0" b="9063"/>
          <a:stretch/>
        </p:blipFill>
        <p:spPr>
          <a:xfrm>
            <a:off x="1187280" y="333360"/>
            <a:ext cx="6985080" cy="47642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042920" y="530064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　　　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彩云"/>
              </a:rPr>
              <a:t>这是两棵樟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090405070417"/>
          <p:cNvPicPr/>
          <p:nvPr/>
        </p:nvPicPr>
        <p:blipFill>
          <a:blip r:embed="rId1"/>
          <a:stretch/>
        </p:blipFill>
        <p:spPr>
          <a:xfrm>
            <a:off x="1258920" y="333360"/>
            <a:ext cx="6576840" cy="4897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2727720" y="5359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两棵樟树又是怎么样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090405070417"/>
          <p:cNvPicPr/>
          <p:nvPr/>
        </p:nvPicPr>
        <p:blipFill>
          <a:blip r:embed="rId1"/>
          <a:stretch/>
        </p:blipFill>
        <p:spPr>
          <a:xfrm>
            <a:off x="2050920" y="33336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539640" y="4116240"/>
            <a:ext cx="856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樟树不高，但它的枝干粗壮，而且伸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面八方，伸得远远的。稠密的树叶绿得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亮。樟树四季常青，无论是夏天还是冬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们总是那么蓬蓬勃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090405070417"/>
          <p:cNvPicPr/>
          <p:nvPr/>
        </p:nvPicPr>
        <p:blipFill>
          <a:blip r:embed="rId1"/>
          <a:stretch/>
        </p:blipFill>
        <p:spPr>
          <a:xfrm>
            <a:off x="2050920" y="33336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4116240"/>
            <a:ext cx="856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樟树不高，但它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枝干粗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而且伸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四面八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伸得远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稠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树叶绿得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亮。樟树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四季常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无论是夏天还是冬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们总是那么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蓬蓬勃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2:47:4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2:54Z</dcterms:modified>
  <cp:revision>16</cp:revision>
  <dc:subject>第一PPT模板网-WWW.1PPT.COM</dc:subject>
  <dc:title>第一PPT模板网-WWW.1PPT.COM</dc:title>
</cp:coreProperties>
</file>