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DA9-438F-49C8-8448-67DE1490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CCF-7107-45BC-BE3C-3638EAE5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F557E-E500-452A-A101-992BC838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F133C-83BD-47CE-AE8C-0665BDF5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DD358-49CB-4F3B-99A8-0064BCBD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9FECA-6DF3-49FB-B93E-6BF0719F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8F9A0-143C-4015-A2DA-F384CBBC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00712-AD40-4555-9C28-9C850E79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789CF-08F7-4805-B558-94938319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2CA08-8F7E-4CC7-A9DE-7F93F6A2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FD7E0-0118-4CE4-8C89-9AAC77C6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D6183-E29D-482D-954A-7CA9AF4C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252-5A76-4C24-BD29-43E9233D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F97CC-828C-43C7-8323-0AA41F7B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136CC-B480-472D-B5F2-AF3E6A54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65EBA-98FC-45A0-A090-C18102DC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BA20D-F15F-4934-BC42-D8C3943D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7AB9D-5163-4920-B1AB-34A7AE9E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5316F-40A7-4F76-B660-3D1A4B83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CC4CF-0A4D-4A09-A66D-4B8432FD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74F6B-590B-48D8-9C15-9B224D84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B393E-4935-4E41-B556-F1755C91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F8A26-3578-4FCB-BEF2-0273F5AC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281-AF3D-40DC-8E29-07BF143B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2BF68-7975-43A9-9584-F8B169B0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EF31B-02B6-46B1-84EF-DFD8CE88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09F53-79CD-4AD7-A9F4-1DB5C9F7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AC51B-988C-444A-9E99-96C64931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1F6C3-5B3B-4C42-AF17-371C5A14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92D0A-0192-47FF-9881-F16C22D1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425A9-AC0F-4FD2-B93E-2A98B435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FA4E7-A2B2-4E23-854C-2E5DD163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9B74E-0CDC-406F-8989-0A4BB6B0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0F760-FD0C-4366-9E1E-CE6E5880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47F4-576A-498F-934C-2AF2D7B1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E8D09-FE51-440F-BF84-57FA385A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C98C4-AA62-4B37-A913-6F4B0F98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3A787-08FA-4799-838E-1662BA66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CCCE8-0F03-42BC-967C-7DB553CC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E8898-C5DB-4EE1-B54F-DC9AE847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5C25F-D8C0-465F-92CB-70C0531C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DA3EF-2B8F-4ADD-B136-F49B976C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A7085-6B8D-47D5-9CE7-01AC0EF4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D862C-A4C2-4912-9D5D-F54EFD00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49CD1-DC85-41D6-8A0E-278DE5AD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6206-2B0C-4927-91F2-A1F62465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AF66B-8D1D-420E-A719-50DFAAEB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B04A6-73E3-4B67-8A9E-F1EF411F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57B92-2074-45CD-B69E-4FA661F6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A97A9-7B55-440D-93DC-71C3DBCE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64A7D-6FE3-48F3-8938-2E4CFFCF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75622-27D0-44AD-B30C-33BBED69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A8283-9EC8-4380-9B10-C5F90D1C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1288B-91F5-4A16-8933-196E3315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97F7B-E47C-46D2-9689-BB52D3A7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0EB4A-9F48-41B5-9E4A-507E06E1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703F-B008-476A-9DEC-A491D66F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FE248-DFB3-434D-A78C-D43DADD4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BFB6D-51C4-4075-B3CE-71F5BA9D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16784-3C87-4728-BEBD-60B89EA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E252A-EA9D-4B63-8848-2F6F9841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A9285-79B7-4C09-BED8-7141FAD9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B10C1-E20C-4098-B6E3-5E1920EB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86823-A027-4A8F-A24E-BD09D1FE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F765-1A3C-4E5F-BDE4-0D401BDD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6164-F2B4-4A8B-BCAE-373266D3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E991-43C9-4B36-B295-8524BFA6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B93E-B2E6-4234-A3C8-851D9CC5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A5E-595B-4EC2-97A8-C684FCC4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36E2-EB8D-49BB-A294-222DBC63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F563-5CD9-4E12-ABA5-26F8BB2B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FD90-35EB-4178-9A29-73A94309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3773-C4CC-4630-BBCA-E2E9D8C5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DCFC-DD5F-4EAD-A347-5DD568AD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0E384-379C-4C8D-85F9-0C154CB8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B726-5549-46CF-9EDB-40F934F4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31242-2D5E-419A-B513-AE8A95AA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EED8-2AAC-4AAD-A7EF-B7131A0B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81C81-4251-4AED-89CF-FFD626A0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D71-D85C-4154-B1A0-82F28730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A1A0A-7292-4687-8AC8-5E6898AF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0C42-7FA0-450F-9A1B-DEEB854C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E64E-FAD4-4742-9EB3-451DCDE5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A8AFA-A373-4C5D-9744-EC3EA6F6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35B3-E047-43AF-A2CF-5D0B0ED3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3900-9F09-47AD-BF0E-B9821B1C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6E1A-D3FE-4669-B8BA-DA35626C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6402A-599B-452C-A043-E9FABEBA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47DD3-3BFB-406B-9BC2-B9961E3A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08C2-83DA-4E6C-8F09-424A9F90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95B-1CF9-42AA-AFF6-1717B1C5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A8DCA-8965-4222-815C-C8A13A6E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2BDE-3487-4578-AD15-3C4C1C72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102CD-3EC0-4C43-A9F5-AB326CA7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114D9-4B2F-4A60-9FA4-0BD4C73A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7BD98-072A-46C8-8F94-467E5B71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F46D6-562E-4A48-A39F-7ECA093A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24E4-4204-4B84-9E97-C3EFA21F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C684-A9B3-4ABB-82F8-640F4BAD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21728-47BA-46BC-93FF-6EAE0912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2469B-27FC-44FA-9401-EFCCB502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642-92E2-4B22-A3E8-2BD83248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6E481-B9CF-466E-A42D-5FA21E61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2BB0D-834B-485A-95E6-F58E5CC9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051E3-C09C-4852-817F-D168E6CE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9BF2-044A-4C17-BB5F-3A333378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196B2-4559-4AED-B60B-80133D6F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E9370-CB73-4576-8A25-77649C5F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998F-6831-4492-92C3-19C9F0CB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D818A-079F-4103-9E49-42A3FAD9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FD29-8C4B-4CCD-A0FA-B5F7D85A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9D6FB-4646-4727-B76C-0EF4F251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124-4BAE-4B7E-B314-0C29685E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6AD95-73E1-42AC-A6FE-DD242EA3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150E-719D-4D36-8A47-DAD0C8E0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60628-117B-49C5-8185-2DE0C547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D378E-06B6-45C2-9841-9C23967F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87495-E3D0-4E0D-83FF-E4022BD4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4EE75-A00E-496D-A33A-179789A2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79F0C-16D0-49D4-910F-6718D811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8159C-3CC9-404F-918F-6A4D9618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45D4B-C163-4BCB-B266-C07167E5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77CB2-C12F-4D74-B311-9207020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737-2DC2-4036-B860-2902771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25625-A037-4251-89F7-F408DC9A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7DB18-369A-448A-B059-10E9CF3A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136B1-5439-4382-B573-8742C1D5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9FF45-37F6-4A79-8B27-E5692118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928D8-D001-41B6-B41B-A8F1D004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22833-408D-473A-A75F-94597F3C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FF32A-5A27-4C7E-A2E8-851BE039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C6144-A191-4468-8E87-0FFF4C2E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32A79-F52B-43B7-A880-71588987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FEA15-C1CC-426F-9676-FC19258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EA6-A05D-428C-8BF1-44EF3F9E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8DD65-DFA7-4D26-A60F-5BED1AF1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AAA00-2CD5-470A-A1A9-2BDAB57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F4851-C0C1-48F4-A0C9-313F0FA1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0DDB9-546A-449B-A63C-7D3187C3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E82EB-C670-4A4D-AFE3-8E41F0E6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4A4EF-7181-4962-88B4-C52E3F7D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82274-0BBC-4FB7-B2BC-49DB3A9B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1E225-855F-4AAF-BF5A-317F15FA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3E195-1AFA-4FF3-863C-FDAEC738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A2274-7108-435C-AEE4-006A680F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EAF-96EC-4C2A-A3BF-87C4EE99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A1229-F68C-4494-9E3B-9F978E7C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5E2CD-D831-4C5E-B0FE-A448AD9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6A57E-3FA5-407E-8894-B62C642E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679E5-C89C-4D91-B482-846A544C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9223E-39BB-4085-A888-13BC592A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3A638-EBE9-4A66-A7AB-B38F0AB2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F19D2-5154-4CC7-98DF-1C5E62FB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784AC-3FF1-4DDD-8B4F-27C43DD2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0A576-C85C-4CDA-B6DC-FC9D34ED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F49A5-B767-40A8-B056-B51356C9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DF57-8FF9-4D43-A398-7E1ACBF85E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F081-44C3-4F35-B437-08A2F0D90A0D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7B55-58EE-4806-AFBB-B6098853FC53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64D4-1557-46F2-9A88-BA88038FCAEA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2BC9-D549-432D-A3C9-3F1C980C816C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5112-1F83-4E29-9CF8-92EAF66D69BB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1CA3-80F1-43B4-90ED-EF538F7C8575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BD7E-E1E6-4051-B37E-2CDB2E04BF89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1F76-8114-484C-983C-0EC6A9CA5C59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E381-5243-46E5-817C-FCBCFEE31C3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8585-634B-45C9-9A4B-3B4E57EFDE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B295-ADD3-45F3-9D60-7835E30DC0F3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3181-B615-41FA-B161-3E0ACB6D3FDF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525C-A4CF-4861-945E-7D2264685308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3BB3-728A-4D1B-97E5-BB22A93A6AE2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D5B4-E44D-4071-A0A3-8BA743E75B86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2B94-3E78-4704-B8CF-AF8A2B49A6B8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4DEC-64EB-487A-AD5B-FF131EF9D09A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CE67-BEE2-4A4A-B34C-7EAF195DD32F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720A-8D65-4A70-B50E-C75818D87F81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BB03-E2F9-4072-BF80-6070337DB0D2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48B1-572D-44E8-8605-FFD992B6489D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2836-02E8-4B55-B5ED-577A9A524FAC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34B2-CC8C-4B40-A6DC-8FBAF2186940}" type="datetime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DBFA-4F78-4185-A12E-348E6D646463}" type="slidenum">
              <a:rPr b="0" lang="zh-CN" sz="14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1619280" y="15573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楷体_GB2312"/>
              </a:rPr>
              <a:t>松鼠和松果</a:t>
            </a:r>
            <a:endParaRPr b="0" lang="en-US" sz="7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4067280" y="400536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</a:rPr>
              <a:t>新桥二小    林和洁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pic_6599"/>
          <p:cNvPicPr/>
          <p:nvPr/>
        </p:nvPicPr>
        <p:blipFill>
          <a:blip r:embed="rId1"/>
          <a:srcRect l="0" t="0" r="-100" b="12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4446720" y="5084640"/>
            <a:ext cx="5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每个松果都那么香，那么可口。</a:t>
            </a:r>
            <a:endParaRPr b="0" lang="en-US" sz="4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pic_6599"/>
          <p:cNvPicPr/>
          <p:nvPr/>
        </p:nvPicPr>
        <p:blipFill>
          <a:blip r:embed="rId1"/>
          <a:srcRect l="0" t="0" r="-100" b="121"/>
          <a:stretch/>
        </p:blipFill>
        <p:spPr>
          <a:xfrm>
            <a:off x="0" y="-458640"/>
            <a:ext cx="9144000" cy="374328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3"/>
          <p:cNvSpPr/>
          <p:nvPr/>
        </p:nvSpPr>
        <p:spPr>
          <a:xfrm>
            <a:off x="501480" y="3284640"/>
            <a:ext cx="864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光摘松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不栽松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总有一天，一棵松树也没有了！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2851200" y="5157720"/>
            <a:ext cx="376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每次摘松果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个，就在土里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一个。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531000" y="4410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好主意</a:t>
            </a:r>
            <a:endParaRPr b="0" lang="en-US" sz="48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3"/>
          <p:cNvSpPr/>
          <p:nvPr/>
        </p:nvSpPr>
        <p:spPr>
          <a:xfrm>
            <a:off x="971640" y="3141720"/>
            <a:ext cx="75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将来，这里会是一片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更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茂密的松树林。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1258920" y="333360"/>
            <a:ext cx="66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403280" y="47628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春天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几场蒙蒙细雨过后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在松鼠埋松果的地方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长出了一棵棵挺拔的小松树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.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971640" y="3141720"/>
            <a:ext cx="7524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将来，这里会是一片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更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____________________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的松树林。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1258920" y="333360"/>
            <a:ext cx="66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403280" y="47628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楷体_GB2312"/>
              </a:rPr>
              <a:t>    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春天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几场蒙蒙细雨过后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在松鼠埋松果的地方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长出了一棵棵挺拔的小松树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.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ff00"/>
                </a:solidFill>
                <a:latin typeface="楷体_GB2312"/>
              </a:endParaRPr>
            </a:p>
          </p:txBody>
        </p:sp>
        <p:pic>
          <p:nvPicPr>
            <p:cNvPr id="5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ff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3"/>
          <p:cNvSpPr/>
          <p:nvPr/>
        </p:nvSpPr>
        <p:spPr>
          <a:xfrm>
            <a:off x="1498680" y="1494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猜一猜</a:t>
            </a:r>
            <a:endParaRPr b="0" lang="en-US" sz="6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2484360" y="1700280"/>
            <a:ext cx="568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形状像耗子，</a:t>
            </a:r>
            <a:endParaRPr b="0" lang="en-US" sz="60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活像猴子，</a:t>
            </a:r>
            <a:endParaRPr b="0" lang="en-US" sz="60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爬在树枝上，</a:t>
            </a:r>
            <a:endParaRPr b="0" lang="en-US" sz="60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忙着摘果子。 </a:t>
            </a:r>
            <a:endParaRPr b="0" lang="en-US" sz="60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Object 2" descr=""/>
          <p:cNvPicPr/>
          <p:nvPr/>
        </p:nvPicPr>
        <p:blipFill>
          <a:blip r:embed="rId1"/>
          <a:stretch/>
        </p:blipFill>
        <p:spPr>
          <a:xfrm>
            <a:off x="611280" y="190440"/>
            <a:ext cx="5057640" cy="66675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5565960" y="112536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松鼠</a:t>
            </a:r>
            <a:endParaRPr b="0" lang="en-US" sz="96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5708880" y="3645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松果</a:t>
            </a:r>
            <a:endParaRPr b="0" lang="en-US" sz="96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0" y="836640"/>
            <a:ext cx="914400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松鼠（           ），学会了摘（      ）。但是，他想：如果光摘（      ），不栽（      ），那么，就没有了（        ），也没有了（      ）。于是，他想了一个（      ），每次吃一个，就（    ）一个。春天到了，长出了一棵棵（                      ）。</a:t>
            </a:r>
            <a:endParaRPr b="0" lang="en-US" sz="36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2751120" y="537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2124000" y="765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聪明活泼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3635280" y="342900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埋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6877080" y="2781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好主意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1332000" y="285264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森林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5867280" y="213372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松树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468360" y="213372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松树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4572000" y="1484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松果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6804000" y="765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松果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2700360" y="414972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挺拔的小松树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468360" y="0"/>
            <a:ext cx="2808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聪明活泼</a:t>
            </a:r>
            <a:endParaRPr b="0" lang="en-US" sz="48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79280" y="1125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聪明活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学会了摘松果吃。</a:t>
            </a:r>
            <a:endParaRPr b="0" lang="en-US" sz="28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他高高兴兴地走进大森林，摘了一个又一个。</a:t>
            </a:r>
            <a:endParaRPr b="0" lang="en-US" sz="28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松果都那么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那么可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395280" y="3716280"/>
            <a:ext cx="324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如果</a:t>
            </a:r>
            <a:endParaRPr b="0" lang="en-US" sz="48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324000" y="2133720"/>
            <a:ext cx="324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忽然</a:t>
            </a:r>
            <a:endParaRPr b="0" lang="en-US" sz="48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684360" y="3860640"/>
            <a:ext cx="3240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0" y="3068640"/>
            <a:ext cx="946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忽然，松鼠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眨眨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眼睛，想起了一个问题。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179280" y="4724280"/>
            <a:ext cx="896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如果光摘松果，不栽松树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总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有一天，一棵松树也没有了。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3276720" y="5445000"/>
            <a:ext cx="2665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3924720" y="5373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5"/>
          <p:cNvSpPr/>
          <p:nvPr/>
        </p:nvSpPr>
        <p:spPr>
          <a:xfrm>
            <a:off x="250920" y="0"/>
            <a:ext cx="88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忽然，松鼠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眨眨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眼睛，想起来了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如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光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摘松果，不栽松树，总有一天，一棵松树也没有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324000" y="3573360"/>
            <a:ext cx="882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324000" y="2708280"/>
            <a:ext cx="849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没有了松树，没有了森林，以后到处光秃秃的，小松鼠、小小松鼠、小小小松鼠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他们吃什么呢？到哪儿去住呢？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BJ21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3"/>
          <p:cNvSpPr/>
          <p:nvPr/>
        </p:nvSpPr>
        <p:spPr>
          <a:xfrm>
            <a:off x="1116000" y="3933720"/>
            <a:ext cx="75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将来，这里会是一片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更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茂密的松树林。</a:t>
            </a:r>
            <a:endParaRPr b="0" lang="en-US" sz="40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1258920" y="333360"/>
            <a:ext cx="669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对，松鼠有了好主意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</a:rPr>
              <a:t>: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每次摘松果，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</a:rPr>
              <a:t>吃一个，就在土里埋下一个。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1258920" y="170028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春天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几场蒙蒙细雨过后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在松鼠埋松果的地方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,</a:t>
            </a:r>
            <a:r>
              <a:rPr b="0" lang="zh-CN" sz="3200" spc="-1" strike="noStrike">
                <a:solidFill>
                  <a:srgbClr val="cc3399"/>
                </a:solidFill>
                <a:latin typeface="楷体_GB2312"/>
              </a:rPr>
              <a:t>长出了一棵棵挺拔的小松树</a:t>
            </a:r>
            <a:r>
              <a:rPr b="0" lang="en-US" sz="3200" spc="-1" strike="noStrike">
                <a:solidFill>
                  <a:srgbClr val="cc3399"/>
                </a:solidFill>
                <a:latin typeface="楷体_GB2312"/>
              </a:rPr>
              <a:t>.</a:t>
            </a:r>
            <a:endParaRPr b="0" lang="en-US" sz="32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900000" y="1268280"/>
            <a:ext cx="7940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聪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明 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活泼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忽然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如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果 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总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有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以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后 </a:t>
            </a: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主意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眨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眼睛</a:t>
            </a: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900000" y="1268280"/>
            <a:ext cx="79408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忽然   如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以   总</a:t>
            </a: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主意   聪    眨  活泼</a:t>
            </a: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ff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4:37:58Z</dcterms:created>
  <dc:creator>kjg</dc:creator>
  <dc:description/>
  <dc:language>en-US</dc:language>
  <cp:lastModifiedBy>a</cp:lastModifiedBy>
  <dcterms:modified xsi:type="dcterms:W3CDTF">2015-03-17T06:02:07Z</dcterms:modified>
  <cp:revision>17</cp:revision>
  <dc:subject/>
  <dc:title>幻灯片 1</dc:title>
</cp:coreProperties>
</file>