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178-38C3-409A-820E-4CC1B74E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6F2-CA7D-418D-9E17-3738344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54213-43BA-43EF-A97E-AE635F00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6CF2-6D22-4803-85B7-ABA53DF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7C26-FC51-4F6B-BD4C-C06325E9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E2C06-A5BD-4703-901E-DBEC9D2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E3F3-B838-469F-A7D1-E66355A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95E52-FB3D-4D40-A4C3-AFCD07E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95533-058A-4457-906B-12F5670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F21C0-86CC-41FB-A6EA-76AF5405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ECD22-4C60-47B9-A282-5C29F75F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1C045-C8AA-465A-91C8-B74763C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9C0-3C80-4C4A-9C48-A55E05FA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D6A97-EA16-4009-8CF6-F8FBA4C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D6527-9AD0-4017-81EE-274E5678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C336F-2ABC-4B62-91FC-D79D2641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4E5D-FA2C-42BB-BA01-2F4528B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2CEA7-F046-4D0C-A54F-4D1D085E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B04A-F75D-409D-BC2D-2BCB6AB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1CB3-DE43-4745-8CEA-68555F6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35924-EEF0-4C70-BA77-B1B28C6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FDD7-7382-4A72-AC3F-D12F133F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953C2-9037-4E45-8017-4B9137FA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E56-BEB9-47BA-8769-349795EC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1A01-A474-488F-9D6A-84373860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ECA4D-FFB3-43F9-8BAE-C99E205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872A-4120-4AE8-BA23-B346809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C7973-7B27-45E5-9210-92C7B966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946DD-270A-4F24-8228-D15A3BAC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121AB-1730-4B85-AC75-0F862BB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8FC2C-DD28-4D28-9E5B-56EAAA76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9DFD-A74B-4F0E-89DA-541D68B1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02DE-5DA0-4010-89A1-FA08441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A9AA2-E0A8-42A7-B857-6C0E2448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B621-8DE6-4579-A57F-47013E71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21E3-C42E-4603-B4E3-85CDEF77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CAFDB-DF5F-47AA-B0A3-1D0578BB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608D-1372-4C2A-8249-F1392717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7E59-066C-4F27-A171-01602E01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53B70-692E-4910-B172-0EE8DFC3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E9ABD-291C-4AB4-B5B9-CB498836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11A25-3C84-41DC-96D1-A6F10E9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A97C-6DC2-48DB-BF0A-3336F38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2CDC8-3BFE-424C-8282-A43A23F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4E64-68E9-44F2-9F51-20901FD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5B5-B939-492D-A815-DE6FBDA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5BFD6-34A8-4100-9873-9ACFDFB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DA3AF-8FFC-4E70-96FC-38C6381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36649-D67B-42B8-B67F-F6BACF21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13FD8-0B14-4BF9-9D22-5B7B45A5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9CE11-43FB-408E-ACF3-C23C5D99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9A4DD-49BD-4783-9C35-C6DC3A17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3A167-6D5B-4854-BFD4-A76042AE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09888-DE3F-483D-AE07-3AB4DBA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3B340-8855-4688-BEBD-58EC9D2B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C0D08-78F3-4FE1-8020-32E4BE77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D36B-197B-4081-9780-2625456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55905-E01E-4596-B911-F04143E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FFB9A-67E1-483D-8217-9F1CA59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35351-D81E-4086-8FF2-54262A6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E1C78-0198-497E-A5AD-3500000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9908E-4887-4DF1-8911-40FE02B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83793-EE4D-411E-B155-631B1C2C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755C9-9810-4F90-8733-57421F9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B7738-A560-4F85-82FF-7070335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84030-899D-4D34-A2D8-8B1B654D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046D7-D587-463E-A38D-8E2FE17D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022D-1F90-4A26-AE3E-48A02B0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595C1-F3B9-4B62-8865-DE27CF8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D413BD-4C12-436A-8D59-6B81849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1FA25-35D8-4BF5-91A9-182856ED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1767E-7A06-4FAD-B473-96F4E49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72231-BB00-4E85-BE37-93C2BB8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EA930-3CE8-4941-87D6-301DF88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1F837-315A-45A1-9E1C-ECCA35F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C06C0-3268-4B3E-9788-6E36D0A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F4D4E-56F9-4D18-A309-A0E04FA1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A3F-0112-483B-B3A0-FFF2FEC5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80FA-3C15-40C9-8D49-9462F39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06C-18EB-4D62-BD97-DA63708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3CE-FBFF-4CDE-BC99-4F18325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8A48-16B2-4B02-9DA9-66659DE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01A-78F6-40B7-A7AF-0EC613A7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F9CE-90EE-4D32-A363-D916132A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255-62A2-41AC-BD10-96D87922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F1E-F514-43D1-A73E-E1CCA01C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8DFC-7036-4131-A2AB-C6A6D51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285B-0171-4654-B358-FEB47566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5AA6-ADE9-41D3-AF75-A38E5355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FA1B-6878-4BD9-AF5E-92A77DDC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1FFE-D33F-432F-AC9E-5C3A0DD7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D5C-93CD-448E-A2BA-D51F8F1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04E1-8E2B-4CDD-822A-AC780B6E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6E8D-429C-4D3A-9D92-DBFBC9B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6BC1-3980-4496-9CEC-FCD80DD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D3D8-DB48-47DD-BD6D-37C0982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B7F3-3ED3-42A8-A43C-6291928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D6C0-4197-4B72-8A4D-7110A938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B702-1D6E-4D87-946C-FB595911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A456-6042-4BEF-82F2-028E43EA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6215-7DC2-4EA7-ACFA-389B02E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8513-D1D6-47C8-A037-E43C1361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F7C-27FD-4E81-B201-72A21FC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21F5-4864-41D1-9929-3F66E07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DDC2-0CE2-45BD-ADCF-CB642E4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9C02-4A56-4107-B1C4-E3A6562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7267-BD5F-484C-86F4-2D54F14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AAAC-1BE1-4B44-B283-A6C23E1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4F23-3CC2-4DC7-A7CF-BDB0264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4192-15A0-4EB3-A439-4503E0F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2851-75F9-4DB2-9244-6B66B52C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D2CD-F456-4218-8ACC-EF85F1C3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1E47-BF4C-4F22-9440-C06683F0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C00-31BA-41BD-B377-C4C6667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C2AD7-D543-4375-87F9-4AD9593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D468-1EAE-4D25-A612-9DAD686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B80F-D697-499D-A3DF-9629059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1071-86DC-4FAF-9C80-2577866E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FB7E-AEB6-4E26-B825-C312FD7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0742-0084-4F8C-9E9C-CEC64C5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EB9B-C695-4C67-8424-C4E2AE4F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F144-1B17-4A09-902F-1BEA452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020C-9847-408F-A9D4-5C6DA79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E3D6-1475-48A1-8056-79C9F282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1CD-3DEC-48CD-999D-856FB04A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30C2-BD5B-414A-8EDB-599329E6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CF8B-CE7E-4EB5-B8AD-92287A22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73E86-8D99-461A-BE12-D3C2F888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287E6-B2DE-40FF-BC10-233C3E08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FC0E-820D-4700-8F7C-B724C542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4C465-EEF5-4FC0-A248-B9CA8422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1FAB-04D4-4DA0-907E-1D72542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1951-8B7C-465A-8480-9AA2FEE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12DD-3E64-4D10-9BE0-AB3FC780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B4D4-88ED-4BD5-9272-1CE9705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161-7E5A-4B5D-A50A-49F6DE1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BE90-7B6A-49FE-B70B-E897973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8EDD-852A-41B4-A885-22D8CC95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28E5-D7A0-45CA-B6B0-128223C4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F0E1-5495-45D3-885F-0DA4C605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7DF4-ABA2-4477-B278-283E18C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21C6-5BF1-43C4-8C3C-A8DFCD9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CE81-C559-43FB-BB78-5FC6F54E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DCED7-E96F-4382-8B67-5CFD4DE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8CA2-E7E4-4A33-B4D4-3CCE835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B27B-E826-4D6C-9F41-E6613D2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F99-BD5C-4935-B6DA-B66216E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CEFFA-F5B6-4A1D-80E4-DEFF3C7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0BCD1-8484-4187-88EF-C915FD2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CBB88-2F32-4225-8C40-58A5BF3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6A4EB-BB6B-455F-83EA-BBBC06A5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599BE-6068-4A6D-8175-7677F7FC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3C93C-A18E-4AB8-B37B-91E9FF49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37F85-3D59-4000-BE43-5D8DAF45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191B-4C55-4066-ABFA-74FFB2E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67F0-8157-42D8-812F-DF1F7B3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D299-1989-44F0-B783-685318B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82C-0FAC-432E-8F5C-9CAA448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F1ABA-58B2-478C-9C17-264CC2C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917CE-CF89-46C0-AEF8-3B20C6E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6F8BD-DDA7-404D-B6E6-0F409D9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695B-7353-4902-950A-D96D3E5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3C436-4EAE-44BA-A83D-D5BD2EA8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C278-6CEE-4FAC-9876-9F5864B8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5E338-62A3-4CB6-A0C4-428AAFF2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05B04-C09F-443C-BBF7-BA133136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F639-CFCB-479C-8971-27A447A3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C63D9-365D-476D-AE0C-574A3D6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6E24-D696-4DF2-8C05-3FDD50AE7BE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77CC-399E-4D3A-8306-9BEF97E624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B82-8A07-4F5C-BA44-BE8827239D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E8F-3384-4C11-A331-C625C90929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FADB-8857-4617-856C-16AB447378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C9E-3411-43AC-B1EE-5340A714BB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E23-911B-4578-A8C3-10A3A4122B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50B2-B755-490A-8788-F29B4E3CB7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66EA-E9CA-4B29-A529-52D46CC810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C97-2773-4574-B6D4-4B166B0913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010-F2C7-4F35-AD82-D6BD579DA7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2F7C-64F1-49A1-A150-1A4C4A535C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C03-38C1-493D-A2B4-51EE4EB6C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3706-E293-462E-8CA8-932418C20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877-97C0-456E-AAFC-3751E4A2E7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C26-8FEC-4802-AF83-A587E8997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E978-A982-4355-985D-91127007FA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E444-4CD4-4A56-99A5-C11B54C0F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0D6-66E3-4560-A6FD-602F17C1B8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665-CC7E-4C2B-99A7-E785EA38D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5FC-A1E6-4717-BE07-AB12B4FA82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3099-40DE-48C6-9DB3-226FA39EC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7B3-2416-40C2-94F0-D479266A96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E94-3ED9-49EE-BA8F-8C809EF02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5C0B-3E82-45E9-9A98-70FCF8932E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3A7-325F-41BD-91CF-DD0C059A8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  <a:ea typeface="宋体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160640" y="236376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2817720" y="1541520"/>
            <a:ext cx="35276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文化礼仪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6"/>
          <p:cNvSpPr/>
          <p:nvPr/>
        </p:nvSpPr>
        <p:spPr>
          <a:xfrm>
            <a:off x="15840" y="-19080"/>
            <a:ext cx="3622680" cy="687852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3186000" y="227664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1111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2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5840" y="-19080"/>
            <a:ext cx="9128160" cy="6878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20520" y="-19080"/>
            <a:ext cx="9128160" cy="488952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20520" y="-19080"/>
            <a:ext cx="9128160" cy="473400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  <a:ea typeface="宋体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5-02-10T02:27:4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