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429-0758-4FB6-A623-16EB82AD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76C-A6F4-404E-9210-459F39AA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734-CD26-43B9-B20A-E785A812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3B1-1806-40D5-B66E-FAF71B1C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1E34-03DA-4C3A-AE67-AC56FD13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1181-86DD-4FB2-A717-C1344615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918F-0BFA-4F42-90E4-8EF9F199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F13C-AFF9-4132-8597-CCE7DAFD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EBA-905E-4F2C-AD5D-D955A38E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E879-31A7-4063-BF41-26A978C8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A00D-10B7-4E24-8C29-FEC467E7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D87-4A0E-45C1-B0E4-07AB2F93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953F-F52D-4BAA-9114-02229245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DBA8-8DB2-4847-A4B3-091B2EE9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AAB0-1540-4806-93E4-DED5C004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8813-CA92-488E-B216-0B980110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5613-3397-4413-9D62-42FE4762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74A-7488-4E3C-85F5-BA1DD373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FC5-B169-4289-859B-A29D8F90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F14-B42C-49A2-A44D-64BA5262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59A-8559-4BD9-B7C8-240BB19E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4A4-7239-4EB6-B6F0-BEC9CF73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03F-CF02-477C-BCC3-02717BE8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F1F-A56F-4D64-9B91-23AD516D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3689-CF85-43E0-8015-2CCDCB6663E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9B2F-5C8B-438A-A9B0-4DBA594558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E5E7-6D4F-45BF-B2F4-B538F75F2D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E835-F510-427A-80D4-2C5930CB6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3225960" y="13590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城市地球背景的商务</a:t>
            </a:r>
            <a:r>
              <a:rPr b="0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01640" y="5003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1b5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4430880" y="6568920"/>
            <a:ext cx="282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微软雅黑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3024360" y="1339920"/>
            <a:ext cx="53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经典繁仿黑"/>
                <a:ea typeface="经典繁仿黑"/>
              </a:rPr>
              <a:t>感谢你的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735280" y="2276640"/>
            <a:ext cx="558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6524640" y="55897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3:11:00Z</dcterms:created>
  <dc:creator>zhangying</dc:creator>
  <dc:description/>
  <cp:keywords/>
  <dc:language>en-US</dc:language>
  <cp:lastModifiedBy>a</cp:lastModifiedBy>
  <dcterms:modified xsi:type="dcterms:W3CDTF">2015-01-23T03:00:44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