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26D-E493-41A6-BE17-16C8D6DD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66F-7F8D-4582-A61E-CFC7948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711-F4B9-4AB0-A226-D79E79AC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70E-F62B-41A5-9B98-6F1F6EAC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3C26-542A-402F-BF6A-2CA5A1B4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4D98-4B44-43D1-AF88-6D3D47BE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DD89-F12D-4556-80AB-3F4361F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345C-5298-4E66-AADC-A1D357FE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72FB-04DE-4ED0-A8E5-A8CDD974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C953-BEA9-4E37-ADAF-2B654DE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1F18-E496-49CF-8B04-58DBFFD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63E-8D0F-4AE7-A5EF-E20571E0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BBE4-25BD-4D64-BF1C-A9E0BA1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1C7F-38F9-42CB-805E-29482D00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D9F9-731B-430A-B240-FB223710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5E97-9223-445D-8B2D-E7373999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A1E-58CD-4E7C-8311-39082913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C62-DEAC-4E42-8207-1C7C4DE9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273-7735-42C3-BE92-6435D0B7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B96-497B-49C3-8DA5-9BB623C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6D5-2465-470A-B781-1222B84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2C4-9D0F-434B-B4C0-C27CC13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E01-DDEF-4440-953C-578EEB5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D6E-FED6-4CF8-BA7B-2744082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DDED-FCED-48C5-B378-61B7B932CA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5848-03D2-4E7F-A402-64004112D7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5837-3832-434C-9FC3-BEA3D497DDCB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B0CB-3DBC-4FB5-B6E5-B43AD6F64F0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83" name="标题 1"/>
          <p:cNvSpPr/>
          <p:nvPr/>
        </p:nvSpPr>
        <p:spPr>
          <a:xfrm>
            <a:off x="1547640" y="1728720"/>
            <a:ext cx="504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 </a:t>
            </a:r>
            <a:r>
              <a:rPr b="0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2262240" y="223200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幻灯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3"/>
          <p:cNvGrpSpPr/>
          <p:nvPr/>
        </p:nvGrpSpPr>
        <p:grpSpPr>
          <a:xfrm>
            <a:off x="2324160" y="1995480"/>
            <a:ext cx="4495680" cy="719280"/>
            <a:chOff x="2324160" y="1995480"/>
            <a:chExt cx="4495680" cy="719280"/>
          </a:xfrm>
        </p:grpSpPr>
        <p:sp>
          <p:nvSpPr>
            <p:cNvPr id="87" name="圆角矩形 5"/>
            <p:cNvSpPr/>
            <p:nvPr/>
          </p:nvSpPr>
          <p:spPr>
            <a:xfrm>
              <a:off x="2324160" y="2052720"/>
              <a:ext cx="4495680" cy="6044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标题 1"/>
            <p:cNvSpPr/>
            <p:nvPr/>
          </p:nvSpPr>
          <p:spPr>
            <a:xfrm>
              <a:off x="3126960" y="1995480"/>
              <a:ext cx="289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6"/>
          <p:cNvGrpSpPr/>
          <p:nvPr/>
        </p:nvGrpSpPr>
        <p:grpSpPr>
          <a:xfrm>
            <a:off x="2324160" y="2967120"/>
            <a:ext cx="4495680" cy="718920"/>
            <a:chOff x="2324160" y="2967120"/>
            <a:chExt cx="4495680" cy="718920"/>
          </a:xfrm>
        </p:grpSpPr>
        <p:sp>
          <p:nvSpPr>
            <p:cNvPr id="90" name="圆角矩形 8"/>
            <p:cNvSpPr/>
            <p:nvPr/>
          </p:nvSpPr>
          <p:spPr>
            <a:xfrm>
              <a:off x="2324160" y="3024360"/>
              <a:ext cx="4495680" cy="60408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标题 1"/>
            <p:cNvSpPr/>
            <p:nvPr/>
          </p:nvSpPr>
          <p:spPr>
            <a:xfrm>
              <a:off x="3126960" y="2967120"/>
              <a:ext cx="2890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2324160" y="3940200"/>
            <a:ext cx="4495680" cy="717480"/>
            <a:chOff x="2324160" y="3940200"/>
            <a:chExt cx="4495680" cy="717480"/>
          </a:xfrm>
        </p:grpSpPr>
        <p:sp>
          <p:nvSpPr>
            <p:cNvPr id="93" name="圆角矩形 11"/>
            <p:cNvSpPr/>
            <p:nvPr/>
          </p:nvSpPr>
          <p:spPr>
            <a:xfrm>
              <a:off x="2324160" y="3997440"/>
              <a:ext cx="4495680" cy="6026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标题 1"/>
            <p:cNvSpPr/>
            <p:nvPr/>
          </p:nvSpPr>
          <p:spPr>
            <a:xfrm>
              <a:off x="3126960" y="3940200"/>
              <a:ext cx="28900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79"/>
          <p:cNvSpPr/>
          <p:nvPr/>
        </p:nvSpPr>
        <p:spPr>
          <a:xfrm>
            <a:off x="1825560" y="3484440"/>
            <a:ext cx="67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245916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101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10:00Z</dcterms:created>
  <dc:creator>Microsoft</dc:creator>
  <dc:description/>
  <cp:keywords/>
  <dc:language>en-US</dc:language>
  <cp:lastModifiedBy>a</cp:lastModifiedBy>
  <dcterms:modified xsi:type="dcterms:W3CDTF">2015-01-23T03:01:15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