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393-5264-406A-93DF-75D426F4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F16-1421-44DA-BA47-518ABE56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59F8F-90E1-47E4-B663-D98C7E15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B9C90-4C5E-48C3-9ABA-98DCCA37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554B0-9509-4E23-866E-B624E73C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61916-D0CA-43C9-90D4-C11E1F5F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9E880-72F8-4A07-94F1-359E944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BDF60-A31A-492E-8B2D-7FFB1DF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D7AB-618F-4292-9B68-A178AD73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E0785-4F2A-4721-A38A-48125C1C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1996A-8519-4F28-A7B8-418F744B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CB4BE-E161-4BEE-AC5C-86E64A6A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CA7-B18B-4310-B24F-F1859BDC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D221A-C59B-4EF7-AA06-94EDA7DC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CBF0F-73C4-469A-A0DC-3E761F04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3142D-254A-4464-ACF6-12C6BF64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0995D-057A-4BA7-8B95-623CBAD3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78F9B-AA7A-49EC-B683-E85DCB8D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7D348-B23F-46C5-87A6-7E352E18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CF1ED-8D26-41A7-B00D-36C4F5C9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BC580-44E3-4115-911A-ACF6A07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C4A8F-DE7B-454C-935F-00B216A8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C1C8E-D643-4B50-B869-59336B6F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D73-FFF1-4036-9AD9-F08B0A7A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1D676-E36E-4AC0-B79E-CCA17ECD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67FF0-0A88-4D7D-BBBF-2755419F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3328D-8618-456C-A510-ACC5608F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60F0A-09E2-4220-A3AB-58AAC999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794A6-1FD4-425E-9298-9540195F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00606-73E9-4232-AC70-12CF246D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68B8B-268F-489D-8C9D-35D6D8AD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E61E1-7D12-480F-8241-3A68AF5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9C159-B4BD-4838-8B8C-981B5562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48E54-FBC9-478B-825C-2F1AD29B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363E-CC12-4DC7-8423-AF2D6547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88572-1CF5-4631-A89B-B07B43BC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E8F6D-C729-44E3-9858-19AEB478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29E60-B661-463C-80C3-6A2298E2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B3022-B7D4-480F-B7CD-14FA36F0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A1E58-9F6E-47FD-803F-314E4E1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B1263-D3FE-4D72-BE60-04FE5342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FD59E-CC92-41F9-9E75-CAE87F5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8964B-1BD9-40E9-ACD6-F9BCEFED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F5DBE-E621-45B1-871D-EA38777A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25E45-F97C-4811-830D-5319383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29A3-F149-4685-B9C2-9F23A383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0FB2D-6D60-4360-BC6C-563857AA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224D1-F546-4BE6-A908-EC962AC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395EE-DD5E-450C-9507-2319A09D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CD5AC-0648-43E1-97D6-421848BA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EC09F-4FB9-4378-B21E-D0786D0D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253D4-C736-448C-B754-77772BF1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3000C-606F-4DE7-8247-A3F824C0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299BC-03FD-4B85-9037-D2BAB0F3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37ECE-8505-42F1-AD6F-A45B73CA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44BF0-97E2-457C-BB0C-E3BD6FE5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C98B-1FC0-493E-B634-536BCF1E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DF4CC-5CE4-4221-9963-50AA5F72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C0558-7A12-4D18-9232-B1C3DD21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77113-C7BD-4857-B8A1-C4ADED1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E5395-67CE-4272-9BEC-8E6DBB26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644AC-BFC1-425C-B4E3-86BE543F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63C3A-465B-4CB0-AEDC-302C97E0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D596A-7CE4-48A0-BE5C-10E2D3EA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F53E-FF4F-4548-8BE7-6B772EF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3DF1-B83D-4AA2-85D1-8DF6CFDC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827B-64B6-4A68-8B2E-D2ACCF7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9744-73B4-4FDD-9DF7-BEB36DE8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996-B583-46CF-B0DA-D6E7FAD9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C2C9-D439-4A61-8146-33286C3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D6EB-8DB3-44A7-AC67-32A128D1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2D6A-611A-4D00-BC93-D91543EF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EB80-51FD-4462-9B86-2D312C05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E83B-759F-4815-9C34-4F6AED41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2AD5-BC5D-4107-8C5A-46EB7395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F9C7-7E93-4FC0-8DED-74C2D00B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0829-B8DF-4637-9DC4-5892DF0C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A31F-647A-4ABC-B52A-155C0FFD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C7A5-15D8-427D-9B58-DECC7A4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F8D-C8D6-4BF6-8779-48D99381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A987-A857-4703-992E-5AF09E4C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D5DA-8D51-415B-A577-36209EBB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B83E-7E83-4550-8127-96CE00B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E74C-F9EA-4F50-AA66-5DA9D74E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51AE-3547-4FEF-8C2E-96F88217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12C6-2DAB-40B6-A794-66AF82EF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55CE-E23D-4EF0-B6AC-AA5C8B24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EF9B-8E7F-4933-830A-1F86CBC5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B0A61-6FAF-4E10-A040-81877B3C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E176B-A416-46A3-8C7D-003480D3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848-B629-4BCE-B68A-2615A20F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6F0C-D039-4DEB-B522-6C2772D3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466B-DA65-48C7-9E29-F7234CF8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4929-AB78-4B7A-9792-D6A55382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59DF-7D30-4E6F-AB96-914D92C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D4E3-F63A-431F-8B08-40245B22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880A-3081-42F3-92EB-30D849E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9F90B-7308-4A81-94FF-6F39A2E8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BB3A-A919-43CB-BFFA-47B89DCF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B463-7360-44D4-97A2-7E862CD0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9F7AC-D6BE-437E-BC05-CB6EA3E6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204-6943-4041-800F-21879F27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7078C-772E-4A2D-9EF8-13FE81D9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7E53-5F99-457B-B541-B2B4E40C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1CE9-85AE-4655-8FC8-7BED61ED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01B3-5A08-43F9-A1E9-AB8787E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5A0D-53D9-4F78-ABF0-F43CFB5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8C0EB-9B0C-4DD5-B2D3-66EF503C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DA3B-3F83-49C7-9880-03E99BF9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F1E61-7B7A-454E-AB37-0AF21E93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7D302-3836-4360-8374-DB10A196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727DB-2680-48CF-AF39-9AE3047B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4A0-1804-4D3A-BB96-DD16AAB4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7290-1432-4668-9679-4151F851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9B873-3EA9-4AC4-A768-83A03437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5653C-8378-488E-A867-D4E0115E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C1F1-9356-46CE-9E66-4324004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60D1C-B334-4D6E-A3A7-7D210EEC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3F61-9F9D-465E-A192-A340C4A4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2877-DD43-46A2-8BBE-3685C8D8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0627-7262-473E-A6C2-4CFF71A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E03DE-C61F-4141-90A0-1D7F008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07F1-17F9-4FB5-8D56-3D911D67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F1F-D025-47BC-8534-8E06632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F7EB4-D863-413B-887B-D20FB7F4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5895-95B2-4C95-A690-8392B111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CDCBF-ABCF-4836-96AC-2CFF0C76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688F-71D7-48C5-B0AD-FB15FF6F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C4F85-01FF-4D5F-8C78-0D408DD8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CAECD-5FA2-4CE9-A54B-69A852A0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5650-EAB6-41C4-AB69-9F3C95CA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38B0D-10C1-4F44-AC97-5F70701C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9A67-A05E-4E00-A78E-CC00C53A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EAEC4-E34A-4A13-8435-5DC3F1F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AEF-CA1D-4EB3-B88D-C1F240AE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67272-815C-4E27-BA0A-E9FF01D8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DC0E2-ADC7-4D93-8D18-FB3D9179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01F0C-B03D-40E1-A763-9673A0F3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C8E84-7DE0-42AE-BE1A-44B00293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1B8A6-478E-427C-8605-EDED2351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1653D-4CCF-4EF9-B1AE-B8D35F39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8371-934B-4C1B-8FEF-B5CBC5BC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DCACC-FCC7-496C-B514-BD64A002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CB10F-E2EE-47AC-9AAB-E4CA8C8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E4D5F-C9C5-453D-B89C-425DD016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998-0488-4BAA-89BE-63D02FE9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65F8E-6BBE-4534-BC5C-E58FA6E6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16557-75EB-4B61-996F-222F2E1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DE588-F7F5-468E-A740-948776D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3258-D4C5-4487-84DA-8A45ED7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48E0-EB0D-4FE7-9ABD-DDD4A40B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9D3E7-6C85-4B7F-B06A-86FFF099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94969-CF53-46BC-B318-F312AA88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C5F15-B92A-4CCC-875A-D572A98B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DAE3D-C3E7-4D69-8172-DFDA5925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9D5DE-D506-4A49-9F7C-85204CE8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2C7C-2554-413D-9325-0525B227BD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601C-3CDE-4745-93F1-D2972A71AA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1EC5-A0E6-4CC6-8982-4E094EB881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3826-2274-4E1B-B752-492171046F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9B56-08B4-4DC8-A5E5-FC060949FD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AACE-FC54-45C7-A4DE-CEE85E0F87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0EA3-8F10-43AC-87CE-1BC0A7BA0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9298-32D9-43E8-BFF8-2245ED4925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CF1A-82DD-4645-9801-B4EC9CA7BA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F50A-F483-4681-BC8A-985F66B3A4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6BBA-C77D-4A75-AA0F-EA45AC5DF4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7691-DE90-4855-AA36-D4BEFBD67D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C57E-CC42-4E0B-9D0D-A5FA8244C2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9590-3CCF-4F75-81B9-A4CF39E0BE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8A3A-6E07-42A5-A2F8-2E26E6C496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ECF-9B89-4F1B-9ED8-B4D97DF056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8582-FCDC-41D5-880D-CBA51424DD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C42B-075E-443A-A69E-7E50BE0F80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77E2-94A5-47AA-89D4-4297AA773E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69B6-6EE5-43AB-91B1-16600CDD36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810F-51E4-4596-9A21-E624647A73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57DB-0FF9-41AE-A090-6694B4A3B4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1FB8-53AB-4CE2-B80D-602D1C8F1A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6C9B-2D0C-4FD0-8A41-6EB0D622BB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BBB9-8C22-4099-88A6-ED3D2A8A83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5"/>
          <p:cNvSpPr txBox="1"/>
          <p:nvPr/>
        </p:nvSpPr>
        <p:spPr>
          <a:xfrm>
            <a:off x="1079640" y="2060640"/>
            <a:ext cx="6972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百分数的意义和写法</a:t>
            </a:r>
            <a:endParaRPr b="1" lang="en-US" sz="24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AutoShape 3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2307960" y="792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百分数与分数有什么联系？又有什么区别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Text Box 25"/>
          <p:cNvSpPr/>
          <p:nvPr/>
        </p:nvSpPr>
        <p:spPr>
          <a:xfrm>
            <a:off x="2719800" y="156852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百分数的分母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分数的分母可以是一切不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数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Text Box 26"/>
          <p:cNvSpPr/>
          <p:nvPr/>
        </p:nvSpPr>
        <p:spPr>
          <a:xfrm>
            <a:off x="1716120" y="2757600"/>
            <a:ext cx="581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既可以表示两个数的倍数关系，也可以表示一个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际数量；百分数只能表示两个数的倍数关系，所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百分数不能带有计量单位名称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Text Box 27"/>
          <p:cNvSpPr/>
          <p:nvPr/>
        </p:nvSpPr>
        <p:spPr>
          <a:xfrm>
            <a:off x="1824480" y="4363920"/>
            <a:ext cx="556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分数表示计算结果时，通常要写成最简分数；用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表示计算结果时，能约分的也不能约分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Text Box 28"/>
          <p:cNvSpPr/>
          <p:nvPr/>
        </p:nvSpPr>
        <p:spPr>
          <a:xfrm>
            <a:off x="1248840" y="565308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与百分数书写的形式也不同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6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19"/>
          <p:cNvSpPr/>
          <p:nvPr/>
        </p:nvSpPr>
        <p:spPr>
          <a:xfrm>
            <a:off x="108000" y="150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1429920" y="1009800"/>
            <a:ext cx="656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某小学六年级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学生有三好学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年级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学生中有三好学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．分别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两个年级的三好学生各占本年级学生人数的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之几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8" name="Group 21"/>
          <p:cNvGrpSpPr/>
          <p:nvPr/>
        </p:nvGrpSpPr>
        <p:grpSpPr>
          <a:xfrm>
            <a:off x="1761480" y="5105520"/>
            <a:ext cx="6639480" cy="1011240"/>
            <a:chOff x="1761480" y="5105520"/>
            <a:chExt cx="6639480" cy="1011240"/>
          </a:xfrm>
        </p:grpSpPr>
        <p:sp>
          <p:nvSpPr>
            <p:cNvPr id="539" name="Text Box 15"/>
            <p:cNvSpPr/>
            <p:nvPr/>
          </p:nvSpPr>
          <p:spPr>
            <a:xfrm>
              <a:off x="1761480" y="5288040"/>
              <a:ext cx="58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五年级三好学生人数占本年级学生人数的</a:t>
              </a:r>
              <a:r>
                <a:rPr b="1" lang="zh-CN" sz="3200" spc="-1" strike="noStrike">
                  <a:solidFill>
                    <a:srgbClr val="eaeaea"/>
                  </a:solidFill>
                  <a:latin typeface="楷体_GB2312"/>
                  <a:ea typeface="楷体_GB2312"/>
                </a:rPr>
                <a:t>    ．</a:t>
              </a: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0" name="Group 20"/>
            <p:cNvGrpSpPr/>
            <p:nvPr/>
          </p:nvGrpSpPr>
          <p:grpSpPr>
            <a:xfrm>
              <a:off x="7785000" y="5105520"/>
              <a:ext cx="615960" cy="1011240"/>
              <a:chOff x="7785000" y="5105520"/>
              <a:chExt cx="615960" cy="1011240"/>
            </a:xfrm>
          </p:grpSpPr>
          <p:sp>
            <p:nvSpPr>
              <p:cNvPr id="541" name="Text Box 17"/>
              <p:cNvSpPr/>
              <p:nvPr/>
            </p:nvSpPr>
            <p:spPr>
              <a:xfrm>
                <a:off x="7919640" y="5105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2" name="Text Box 18"/>
              <p:cNvSpPr/>
              <p:nvPr/>
            </p:nvSpPr>
            <p:spPr>
              <a:xfrm>
                <a:off x="7804800" y="553536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20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3" name="Line 19"/>
              <p:cNvSpPr/>
              <p:nvPr/>
            </p:nvSpPr>
            <p:spPr>
              <a:xfrm>
                <a:off x="7785000" y="5638680"/>
                <a:ext cx="615960" cy="0"/>
              </a:xfrm>
              <a:prstGeom prst="line">
                <a:avLst/>
              </a:prstGeom>
              <a:ln cap="sq"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4" name="Group 24"/>
          <p:cNvGrpSpPr/>
          <p:nvPr/>
        </p:nvGrpSpPr>
        <p:grpSpPr>
          <a:xfrm>
            <a:off x="1665000" y="3429000"/>
            <a:ext cx="6863040" cy="1076760"/>
            <a:chOff x="1665000" y="3429000"/>
            <a:chExt cx="6863040" cy="1076760"/>
          </a:xfrm>
        </p:grpSpPr>
        <p:sp>
          <p:nvSpPr>
            <p:cNvPr id="545" name="Text Box 25"/>
            <p:cNvSpPr/>
            <p:nvPr/>
          </p:nvSpPr>
          <p:spPr>
            <a:xfrm>
              <a:off x="1665000" y="3659040"/>
              <a:ext cx="611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六年级三好学生人数占本年级学生人数的</a:t>
              </a:r>
              <a:r>
                <a:rPr b="1" lang="zh-CN" sz="3200" spc="-1" strike="noStrike">
                  <a:solidFill>
                    <a:srgbClr val="eaeaea"/>
                  </a:solidFill>
                  <a:latin typeface="楷体_GB2312"/>
                  <a:ea typeface="楷体_GB2312"/>
                </a:rPr>
                <a:t>     ．</a:t>
              </a: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6" name="Group 26"/>
            <p:cNvGrpSpPr/>
            <p:nvPr/>
          </p:nvGrpSpPr>
          <p:grpSpPr>
            <a:xfrm>
              <a:off x="7689960" y="3429000"/>
              <a:ext cx="838080" cy="1076760"/>
              <a:chOff x="7689960" y="3429000"/>
              <a:chExt cx="838080" cy="1076760"/>
            </a:xfrm>
          </p:grpSpPr>
          <p:sp>
            <p:nvSpPr>
              <p:cNvPr id="547" name="Text Box 27"/>
              <p:cNvSpPr/>
              <p:nvPr/>
            </p:nvSpPr>
            <p:spPr>
              <a:xfrm>
                <a:off x="7826760" y="34290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17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Text Box 28"/>
              <p:cNvSpPr/>
              <p:nvPr/>
            </p:nvSpPr>
            <p:spPr>
              <a:xfrm>
                <a:off x="7689960" y="39243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100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9" name="Line 29"/>
              <p:cNvSpPr/>
              <p:nvPr/>
            </p:nvSpPr>
            <p:spPr>
              <a:xfrm>
                <a:off x="7689960" y="4000680"/>
                <a:ext cx="838080" cy="0"/>
              </a:xfrm>
              <a:prstGeom prst="line">
                <a:avLst/>
              </a:prstGeom>
              <a:ln cap="sq"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026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AutoShape 1027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Text Box 1028"/>
          <p:cNvSpPr/>
          <p:nvPr/>
        </p:nvSpPr>
        <p:spPr>
          <a:xfrm>
            <a:off x="1429920" y="1009800"/>
            <a:ext cx="656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某小学六年级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学生有三好学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年级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学生中有三好学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．分别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两个年级的三好学生各占本年级学生人数的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之几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3" name="Group 1029"/>
          <p:cNvGrpSpPr/>
          <p:nvPr/>
        </p:nvGrpSpPr>
        <p:grpSpPr>
          <a:xfrm>
            <a:off x="1747800" y="3429000"/>
            <a:ext cx="6862320" cy="1076760"/>
            <a:chOff x="1747800" y="3429000"/>
            <a:chExt cx="6862320" cy="1076760"/>
          </a:xfrm>
        </p:grpSpPr>
        <p:sp>
          <p:nvSpPr>
            <p:cNvPr id="554" name="Text Box 1030"/>
            <p:cNvSpPr/>
            <p:nvPr/>
          </p:nvSpPr>
          <p:spPr>
            <a:xfrm>
              <a:off x="1747800" y="3659040"/>
              <a:ext cx="611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六年级三好学生人数占本年级学生人数的     ．</a:t>
              </a: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5" name="Group 1031"/>
            <p:cNvGrpSpPr/>
            <p:nvPr/>
          </p:nvGrpSpPr>
          <p:grpSpPr>
            <a:xfrm>
              <a:off x="7772400" y="3429000"/>
              <a:ext cx="837720" cy="1076760"/>
              <a:chOff x="7772400" y="3429000"/>
              <a:chExt cx="837720" cy="1076760"/>
            </a:xfrm>
          </p:grpSpPr>
          <p:sp>
            <p:nvSpPr>
              <p:cNvPr id="556" name="Text Box 1032"/>
              <p:cNvSpPr/>
              <p:nvPr/>
            </p:nvSpPr>
            <p:spPr>
              <a:xfrm>
                <a:off x="7908840" y="34290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17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Text Box 1033"/>
              <p:cNvSpPr/>
              <p:nvPr/>
            </p:nvSpPr>
            <p:spPr>
              <a:xfrm>
                <a:off x="7772400" y="39243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100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Line 1034"/>
              <p:cNvSpPr/>
              <p:nvPr/>
            </p:nvSpPr>
            <p:spPr>
              <a:xfrm>
                <a:off x="7772400" y="4000680"/>
                <a:ext cx="83772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Text Box 1036"/>
          <p:cNvSpPr/>
          <p:nvPr/>
        </p:nvSpPr>
        <p:spPr>
          <a:xfrm>
            <a:off x="1589040" y="486900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年级三好学生人数占本年级学生人数的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60" name="Group 1046"/>
          <p:cNvGrpSpPr/>
          <p:nvPr/>
        </p:nvGrpSpPr>
        <p:grpSpPr>
          <a:xfrm>
            <a:off x="7740720" y="4653000"/>
            <a:ext cx="838080" cy="1076760"/>
            <a:chOff x="7740720" y="4653000"/>
            <a:chExt cx="838080" cy="1076760"/>
          </a:xfrm>
        </p:grpSpPr>
        <p:sp>
          <p:nvSpPr>
            <p:cNvPr id="561" name="Text Box 1042"/>
            <p:cNvSpPr/>
            <p:nvPr/>
          </p:nvSpPr>
          <p:spPr>
            <a:xfrm>
              <a:off x="7877520" y="46530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Text Box 1043"/>
            <p:cNvSpPr/>
            <p:nvPr/>
          </p:nvSpPr>
          <p:spPr>
            <a:xfrm>
              <a:off x="7740720" y="514836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Line 1044"/>
            <p:cNvSpPr/>
            <p:nvPr/>
          </p:nvSpPr>
          <p:spPr>
            <a:xfrm>
              <a:off x="7740720" y="5224320"/>
              <a:ext cx="83808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  <a:ea typeface="楷体_GB2312"/>
              </a:rPr>
              <a:t>２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AutoShape 3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570600" y="1009800"/>
            <a:ext cx="7983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工厂从一批产品中抽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0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件，经过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验，有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9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件合格．由此推算出这批产品合格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率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         ），也可以写成（         ）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67" name="Group 32"/>
          <p:cNvGrpSpPr/>
          <p:nvPr/>
        </p:nvGrpSpPr>
        <p:grpSpPr>
          <a:xfrm>
            <a:off x="6210360" y="2705040"/>
            <a:ext cx="838080" cy="1076760"/>
            <a:chOff x="6210360" y="2705040"/>
            <a:chExt cx="838080" cy="1076760"/>
          </a:xfrm>
        </p:grpSpPr>
        <p:sp>
          <p:nvSpPr>
            <p:cNvPr id="568" name="Text Box 20"/>
            <p:cNvSpPr/>
            <p:nvPr/>
          </p:nvSpPr>
          <p:spPr>
            <a:xfrm>
              <a:off x="6347520" y="27050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98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6210360" y="32004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6210360" y="3276720"/>
              <a:ext cx="83808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71" name="Group 31"/>
          <p:cNvGrpSpPr/>
          <p:nvPr/>
        </p:nvGrpSpPr>
        <p:grpSpPr>
          <a:xfrm>
            <a:off x="2038320" y="2705040"/>
            <a:ext cx="838080" cy="1057680"/>
            <a:chOff x="2038320" y="2705040"/>
            <a:chExt cx="838080" cy="1057680"/>
          </a:xfrm>
        </p:grpSpPr>
        <p:sp>
          <p:nvSpPr>
            <p:cNvPr id="572" name="Text Box 26"/>
            <p:cNvSpPr/>
            <p:nvPr/>
          </p:nvSpPr>
          <p:spPr>
            <a:xfrm>
              <a:off x="2054160" y="270504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49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Text Box 27"/>
            <p:cNvSpPr/>
            <p:nvPr/>
          </p:nvSpPr>
          <p:spPr>
            <a:xfrm>
              <a:off x="2057400" y="318132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500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>
              <a:off x="2038320" y="3257640"/>
              <a:ext cx="83808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意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AutoShape 3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3214080" y="1295280"/>
            <a:ext cx="279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示一个数是另一个数的百分之几的数，叫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做百分数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3465720" y="1820880"/>
            <a:ext cx="35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数也叫做百分率或百分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写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AutoShape 3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826920" y="83808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数通常不写成分数形式，而在原来的分子后面加上百分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来表示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287360" y="2209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九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6418080" y="2228760"/>
            <a:ext cx="10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0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1365480" y="2971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六十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6414840" y="2990880"/>
            <a:ext cx="10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4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1647720" y="3809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一百零八点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6432840" y="3828960"/>
            <a:ext cx="15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8.5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1618920" y="4952880"/>
            <a:ext cx="56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数的分子可以小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也可以大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914480" y="588168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数的分子可以是整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也可以是小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026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练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AutoShape 1027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Text Box 1037"/>
          <p:cNvSpPr/>
          <p:nvPr/>
        </p:nvSpPr>
        <p:spPr>
          <a:xfrm>
            <a:off x="1460520" y="704880"/>
            <a:ext cx="64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下面的正方形表示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，把各图中涂色部分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分数和百分数表示出来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3" name="Picture 1039" descr="2"/>
          <p:cNvPicPr/>
          <p:nvPr/>
        </p:nvPicPr>
        <p:blipFill>
          <a:blip r:embed="rId1"/>
          <a:stretch/>
        </p:blipFill>
        <p:spPr>
          <a:xfrm>
            <a:off x="542880" y="2214720"/>
            <a:ext cx="8143920" cy="18237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040"/>
          <p:cNvSpPr/>
          <p:nvPr/>
        </p:nvSpPr>
        <p:spPr>
          <a:xfrm>
            <a:off x="635760" y="4765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 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Text Box 1041"/>
          <p:cNvSpPr/>
          <p:nvPr/>
        </p:nvSpPr>
        <p:spPr>
          <a:xfrm>
            <a:off x="635760" y="5867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 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Text Box 1042"/>
          <p:cNvSpPr/>
          <p:nvPr/>
        </p:nvSpPr>
        <p:spPr>
          <a:xfrm>
            <a:off x="3880440" y="47624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 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Text Box 1043"/>
          <p:cNvSpPr/>
          <p:nvPr/>
        </p:nvSpPr>
        <p:spPr>
          <a:xfrm>
            <a:off x="3880440" y="5867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 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Text Box 1045"/>
          <p:cNvSpPr/>
          <p:nvPr/>
        </p:nvSpPr>
        <p:spPr>
          <a:xfrm>
            <a:off x="6928560" y="4765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 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Text Box 1046"/>
          <p:cNvSpPr/>
          <p:nvPr/>
        </p:nvSpPr>
        <p:spPr>
          <a:xfrm>
            <a:off x="6928560" y="5867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 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00" name="Group 1050"/>
          <p:cNvGrpSpPr/>
          <p:nvPr/>
        </p:nvGrpSpPr>
        <p:grpSpPr>
          <a:xfrm>
            <a:off x="1123920" y="4476600"/>
            <a:ext cx="719640" cy="968400"/>
            <a:chOff x="1123920" y="4476600"/>
            <a:chExt cx="719640" cy="968400"/>
          </a:xfrm>
        </p:grpSpPr>
        <p:sp>
          <p:nvSpPr>
            <p:cNvPr id="601" name="Text Box 1047"/>
            <p:cNvSpPr/>
            <p:nvPr/>
          </p:nvSpPr>
          <p:spPr>
            <a:xfrm>
              <a:off x="1127880" y="492444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Line 1048"/>
            <p:cNvSpPr/>
            <p:nvPr/>
          </p:nvSpPr>
          <p:spPr>
            <a:xfrm>
              <a:off x="1123920" y="499104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Text Box 1049"/>
            <p:cNvSpPr/>
            <p:nvPr/>
          </p:nvSpPr>
          <p:spPr>
            <a:xfrm>
              <a:off x="1315800" y="447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04" name="Text Box 1051"/>
          <p:cNvSpPr/>
          <p:nvPr/>
        </p:nvSpPr>
        <p:spPr>
          <a:xfrm>
            <a:off x="1145160" y="579132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05" name="Group 1056"/>
          <p:cNvGrpSpPr/>
          <p:nvPr/>
        </p:nvGrpSpPr>
        <p:grpSpPr>
          <a:xfrm>
            <a:off x="4308480" y="4476600"/>
            <a:ext cx="719640" cy="968400"/>
            <a:chOff x="4308480" y="4476600"/>
            <a:chExt cx="719640" cy="968400"/>
          </a:xfrm>
        </p:grpSpPr>
        <p:sp>
          <p:nvSpPr>
            <p:cNvPr id="606" name="Text Box 1053"/>
            <p:cNvSpPr/>
            <p:nvPr/>
          </p:nvSpPr>
          <p:spPr>
            <a:xfrm>
              <a:off x="4312440" y="492444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Line 1054"/>
            <p:cNvSpPr/>
            <p:nvPr/>
          </p:nvSpPr>
          <p:spPr>
            <a:xfrm>
              <a:off x="4308480" y="499104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Text Box 1055"/>
            <p:cNvSpPr/>
            <p:nvPr/>
          </p:nvSpPr>
          <p:spPr>
            <a:xfrm>
              <a:off x="4420800" y="4476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</a:rPr>
                <a:t>57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09" name="Text Box 1057"/>
          <p:cNvSpPr/>
          <p:nvPr/>
        </p:nvSpPr>
        <p:spPr>
          <a:xfrm>
            <a:off x="4224240" y="57913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7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10" name="Group 1062"/>
          <p:cNvGrpSpPr/>
          <p:nvPr/>
        </p:nvGrpSpPr>
        <p:grpSpPr>
          <a:xfrm>
            <a:off x="7432560" y="4491000"/>
            <a:ext cx="719640" cy="954000"/>
            <a:chOff x="7432560" y="4491000"/>
            <a:chExt cx="719640" cy="954000"/>
          </a:xfrm>
        </p:grpSpPr>
        <p:sp>
          <p:nvSpPr>
            <p:cNvPr id="611" name="Text Box 1059"/>
            <p:cNvSpPr/>
            <p:nvPr/>
          </p:nvSpPr>
          <p:spPr>
            <a:xfrm>
              <a:off x="7436520" y="492444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Line 1060"/>
            <p:cNvSpPr/>
            <p:nvPr/>
          </p:nvSpPr>
          <p:spPr>
            <a:xfrm>
              <a:off x="7432560" y="4991040"/>
              <a:ext cx="6858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Text Box 1061"/>
            <p:cNvSpPr/>
            <p:nvPr/>
          </p:nvSpPr>
          <p:spPr>
            <a:xfrm>
              <a:off x="7436520" y="44910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4" name="Text Box 1063"/>
          <p:cNvSpPr/>
          <p:nvPr/>
        </p:nvSpPr>
        <p:spPr>
          <a:xfrm>
            <a:off x="7195680" y="579132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练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AutoShape 3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692000" y="792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出下面的百分数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719640" y="160020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718920" y="254484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Text Box 29"/>
          <p:cNvSpPr/>
          <p:nvPr/>
        </p:nvSpPr>
        <p:spPr>
          <a:xfrm>
            <a:off x="718920" y="345924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718920" y="444960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9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718560" y="544032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2728800" y="1697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2573280" y="2610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十五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2576520" y="3506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五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2634480" y="45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九十五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2878200" y="550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一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4897080" y="1600200"/>
            <a:ext cx="10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0.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4897080" y="2544840"/>
            <a:ext cx="10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.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4896000" y="345924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21.7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4896720" y="444960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4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4896720" y="544032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6815880" y="169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零点五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6812640" y="2610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七点五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364160" y="350676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一百二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点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361280" y="4533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一百四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6751440" y="5505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三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-38160" y="-3636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练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AutoShape 3"/>
          <p:cNvSpPr/>
          <p:nvPr/>
        </p:nvSpPr>
        <p:spPr>
          <a:xfrm rot="5382600">
            <a:off x="1086840" y="-3780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692000" y="792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出下面的百分数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517680" y="1720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Text Box 26"/>
          <p:cNvSpPr/>
          <p:nvPr/>
        </p:nvSpPr>
        <p:spPr>
          <a:xfrm>
            <a:off x="657000" y="2909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三点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588960" y="4159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六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99200" y="53481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二十四点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5408640" y="1733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二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5476680" y="2922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八十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Text Box 31"/>
          <p:cNvSpPr/>
          <p:nvPr/>
        </p:nvSpPr>
        <p:spPr>
          <a:xfrm>
            <a:off x="6120000" y="4172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一百五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5547600" y="5361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分之零点六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3081960" y="170640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3081240" y="2895480"/>
            <a:ext cx="10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.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3081240" y="41641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3506040" y="5364000"/>
            <a:ext cx="12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4.7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824240" y="170640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7875360" y="289548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8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7824240" y="414504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5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798680" y="5372280"/>
            <a:ext cx="12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0.6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2:20:47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8:57:51Z</dcterms:modified>
  <cp:revision>20</cp:revision>
  <dc:subject>第一PPT模板网-WWW.1PPT.COM</dc:subject>
  <dc:title>第一PPT模板网-WWW.1PPT.COM</dc:title>
</cp:coreProperties>
</file>