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EFE-4C5A-4B8D-AEF8-5BF00F30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B9B-D8C9-4C3F-AA9C-9E2E0C9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1825-555D-4411-9BDB-84F454E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ECD78-85C4-4624-8151-3572418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72C3-75B1-47AE-A152-60404AE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9F10B-CBC3-41C5-A098-F3E328B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7075-B053-45F3-BB68-CA3F468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DED4B-713B-44D8-AE9C-5506B82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119E-A413-4436-BCF5-E7000F2D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8C63C-663E-4237-9EE2-061337C6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66A5-FAB1-49C6-A89A-E7669C5C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AA63B-3CCA-4F83-B611-299EAF2C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0A7-D657-4BF3-8D57-79ED5EE3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49B2C-5918-44B8-99F0-2CFF090D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3AC76-329B-48FF-A973-082A9E0E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61A51-9A8F-446D-9E8A-40072BD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90B8B-85FC-4C3F-8843-0ACED8E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8DD02-3BB2-4CE8-BF64-F08501B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15EF0-BD4F-4EF3-AF41-1FEA026D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50D9C-5D4F-4DFF-A6B8-F2AC1C3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F01DF-D53D-4906-B7B9-F026492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CCCC9-323D-466B-8881-0C49DFCF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72C3B-2BE4-47D3-8215-9DFC7E46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F30-13F9-465D-9357-70E12160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24375-596A-49E1-8902-F53BA222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640E2-630F-4E6F-8D90-CD5F6A91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CDBD-DDCB-4BEB-97A2-E3B2DBCD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EBFCC-136D-41DF-A6A7-B1C330F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B2AD4-D230-42F2-A7AA-8F3F79B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43462-0209-4573-B8B9-C81B220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252C2-05BA-4033-A58E-A3BFE98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EC6D-7830-421C-9E22-477607F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B99E1-F3A2-4AB4-BBB1-3C03019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6691-5F68-4B27-956B-4BD95ED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E36-FCB2-435C-A4CC-B495B011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B0CFA-D9E4-4D19-B54B-303137A7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4DEC0-860F-4678-A224-8851BE4E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0FC0B-7922-48C0-8252-27D9D20F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3AF50-1F38-49AE-90ED-B01BD24E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E2E86-244A-4144-9BFF-E031A4E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779D2-58F4-4B46-9C3D-D2E9EBB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A45C4-ACBA-4A33-92B4-67C66E1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85DA9-DC87-4610-A82F-BA83DA95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6C83-6BCA-4EE2-B2D9-0E52924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C5B04-C9BB-4797-9A5B-0D6A5AF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AE04-E2C2-4B3E-BC7B-6855E8B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EE913-1CA5-4D35-8220-F9A51801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F58A8-FA1F-4FF4-BDB7-7F7FB8E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D9F00-E6BF-4960-88FF-1032746B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72536-4E61-4F97-A726-B37AC53F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C0CD0-D91E-4A68-85C8-82C17800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56D6F-75D8-4E52-9A2B-3F977BBA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C1094-07A5-478B-9047-7F2AFDB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206E0-A94D-4E93-ACDE-9ED822E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FB618-F331-429C-ACD2-45BA17CA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4F4EE-825E-40DF-B354-A775E45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20BC-2DA7-4CF3-ADB8-92AB012B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DE8F5-F164-4E50-A6FB-C55DFD6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A6264-A20A-4646-AA58-23D880A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DA766-52B0-4E44-BFDC-1D849C2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26CD7-C7E3-489B-8E24-F160C7A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35884-0E8A-4B05-9B26-946E3C57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A8886-5491-4C17-995F-E9B64FE5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BF7A2-60CE-4F6D-B4D4-4846C9B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A5B7-B428-4E6E-BA73-9CB6633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1332-2838-44E6-909B-93EDDFC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0AE-D1E9-4A7D-A56E-40AB850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85F8-00CF-49CA-A9CB-C75DB33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530-76AF-4DA9-A3B6-B00A2E83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8B59-1439-49F3-9A2A-F0E6E01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1B2-6052-4A70-89E7-2FD2F14B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A361-A935-418E-B890-E1A23469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605-65F8-47ED-89BF-5417D898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B2A-ADDB-49F8-9578-8CCE681C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2295-BE3E-4DB8-8354-4A73B0B8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A17B-7B5F-4DCC-8E69-FF48948E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EDA2-2342-4A20-9F94-09753F8B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C6A0-0B76-40EC-9AB6-158FD09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F184-0267-45E9-84D5-0AFE40B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2ED-F439-4759-BC30-1D518AD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E0D6-C910-458A-9DA2-A5D94312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E789-5FBD-4891-913D-F9E42FC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5957-1B6A-4085-BA6D-AA58E9D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5AF5-3075-434E-A72E-D710C0C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E99D-9DF4-4EBD-910E-F74B53C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7863-68C5-409C-8CF5-9241F599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1402-6F65-41ED-B55F-EF73A5BB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A2A06-A8DC-4751-9236-B96AF5B5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5F72-FD3A-4B81-8383-1C5BB249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D0597-2634-47F3-9F92-4A11392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D5F-1ECC-4D6E-9A1F-5F8DCFE4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7999-F817-489F-BEF7-5499BA0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38D8-7AA9-4161-9943-B1E43A4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F67A-9BCC-4112-904C-FDE8CF1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5ACB-A35D-46ED-AB85-FD509F4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9702-2B98-4D83-8371-BBB1FA16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8D39-B465-475A-A2D9-2F0D272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69D3-2816-4821-872B-53B4AF1E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9031-D0CD-4B01-86E3-3A692A01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A15C-EAFB-4E32-8943-1F114D58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31593-C1E5-4DDB-A7CB-BA9A608A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616-C472-48CE-A9FB-9681D7D3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C1D7-446F-4A8D-A081-722B2BB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1327-99A7-462A-9287-67443D9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BA7A9-293A-464C-8CC5-2444C37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CA67-75D6-4B2C-9092-023B77BD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7A14-D651-4A59-ABF2-9B4E4DF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0202-0833-49FC-8817-8696284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9C57-2483-4D6A-B1A0-0279D23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AD32-E07B-4551-BE5B-F8B58B50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AE05-B4B7-4C0D-8162-EFB1DDAE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FAA6-334B-41FB-A8E2-DD9BB96D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328-4BB5-4995-A046-6D8E6EB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82E7-39F9-4878-B46D-4DA4847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670B-F3CE-431B-AA7E-DED8F390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C2E4-DFE3-4F8B-84C1-C93BFC6B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36752-9F6B-412D-A5D8-85F6205A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9982-5901-4FB0-BFED-C5AA692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1983-4A37-479E-8D3C-443DC97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CE1E2-827E-4D7F-8C9A-80AF448B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0F30-1A5D-448E-9D03-0FD7326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6A26-020B-40E3-B81D-76A5BBDF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3061-DCC6-4E4E-9CF0-ACB8982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8D-0FAA-4C5A-B975-E546831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7E1C-9704-4D3B-A87A-B6314C5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8D66A-78C7-466F-BD1E-82C1F665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EF0BB-1F44-4481-A33E-46B32A63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D9BD-D2D8-4331-B5D1-5E8BB471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9C52-8420-4B7F-A595-B9AFEDFE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6EF5-103E-4767-979C-5B1EF41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905A-5DFD-429E-A3C9-C017D592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A23FA-75D2-45FE-AB33-4E842CB4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021EC-ED6E-4261-94C5-486597D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E70C-FECF-4EB4-B0B8-023D3739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D2B-C1DA-475F-BE51-E74C91D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7AC66-66E7-414D-AD38-782F4CA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E777-B0E2-41D8-815C-499A779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7285-F7C4-4FBF-AA1D-473089B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0C02-CA6E-4A71-BA67-80FE7169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8EC4-BD75-4708-9774-0CC3C201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5E7BF-EEE8-49A3-9498-CFFD0F76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FE98-4E44-4B14-8110-6F17E0F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95F9F-9577-461A-8F84-D1351E6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A7D6-4D7D-4D73-A20C-BCFA44EB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CFC56-EDBE-4F39-95D7-E1535BA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C8F-564D-40B5-BF6E-DFE205E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B891-FDF1-43FA-9AF0-876FA4B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64AD2-15FF-4184-8E8E-04FB32A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E20C4-044E-44D6-B75C-1C091F2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F2EAF-B1AB-4B12-BBDA-45688CAE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205DB-BA93-40CA-959A-3B5A7429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156A-AF43-4BAF-96DA-C6754AEF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66589-920C-400D-84C9-05DEF25E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E52C1-B8A8-4919-A338-4965988D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649A-B8B2-4CC3-84F6-5D0C19B5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8B58C-87DF-4FE0-B59E-23E35BB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FFCA-B808-40F8-914E-28545E799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6D5-03D5-46B0-A64C-9FABC783E42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86E-5E8B-489C-80EC-A2BD5AE94AC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6C0D-1D15-4EC7-AC1C-834172EA6C0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3A0E-9DB7-4923-AE31-21671916FC6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B1B-D01B-454E-9AD1-12CB5FF82C7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255-A58E-471A-86E7-E005B61EB41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E31-6E99-455A-86C0-DF93FDC70D4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FE58-BEF6-4A9B-B59E-4D50B2DABF2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8F1-FB18-4152-839A-C55D48792D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A29-86EC-445E-8C56-42DC0E650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33E-AA14-4028-B727-D3B545BF5E5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277-ECB1-4678-AA72-337699958C7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1904-DB0A-4F00-A0DB-349E5E4F424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8E7-FCC4-424D-AB5D-50957B76E97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C60-0DAC-46BA-B691-C8CEB55E189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9C6-C5A6-4D09-A6A2-0BE889992B6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D203-4FE5-490B-8F1D-8E7EA3B40B7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665-755B-4D5C-9474-EED15E69723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80A-136D-4268-86ED-B2168A42981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795A-D7D8-4D89-9D87-3518DCB6F56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FDC3-CB66-4FCD-9F37-0BFC8891CAB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178-6D50-4198-808D-090CC76228E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14E-0C98-43C5-9828-F360A33BD2D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71D7-46F3-408D-A7A4-5DE81EF1CB9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762120" y="1143000"/>
            <a:ext cx="739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57200" y="6019920"/>
            <a:ext cx="2209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九年义务教育六年制教科书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2057400" y="2286000"/>
            <a:ext cx="4419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9" name="PubPieSlice"/>
          <p:cNvSpPr/>
          <p:nvPr/>
        </p:nvSpPr>
        <p:spPr>
          <a:xfrm>
            <a:off x="1905120" y="1828800"/>
            <a:ext cx="4343400" cy="419112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613440 h 4191120"/>
              <a:gd name="textAreaBottom" fmla="*/ 3577680 h 419112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03" y="21600"/>
                  <a:pt x="21513" y="16859"/>
                  <a:pt x="21598" y="10957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85800" y="10666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数学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第十二册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1295280" y="2666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扇 形 统 计 图</a:t>
            </a:r>
            <a:endParaRPr b="1" lang="en-US" sz="8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842040" y="-921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填空：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3" name="Rectangle 37"/>
          <p:cNvSpPr/>
          <p:nvPr/>
        </p:nvSpPr>
        <p:spPr>
          <a:xfrm>
            <a:off x="663840" y="1219320"/>
            <a:ext cx="80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和桥村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年种粮食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棉花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顷，油料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总种植面积是（       ）公顷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其 中 粮食作物占总种植面积 的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       ）％，棉花占（       ）％，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油料作物占（       ）％。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4" name="Rectangle 38"/>
          <p:cNvSpPr/>
          <p:nvPr/>
        </p:nvSpPr>
        <p:spPr>
          <a:xfrm>
            <a:off x="5716800" y="2666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5" name="Rectangle 39"/>
          <p:cNvSpPr/>
          <p:nvPr/>
        </p:nvSpPr>
        <p:spPr>
          <a:xfrm>
            <a:off x="992520" y="4114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6370920" y="41292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4116600" y="4876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416480" cy="425268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12"/>
          <p:cNvGrpSpPr/>
          <p:nvPr/>
        </p:nvGrpSpPr>
        <p:grpSpPr>
          <a:xfrm>
            <a:off x="3925800" y="2981160"/>
            <a:ext cx="3735720" cy="1668960"/>
            <a:chOff x="3925800" y="2981160"/>
            <a:chExt cx="3735720" cy="1668960"/>
          </a:xfrm>
        </p:grpSpPr>
        <p:pic>
          <p:nvPicPr>
            <p:cNvPr id="550" name="Object 3" descr=""/>
            <p:cNvPicPr/>
            <p:nvPr/>
          </p:nvPicPr>
          <p:blipFill>
            <a:blip r:embed="rId2"/>
            <a:stretch/>
          </p:blipFill>
          <p:spPr>
            <a:xfrm>
              <a:off x="4016520" y="2981160"/>
              <a:ext cx="2905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Line 5"/>
            <p:cNvSpPr/>
            <p:nvPr/>
          </p:nvSpPr>
          <p:spPr>
            <a:xfrm flipH="1" flipV="1">
              <a:off x="3925800" y="3276000"/>
              <a:ext cx="243864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2" name="Text Box 6"/>
            <p:cNvSpPr/>
            <p:nvPr/>
          </p:nvSpPr>
          <p:spPr>
            <a:xfrm>
              <a:off x="6474960" y="38858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cc99"/>
                  </a:solidFill>
                  <a:latin typeface="Times New Roman"/>
                </a:rPr>
                <a:t>圆心角</a:t>
              </a: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53" name="Group 14"/>
          <p:cNvGrpSpPr/>
          <p:nvPr/>
        </p:nvGrpSpPr>
        <p:grpSpPr>
          <a:xfrm>
            <a:off x="2895480" y="2882880"/>
            <a:ext cx="1270080" cy="1691280"/>
            <a:chOff x="2895480" y="2882880"/>
            <a:chExt cx="1270080" cy="1691280"/>
          </a:xfrm>
        </p:grpSpPr>
        <p:pic>
          <p:nvPicPr>
            <p:cNvPr id="554" name="Object 8" descr=""/>
            <p:cNvPicPr/>
            <p:nvPr/>
          </p:nvPicPr>
          <p:blipFill>
            <a:blip r:embed="rId3"/>
            <a:stretch/>
          </p:blipFill>
          <p:spPr>
            <a:xfrm>
              <a:off x="3124080" y="2882880"/>
              <a:ext cx="104148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9"/>
            <p:cNvSpPr/>
            <p:nvPr/>
          </p:nvSpPr>
          <p:spPr>
            <a:xfrm>
              <a:off x="2895480" y="380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360</a:t>
              </a: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6" name="Oval 10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2"/>
          <p:cNvGrpSpPr/>
          <p:nvPr/>
        </p:nvGrpSpPr>
        <p:grpSpPr>
          <a:xfrm>
            <a:off x="1071000" y="1828800"/>
            <a:ext cx="7694280" cy="2837160"/>
            <a:chOff x="1071000" y="1828800"/>
            <a:chExt cx="7694280" cy="2837160"/>
          </a:xfrm>
        </p:grpSpPr>
        <p:sp>
          <p:nvSpPr>
            <p:cNvPr id="558" name="Rectangle 2"/>
            <p:cNvSpPr/>
            <p:nvPr/>
          </p:nvSpPr>
          <p:spPr>
            <a:xfrm>
              <a:off x="1071000" y="1828800"/>
              <a:ext cx="7694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9" name="Oval 3"/>
            <p:cNvSpPr/>
            <p:nvPr/>
          </p:nvSpPr>
          <p:spPr>
            <a:xfrm>
              <a:off x="2286000" y="30481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0" name="Oval 4"/>
            <p:cNvSpPr/>
            <p:nvPr/>
          </p:nvSpPr>
          <p:spPr>
            <a:xfrm>
              <a:off x="2286000" y="21337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62" name="Rectangle 7"/>
          <p:cNvSpPr/>
          <p:nvPr/>
        </p:nvSpPr>
        <p:spPr>
          <a:xfrm>
            <a:off x="135576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口答：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563" name="Group 17"/>
          <p:cNvGrpSpPr/>
          <p:nvPr/>
        </p:nvGrpSpPr>
        <p:grpSpPr>
          <a:xfrm>
            <a:off x="6521400" y="3641760"/>
            <a:ext cx="1555920" cy="1008360"/>
            <a:chOff x="6521400" y="3641760"/>
            <a:chExt cx="1555920" cy="1008360"/>
          </a:xfrm>
        </p:grpSpPr>
        <p:sp>
          <p:nvSpPr>
            <p:cNvPr id="564" name="Rectangle 10"/>
            <p:cNvSpPr/>
            <p:nvPr/>
          </p:nvSpPr>
          <p:spPr>
            <a:xfrm>
              <a:off x="6521400" y="3641760"/>
              <a:ext cx="132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21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>
              <a:off x="7925040" y="3870360"/>
              <a:ext cx="152280" cy="15264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66" name="Group 16"/>
          <p:cNvGrpSpPr/>
          <p:nvPr/>
        </p:nvGrpSpPr>
        <p:grpSpPr>
          <a:xfrm>
            <a:off x="6783120" y="2666880"/>
            <a:ext cx="1141560" cy="1008360"/>
            <a:chOff x="6783120" y="2666880"/>
            <a:chExt cx="1141560" cy="1008360"/>
          </a:xfrm>
        </p:grpSpPr>
        <p:sp>
          <p:nvSpPr>
            <p:cNvPr id="567" name="Rectangle 9"/>
            <p:cNvSpPr/>
            <p:nvPr/>
          </p:nvSpPr>
          <p:spPr>
            <a:xfrm>
              <a:off x="6783120" y="2666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3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8" name="Oval 13"/>
            <p:cNvSpPr/>
            <p:nvPr/>
          </p:nvSpPr>
          <p:spPr>
            <a:xfrm>
              <a:off x="7772400" y="289548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69" name="Group 15"/>
          <p:cNvGrpSpPr/>
          <p:nvPr/>
        </p:nvGrpSpPr>
        <p:grpSpPr>
          <a:xfrm>
            <a:off x="6554880" y="1752480"/>
            <a:ext cx="1522080" cy="1008360"/>
            <a:chOff x="6554880" y="1752480"/>
            <a:chExt cx="1522080" cy="1008360"/>
          </a:xfrm>
        </p:grpSpPr>
        <p:sp>
          <p:nvSpPr>
            <p:cNvPr id="570" name="Rectangle 8"/>
            <p:cNvSpPr/>
            <p:nvPr/>
          </p:nvSpPr>
          <p:spPr>
            <a:xfrm>
              <a:off x="6554880" y="175248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108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1" name="Oval 14"/>
            <p:cNvSpPr/>
            <p:nvPr/>
          </p:nvSpPr>
          <p:spPr>
            <a:xfrm>
              <a:off x="7924680" y="197460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Object 2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3"/>
          <p:cNvGrpSpPr/>
          <p:nvPr/>
        </p:nvGrpSpPr>
        <p:grpSpPr>
          <a:xfrm>
            <a:off x="1859760" y="304920"/>
            <a:ext cx="6931440" cy="1431360"/>
            <a:chOff x="1859760" y="304920"/>
            <a:chExt cx="6931440" cy="1431360"/>
          </a:xfrm>
        </p:grpSpPr>
        <p:sp>
          <p:nvSpPr>
            <p:cNvPr id="574" name="Rectangle 4"/>
            <p:cNvSpPr/>
            <p:nvPr/>
          </p:nvSpPr>
          <p:spPr>
            <a:xfrm>
              <a:off x="185976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某班学生参加课外活动小组情况统计图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5" name="Text Box 5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76" name="Group 6"/>
          <p:cNvGrpSpPr/>
          <p:nvPr/>
        </p:nvGrpSpPr>
        <p:grpSpPr>
          <a:xfrm>
            <a:off x="3808440" y="2639880"/>
            <a:ext cx="2975040" cy="3077280"/>
            <a:chOff x="3808440" y="2639880"/>
            <a:chExt cx="2975040" cy="3077280"/>
          </a:xfrm>
        </p:grpSpPr>
        <p:sp>
          <p:nvSpPr>
            <p:cNvPr id="577" name="Rectangle 7"/>
            <p:cNvSpPr/>
            <p:nvPr/>
          </p:nvSpPr>
          <p:spPr>
            <a:xfrm>
              <a:off x="418968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娱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577404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术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380844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80" name="Oval 10"/>
          <p:cNvSpPr/>
          <p:nvPr/>
        </p:nvSpPr>
        <p:spPr>
          <a:xfrm>
            <a:off x="2438280" y="1905120"/>
            <a:ext cx="4496040" cy="441936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581" name="Group 11"/>
          <p:cNvGrpSpPr/>
          <p:nvPr/>
        </p:nvGrpSpPr>
        <p:grpSpPr>
          <a:xfrm>
            <a:off x="3810960" y="2639880"/>
            <a:ext cx="2974680" cy="3077280"/>
            <a:chOff x="3810960" y="2639880"/>
            <a:chExt cx="2974680" cy="3077280"/>
          </a:xfrm>
        </p:grpSpPr>
        <p:sp>
          <p:nvSpPr>
            <p:cNvPr id="582" name="Rectangle 12"/>
            <p:cNvSpPr/>
            <p:nvPr/>
          </p:nvSpPr>
          <p:spPr>
            <a:xfrm>
              <a:off x="419184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文娱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577620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美术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381096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体育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85" name="Group 23"/>
          <p:cNvGrpSpPr/>
          <p:nvPr/>
        </p:nvGrpSpPr>
        <p:grpSpPr>
          <a:xfrm>
            <a:off x="5716440" y="3581280"/>
            <a:ext cx="942840" cy="825120"/>
            <a:chOff x="5716440" y="3581280"/>
            <a:chExt cx="942840" cy="825120"/>
          </a:xfrm>
        </p:grpSpPr>
        <p:sp>
          <p:nvSpPr>
            <p:cNvPr id="586" name="Rectangle 16"/>
            <p:cNvSpPr/>
            <p:nvPr/>
          </p:nvSpPr>
          <p:spPr>
            <a:xfrm>
              <a:off x="5716440" y="3581280"/>
              <a:ext cx="942840" cy="825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6477120" y="3821760"/>
              <a:ext cx="142920" cy="175320"/>
            </a:xfrm>
            <a:prstGeom prst="ellipse">
              <a:avLst/>
            </a:prstGeom>
            <a:solidFill>
              <a:srgbClr val="ffff66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88" name="Group 21"/>
          <p:cNvGrpSpPr/>
          <p:nvPr/>
        </p:nvGrpSpPr>
        <p:grpSpPr>
          <a:xfrm>
            <a:off x="4192560" y="2666880"/>
            <a:ext cx="1522440" cy="1008360"/>
            <a:chOff x="4192560" y="2666880"/>
            <a:chExt cx="1522440" cy="1008360"/>
          </a:xfrm>
        </p:grpSpPr>
        <p:sp>
          <p:nvSpPr>
            <p:cNvPr id="589" name="Rectangle 19"/>
            <p:cNvSpPr/>
            <p:nvPr/>
          </p:nvSpPr>
          <p:spPr>
            <a:xfrm>
              <a:off x="4192560" y="2666880"/>
              <a:ext cx="1323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90" name="Oval 20"/>
            <p:cNvSpPr/>
            <p:nvPr/>
          </p:nvSpPr>
          <p:spPr>
            <a:xfrm>
              <a:off x="5562720" y="2889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91" name="Group 27"/>
          <p:cNvGrpSpPr/>
          <p:nvPr/>
        </p:nvGrpSpPr>
        <p:grpSpPr>
          <a:xfrm>
            <a:off x="3809880" y="4632480"/>
            <a:ext cx="1555920" cy="1008360"/>
            <a:chOff x="3809880" y="4632480"/>
            <a:chExt cx="1555920" cy="1008360"/>
          </a:xfrm>
        </p:grpSpPr>
        <p:sp>
          <p:nvSpPr>
            <p:cNvPr id="592" name="Rectangle 25"/>
            <p:cNvSpPr/>
            <p:nvPr/>
          </p:nvSpPr>
          <p:spPr>
            <a:xfrm>
              <a:off x="3809880" y="4632480"/>
              <a:ext cx="132732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21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93" name="Oval 26"/>
            <p:cNvSpPr/>
            <p:nvPr/>
          </p:nvSpPr>
          <p:spPr>
            <a:xfrm>
              <a:off x="5213160" y="4860720"/>
              <a:ext cx="152640" cy="151920"/>
            </a:xfrm>
            <a:prstGeom prst="ellipse">
              <a:avLst/>
            </a:prstGeom>
            <a:solidFill>
              <a:srgbClr val="00ff00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94" name="Text Box 28"/>
          <p:cNvSpPr/>
          <p:nvPr/>
        </p:nvSpPr>
        <p:spPr>
          <a:xfrm>
            <a:off x="228600" y="137160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1"/>
          <p:cNvSpPr/>
          <p:nvPr/>
        </p:nvSpPr>
        <p:spPr>
          <a:xfrm>
            <a:off x="380880" y="0"/>
            <a:ext cx="8077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绘制扇形统计图的步骤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609480" y="1143000"/>
            <a:ext cx="75438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计算各部分数量占总数量的百分之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685800" y="23623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计算各部分数量的扇形圆心角的度数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685800" y="3962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按照算出的圆心角的度数，在圆里画出各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扇形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762120" y="4952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在各个扇形内写上名称和百分数，并用不同颜色或条纹区别开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3"/>
          <p:cNvGrpSpPr/>
          <p:nvPr/>
        </p:nvGrpSpPr>
        <p:grpSpPr>
          <a:xfrm>
            <a:off x="1866240" y="304920"/>
            <a:ext cx="6924960" cy="1431360"/>
            <a:chOff x="1866240" y="304920"/>
            <a:chExt cx="6924960" cy="1431360"/>
          </a:xfrm>
        </p:grpSpPr>
        <p:sp>
          <p:nvSpPr>
            <p:cNvPr id="601" name="Rectangle 4"/>
            <p:cNvSpPr/>
            <p:nvPr/>
          </p:nvSpPr>
          <p:spPr>
            <a:xfrm>
              <a:off x="186624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李明班上同学参加球类活动情况统计图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603" name="Object 6" descr=""/>
          <p:cNvPicPr/>
          <p:nvPr/>
        </p:nvPicPr>
        <p:blipFill>
          <a:blip r:embed="rId1"/>
          <a:stretch/>
        </p:blipFill>
        <p:spPr>
          <a:xfrm>
            <a:off x="2209680" y="1712880"/>
            <a:ext cx="4800600" cy="4764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7"/>
          <p:cNvSpPr/>
          <p:nvPr/>
        </p:nvSpPr>
        <p:spPr>
          <a:xfrm>
            <a:off x="3352680" y="236232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篮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952880" y="251460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羽毛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4724280" y="4556160"/>
            <a:ext cx="1524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乒乓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971800" y="42670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228600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9" name="Object 12" descr=""/>
          <p:cNvPicPr/>
          <p:nvPr/>
        </p:nvPicPr>
        <p:blipFill>
          <a:blip r:embed="rId2"/>
          <a:stretch/>
        </p:blipFill>
        <p:spPr>
          <a:xfrm>
            <a:off x="3581280" y="4083120"/>
            <a:ext cx="3429000" cy="2448000"/>
          </a:xfrm>
          <a:prstGeom prst="rect">
            <a:avLst/>
          </a:prstGeom>
          <a:ln w="0">
            <a:noFill/>
          </a:ln>
        </p:spPr>
      </p:pic>
      <p:pic>
        <p:nvPicPr>
          <p:cNvPr id="610" name="Object 13" descr=""/>
          <p:cNvPicPr/>
          <p:nvPr/>
        </p:nvPicPr>
        <p:blipFill>
          <a:blip r:embed="rId3"/>
          <a:stretch/>
        </p:blipFill>
        <p:spPr>
          <a:xfrm>
            <a:off x="2182680" y="1676520"/>
            <a:ext cx="2541600" cy="464796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14" descr=""/>
          <p:cNvPicPr/>
          <p:nvPr/>
        </p:nvPicPr>
        <p:blipFill>
          <a:blip r:embed="rId4"/>
          <a:stretch/>
        </p:blipFill>
        <p:spPr>
          <a:xfrm>
            <a:off x="4419720" y="1676520"/>
            <a:ext cx="2590560" cy="2523960"/>
          </a:xfrm>
          <a:prstGeom prst="rect">
            <a:avLst/>
          </a:prstGeom>
          <a:ln w="0">
            <a:noFill/>
          </a:ln>
        </p:spPr>
      </p:pic>
      <p:pic>
        <p:nvPicPr>
          <p:cNvPr id="612" name="Object 15" descr=""/>
          <p:cNvPicPr/>
          <p:nvPr/>
        </p:nvPicPr>
        <p:blipFill>
          <a:blip r:embed="rId5"/>
          <a:stretch/>
        </p:blipFill>
        <p:spPr>
          <a:xfrm>
            <a:off x="2209680" y="3276720"/>
            <a:ext cx="259092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33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下边统计图把下列各题补充完整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算出四类学校的扇形圆心角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儿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15%=54°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  学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  学：                                       大  学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图可以看出表示（          ）的学生扇形面积最大，说明       （                                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各类学校的学生总人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则幼儿园为（         ）人，小学人数为（            ）人，中学人数为（                ）人，大学人数为（                ）人。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4" name="Text Box 34"/>
          <p:cNvSpPr/>
          <p:nvPr/>
        </p:nvSpPr>
        <p:spPr>
          <a:xfrm>
            <a:off x="3733920" y="1219320"/>
            <a:ext cx="1768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5" name="Oval 35"/>
          <p:cNvSpPr/>
          <p:nvPr/>
        </p:nvSpPr>
        <p:spPr>
          <a:xfrm>
            <a:off x="2895480" y="762120"/>
            <a:ext cx="2133720" cy="2057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3962520" y="182880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7" name="Line 40"/>
          <p:cNvSpPr/>
          <p:nvPr/>
        </p:nvSpPr>
        <p:spPr>
          <a:xfrm flipH="1" flipV="1">
            <a:off x="3505320" y="914400"/>
            <a:ext cx="45720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8" name="Line 41"/>
          <p:cNvSpPr/>
          <p:nvPr/>
        </p:nvSpPr>
        <p:spPr>
          <a:xfrm flipH="1" flipV="1">
            <a:off x="2971800" y="1447920"/>
            <a:ext cx="99072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9" name="Line 42"/>
          <p:cNvSpPr/>
          <p:nvPr/>
        </p:nvSpPr>
        <p:spPr>
          <a:xfrm flipH="1">
            <a:off x="3580920" y="1828800"/>
            <a:ext cx="38124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0" name="Text Box 44"/>
          <p:cNvSpPr/>
          <p:nvPr/>
        </p:nvSpPr>
        <p:spPr>
          <a:xfrm>
            <a:off x="3809880" y="99072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学生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3962520" y="1981080"/>
            <a:ext cx="140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小学生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2" name="Text Box 53"/>
          <p:cNvSpPr/>
          <p:nvPr/>
        </p:nvSpPr>
        <p:spPr>
          <a:xfrm>
            <a:off x="289548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幼儿园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3" name="Text Box 57"/>
          <p:cNvSpPr/>
          <p:nvPr/>
        </p:nvSpPr>
        <p:spPr>
          <a:xfrm>
            <a:off x="3134880" y="11430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大学生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4" name="Text Box 60"/>
          <p:cNvSpPr/>
          <p:nvPr/>
        </p:nvSpPr>
        <p:spPr>
          <a:xfrm>
            <a:off x="525780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40%=144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5" name="Text Box 68"/>
          <p:cNvSpPr/>
          <p:nvPr/>
        </p:nvSpPr>
        <p:spPr>
          <a:xfrm>
            <a:off x="1295280" y="42879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35%=126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6" name="Text Box 70"/>
          <p:cNvSpPr/>
          <p:nvPr/>
        </p:nvSpPr>
        <p:spPr>
          <a:xfrm>
            <a:off x="5241960" y="43639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10%=36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7" name="Text Box 71"/>
          <p:cNvSpPr/>
          <p:nvPr/>
        </p:nvSpPr>
        <p:spPr>
          <a:xfrm>
            <a:off x="3352680" y="4876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生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8" name="Text Box 78"/>
          <p:cNvSpPr/>
          <p:nvPr/>
        </p:nvSpPr>
        <p:spPr>
          <a:xfrm>
            <a:off x="950760" y="5257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生人数最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9" name="Text Box 82"/>
          <p:cNvSpPr/>
          <p:nvPr/>
        </p:nvSpPr>
        <p:spPr>
          <a:xfrm>
            <a:off x="7832880" y="586728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75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0" name="Text Box 86"/>
          <p:cNvSpPr/>
          <p:nvPr/>
        </p:nvSpPr>
        <p:spPr>
          <a:xfrm>
            <a:off x="2438280" y="6172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00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1" name="Text Box 90"/>
          <p:cNvSpPr/>
          <p:nvPr/>
        </p:nvSpPr>
        <p:spPr>
          <a:xfrm>
            <a:off x="62485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75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2" name="Text Box 92"/>
          <p:cNvSpPr/>
          <p:nvPr/>
        </p:nvSpPr>
        <p:spPr>
          <a:xfrm>
            <a:off x="1371600" y="6629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0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6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03:34:42Z</dcterms:created>
  <dc:creator>zzh</dc:creator>
  <dc:description>六年级二册 扇形统计图</dc:description>
  <dc:language>en-US</dc:language>
  <cp:lastModifiedBy>a</cp:lastModifiedBy>
  <dcterms:modified xsi:type="dcterms:W3CDTF">2015-02-10T02:03:48Z</dcterms:modified>
  <cp:revision>71</cp:revision>
  <dc:subject/>
  <dc:title>PowerPoint 演示文稿</dc:title>
</cp:coreProperties>
</file>