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07E-5061-4CE8-A766-4FE64C54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E03-A998-4F98-88AE-9C69926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0C813-7D2A-418E-8423-89F67A8B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E4130-6DF3-4128-905F-389ED87D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AF52F-04C9-4157-BE7A-AFB1A262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5A6B-12D6-4B57-829D-B319E74D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7F316-0631-4B66-922B-795AAAB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6D9E3-1241-44CC-8631-9EBB64C2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07F88-F550-49C5-AE7D-40002A9F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81E07-07AA-49F4-8FFF-F77191FB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942BE-884C-41AA-B83F-399DF5C0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67308-AA40-4B23-B2A0-D3268E44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FC9-01BA-4629-A081-1F2FCD86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2EB03-2166-4CB8-A0A3-0EEE3930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EC99D-EE8C-4BC0-AD57-6022281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BA93C-C60A-4CE8-AFC8-AB484A84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6F685-BF7A-4B13-8FF5-AEB4233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0E33E-C48A-4CA1-88F6-E212C1D9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E4A8B-06C3-46F2-8005-E939735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EA10A-AE82-430F-ABC7-C10808F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3FBD1-AEEC-4C91-90AE-6306B4F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C2120-43D0-4C4C-9172-695BA171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7339B-6197-4DC6-879C-2F21A098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D4E-F68B-4084-91BC-BDD679C1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20775-FBB7-4AE0-93E1-25341D75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52CE9-7865-44B6-A0EE-F4A07F8D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0E278-1F83-4E71-AF21-3D2AF35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7B470-F7DF-41D5-AF87-E5BFE97D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52A55-6C5B-4A30-B9CB-72E41450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E7450-6A3E-469F-8368-FD72AA2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64971-56F6-4814-96E6-D59C44E2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C3DC-FC77-4656-9DB6-47779F2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46EAF-A5D8-4158-AFA5-09204AFB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F66C8-BEEB-4F73-8D4A-8CD7B49B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4B58-68FC-4B59-BAD9-8979E027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A9F4F-26F3-484F-BA07-41CAF6F4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6203F-2D9B-42B5-9D96-78FFC622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07EFC-EBD8-4806-8080-7D42A04D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F96F0-E3DF-4BE7-A70C-8F21EC83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D00FF-AAAB-40A1-9D20-B8E17A4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CEE18-227C-4247-8A8C-1063F615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12EBB-41C8-425B-8131-B47E2E7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A1324-45B2-4F44-9560-5F292DE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5001B-2AE8-47D1-BB19-F80883A9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1F905-B9EB-4046-B67A-DD86B43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16D5-5728-4375-908F-6884988E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03DA0-B21E-43A5-BFEA-86F13FB4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0D812-BC99-4769-89E1-60C372D2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0D475-9183-447C-9CEF-A1D53D94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DD8BD-2196-4886-B46E-8973810F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69E18-0F8A-486E-9E14-A8FC9069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AA6F1-429B-447F-A808-6383EF98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6A2A8-1238-40EB-BE13-98A3F67A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22537-F0C1-4211-9BA2-4A501492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D89AB-8EA1-42DA-B35A-B21B6E0B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F7C70-2FE9-434B-A55C-3C705728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0568-ABDB-403B-AB85-851F4885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B7B1A-4FE4-447F-B850-3646A360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9C5A4-F684-4687-BB7F-BFFDE5F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10143-2CE0-4865-8FCD-11493FA5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20017-F5EC-4A49-92EA-9CBF9E3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7C7B1-7405-4D2C-9793-A568DB7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209BB-F3F0-4939-A69E-28392443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6294F-CDBF-4834-AAB1-A40F1825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86E8-F647-4B9C-816C-05D038CB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6047-0DC0-4BF8-88AB-008D7E9A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5B30-3783-484B-A3ED-D3A96B49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23C7-8FA8-443C-8130-43BA8412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8DB-ABC9-47CD-881B-AD99391A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3688-EBDF-4262-A4B2-E7344501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DC93-5169-4ACD-A1EE-B9E7F07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DBAA-90A3-41D8-8BBD-45AF66A7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832F-FF44-43E9-9C44-776F92DE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D6DC-8CF9-40E0-92AE-FB52BC2B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3685A-1AC7-4BD6-ADDE-7D733F24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95E0-CF8C-4D28-A259-34AF62EA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E20A-5422-4DD7-9FC7-D526D78A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C00F-6CEF-4BCD-8EF5-0BBB615B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BCB2-7992-49BC-AA23-1704A6C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4EE-4761-408F-889D-EFD5093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BAEC-1D37-4A41-AE89-42BC4C4C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1BF3-585F-45FC-8C3A-00B2704A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3F41-16A4-46F2-9D71-E93CDBAF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4069-678F-40C6-9473-D42561D9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5183-F9E2-458E-B362-D1ECDCD4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E3BB-701A-4AD9-B2ED-E916E53B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A802-890A-4AE5-BF2E-4071DB7D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4278-1A9C-4D2A-966B-8B5445F3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5CA56-CDD4-4EE8-9850-00EDC850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F77C-7F89-4FC3-B1A7-24E82F59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76D-40ED-4300-8023-6DDF8DB3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9D66-CC1B-4DD0-87DA-CFE1EE60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22FC-AE00-445C-B96E-3DF58D24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73BE-E8C3-4744-9B44-58ACA707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0E7C-CF8E-4B25-A98B-4150075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3ABF-B1D0-4FD7-94CF-E03147E9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5372-CE5D-4AA9-AB9E-95C2793E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B5F4-764E-4995-A453-0EB81154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AD89-0750-498C-99E7-4C548D14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023E-9EA7-4686-9514-662720FA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65D5-8540-452D-9356-AB57A862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AE0-9845-4A0B-856E-844EA675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E865-5059-47CD-9461-F6FB1B73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BEAC-9C0E-4A96-B0F3-D073F111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199F1-B049-4D62-8ED4-9D482FE9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2E09D-2F48-4CF5-8CCA-89FE278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EDCE-E10E-4446-9585-83802123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D645-F6E2-445D-8F74-0172C5E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211E6-0A7B-4DC4-AB37-FCC412CA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C05B-5678-4CA9-B491-53D694E0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6C99-0395-4E21-83CE-27132BB2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2BF8-0B96-45A1-B45C-59CCD671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D2D-7395-44E8-ACC8-D2DF2DAE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B772-C8FD-4BF5-ADEB-A4B6D123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48CDC-C967-4900-B8AE-B37FEE22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38EB-E68B-4045-8CC7-D8519016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C2ABB-A290-499E-8244-9A7CF6D5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71DA8-6CA2-44AD-B6AE-0CA62BD0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667C-3B27-40C1-B3B7-92D57B2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91481-6C26-4A51-BBC2-9CCFD992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C16D5-787A-4F64-897E-2ACA4425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2EC02-7353-4BC0-8455-BDCB91C9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39F79-8F41-45D4-BB0A-7B022C1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92F-699A-4168-8C5E-6295279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0430-48CD-4446-8FBC-02EED03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1D226-F15D-49F8-B2AE-FC887DAE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7EE62-CDC3-4B29-8AFF-903149D4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B52FB-866D-4B1B-9D1B-B22D0F1F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21E34-5C6D-40F1-A2DE-AAE5B4FF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63684-FD05-40AA-9D21-25C11DBE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13FF3-113F-47F2-9D2F-9F349C17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89D23-FED5-4152-ABCF-F61CB14E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5A7DC-513C-483B-8FB2-B9C34520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51E22-253F-4E3D-B639-A0617F5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531-B389-467E-A48C-8CFE0DA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0F662-6145-4736-B31E-4DDEE095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5B5A5-5532-492D-8783-B463B6F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4B053-EBB9-4136-9EA9-A24C89C5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32F15-5667-4EB1-A2DE-65208DD1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A6EED-9D02-462A-84D8-8C1D81DE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51649-18CC-4D4F-9650-DEC219A1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2E1F6-654C-4EA1-B634-1DF96417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4FDCB-EA4C-47A2-84B0-E26FB1F8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6B4A-25C7-4881-8052-FD2C46BC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3EFC0-7D5B-4688-B5FF-18B6B2AF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2D7-9728-47F9-8F8E-1C36A79A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82C52-05B8-4DD1-8FCA-8E5A6C33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0998B-0F9D-45AE-8E00-85FB6A15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51359-3D3E-4B0C-8BFD-A9C5E323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A5F4-C0C9-47D2-8CDF-13D26E3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05FA2-BE06-443B-98FF-02333465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64EF2-EEA3-4E77-A15D-6A15F71D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9694D-B574-44B5-B15F-5D040FA6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C4BF5-50EF-4C7C-82F0-1F2D82AC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4A28C-73F9-476A-AEC7-C097CD0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8F4A0-153E-4188-BEAD-2DEC9812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A57A-9E77-436F-AEB8-47200FB9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5974-F5C6-4988-BF0C-41AB570C18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C52F-14C6-4EA4-8DC6-3B3CE8F97F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12E6-9B53-49B8-BE8A-9E300F14BD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5F9A-0F9C-4136-822E-B397F766C6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AA53-16EA-4BE6-806D-41DBB0E8E9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4AF-4BBD-4197-84B6-41F2706654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43C1-4E0D-45E5-8970-A605613B19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E7D0-C204-4D2C-A6DE-F9AA414E8E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4050-E7A3-4DD5-A916-64212E7F91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B93-8CAC-4002-BAF8-F420664A4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52E4-1E7B-487E-8CEA-7BB099170C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226-E3BB-43D9-838B-26E4B4E35F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9906-0053-4832-98A4-0B34302428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B1E0-1056-4997-BCEF-F6364ECDE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1EF7-550C-4B61-AC0F-BFCB3004F7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C808-F114-44EE-910B-86C9D6433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8005-40AA-4CD6-87D5-6FE9C7A27E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75E7-72B5-4453-8EFB-2C29767EA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5679-4320-4BD3-B5B2-CA5EBFD61C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825A-D468-4DDA-BCB3-CB282CDB2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3F0C-D79E-41AC-922B-1F84624289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A325-2438-493A-AD66-B214D13FD8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CC55-50FE-4E6C-89E1-D58857887D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008-B7A6-4CF9-88FF-CB79B6F616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索溪峪的</a:t>
            </a:r>
            <a:r>
              <a:rPr b="0" lang="zh-CN" sz="13800" spc="-1" strike="noStrike">
                <a:solidFill>
                  <a:srgbClr val="ff0000"/>
                </a:solidFill>
                <a:latin typeface="方正剪纸简体"/>
                <a:ea typeface="方正剪纸简体"/>
              </a:rPr>
              <a:t>野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5"/>
          <p:cNvSpPr/>
          <p:nvPr/>
        </p:nvSpPr>
        <p:spPr>
          <a:xfrm>
            <a:off x="3124080" y="6389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认真地阅读课文，想一想课文为了描写索溪峪的野，运用了怎样的文章结构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920" y="24764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总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2920" y="2325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山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物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游人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3708360" y="38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20040614123449-0"/>
          <p:cNvPicPr/>
          <p:nvPr/>
        </p:nvPicPr>
        <p:blipFill>
          <a:blip r:embed="rId1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20040614123305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20040614123503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在自己的“好词好句”本中摘抄课文中的好词好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09:21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6T15:04:58Z</dcterms:modified>
  <cp:revision>8</cp:revision>
  <dc:subject>第一PPT模板网-WWW.1PPT.COM</dc:subject>
  <dc:title>第一PPT模板网-WWW.1PPT.COM</dc:title>
</cp:coreProperties>
</file>