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9E09-63C0-4644-A690-02C321DAC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8B53-30DB-45A7-8AB8-26839516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26900-900A-4A3A-AE23-B1047AD4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820B2-6210-427E-A6FD-9CA7E19B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DB1D3-BC10-4359-9941-D1ED031A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80CDC-B6FF-4650-BCE4-4A5D181A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3AAD7-30FE-47B6-A7E2-35954CA5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FA7FA7-63D3-4432-8174-D387E52D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08447-452D-4DC9-BB30-5DF6C892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76A32-FB51-4F38-8A30-0CB726A2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15EE6-2A10-48EC-9F30-290C8A26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2B6AC-4E8D-4639-BC38-F39186AC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47BA-307A-433A-9FBB-3B604DC67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32019-5024-4E44-B55C-E9D6421C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FB4CD-40EA-4852-B552-7ACBD483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169A3-E7A0-4DD1-944B-BF15D407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B0EBE-9C40-464D-BD7D-8DFF241A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7AC47-1D4E-4FBF-AB5B-2B0B5588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FB4E2-7266-4F20-B1B4-E0978C94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05AD4-6832-4C75-87A5-68685A36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2128B-C141-444E-9487-539C6A33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8ECD8-C512-4C29-A643-B27ACC49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962B5-B166-4E4E-A0D1-03753198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FC1F-AC8C-49CC-8564-D0345F374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8FFC2-37E1-4B6B-9318-CD0A289F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2187D-2B9C-40DC-A581-4CE0813F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3B2DC-FC37-4C9B-971D-DD813D49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E26BE-C5D8-4810-92DE-404D426E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6A6CB-6A11-4202-84D7-E4143AC0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E52D3-48A2-411B-8442-D51DFDDD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3A6FA-B5B1-4005-8856-DB2BE68F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8ABE8-8225-4687-81ED-AE7209F1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322F8-D225-4DDB-B193-A54ECEDC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33237-5397-432F-A1F6-521F438D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DBB1-51AF-4E61-8D1C-EB3CCF0C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7EB80-3333-41C8-A99F-EB190F98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D11EE-E6C4-4718-9F15-BD7978F0B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446BB-8FE6-4DC6-AAE9-DED107F2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1A9AA9-FD7B-43FC-9C66-C21810F97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3A3DD-6F1D-4406-9786-7EF97245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F10DE7-B930-4FFB-AEB6-8802C71D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ED1E83-7034-4D1E-88E4-920E8480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65639-B175-427D-9273-47A85458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6F995C-180B-4DDD-8AC7-8CD1AE93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F8928F-91D2-4DDC-8CBF-913BB36D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B408-BBA0-47E1-AA81-6D567659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214369-AD50-47BA-AECB-712B6660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BE4616-212B-4D05-8F5D-AD640F32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851EC-FC71-4776-A75D-D70FE5EF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37B9C-86A4-4A6C-9CCC-7E0C4BBE3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367AF-647D-4FA8-B313-F21189C42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B72D79-CD08-4BFF-957C-5AE5F7A1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169451-480B-4346-AA28-902BB676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481A3D-D4CA-4BD7-99A8-D390DB78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E8D612-8FBA-4AC7-8BB5-0770A88C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9ECC75-EC56-4DB0-A0EB-FA62972C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E538-E2A8-4D1E-91FC-84D02020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F3E8FD-8DB7-432C-BCCD-B9E758D2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8889BE-4D6C-455D-B60F-C6361415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46518A-F90B-426E-BADE-002CF4F8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6DAD90-0967-40CF-B7DD-0B3032CD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0B4D66-ED63-4E92-8885-76D3F732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3D3481-5323-4280-8865-F2DE8DE2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6D1D3A-2892-4178-ADC4-A40EDBFB3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347D90-993B-4BB4-864B-99040CD8F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62655B-494C-41E2-AD54-7B21697B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DB79C5-5D48-41D0-8887-120A7390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0C67-D9D9-44B0-A9A9-5A5408B9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0A7EDC-753D-4599-AB46-81BEB508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0A0D89-F902-46EE-8915-2B34F931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3A9CF6-D8D7-4B6A-A7E8-3C818000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0EBBAD-3BCD-47AA-A46B-FCCD549B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64C9AE-2F4E-4E1E-9829-96BDBEDE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4FB980-D777-489E-8000-C810E3C4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DB5214-3EEF-42DF-A2C1-FFC3F265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E4D082-76FE-4E34-90CC-52698E536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A0ED08-E387-40E8-AD80-42C70273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5918D6-2BDF-4B90-8A7C-1B296D600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DC5C-C0EB-40DB-9CBD-FF94050C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73F23C-F6F4-4717-923E-6AA7CEA9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66AEC0-9C99-4C9F-BCCA-492B2488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25B30E-70F8-4766-A497-C0A0EBAE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0FAE10-99B6-417E-8832-1865B407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75D652-860E-4FBC-955F-7751DFDE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A80610-B9D1-4B98-9749-E4EC3AC9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55BA18-FBBA-427B-A46A-B148A75B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7B4BCD-D74C-48AC-81E7-0C45655E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789EA0-6A90-4F2D-ACC3-CDEE86A7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AC0CA2-F37A-4657-AD1E-427F69AD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F697-1738-4D86-857E-C3289183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0A0599-7524-453B-BACC-C74F861D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B93E-845E-4D73-93C1-E293C133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F698-B068-4A6B-BFB2-52D6430B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B3C6-E0FC-467C-A8E7-AC3B1878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A5CC-6513-47FC-A1E6-BC816191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15D8-8DFC-42E2-95BA-4C883BCF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CB52-D825-40DD-9A84-F5684AC5E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6BD4-BDC8-4615-8CF1-585FF4D5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D8175-5E1B-41F3-BD84-11392CCDB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4A127-BAC4-42D3-9A83-740C3EEF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B02F9-5A0B-4B0F-8CA4-2C887C1E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FA18D-8177-48D0-B34D-10719396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C1ABF-E9E3-43D9-874E-4468373E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BB88-7A2A-4128-A0A6-BE9A0EFD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975C2-6C3A-42B4-852D-20A5431D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8FD3D-EA04-47FB-9D33-597C174C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85007-55C0-4940-9304-59BA08A0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13130-DC60-4AB7-968B-5EE3A312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21843-6335-4FB0-94D7-16158D6F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0440C-FE76-4100-BB91-ADCAFBE3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B6B68-7E6B-4956-A646-1DB6DEB3B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96A59-73A3-4B9C-93ED-4A0254D3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489E0-1276-45B5-992E-1D23C270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DC7DC-9136-416E-9DB0-50E7ADB7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3968-DE15-4D17-AC36-2C6A3FBA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0A824-B3D2-44F3-957F-8BF3240D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EEDAD-783D-4355-95D7-C637946C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BBBDB-AE4D-4C40-BB35-15A686E4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347E0-0899-44CA-8735-B0E219B0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D8B8E-5B96-45FE-AEFA-71AF1DCF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ABF74-0B78-446F-9804-2ED10B0A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05486-F53C-49FA-8181-84FD5A46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ADFE8-570D-4649-B6F5-806CC584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87942-44EE-43A7-9611-2A566FC7E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065E3-DFC0-48FF-94A2-925E4BB8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2858-1ED0-4D11-93D6-EE5AC44E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602DF-2AA6-467F-A7D1-907F126D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F3840-720B-4588-B006-88C74F96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4A608-CC6F-4E41-BC96-04DDDB6A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25396-53EE-4B4E-B615-553B8621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88E13-6497-4C98-A1C4-FA17D027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7F810-1EC1-4638-9FBF-FEB60E1E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BA973-0D67-445F-A6C2-BE9A9AF0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6EAB9-563A-4FE2-B326-0CEAD184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43FCF-0455-4976-AA2E-6BEDF906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C0CBC-0EFC-4E4A-850F-3DC3387A5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6ABC-9CFD-4580-9E13-95E5D0F8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ADEF7-6D13-4943-96E6-1ADA65A9E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F95C2-0FB5-4E29-9467-51C11640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A3102-B4E9-4A12-A103-880ED0C7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32B85-BEBD-4B99-8545-30D01EC2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EDA88-3F55-4DF9-AB2B-168EA0A3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76BDE-7E54-4C75-98A5-758CCD69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8B64E-BDB1-4546-A72F-3B6B7299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9CD72-29E4-4FE3-B434-7710E91F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FC5B2-6E9E-4313-8FFD-9C1902D8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111F4-9593-424B-B78E-3B1F459A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6003-3973-4328-AD88-94295E5D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8FFCD-74CF-42AB-8307-17ADADB7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AF07D-57E6-4B58-B522-F43CBEA72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2E508-B89B-4AE5-8E4F-A1DDF9FDB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D4BBE-FFFD-4DAF-B3BE-6F5CFE419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B16BF-A0DF-403B-96E8-D5896DC9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3B43D-D0FE-4838-ADC2-CAB0B79D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4B2F6-74C4-4A3B-91D5-7B0559E0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FDF4B-C704-4D41-BF4D-1482A923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06875-16D3-48E4-B986-9FB56E8E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B497E-9499-41DB-BDAE-FB1E82D8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40B6-2A5B-45C7-8004-3827B889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0B73D-1612-48EA-8434-E6FAF711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2DA26-9818-4D16-9C42-16883B55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56E60-D829-4736-80E1-5F92F456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C2B3A-DAEF-4B85-A736-7806099A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887F6-8910-440F-B8AD-1B2186436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7A4F4-18EB-46CF-80D8-AC3DC2A1B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FCA69-6B72-4ACC-9A41-A1BD0C1E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468EC-EF4C-4982-A89D-BB05EE9E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51B07-018A-4606-B251-644C7C9C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8DF33-F869-4BFF-B137-8F685436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CBB9-5870-463A-9E1C-FC4C571F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379E5-6E9A-47E8-B833-B29A76A8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CDE0F-4A6B-4A04-8080-A425AEFB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8C9C5-02A4-4E47-8F86-0DDF1D5C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82A98-0C0A-43B4-8899-94367F47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E797B-EE1A-4437-B1C5-71D5D5CE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7A711-1070-4DD7-B53E-40FCB655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60E02-C934-4222-B458-D8D3ED30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7CFD4-16F6-4F96-AD40-02E3D89A1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58EE2-1DFD-4A3E-91BB-E31F49E6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F1DD7-B643-45DD-9A1F-3B5D800E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A412-3E6A-46BF-9DC8-1F06B24182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20C1-3568-4F81-B331-5AFDE5D7CAF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E403-A695-45E4-BB56-071E75CB71F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BA1E-0262-4319-BF69-E75F03258E17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EA7A-639E-4D44-8D58-757231E21A2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8A3A-60DB-47EB-888A-0B5C3B50F87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90D4-A012-43D4-AF85-AB01846E576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9223-B5F5-4EA5-A14C-8DB1D31C10A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FF6C-87FF-4769-B95E-24A2B82054D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2BC6-7966-465B-A1DB-231826827A3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6FCC-2585-4FE2-ADC4-5626F1FD8C2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9C15-4A90-44D4-9A82-20CECCBE08E7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9479-6694-48C4-847A-7F5F323F960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A3C1-2379-40E9-8394-2691279BD1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7"/>
          <p:cNvSpPr/>
          <p:nvPr/>
        </p:nvSpPr>
        <p:spPr>
          <a:xfrm>
            <a:off x="7812000" y="115920"/>
            <a:ext cx="122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56B8-CA52-4050-AEA8-5C1D652C73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4E90-891E-47AC-A6A0-7BC01CA705F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509A-21AD-438E-B8E9-4B6565E911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C0AD-D775-474B-BDDA-A8974B52ACC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872D-7C78-487D-A98E-3CE2D7C6013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B5FB-41F5-4CE4-9FBB-19A844DBBDF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3265-B59C-472A-B76A-33242FABD32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F857-50B4-488A-82AC-C583EEEDDEF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F8B8-085D-47B1-92E4-FF1FBD9C977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5360-DA01-4658-858A-9254F60A11A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B9C4-AFC0-4C5D-BC02-80946150DE1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0B45-15E3-49BA-96ED-DF1DD953AB5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3F0C-EB4F-44E9-830F-89EB21C0064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工作规划</a:t>
            </a:r>
            <a:r>
              <a:rPr b="0" lang="en-US" sz="5400" spc="-1" strike="noStrike">
                <a:solidFill>
                  <a:srgbClr val="ffffff"/>
                </a:solidFill>
                <a:latin typeface="黑体"/>
                <a:ea typeface="黑体"/>
              </a:rPr>
              <a:t>ppt</a:t>
            </a: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模板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22160" y="30574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722160" y="15570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2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0:19:21Z</dcterms:created>
  <dc:creator>Sky123.Org</dc:creator>
  <dc:description/>
  <dc:language>en-US</dc:language>
  <cp:lastModifiedBy>a</cp:lastModifiedBy>
  <dcterms:modified xsi:type="dcterms:W3CDTF">2015-01-22T02:37:40Z</dcterms:modified>
  <cp:revision>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806000000000001024100</vt:lpwstr>
  </property>
</Properties>
</file>