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type.wav" ContentType="audio/x-wav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214-53C0-419A-BD24-9F42EC9D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600-29C8-4A35-919E-D1ED96AC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4FF32-A1CD-46FF-A01E-643D8B20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D4EDB-1201-47F1-88EF-7275FEAE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DD74A-6E05-4E5C-9761-DA8F994F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D43E3-12F6-4735-A698-170D431F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E9410-5856-42CC-94BB-FC91D74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79240-348C-4296-B741-21B8E95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4E7EB-FB61-429A-8E56-FC8E02C7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1DEC1-16FC-40D0-B624-5033F9B2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7A68D-30AE-4784-9C90-172E5CD5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9B026-B60E-4CFF-BBCF-E2490898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850-695E-41D5-A7A0-8CCBBF5F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AE769-7C9C-492F-8C08-DB938F71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157E4-9D26-4CE1-8F29-02C316EE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D1656-0DF7-42AE-A4E8-3198A2EB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82A53-A092-4F53-B68A-F0D57685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EB816-C03D-464B-B258-9ACE6122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6611F-1E8A-422E-8C8A-3F87DD33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795CF-8F44-4754-87E5-57EE38EE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68371-5587-4ED3-9A44-93D37F1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85487-BF81-44C0-994A-3AB0308B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04399-1286-47D5-BEC9-214A01C7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5B2-8067-405D-B157-B46FCFBF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FB584-4766-4F63-A4D5-312BEA56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D097A-B914-4825-9620-FE2B02BA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49C32-0578-442F-9AFE-731D9552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53E7E-14B8-416C-8C3D-68F2074E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FAC83-67BD-4863-AA8F-51D5C90A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BCB6E-4341-4388-B394-ED992B26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4B642-7E00-444D-9835-8D8D050F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421FE-D3D7-462F-A77F-2D9AF82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6F2B8-B08F-42C7-9D71-F6AC6C0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86458-A4A3-4FEF-A534-44AB5D3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FA7A-753C-4600-9673-CF0C3985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86CC7-BD4D-4200-8CBA-7519FF79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973BD-9ED1-4B27-A375-A3ADBA30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1B784-8681-4077-B932-6288264B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F5FC6-B746-4288-B0FE-44044274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15987-E364-42EA-8054-124B0D96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F19C8-FFD5-454D-843C-0F194EFA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738AB-F7C0-4D61-AA97-B9FE500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1DEA0-6045-42CF-AF41-8E25452D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15B01-49F3-4460-87A3-C368000D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C9AFE-1542-46D5-98A4-35F28F49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C98B-DAA6-4DC4-AA56-A6EA83C2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88902-7126-4F60-8956-4C3304B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269F0-B88A-476F-8ED8-6ECF3D7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C7688-14C2-4D99-B1C4-90FB4E58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FEE48-C931-40C1-AE8B-D8FA66AD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C9E5D-FB90-4910-8F15-A009B506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12C17-4E2F-49C2-ABBF-C802EC0E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4AD00-99A1-4080-B707-C4B8D051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F017F-E465-44B1-8573-A3F26F14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ED5D1-4561-4CB4-BAFB-95C8E3FE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A6F66-6858-4A11-B2FC-8266E851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3725-7CB2-487D-AAB9-47F441AD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BB4A8-3B42-46DB-B049-D1F7E0FF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0A52B-4E0B-46EC-9E09-21BF75E6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24268-E83C-43C0-AB03-E94854DE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F6530-8BA0-4918-965D-4B8715F1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DB7BD-6E35-4548-ABA0-7AE47F56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3C702-6E23-40D0-8E1E-AA6FF1C2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DD5C5-978C-4D5D-98F9-320B2D96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082D-F0E0-41B5-B538-4AE653EB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A853-87FF-4042-B8E1-FFBD6CE5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BED2-4F08-4FA3-83F8-B9F4BCCF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F7FE-DB3A-4351-B2B4-1C98D8B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57C-F73A-4498-811D-ABA86E9A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779D-EA9C-427F-B23F-B17ED1F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AABC-2AA4-4EE1-A20B-E6480F1C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2222-40B5-409B-9EF0-BAB8B124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FA87-0888-451E-8511-A3A50314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A68-74E1-434B-833E-0563350C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F35F-A7C2-40F3-8661-F839D7AC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AC929-88DD-4113-BCD9-D2B90AC4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0B92-4F0C-4E3B-A6ED-7E19E561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AA5E-CBFF-4941-8A2C-C62CFB7F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4C9D-5CCE-4A93-B9E9-5B114A8E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7EF-AD23-4567-AFEB-9FD6C75A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F816-8958-4706-9944-A8FE15B1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59B0-6FAE-42F0-AB1D-9F4D690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54BA-10ED-4DB9-B668-CDEA1607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07C5-B166-4938-AE43-03680884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558A-EEE7-4A50-8CD6-587130AC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6BD9-CFB0-4B47-946E-3834D975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9177-60A6-4ED7-8DD1-12B6B9F1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D6407-A3CC-4045-9B15-AD5A084E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5FFC-7904-4C70-91AF-8852A7C6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D0F6-AFE2-4131-ABCD-6E8F9C7D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FBB-DCD6-4A95-BA74-FCEB605E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F921-C12D-40B5-B6F3-02C0F35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AC041-AED7-421A-8636-E6C0691A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5286-A58E-4FE9-B408-1B465A7B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18C52-4A7A-45B3-B75C-4167098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AD7B-B20F-46A0-9057-7002BF3F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BBEE-D8CA-48D4-86B0-B6087BF3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48032-AA77-4D40-B1B0-DD64F6E1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20A9-CD11-4F9A-B13A-9DFE7CC6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E403-5B65-43CD-9162-7FA38CF2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7A87-B756-4C3C-B80D-A1183459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9A9-0C49-4FB1-9753-AE812BE2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10F9-A5D3-4E61-BA22-9E9CBABC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6669-97E7-4C9C-9157-1FF5D074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73D1B-6994-4F33-B770-0F9F0BF9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31016-1B4A-496A-A421-96050033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3646B-916D-4D4B-9F5A-202FE49B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AE07-CA3E-4B52-B48F-0A4EEFA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E0C63-BF75-4ED0-A0F4-293C3C9D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21C60-1980-4FE6-AD15-7D3A756B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15BDC-15BA-41B4-87FD-B943553F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FB06B-929B-4285-8F5D-52F2E79F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2FA-3933-4275-AAD3-040F58F2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1E9D2-1B6D-4E5E-940D-CC8B1213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E1FC-8F96-46ED-900E-095E2A4E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64960-B0CA-48E0-9DFD-91B26D9F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A0B9-B2D9-417D-B059-2405FCE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06994-E1A5-4063-9D0B-767A72E9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17C0B-12DC-4C9C-AEC2-9774FEE5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DFE3A-9E5D-4BCE-BD22-22C086D6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57B7-BFAB-4E02-B073-C20CF2C7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51218-8016-40A1-8816-0621454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7B7A3-52F0-43C4-BF72-BF3639F0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E98-7D81-4DA7-A500-12B922B9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55242-370C-4F96-A4B2-920A7557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B554E-3FD3-43C7-81E5-848B2C77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2032D-ED17-463F-B0F1-F83854CC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9E6CC-FEAA-4A31-9EF7-64499EF9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891B6-CDA3-4F65-BB1E-A86DE69B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ECD05-152F-48AA-B70F-4589B7E6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EFD88-77F2-4395-BBE8-33BA4E39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4A0B-4D05-4233-A98F-EBA9F311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6D18E-781B-4645-8417-70E02D09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773BB-7514-4ABD-AB80-97B23A4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33B-B7E1-4D46-BEE3-A4B71B6A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1ABA7-5000-48F3-B813-7D8AA819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AB90C-3514-495B-B55E-F66CD12C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1602B-CA00-4EBE-B0CB-41E28964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9A26E-A850-4527-962A-D5924490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16534-DFCC-44F5-A232-CFAB1989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6D0EC-339B-4478-B53C-EF42D452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F48D-7CF3-427B-BE2D-589D7008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8D757-ACA0-4FFF-84D8-5D2D3BAB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58051-7F2E-49E3-9BD6-62F291C4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87B0E-6B67-44A7-85D9-DA8CE200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F1A-E557-43F4-BF1E-B42BA242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5E6F0-45FD-4BE6-ABE2-02EA6C01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27956-C22D-4AC4-A7CC-03B19B90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98187-4935-41ED-A915-AEA6728F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B19D3-3E60-4A73-B862-F131C5F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CE7CC-65D0-4D05-A8F2-9BDF70FC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B846-792E-497D-A536-78A27433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4CAB1-9977-4688-8652-3D085217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E998E-3ADF-4931-B502-12D0306B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F34B5-7131-486E-899D-063DFA70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89CA3-D1FC-4B9B-9C7B-38163179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4E0F-EEF2-442A-A2F5-45246AD4AB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DBC4-10E3-487F-B7FC-DD79DE000A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2B6E-00FF-4057-AC1E-DE23707515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0D10-D250-4226-AA6A-18A7B0F590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0A61-E406-4353-9FEA-11F47EFC73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0842-2C01-410C-89A7-DC931636E9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21FF-7DFB-44FA-AD5F-4C974E78F7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9167-78AE-4BE1-8697-A612ACEE05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EA98-24B2-4E79-B90D-BCD13EFBF7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E338-03C1-4D31-81C6-FBA81ECBCC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67B-039E-463D-BA96-A199BFA5D5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673A-6792-46C7-BB77-2AD54FC87A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F1BF-4CEF-4F80-A6C1-D7F80B06B8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EFCD-7B45-4FD2-8F26-E652EE1614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C098-6E4B-4CE1-BB15-61C1E682BD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A365-1D28-4CA6-8EEC-B31E119F48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CE25-C5A4-4ED8-873F-7623790174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2E70-AB0D-449A-A9C5-72868BA7EA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4C5C-40D1-4386-8229-2B9B8AD711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3AC9-78F1-432A-9802-3796CCF4F0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0882-C438-481C-8F9A-1FC415B78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5B04-AFA3-40E3-B8E4-6D3ACF4EAD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E5CC-A5D0-470E-8334-5EBFD26473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C867-1235-43F7-9712-EF59D17F2E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6D0C-FE89-4A14-876F-CAEDC39102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20081028089175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3"/>
          <p:cNvGrpSpPr/>
          <p:nvPr/>
        </p:nvGrpSpPr>
        <p:grpSpPr>
          <a:xfrm>
            <a:off x="0" y="0"/>
            <a:ext cx="8457480" cy="519120"/>
            <a:chOff x="0" y="0"/>
            <a:chExt cx="8457480" cy="519120"/>
          </a:xfrm>
        </p:grpSpPr>
        <p:sp>
          <p:nvSpPr>
            <p:cNvPr id="536" name="Rectangle 4"/>
            <p:cNvSpPr/>
            <p:nvPr/>
          </p:nvSpPr>
          <p:spPr>
            <a:xfrm>
              <a:off x="0" y="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5"/>
            <p:cNvSpPr/>
            <p:nvPr/>
          </p:nvSpPr>
          <p:spPr>
            <a:xfrm>
              <a:off x="0" y="0"/>
              <a:ext cx="845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8" name="WordArt 9" descr=""/>
          <p:cNvPicPr/>
          <p:nvPr/>
        </p:nvPicPr>
        <p:blipFill>
          <a:blip r:embed="rId2"/>
          <a:stretch/>
        </p:blipFill>
        <p:spPr>
          <a:xfrm>
            <a:off x="1238400" y="1731960"/>
            <a:ext cx="6649920" cy="1846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7" descr="20094301257657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2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685800" y="0"/>
            <a:ext cx="7391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选自冯骥才的《俗世奇人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于《俗世奇人》　冯骥才在《俗世奇人》序中写道：天津卫本是水陆码头，居民五方杂处，性格迥然相异。然燕赵故地，血气刚烈；水咸土碱，风习强悍，近百余年来，举凡中华大灾大难，无不首当其冲，因生出各种怪异人物，既在显耀上层，更在市井民间。余闻者甚夥，久记于心；尔后虽多用于《神鞭》《三寸金莲》等书，仍有一些故事人物，闲置一旁未被采纳。这些奇人妙事，闻所未闻，倘若废置，岂不可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近日忽生一念，何不笔录下来，供后世赏玩之中，得知往昔此地之众生相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故而随想随记，始作于今；每人一篇，各不相关。冠之总名《俗世奇人》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5" descr="2010261321668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609480" y="10666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楷体_GB2312"/>
              </a:rPr>
              <a:t>师傅  刷浆  包袱  透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楷体_GB2312"/>
              </a:rPr>
              <a:t>清爽  搜索  威严  露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楷体_GB2312"/>
              </a:rPr>
              <a:t>发怔  发傻  半信半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5" descr="20091310332387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2"/>
          <p:cNvSpPr/>
          <p:nvPr/>
        </p:nvSpPr>
        <p:spPr>
          <a:xfrm>
            <a:off x="164304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763640" y="765000"/>
            <a:ext cx="738036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浆：用刷子在墙壁上刷石灰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规矩：一定的标准、法则或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信半疑：有点儿相信又有点儿怀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派头：气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稀溜溜：粉浆稀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悠然：悠闲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点：打鼓时的音响节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衔接：事物相连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衣无缝：比喻事物没有一点儿破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犯：非法干涉别人，损坏其利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严：有威力而又严肃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露馅：比喻不愿意让人知道的事暴露出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诈：欺骗。       难堪：难为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怔：发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6" descr="20093230234743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164304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179280" y="2514600"/>
            <a:ext cx="7993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穿上这身黑与其说是在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桶白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较劲，不如说是在与自己挑战和较劲，他在以这种特殊的方式向世人展示自己的高超技艺，流露出对自己手艺的绝对自信和自豪。他为自己设立的近乎苛刻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业标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让人感受到他的奇崛之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324000" y="18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干活前，他把随身带的一个四四方方的小包袱打开，果然一身黑衣黑裤，一双黑布鞋。穿上这身黑，就好像跟地上一桶白浆较上了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6" descr="2009490115423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一段话描写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墙的情景，包括他刷墙的动作和刷后的效果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墙的动作是那样的娴熟，娴熟得已进入一种出神入化的境界，给人的感觉，他不是在做一项又脏又累的活儿，而是在进行一项艺术创作，艺术表演，悠然摆来摆去，伴着鼓点，和着琴声，清脆一响，极是好听，这不是艺术的境界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后的效果，作家主要言其平整和雪白，一道道浆，衔接得天衣无缝，刷过去的墙面，好比打开一面雪白的屏障。他刷墙的动作和刷后的效果相互映照，反映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技艺高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见师傅的手臂悠然摆来，悠然摆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好比平平整整打开一面雪白的屏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6" descr="20095310619362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2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这句话写的是曹小三看到师傅穿着一身黑色的衣服，刷完墙壁后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居然连一个芝麻大小的粉点也没发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时的内心感受。他亲眼见到师傅真有如此高超的技艺，他感到惊愕，内心受到震撼，虽是事实，但他不敢相信这是事实，可又不得不承认这是事实。这身黑衣服上无一个粉点，就是师傅高超技艺的见证。因而，他觉得那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黑衣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具有一种威慑力量。实际上，是师傅凭着高超的技艺在徒弟心中树立了权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真觉得这身黑色的衣服有种神圣不可侵犯的威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6" descr="2009123118552280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2"/>
          <p:cNvSpPr/>
          <p:nvPr/>
        </p:nvSpPr>
        <p:spPr>
          <a:xfrm>
            <a:off x="164304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04920" y="333360"/>
            <a:ext cx="883908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细如发，对于小徒弟细微的内心活动体察入微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徒弟说的这句话是意味深长的。他告诉徒弟曹小三，不要以为别人的名气都是虚的，那可是名副其实的。他教育徒弟要好好学本事。手艺人必须有本事，本事是勤学苦练出来的，有了本事才能有自己的尊严。这恐怕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生经验的总结。这句话貌似一般，但是在课文里有很深的含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762120" y="0"/>
            <a:ext cx="52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④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好好学本事吧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!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6" descr="2009770919137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2"/>
          <p:cNvSpPr/>
          <p:nvPr/>
        </p:nvSpPr>
        <p:spPr>
          <a:xfrm>
            <a:off x="164304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04920" y="1125360"/>
            <a:ext cx="8610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文章的最后一句话，其意思至少有三：一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有绝活，这一绝活，若没有亲眼目睹，怎么也不会相信是真的，说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技艺高超。二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此绝活是其自我挑战、不断磨练的结果。三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刷子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所言所行深深震撼了曹小三，曹小三感触很深，获益甚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⑤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小三学徒的头一天，见到听到学到的，恐怕别人一辈子也不一定明白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44:28Z</dcterms:modified>
  <cp:revision>15</cp:revision>
  <dc:subject>第一PPT模板网-WWW.1PPT.COM</dc:subject>
  <dc:title>第一PPT模板网-WWW.1PPT.COM</dc:title>
</cp:coreProperties>
</file>