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1.png" ContentType="image/png"/>
  <Override PartName="/ppt/media/image1.png" ContentType="image/png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2F2-97C4-4265-B79E-44370AD0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1BA-04E7-4E35-8340-524F97B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938AB-B97D-4451-8DEF-B707987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A5AAE-380C-470F-885D-245ECA5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46E85-E3C3-4D64-A7B4-033246F3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5DEA5-BCD8-4295-9DF9-C1D9E98C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90179-7CBE-4413-8B96-FD08D67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CC1AF-BE2E-49D2-BE30-8301ABD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84A1D-8661-4825-AF95-2416251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0034B-C541-4928-B2DB-C348D61D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49C25-F93D-49DB-B2D9-D417E9F6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075C8-F2FB-44E4-B3C9-3FDCD43F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65D-6264-48A1-B81A-539F6E76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2FF87-E560-4688-B3F7-FF92301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60A30-E0B0-4F1D-9BE0-98CF74D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55FD1-C8BB-4096-B807-F5507D92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144EB-91BD-4321-A221-0721891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4A75E-7CCF-436F-BC17-82D01E4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C989B-3488-4191-97B9-278025D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90509-48A8-4F22-8C86-04AC52D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781FB-E3E5-4ECB-9840-C61EAB0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A6C37-A6FA-48B8-9CE3-A77D1B9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136D7-1C2F-4B6E-9E57-BEDF1FB0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518-5BC3-4FDE-A7EB-1AA88647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CF8B3-1338-4396-82A5-CA6A8363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8EE8-484D-41BE-B97F-DDAB5358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810BB-79AA-4704-87D2-1518C698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F9FE0-D79E-4A8F-9A82-8B0581F5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6E89-1F97-4099-892D-D60255AD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47997-E069-4E96-B6E1-1DA88FE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258B-D8FE-4756-9936-ABC53D8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E20A-CE53-43DD-9422-7D2998B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1C6C1-4960-428F-8152-5C6F1D8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2371-67B7-47FD-9F72-F9C7659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41A-7FB7-49ED-B36D-B4D1B89A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536DA-EB08-4946-B6C3-EFBAE58A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8AC0A-A8AA-4405-8393-07D7E9BE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B1AA2-23DD-45F8-B895-123EAC7F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2AED6-A51E-43B1-9355-2D22A20C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D6EA9-335A-4601-ACCB-205215B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0DCC7-66A3-41B4-97EB-843908F9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EC71A-B883-44B8-B0F3-D7791D0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F030E-9FDF-422C-8A4C-22C0578D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298DC-654B-4684-B7C7-97B570CF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9157B-CF5A-4890-B744-BA19F0F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C3A9-B0E5-4CBC-86F5-770E0AB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DA44D-5DAE-45B5-BD1C-AF69016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3BA76-8D4A-46EC-A9D4-5AFAB45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FDF7B-8132-4EBF-9B9C-772CC83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0E508-E1C7-435A-8EEC-83F0983E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796A0-3B6C-4AE2-8D2B-B9236701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886F3-8B54-404E-AC4E-36D70771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56D36-2977-4A0A-9971-7052C1A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FA77D-CF11-485B-B282-918AEEE5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3FFC9-AD02-409C-BAFC-95A88EC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1FE40-AC4F-4930-BA36-A4F299F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9E95-0DF0-464A-BB63-D0E0F831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99225-5109-4EAC-9785-35D9545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0DE3E-23FA-43C4-8D9F-AA0F0125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07826-FE5C-4EC0-82D7-17FF4E9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87EF8-FEAB-44B7-A3D5-646B35C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1D8DC-61E5-4AD9-B183-AC398C14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C6D01-62A1-4167-A316-62FE4837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46A73-7D6B-496B-A9F8-5945236E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FC7C-A095-4AA2-920D-48D3207A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0455-44A1-46DE-A0D1-885C114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3F87-1C80-42DB-9A18-E6B5BDC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B388-95FE-4278-A0DC-43C3F18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84B-4233-4474-B80E-84BE26E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2AD8-6C3A-43DF-A712-A94EB51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928-C7C7-4B72-B7F1-CED93BF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C28B-79C4-403A-A5A5-7E7DA3A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2E98-3DC6-464A-8FD0-CE5E3121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75F8-E309-48AD-9919-D13A0DE4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7C57-BE79-4451-9F0C-1A16D763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5B3F-B7B0-408E-96D0-B11C5AD1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1FCF-1A3E-44D3-AE2D-EDBF7BF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D8F5-1BDB-48B0-9BDB-5BDCC6FF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DB51-F26D-49A0-A37C-DDD7F99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E85-EC3B-4FD9-BC6D-D18AFEC1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079C-0809-475C-9E41-A013295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9FCF-598F-46A3-A77C-96E7BB4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E8C6-359B-40BC-9F19-646356C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E74C-AF3F-4A26-BF8D-9A446F5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2175-9F88-4824-816D-2CDB5719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7AA1-E692-4920-97BE-F8873A5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18C8-4ED8-417E-9FE6-56700805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A706-83B1-44F1-B719-AEEFB365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AE25-36EB-4A39-83A9-AF2D38D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4A6A-4163-45ED-9485-ADDAD49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829-6FAE-40A3-B914-10210642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029D-7E86-4850-B4FB-BCC0389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F930-29D1-4AD3-825C-F87AA80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3E72-A967-42AB-AE74-EBF99CB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E738A-170E-4A66-AA04-F1E700D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BB76-2663-4BBE-A013-BA09617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65608-CD87-4294-9319-9B852E9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F89E-43C9-4222-A2DF-9EA5C46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5CFC-024F-4C4F-B38D-DA1417B8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C591-7D42-4B1A-B331-E0284045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A565C-196E-4143-AFAE-7F1C47A5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924-5F82-40C7-AD24-4D0A9504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EEE0-0ED6-4488-B8A5-90B548E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5975-1F15-49EF-A958-090F8612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EC4E-0AF7-4B38-9FEE-CD9FF48E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5CDD-BB57-4435-898D-B45BCB4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6825-AF91-460D-8A10-3CD4130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3FC8-8065-45DE-A158-A854CF4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97E9E-38AC-401C-99BD-AEB8CAD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4E294-2593-468E-B2FA-4483342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C188-B5CB-4434-B943-FB0A11C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1596-4D0F-440E-B55F-513883C0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1BE-22F7-4EAB-AD55-DB5A23AF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BE0D-0833-48FF-97DB-00B35E3E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F48A1-F67A-4EC9-BF65-CB424F60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2B50-E429-4E73-B241-125ECE09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DCAC-844F-4B72-959C-AA56E5D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E80F-A9CB-49C1-B04D-58E51F3A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430B-84BF-4952-B84C-30DC56D4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40F8-20F4-41F6-BAC2-1F23037A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53066-C08B-46BB-A557-D425122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EDCF4-3861-4823-946D-B54B7C3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D366-0787-4532-A2E5-A613589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25F-1371-483C-A0F7-7E51647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4D711-27C5-4A81-8093-D1E6CFFB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835E-77F2-414A-B206-DDB66088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7635-EE7D-4795-8AE2-8ED0F5A9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E0C48-5BDC-4695-9272-173CC791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CD974-131B-4F59-ABC5-A69E1B29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36ED-9844-49E4-B9F1-E42A3033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5340-9A25-4209-8B4F-2CC00771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8A3F-C79E-4A59-A7FC-81853DCC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D663-47C7-44DD-8E4D-B5D7735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943B-DE02-4507-85AD-014E1B9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BF3-B3B2-467C-A5B7-A99C40F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14B8-CDE3-4CFF-A85F-06675D8A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F215E-F2E7-466E-96FD-8D31672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A755-C6E2-43A6-BA11-B3B6EA38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9EB5-CB44-4D07-8231-E5C24658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3172A-E0B4-4103-9FFC-CAB32442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208C-7A7E-4AC7-A8B3-03C9EF6F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0894-4EA2-4AEB-B53E-DF2FD8D0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4DFE-DD2E-4F5E-8E1C-800827D6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877A9-9A6A-4682-9821-D9ABF1BE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3F94-25BD-4F20-9CFD-C7774097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2FB-D76F-4AF8-85ED-7DD70135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1BA6-EFC4-4E94-ABB1-209AAF3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D4E22-CF93-46E2-A078-D18E8D0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6039-59A0-47D3-87A1-35BF3E8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FA43-F07B-43E5-958E-6DC99D5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447F8-9BA3-4A2C-A4AE-0ADF2ABC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F30ED-8E99-482A-A835-F3C5F972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4CEC-3B3E-411B-B9E8-B3CDAF35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2F05C-4CC7-4709-938F-C3AD9C31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6AF7D-E1FF-4995-ACC3-7903EB1E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7EDAA-6984-41C9-BBF6-18A6699D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7F4-B6FF-4E1F-918A-63093AE5D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455-EFF0-42C7-91C9-892AEAFAA6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0BB3-FC2B-4268-A5D8-586B8A98A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9436-9414-4117-B70C-49E46FB18F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B65-BD8F-4B52-B5B2-499AA248D1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C43-B3D8-4140-8A9C-55B3C870A5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FC7-0078-410E-95EE-57E60DB85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90D0-1BC1-4D4A-BE39-2B1EF8C9FF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52D-B9D1-4BA6-9DAC-084BE32C7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EA43-E87A-4EEE-9859-C30D1ACD6B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E85-F056-47DE-957F-F57E42CABD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76B-E87C-41B8-AC0A-B3FCB26939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084-D3BD-4D21-B9DD-DD44EA32B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390C-E0A6-48EC-A0D6-BB60901575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BEA7-355A-4BD5-8FD8-EBBF0D25FB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A72-8C15-4B11-9D13-459A752C55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0D3-214F-44BE-841A-DEDD5EAF75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32CE-799D-46E6-8C9F-909C1E2659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E002-24B7-43C9-9E49-81B9913FD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D301-5C59-4D54-B278-0B53B9F50D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C81-6740-43CA-B42A-4AC9AA0A1A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ECA-5CF9-4FDE-9731-C2862B491C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850E-CEFA-40F8-86C8-09316F90D2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B674-6922-47F4-AC25-5A239CF88F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B82-E2A1-4134-9150-D686CCEC4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RM_0457"/>
          <p:cNvPicPr/>
          <p:nvPr/>
        </p:nvPicPr>
        <p:blipFill>
          <a:blip r:embed="rId1"/>
          <a:stretch/>
        </p:blipFill>
        <p:spPr>
          <a:xfrm>
            <a:off x="1692360" y="1455840"/>
            <a:ext cx="5545080" cy="45054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2809440" y="3333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*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手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009880" y="2392200"/>
            <a:ext cx="546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拇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82880" y="18162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食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105520" y="1816200"/>
            <a:ext cx="546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146200" y="296856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名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6087960" y="37609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68360" y="1341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他因为身体最长，取物时，往往最先碰到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9640" y="33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？这两根手指正是这朵兰花中最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539640" y="33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？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这两根手指正是这朵兰花中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最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46836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手指的全体，同人群体的全体一样，五根手指如果能团结一致，成为一个拳头，那就根根有用，根根有力量，不再有什么强弱、美丑之分了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mr734v23624l"/>
          <p:cNvPicPr/>
          <p:nvPr/>
        </p:nvPicPr>
        <p:blipFill>
          <a:blip r:embed="rId2"/>
          <a:stretch/>
        </p:blipFill>
        <p:spPr>
          <a:xfrm>
            <a:off x="5435640" y="4581360"/>
            <a:ext cx="2736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692360" y="2637000"/>
            <a:ext cx="570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826920" y="1700280"/>
            <a:ext cx="71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团结就是力量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7" descr="20100515165601207"/>
          <p:cNvPicPr/>
          <p:nvPr/>
        </p:nvPicPr>
        <p:blipFill>
          <a:blip r:embed="rId2"/>
          <a:stretch/>
        </p:blipFill>
        <p:spPr>
          <a:xfrm>
            <a:off x="1042920" y="3141720"/>
            <a:ext cx="4392720" cy="3382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mr734v23624l"/>
          <p:cNvPicPr/>
          <p:nvPr/>
        </p:nvPicPr>
        <p:blipFill>
          <a:blip r:embed="rId3"/>
          <a:stretch/>
        </p:blipFill>
        <p:spPr>
          <a:xfrm>
            <a:off x="5508720" y="371628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6" descr="mr734v23624l"/>
          <p:cNvPicPr/>
          <p:nvPr/>
        </p:nvPicPr>
        <p:blipFill>
          <a:blip r:embed="rId2"/>
          <a:stretch/>
        </p:blipFill>
        <p:spPr>
          <a:xfrm>
            <a:off x="468360" y="33336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7"/>
          <p:cNvSpPr/>
          <p:nvPr/>
        </p:nvSpPr>
        <p:spPr>
          <a:xfrm>
            <a:off x="2843280" y="692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说说有关团结的名言警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539640" y="2133720"/>
            <a:ext cx="820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人心齐，泰山移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中国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一支独秀不是春，百花齐放春满园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雷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天时不如地利，地利不如人和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先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团结就是力量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单丝不成线，独木不成林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俗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五人团结一只虎，十人团结一条龙，百人团结像泰山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邓中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RX_004"/>
          <p:cNvPicPr/>
          <p:nvPr/>
        </p:nvPicPr>
        <p:blipFill>
          <a:blip r:embed="rId1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20100701_087a8ed2a4cb4c2bd6gfGF8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众人划桨开大船.mp3" descr=""/>
          <p:cNvPicPr/>
          <p:nvPr/>
        </p:nvPicPr>
        <p:blipFill>
          <a:blip r:embed="rId3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324000" y="692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99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众人划桨开大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1292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9640" y="333360"/>
            <a:ext cx="820908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张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朵鲜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的一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定为美挥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合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枚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含辛茹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收藏天地精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539640" y="333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歌谣一：食指拇指碰碰，做个小鸡叫叫，叽，叽，叽！食指中指并拢，做把剪刀玩玩，嚓，嚓，嚓！五个手指捏捏，做个榔头敲敲，咚，咚，咚！伸出拇指翘翘，夸你戴上红花，好，好，好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"/>
          <p:cNvSpPr/>
          <p:nvPr/>
        </p:nvSpPr>
        <p:spPr>
          <a:xfrm>
            <a:off x="1692360" y="409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2" descr="gifmb044"/>
          <p:cNvPicPr/>
          <p:nvPr/>
        </p:nvPicPr>
        <p:blipFill>
          <a:blip r:embed="rId1"/>
          <a:stretch/>
        </p:blipFill>
        <p:spPr>
          <a:xfrm>
            <a:off x="0" y="-24300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684360" y="47628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认真读读课文，读时要做到两点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画出生字词，联系上下文，借助工具书和生活积累理解词语，读通课文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想想课文主要讲的是什么，找出能够概括文章主要内容的句子读一读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539640" y="333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大拇哥，二拇弟，中山羊，四小弟，小妞妞，来看戏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539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歌谣二：一个手指显得太孤单，两个手指就能握笔杆，三个手指就能系纽扣，四个手指就能把碗端，五个手指如果都出来，团结的力量大无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8"/>
          <p:cNvSpPr/>
          <p:nvPr/>
        </p:nvSpPr>
        <p:spPr>
          <a:xfrm>
            <a:off x="539640" y="692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想说说身边有哪些事物让你有所感触，有所启发，学习本课的表达方法，把事物的特点和自己的感悟写下来，与同学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53964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539640" y="40464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搔痒 堂皇   渺小附庸    养尊处优窈窕  秽物  纽扣鼻涕   爱憎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8"/>
          <p:cNvSpPr/>
          <p:nvPr/>
        </p:nvSpPr>
        <p:spPr>
          <a:xfrm>
            <a:off x="324000" y="206064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1403280" y="1052640"/>
          <a:ext cx="655344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760"/>
                <a:gridCol w="256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468360" y="981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相帮扶助琴身；水要喷出来，叫他死力抵住；血要流出来，叫他拼命按住；重东西翻倒去，叫他用劲扳住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68360" y="98100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相帮扶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琴身；水要喷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死力抵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血要流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拼命按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重东西翻倒去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用劲扳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6836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拿笔的时候，全靠它推动笔杆；遇到危险的事，都要由他去试探或冒险；秽物、毒物、烈物，他接触得最多；刀伤、烫伤、轧伤、咬伤，他消受的机会最多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68360" y="981000"/>
            <a:ext cx="8353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他永远不受外物冲撞，所以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曲线优美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，处处显示着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养尊处优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2:04:06Z</dcterms:modified>
  <cp:revision>50</cp:revision>
  <dc:subject>第一PPT模板网-WWW.1PPT.COM</dc:subject>
  <dc:title>第一PPT模板网-WWW.1PPT.COM</dc:title>
</cp:coreProperties>
</file>