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9.gif" ContentType="image/gif"/>
  <Override PartName="/ppt/media/image11.jpeg" ContentType="image/jpeg"/>
  <Override PartName="/ppt/media/image12.gif" ContentType="image/gif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F64-4459-43AF-BE7D-5F76CD04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23E-10F9-4497-8E67-4C5B8090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ACD92-9751-46BF-A659-E94376EB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171C9-9542-44C7-BD0F-B808A22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38FAE-AACC-41E0-943E-B37C32FC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867B8-E591-459C-A1EA-65057C5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933E9-4C6B-4B19-91B4-A278A68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D0DBD-D9F9-4055-A928-ADD81074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4762C-9D57-4318-A81E-618EEDF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351F3-B91E-4BCA-80D6-CED9CDD0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DA554-AA0C-41A6-8F13-DD9CF1D0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EAF71-E251-4410-AF6A-6C9B4B0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E89-09A2-4E25-B011-F1C995A8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E6AAC-5480-46F0-B2D3-87EFD7D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132F2-4619-4A37-93AF-9D966CC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579E7-3B54-494E-9E0A-1FD299F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C45AE-AF2C-43B4-95C5-33776D04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D7F93-5549-48D9-A645-1A05376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CC2F3-F8D5-4527-91D4-C470EE4A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E05BD-3D3A-4798-9E7B-DDB4270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ACC7C-5454-4554-8222-EDDCAF46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9E62A-D71D-4B02-8C4D-1FC9F7C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096F7-CFEC-46E8-982D-B0910DC9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5DD-3A9D-42A9-94E3-113DDCFE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02773-094B-4B63-B5BD-0FE8F829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5DE1-8AB7-4253-AD05-BDF5062E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ECF34-5F5F-4287-B3A6-F517E49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BC8CD-072D-448E-A0D3-574EAA7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1F249-7C05-4205-A3D2-06FD7141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093E-F539-4163-9019-158B83D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3CDD-E578-4EF9-97A8-8A47D40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E52C5-8048-4CC3-987E-32883A0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0738D-E784-4AEA-9AC8-71504A9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09F8-4FAD-48A3-8E3E-58CB427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024-3E11-4F78-9158-BFE4DB49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2367-5CA3-48E4-897C-425A6E0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0AAE3-83C1-4E1E-B163-0AD77C48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2710-D650-4B96-A88B-DABFF438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D31B7-AAC4-4963-9C4F-0506DC19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79C13-D574-46C7-B109-EDE4E9D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556D3-0B52-43FC-80DF-FF16A40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A1FD2-4CD4-4B9F-BF74-B1DF6853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D832-609D-4BAF-B8DD-AAE6DC5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29741-73F7-4DE6-898C-1BB6CE4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C6A19-74CE-4C27-9776-2BD6057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765-F272-40EF-90A2-10AC9152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69667-C3C0-4D25-8849-9D8C11B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02F22-0D93-4A11-BE9A-394023A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5DA6-11A1-4C54-BC11-0EF7CE79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78C54-EBF1-4A22-966E-E8DE95CA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79ED9-A1DE-4F28-9170-6D386247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EAD32-8F2A-4043-8DE5-F0B41324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6EB0E-CED7-4DBD-B2C6-FB3BDA3D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6DFDF-C14E-4834-BA78-28E0D8A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63BD7-C518-45E1-B475-F94B3C5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3F393-29B0-4B70-B93D-51591BD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438A-84F8-426E-A44D-E4472FA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5FE99-2BFA-4A39-8992-6E4564F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BEE87-46C2-447C-9A43-D289B6D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24821-FBC3-49D5-A8A9-65F05BF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87C25-1734-49FF-9198-83C8175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F834D-4FEB-4915-B2E0-131E498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826BB-1457-4C78-924F-CFAD5ECA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7B232-63FC-4B90-9743-7DA273F4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1BB4-D415-468E-AF6B-2E2AA1A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54A-A5CF-4B63-AFF6-EB9FF2B8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419-2576-44D0-9615-8C17DCB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10C-206E-4518-A62D-5E94950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F76-6B7F-478B-B508-370DA23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95D0-2F46-47EB-B258-E73F487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BA0F-594A-4431-BF6E-E07F906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2EE-EBFB-4FD4-94CD-B71B0CC4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CCB-7B97-4AC4-9D89-33892EE1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32D9-2AE8-4827-8A69-D1E80138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18A8-4E02-4EB3-B2D5-7D3AD9B2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9CB9-212E-4DDA-9F4F-66B0DA06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EB63-5360-4C3C-8B77-CB78206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B9E6-5655-4706-BF66-C147362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A553-5947-48DA-A561-9F47792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E3D-1BE5-4950-92EC-A47E505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C36E-598A-4FF4-95DB-478F00FC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5347-3904-4709-AF3D-DADE1C8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1618-6D8B-42A4-A316-AB89AC2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6639-6C32-4F32-B0A0-29D1F1C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44BE-68F7-4D01-93A9-D49AAB07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8F3F-4482-49F0-B487-6DD787F7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A7D7-5E35-4CB1-9316-73D26C4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C948-1463-49F1-A3B1-A1961556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8E23-50AB-424C-AAAA-4A552B42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BCB6-886B-4A62-8F67-3DACDFD7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6AB-2D3D-45BD-9D81-2FE9F41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AEB8-0E91-4032-BC81-FD8A5352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4392-7BB9-49A8-9CC7-145DC4F3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27D1-857C-43F4-9B77-162DFB2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978F-674F-4D4A-BD33-CC6ACA5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DE2A-FF37-4E31-B438-3B67AFA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3EB1-9AE4-48B2-A5F3-9C22805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057B-535E-470E-B853-6F54B62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6A45-878A-4B8F-9DEC-07317290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3214-6897-4271-BCDD-A4196F07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2F69-D63D-4DAC-9FB7-EFE9027B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E81-12DE-4CD1-B474-1C1C18B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D58F-C324-4984-B97B-368A1B5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8302-CBB6-4164-9888-923A374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91C5-B296-4E4A-A8D6-D5314D6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043A-1D47-4F63-A201-A59F884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072E-4CFE-47D5-9516-E9514A7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C60F-A2EC-4B71-A297-61A142F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2094-F374-4616-BDBD-7441858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93A0-D730-4193-AC04-299546E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7527-A09B-404F-B4DC-9192E241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E26B-50D2-453D-A1F5-5D15482E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E49-7DEF-4F85-9B92-62CE1961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280B-AC15-4CD3-BD82-D191CFEB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74D0-15EE-4178-8F9C-FCCC2800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4C1DB-DFD3-43B3-9B9E-9715C28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125DB-2478-4C8B-B809-E23789C1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78579-1663-42AE-91D4-4069B04B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7E69-33EF-4F86-BF62-26707B8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9944-079D-4E94-8828-69A5856C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6DFF-7FE1-49A5-86E6-E9BF44E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F31B-928D-4C4C-8383-35CEFC3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A7F9-F64A-4CFD-85FB-44DD510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405-42F6-493D-A5A6-A44C614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54B2-7B87-4942-9811-6AE70627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9A8D9-5934-4B43-9CBB-5EC7BDC0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A2EB-6680-42FA-A85B-19A5889E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CFB0-C561-4E35-892B-CF11E9B6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C61E-5008-4222-A6F7-8607EA14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506BA-5B9F-4DE5-BC1F-514D94A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B13E-7437-456E-A10E-7EAE208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9C8A-D785-4C1D-85D6-08DA412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E89C6-B48C-4FFD-9123-0E72F10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4F8FD-C8FD-4F8B-85F1-B7DEFAB3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55E-9658-4B36-93F7-2162448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3F30-D654-4E02-A27C-AA5ECC6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07A8-9D96-4438-8877-B40C82A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E35AD-96C8-4909-BD79-57258CD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66D7-E7F4-4DD1-B079-48879DF5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1CE5-9D8C-4BBB-AB12-F9867983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55FD-D83F-4EE4-870D-4E8EF2A3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812C-1F45-4A69-AFBE-F5CBE2D1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82DF-DB24-43CB-82B4-FAF5582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FF0EC-1CB5-4824-8CAD-9FFC462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49C6-00EE-401F-AB36-AC527D8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62B-CF62-4493-BB90-B9C684A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0AAB-2F61-4F83-8DF7-8DDC1893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30A1-1048-47F1-BF99-68D9DAE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4A21-B332-4027-9184-E51845C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556C-0666-47C1-B277-A33725E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775F-1387-46B5-A8F6-589E9C29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4646-8DB1-44B4-A18F-8D4A34E4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40A63-F532-40DB-B455-46F2C30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DF873-C353-4D2F-9368-5B1B3233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4C186-6AB1-4E24-98D0-ED25067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AFCB-729F-4687-AAF0-3F392C0E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73A-3D3C-42D0-8C96-02A4A0C2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9B4-DC3D-4A4E-8138-75669C9009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796C-22C9-4EED-9250-8C669725D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109-3A5A-49AF-90FC-BB52B7627C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840-CA87-420F-8DBE-EB0368A9F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A712-7410-4342-AF2E-8624D1DA85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11D-6235-4A64-800C-A1B207DA6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183-96D0-40FF-88AD-7A9053E74F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4504-A0C0-48A2-BE6A-7554548A5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A533-2763-42F1-AFC9-1559834BEC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F16D-C0C9-4330-9CB9-C8695749B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546-8BF8-43C6-870E-609D984AFC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D4A-C681-40E1-A30D-E45F76499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673-64D7-4BF8-9847-F21CED4825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A50-21D5-47C4-AD8C-810CB863D2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00F8-A0D7-48B3-BAF0-CD6C40EBA9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899-9A11-4A06-9C94-A69B7C23E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1E4-D7CD-4302-8B27-912CBBF45E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5860-ADBB-4E91-A102-31B740A6D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8D82-82CC-4FDD-B84F-434D9F3D93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902-A1FA-4B2D-90ED-BD537DDBB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301-738A-4FF9-B3AF-F64B74526A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F0A-186B-49F7-86E1-16737551B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9C4E-6E0B-4822-8AAD-E231CCCBB1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4BB1-9C3D-4874-AB22-FE5CBAA1F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53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1942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435600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根河二小  孙海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5"/>
          <p:cNvSpPr/>
          <p:nvPr/>
        </p:nvSpPr>
        <p:spPr>
          <a:xfrm>
            <a:off x="1455840" y="2998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4291560" y="333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我能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7" descr="2006326222333270"/>
          <p:cNvPicPr/>
          <p:nvPr/>
        </p:nvPicPr>
        <p:blipFill>
          <a:blip r:embed="rId1"/>
          <a:stretch/>
        </p:blipFill>
        <p:spPr>
          <a:xfrm>
            <a:off x="7236000" y="0"/>
            <a:ext cx="1647720" cy="151272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14"/>
          <p:cNvSpPr/>
          <p:nvPr/>
        </p:nvSpPr>
        <p:spPr>
          <a:xfrm>
            <a:off x="611280" y="29242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2"/>
          <p:cNvSpPr/>
          <p:nvPr/>
        </p:nvSpPr>
        <p:spPr>
          <a:xfrm>
            <a:off x="671400" y="47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3"/>
          <p:cNvSpPr/>
          <p:nvPr/>
        </p:nvSpPr>
        <p:spPr>
          <a:xfrm>
            <a:off x="3688560" y="1197000"/>
            <a:ext cx="20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分数通分后新的分母是原来两个分母的乘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来两个分母一定是（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"/>
          <p:cNvSpPr/>
          <p:nvPr/>
        </p:nvSpPr>
        <p:spPr>
          <a:xfrm>
            <a:off x="0" y="2205000"/>
            <a:ext cx="25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都是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3256920" y="22050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相邻的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6644160" y="220500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互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442908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8"/>
          <p:cNvSpPr/>
          <p:nvPr/>
        </p:nvSpPr>
        <p:spPr>
          <a:xfrm>
            <a:off x="1672200" y="278136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分的作用在于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3369960" y="328464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母统一，规格相同，不容易写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母统一，分数单位相同，便于比较和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0"/>
          <p:cNvSpPr/>
          <p:nvPr/>
        </p:nvSpPr>
        <p:spPr>
          <a:xfrm>
            <a:off x="3925800" y="270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1"/>
          <p:cNvSpPr/>
          <p:nvPr/>
        </p:nvSpPr>
        <p:spPr>
          <a:xfrm>
            <a:off x="0" y="429264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32"/>
              <p:cNvSpPr txBox="1"/>
              <p:nvPr/>
            </p:nvSpPr>
            <p:spPr>
              <a:xfrm>
                <a:off x="611280" y="4149720"/>
                <a:ext cx="5616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通分后分母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Text Box 33"/>
          <p:cNvSpPr/>
          <p:nvPr/>
        </p:nvSpPr>
        <p:spPr>
          <a:xfrm>
            <a:off x="5622480" y="4365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4"/>
          <p:cNvSpPr/>
          <p:nvPr/>
        </p:nvSpPr>
        <p:spPr>
          <a:xfrm>
            <a:off x="272520" y="50133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5"/>
          <p:cNvSpPr/>
          <p:nvPr/>
        </p:nvSpPr>
        <p:spPr>
          <a:xfrm>
            <a:off x="608616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6"/>
          <p:cNvSpPr/>
          <p:nvPr/>
        </p:nvSpPr>
        <p:spPr>
          <a:xfrm>
            <a:off x="1440" y="5516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37"/>
              <p:cNvSpPr txBox="1"/>
              <p:nvPr/>
            </p:nvSpPr>
            <p:spPr>
              <a:xfrm>
                <a:off x="539640" y="5373720"/>
                <a:ext cx="4608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通分后的分母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Text Box 38"/>
          <p:cNvSpPr/>
          <p:nvPr/>
        </p:nvSpPr>
        <p:spPr>
          <a:xfrm>
            <a:off x="5622480" y="5589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9"/>
          <p:cNvSpPr/>
          <p:nvPr/>
        </p:nvSpPr>
        <p:spPr>
          <a:xfrm>
            <a:off x="489960" y="6338880"/>
            <a:ext cx="70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0"/>
          <p:cNvSpPr/>
          <p:nvPr/>
        </p:nvSpPr>
        <p:spPr>
          <a:xfrm>
            <a:off x="608616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7" descr="05FDB8D6DA7A9AD87D8FFA1D921643A3"/>
          <p:cNvPicPr/>
          <p:nvPr/>
        </p:nvPicPr>
        <p:blipFill>
          <a:blip r:embed="rId1"/>
          <a:stretch/>
        </p:blipFill>
        <p:spPr>
          <a:xfrm>
            <a:off x="0" y="0"/>
            <a:ext cx="1801800" cy="167148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8"/>
          <p:cNvSpPr/>
          <p:nvPr/>
        </p:nvSpPr>
        <p:spPr>
          <a:xfrm>
            <a:off x="3759120" y="37800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1331640" y="141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判断是对还是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612720" y="218772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3093120" y="3333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Arial"/>
              </a:rPr>
              <a:t>我来当小裁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2" descr="131e998417c8d48c04fe720e89ab745d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95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33"/>
          <p:cNvSpPr/>
          <p:nvPr/>
        </p:nvSpPr>
        <p:spPr>
          <a:xfrm>
            <a:off x="1578600" y="2205000"/>
            <a:ext cx="54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异分母分数分别化成同分母分数叫做通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4"/>
          <p:cNvSpPr/>
          <p:nvPr/>
        </p:nvSpPr>
        <p:spPr>
          <a:xfrm>
            <a:off x="8207280" y="220500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1539000" y="2852640"/>
            <a:ext cx="64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和通分都是根据分数的基本性质。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6"/>
          <p:cNvSpPr/>
          <p:nvPr/>
        </p:nvSpPr>
        <p:spPr>
          <a:xfrm>
            <a:off x="3700440" y="350028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分母分数通分后，分数单位是相同的。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7"/>
          <p:cNvSpPr/>
          <p:nvPr/>
        </p:nvSpPr>
        <p:spPr>
          <a:xfrm>
            <a:off x="716040" y="4149720"/>
            <a:ext cx="795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时，分数越约越小，通分时每个分数的值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越大。                                                     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8"/>
          <p:cNvSpPr/>
          <p:nvPr/>
        </p:nvSpPr>
        <p:spPr>
          <a:xfrm>
            <a:off x="1292760" y="5229360"/>
            <a:ext cx="67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是每个分数单独进行的，通分是在几个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进行的。                                             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8461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8585280" y="282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8461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2"/>
          <p:cNvSpPr/>
          <p:nvPr/>
        </p:nvSpPr>
        <p:spPr>
          <a:xfrm>
            <a:off x="846144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3"/>
          <p:cNvSpPr/>
          <p:nvPr/>
        </p:nvSpPr>
        <p:spPr>
          <a:xfrm>
            <a:off x="8442360" y="570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7"/>
          <p:cNvSpPr/>
          <p:nvPr/>
        </p:nvSpPr>
        <p:spPr>
          <a:xfrm>
            <a:off x="599760" y="76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187280" y="3500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684360" y="33782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615636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2700360" y="2602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2"/>
          <p:cNvSpPr/>
          <p:nvPr/>
        </p:nvSpPr>
        <p:spPr>
          <a:xfrm>
            <a:off x="5435640" y="620640"/>
            <a:ext cx="30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自主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5" descr="2005129100039"/>
          <p:cNvPicPr/>
          <p:nvPr/>
        </p:nvPicPr>
        <p:blipFill>
          <a:blip r:embed="rId1"/>
          <a:stretch/>
        </p:blipFill>
        <p:spPr>
          <a:xfrm>
            <a:off x="2771640" y="-243000"/>
            <a:ext cx="2592360" cy="23479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42"/>
          <p:cNvSpPr/>
          <p:nvPr/>
        </p:nvSpPr>
        <p:spPr>
          <a:xfrm>
            <a:off x="1263240" y="2163600"/>
            <a:ext cx="66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甲、乙两人做同样的零件，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，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完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。谁快一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3"/>
              <p:cNvSpPr txBox="1"/>
              <p:nvPr/>
            </p:nvSpPr>
            <p:spPr>
              <a:xfrm>
                <a:off x="324000" y="3716280"/>
                <a:ext cx="34560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44"/>
              <p:cNvSpPr txBox="1"/>
              <p:nvPr/>
            </p:nvSpPr>
            <p:spPr>
              <a:xfrm>
                <a:off x="4788000" y="3789360"/>
                <a:ext cx="3529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Text Box 45"/>
          <p:cNvSpPr/>
          <p:nvPr/>
        </p:nvSpPr>
        <p:spPr>
          <a:xfrm>
            <a:off x="66960" y="342900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8"/>
          <p:cNvSpPr/>
          <p:nvPr/>
        </p:nvSpPr>
        <p:spPr>
          <a:xfrm>
            <a:off x="66960" y="458136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49"/>
              <p:cNvSpPr txBox="1"/>
              <p:nvPr/>
            </p:nvSpPr>
            <p:spPr>
              <a:xfrm>
                <a:off x="0" y="5084640"/>
                <a:ext cx="3384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50"/>
              <p:cNvSpPr txBox="1"/>
              <p:nvPr/>
            </p:nvSpPr>
            <p:spPr>
              <a:xfrm>
                <a:off x="4643280" y="5084640"/>
                <a:ext cx="33847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Text Box 51"/>
          <p:cNvSpPr/>
          <p:nvPr/>
        </p:nvSpPr>
        <p:spPr>
          <a:xfrm>
            <a:off x="3737880" y="39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2"/>
          <p:cNvSpPr/>
          <p:nvPr/>
        </p:nvSpPr>
        <p:spPr>
          <a:xfrm>
            <a:off x="8202240" y="400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3"/>
          <p:cNvSpPr/>
          <p:nvPr/>
        </p:nvSpPr>
        <p:spPr>
          <a:xfrm>
            <a:off x="345888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4"/>
          <p:cNvSpPr/>
          <p:nvPr/>
        </p:nvSpPr>
        <p:spPr>
          <a:xfrm>
            <a:off x="792324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u=827787602,3667177475&amp;gp=0"/>
          <p:cNvPicPr/>
          <p:nvPr/>
        </p:nvPicPr>
        <p:blipFill>
          <a:blip r:embed="rId2"/>
          <a:srcRect l="0" t="0" r="0" b="-137"/>
          <a:stretch/>
        </p:blipFill>
        <p:spPr>
          <a:xfrm>
            <a:off x="6300720" y="692280"/>
            <a:ext cx="2448000" cy="1454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u=827787602,3667177475&amp;gp=0"/>
          <p:cNvPicPr/>
          <p:nvPr/>
        </p:nvPicPr>
        <p:blipFill>
          <a:blip r:embed="rId3"/>
          <a:srcRect l="0" t="0" r="0" b="-137"/>
          <a:stretch/>
        </p:blipFill>
        <p:spPr>
          <a:xfrm>
            <a:off x="6300720" y="2349360"/>
            <a:ext cx="2448000" cy="1454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u=827787602,3667177475&amp;gp=0"/>
          <p:cNvPicPr/>
          <p:nvPr/>
        </p:nvPicPr>
        <p:blipFill>
          <a:blip r:embed="rId4"/>
          <a:srcRect l="0" t="0" r="0" b="-137"/>
          <a:stretch/>
        </p:blipFill>
        <p:spPr>
          <a:xfrm>
            <a:off x="6227640" y="4076640"/>
            <a:ext cx="2448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0"/>
            <a:ext cx="5040360" cy="4124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"/>
          <p:cNvSpPr/>
          <p:nvPr/>
        </p:nvSpPr>
        <p:spPr>
          <a:xfrm>
            <a:off x="1979640" y="4724280"/>
            <a:ext cx="100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81"/>
          <p:cNvGrpSpPr/>
          <p:nvPr/>
        </p:nvGrpSpPr>
        <p:grpSpPr>
          <a:xfrm>
            <a:off x="395280" y="4797360"/>
            <a:ext cx="2485800" cy="1476360"/>
            <a:chOff x="395280" y="4797360"/>
            <a:chExt cx="2485800" cy="1476360"/>
          </a:xfrm>
        </p:grpSpPr>
        <p:pic>
          <p:nvPicPr>
            <p:cNvPr id="543" name="Picture 7" descr="u=827787602,3667177475&amp;gp=0"/>
            <p:cNvPicPr/>
            <p:nvPr/>
          </p:nvPicPr>
          <p:blipFill>
            <a:blip r:embed="rId2"/>
            <a:srcRect l="0" t="0" r="0" b="-137"/>
            <a:stretch/>
          </p:blipFill>
          <p:spPr>
            <a:xfrm>
              <a:off x="395280" y="4797360"/>
              <a:ext cx="2485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16"/>
            <p:cNvSpPr/>
            <p:nvPr/>
          </p:nvSpPr>
          <p:spPr>
            <a:xfrm flipV="1">
              <a:off x="1763640" y="4941360"/>
              <a:ext cx="0" cy="129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7"/>
            <p:cNvSpPr/>
            <p:nvPr/>
          </p:nvSpPr>
          <p:spPr>
            <a:xfrm>
              <a:off x="900000" y="5589720"/>
              <a:ext cx="1727280" cy="71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8"/>
            <p:cNvSpPr/>
            <p:nvPr/>
          </p:nvSpPr>
          <p:spPr>
            <a:xfrm flipV="1">
              <a:off x="1187280" y="5084280"/>
              <a:ext cx="1224000" cy="100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9"/>
            <p:cNvSpPr/>
            <p:nvPr/>
          </p:nvSpPr>
          <p:spPr>
            <a:xfrm flipH="1" flipV="1">
              <a:off x="1186920" y="5084280"/>
              <a:ext cx="115236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21"/>
          <p:cNvSpPr/>
          <p:nvPr/>
        </p:nvSpPr>
        <p:spPr>
          <a:xfrm rot="194400">
            <a:off x="5219280" y="4581360"/>
            <a:ext cx="9860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7"/>
          <p:cNvSpPr/>
          <p:nvPr/>
        </p:nvSpPr>
        <p:spPr>
          <a:xfrm>
            <a:off x="7667640" y="4508640"/>
            <a:ext cx="91440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99"/>
          <p:cNvGrpSpPr/>
          <p:nvPr/>
        </p:nvGrpSpPr>
        <p:grpSpPr>
          <a:xfrm>
            <a:off x="3348000" y="4797360"/>
            <a:ext cx="2485800" cy="1512360"/>
            <a:chOff x="3348000" y="4797360"/>
            <a:chExt cx="2485800" cy="1512360"/>
          </a:xfrm>
        </p:grpSpPr>
        <p:pic>
          <p:nvPicPr>
            <p:cNvPr id="551" name="Picture 82" descr="u=827787602,3667177475&amp;gp=0"/>
            <p:cNvPicPr/>
            <p:nvPr/>
          </p:nvPicPr>
          <p:blipFill>
            <a:blip r:embed="rId3"/>
            <a:srcRect l="0" t="0" r="0" b="-137"/>
            <a:stretch/>
          </p:blipFill>
          <p:spPr>
            <a:xfrm>
              <a:off x="3348000" y="4797360"/>
              <a:ext cx="2485800" cy="14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Group 83"/>
            <p:cNvGrpSpPr/>
            <p:nvPr/>
          </p:nvGrpSpPr>
          <p:grpSpPr>
            <a:xfrm>
              <a:off x="3852720" y="4941360"/>
              <a:ext cx="1726920" cy="1368360"/>
              <a:chOff x="3852720" y="4941360"/>
              <a:chExt cx="1726920" cy="1368360"/>
            </a:xfrm>
          </p:grpSpPr>
          <p:sp>
            <p:nvSpPr>
              <p:cNvPr id="553" name="Line 84"/>
              <p:cNvSpPr/>
              <p:nvPr/>
            </p:nvSpPr>
            <p:spPr>
              <a:xfrm flipV="1">
                <a:off x="4644720" y="4941360"/>
                <a:ext cx="142920" cy="1368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85"/>
              <p:cNvSpPr/>
              <p:nvPr/>
            </p:nvSpPr>
            <p:spPr>
              <a:xfrm>
                <a:off x="3852720" y="5589360"/>
                <a:ext cx="1726920" cy="7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86"/>
              <p:cNvSpPr/>
              <p:nvPr/>
            </p:nvSpPr>
            <p:spPr>
              <a:xfrm flipV="1">
                <a:off x="3997080" y="5373720"/>
                <a:ext cx="1511280" cy="504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87"/>
              <p:cNvSpPr/>
              <p:nvPr/>
            </p:nvSpPr>
            <p:spPr>
              <a:xfrm flipH="1" flipV="1">
                <a:off x="3923640" y="5301720"/>
                <a:ext cx="1513080" cy="64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88"/>
              <p:cNvSpPr/>
              <p:nvPr/>
            </p:nvSpPr>
            <p:spPr>
              <a:xfrm>
                <a:off x="4284360" y="5013360"/>
                <a:ext cx="86364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89"/>
              <p:cNvSpPr/>
              <p:nvPr/>
            </p:nvSpPr>
            <p:spPr>
              <a:xfrm flipV="1">
                <a:off x="4284360" y="5013000"/>
                <a:ext cx="936720" cy="11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9" name="Picture 97" descr="u=827787602,3667177475&amp;gp=0"/>
          <p:cNvPicPr/>
          <p:nvPr/>
        </p:nvPicPr>
        <p:blipFill>
          <a:blip r:embed="rId4"/>
          <a:srcRect l="0" t="0" r="0" b="-137"/>
          <a:stretch/>
        </p:blipFill>
        <p:spPr>
          <a:xfrm>
            <a:off x="6084720" y="4724280"/>
            <a:ext cx="2557800" cy="1519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98"/>
          <p:cNvSpPr/>
          <p:nvPr/>
        </p:nvSpPr>
        <p:spPr>
          <a:xfrm>
            <a:off x="1835280" y="4653000"/>
            <a:ext cx="98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23"/>
          <p:cNvGrpSpPr/>
          <p:nvPr/>
        </p:nvGrpSpPr>
        <p:grpSpPr>
          <a:xfrm>
            <a:off x="1798200" y="4817160"/>
            <a:ext cx="1154880" cy="896040"/>
            <a:chOff x="1798200" y="4817160"/>
            <a:chExt cx="1154880" cy="896040"/>
          </a:xfrm>
        </p:grpSpPr>
        <p:pic>
          <p:nvPicPr>
            <p:cNvPr id="562" name="Picture 20" descr="u=827787602,3667177475&amp;gp=0"/>
            <p:cNvPicPr/>
            <p:nvPr/>
          </p:nvPicPr>
          <p:blipFill>
            <a:blip r:embed="rId5"/>
            <a:srcRect l="52133" t="0" r="0" b="46266"/>
            <a:stretch/>
          </p:blipFill>
          <p:spPr>
            <a:xfrm rot="343800">
              <a:off x="1834920" y="4869000"/>
              <a:ext cx="1081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Line 22"/>
            <p:cNvSpPr/>
            <p:nvPr/>
          </p:nvSpPr>
          <p:spPr>
            <a:xfrm flipV="1">
              <a:off x="1835280" y="5162040"/>
              <a:ext cx="57636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Rectangle 101"/>
          <p:cNvSpPr/>
          <p:nvPr/>
        </p:nvSpPr>
        <p:spPr>
          <a:xfrm>
            <a:off x="3708360" y="5661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42"/>
          <p:cNvGrpSpPr/>
          <p:nvPr/>
        </p:nvGrpSpPr>
        <p:grpSpPr>
          <a:xfrm>
            <a:off x="3556080" y="5650200"/>
            <a:ext cx="1100520" cy="884520"/>
            <a:chOff x="3556080" y="5650200"/>
            <a:chExt cx="1100520" cy="884520"/>
          </a:xfrm>
        </p:grpSpPr>
        <p:pic>
          <p:nvPicPr>
            <p:cNvPr id="566" name="Picture 43" descr="u=827787602,3667177475&amp;gp=0"/>
            <p:cNvPicPr/>
            <p:nvPr/>
          </p:nvPicPr>
          <p:blipFill>
            <a:blip r:embed="rId6"/>
            <a:srcRect l="52133" t="0" r="0" b="46266"/>
            <a:stretch/>
          </p:blipFill>
          <p:spPr>
            <a:xfrm rot="10866600">
              <a:off x="3564000" y="5660640"/>
              <a:ext cx="108432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Line 44"/>
            <p:cNvSpPr/>
            <p:nvPr/>
          </p:nvSpPr>
          <p:spPr>
            <a:xfrm flipH="1">
              <a:off x="4219920" y="5706000"/>
              <a:ext cx="410040" cy="59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5"/>
            <p:cNvSpPr/>
            <p:nvPr/>
          </p:nvSpPr>
          <p:spPr>
            <a:xfrm flipH="1">
              <a:off x="3921480" y="5708880"/>
              <a:ext cx="635400" cy="31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102"/>
          <p:cNvSpPr/>
          <p:nvPr/>
        </p:nvSpPr>
        <p:spPr>
          <a:xfrm>
            <a:off x="3348000" y="4437000"/>
            <a:ext cx="300204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53351 -0.49352 E">
                                      <p:cBhvr>
                                        <p:cTn id="6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0.28941 -0.39884 E">
                                      <p:cBhvr>
                                        <p:cTn id="15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7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2340000" y="2708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2124000" y="25653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ff"/>
                </a:solidFill>
                <a:latin typeface="Arial"/>
              </a:rPr>
              <a:t>通     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10"/>
          <p:cNvPicPr/>
          <p:nvPr/>
        </p:nvPicPr>
        <p:blipFill>
          <a:blip r:embed="rId1"/>
          <a:stretch/>
        </p:blipFill>
        <p:spPr>
          <a:xfrm>
            <a:off x="2124000" y="0"/>
            <a:ext cx="5041800" cy="1989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8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一儿童节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幼儿园给每个小朋友发了一块同样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2006326223834433"/>
          <p:cNvPicPr/>
          <p:nvPr/>
        </p:nvPicPr>
        <p:blipFill>
          <a:blip r:embed="rId2"/>
          <a:stretch/>
        </p:blipFill>
        <p:spPr>
          <a:xfrm>
            <a:off x="2556000" y="270828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0"/>
          <p:cNvSpPr/>
          <p:nvPr/>
        </p:nvSpPr>
        <p:spPr>
          <a:xfrm>
            <a:off x="3348000" y="285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红吃一块蛋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3"/>
              <p:cNvSpPr txBox="1"/>
              <p:nvPr/>
            </p:nvSpPr>
            <p:spPr>
              <a:xfrm>
                <a:off x="6877080" y="2781360"/>
                <a:ext cx="365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Text Box 14"/>
          <p:cNvSpPr/>
          <p:nvPr/>
        </p:nvSpPr>
        <p:spPr>
          <a:xfrm>
            <a:off x="7236000" y="2924280"/>
            <a:ext cx="29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吃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0" y="3429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块蛋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6"/>
              <p:cNvSpPr txBox="1"/>
              <p:nvPr/>
            </p:nvSpPr>
            <p:spPr>
              <a:xfrm>
                <a:off x="2195640" y="3357720"/>
                <a:ext cx="55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17"/>
          <p:cNvSpPr/>
          <p:nvPr/>
        </p:nvSpPr>
        <p:spPr>
          <a:xfrm>
            <a:off x="2627280" y="350028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哪个小朋友吃的蛋糕多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自主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7236000" y="76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66"/>
          <p:cNvGrpSpPr/>
          <p:nvPr/>
        </p:nvGrpSpPr>
        <p:grpSpPr>
          <a:xfrm>
            <a:off x="610920" y="4724280"/>
            <a:ext cx="1513080" cy="1441440"/>
            <a:chOff x="610920" y="4724280"/>
            <a:chExt cx="1513080" cy="1441440"/>
          </a:xfrm>
        </p:grpSpPr>
        <p:sp>
          <p:nvSpPr>
            <p:cNvPr id="585" name="Oval 23"/>
            <p:cNvSpPr/>
            <p:nvPr/>
          </p:nvSpPr>
          <p:spPr>
            <a:xfrm>
              <a:off x="611280" y="4724280"/>
              <a:ext cx="1417680" cy="141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PubPieSlice"/>
            <p:cNvSpPr/>
            <p:nvPr/>
          </p:nvSpPr>
          <p:spPr>
            <a:xfrm flipH="1">
              <a:off x="610560" y="472428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6" y="0"/>
                  </a:moveTo>
                  <a:cubicBezTo>
                    <a:pt x="4826" y="7"/>
                    <a:pt x="0" y="484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0786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>
              <a:off x="1332000" y="5445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6"/>
            <p:cNvSpPr/>
            <p:nvPr/>
          </p:nvSpPr>
          <p:spPr>
            <a:xfrm>
              <a:off x="133200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70"/>
          <p:cNvGrpSpPr/>
          <p:nvPr/>
        </p:nvGrpSpPr>
        <p:grpSpPr>
          <a:xfrm>
            <a:off x="4787640" y="4653000"/>
            <a:ext cx="1513080" cy="1441440"/>
            <a:chOff x="4787640" y="4653000"/>
            <a:chExt cx="1513080" cy="1441440"/>
          </a:xfrm>
        </p:grpSpPr>
        <p:sp>
          <p:nvSpPr>
            <p:cNvPr id="590" name="Oval 30"/>
            <p:cNvSpPr/>
            <p:nvPr/>
          </p:nvSpPr>
          <p:spPr>
            <a:xfrm>
              <a:off x="4788000" y="4653000"/>
              <a:ext cx="1417680" cy="1419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PubPieSlice"/>
            <p:cNvSpPr/>
            <p:nvPr/>
          </p:nvSpPr>
          <p:spPr>
            <a:xfrm flipH="1">
              <a:off x="4787280" y="465300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4" y="1579"/>
                  </a:moveTo>
                  <a:cubicBezTo>
                    <a:pt x="14730" y="546"/>
                    <a:pt x="1278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6424" y="157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7"/>
            <p:cNvSpPr/>
            <p:nvPr/>
          </p:nvSpPr>
          <p:spPr>
            <a:xfrm>
              <a:off x="550872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68"/>
            <p:cNvSpPr/>
            <p:nvPr/>
          </p:nvSpPr>
          <p:spPr>
            <a:xfrm>
              <a:off x="5508720" y="5373720"/>
              <a:ext cx="431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9"/>
            <p:cNvSpPr/>
            <p:nvPr/>
          </p:nvSpPr>
          <p:spPr>
            <a:xfrm flipV="1">
              <a:off x="5076720" y="4797360"/>
              <a:ext cx="863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82"/>
          <p:cNvGrpSpPr/>
          <p:nvPr/>
        </p:nvGrpSpPr>
        <p:grpSpPr>
          <a:xfrm>
            <a:off x="7019640" y="4653000"/>
            <a:ext cx="1513080" cy="1441440"/>
            <a:chOff x="7019640" y="4653000"/>
            <a:chExt cx="1513080" cy="1441440"/>
          </a:xfrm>
        </p:grpSpPr>
        <p:sp>
          <p:nvSpPr>
            <p:cNvPr id="596" name="Oval 72"/>
            <p:cNvSpPr/>
            <p:nvPr/>
          </p:nvSpPr>
          <p:spPr>
            <a:xfrm>
              <a:off x="7020000" y="4653000"/>
              <a:ext cx="1417680" cy="1419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PubPieSlice"/>
            <p:cNvSpPr/>
            <p:nvPr/>
          </p:nvSpPr>
          <p:spPr>
            <a:xfrm flipH="1">
              <a:off x="7019280" y="465300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4" y="1579"/>
                  </a:moveTo>
                  <a:cubicBezTo>
                    <a:pt x="14730" y="546"/>
                    <a:pt x="1278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6424" y="157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4"/>
            <p:cNvSpPr/>
            <p:nvPr/>
          </p:nvSpPr>
          <p:spPr>
            <a:xfrm>
              <a:off x="774072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>
              <a:off x="7740720" y="5373720"/>
              <a:ext cx="3585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6"/>
            <p:cNvSpPr/>
            <p:nvPr/>
          </p:nvSpPr>
          <p:spPr>
            <a:xfrm flipV="1">
              <a:off x="7380360" y="4723920"/>
              <a:ext cx="72072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77"/>
            <p:cNvSpPr/>
            <p:nvPr/>
          </p:nvSpPr>
          <p:spPr>
            <a:xfrm flipV="1">
              <a:off x="7740720" y="4653000"/>
              <a:ext cx="0" cy="1440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79"/>
            <p:cNvSpPr/>
            <p:nvPr/>
          </p:nvSpPr>
          <p:spPr>
            <a:xfrm>
              <a:off x="7093080" y="5013360"/>
              <a:ext cx="12952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1"/>
            <p:cNvSpPr/>
            <p:nvPr/>
          </p:nvSpPr>
          <p:spPr>
            <a:xfrm flipV="1">
              <a:off x="7093080" y="5013360"/>
              <a:ext cx="136656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02"/>
          <p:cNvGrpSpPr/>
          <p:nvPr/>
        </p:nvGrpSpPr>
        <p:grpSpPr>
          <a:xfrm>
            <a:off x="2556000" y="4653000"/>
            <a:ext cx="1512360" cy="1441440"/>
            <a:chOff x="2556000" y="4653000"/>
            <a:chExt cx="1512360" cy="1441440"/>
          </a:xfrm>
        </p:grpSpPr>
        <p:sp>
          <p:nvSpPr>
            <p:cNvPr id="605" name="Oval 94"/>
            <p:cNvSpPr/>
            <p:nvPr/>
          </p:nvSpPr>
          <p:spPr>
            <a:xfrm>
              <a:off x="2556000" y="4653000"/>
              <a:ext cx="1417320" cy="141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PubPieSlice"/>
            <p:cNvSpPr/>
            <p:nvPr/>
          </p:nvSpPr>
          <p:spPr>
            <a:xfrm flipH="1">
              <a:off x="2556000" y="4653000"/>
              <a:ext cx="1483920" cy="1441440"/>
            </a:xfrm>
            <a:custGeom>
              <a:avLst/>
              <a:gdLst>
                <a:gd name="textAreaLeft" fmla="*/ 217440 w 1483920"/>
                <a:gd name="textAreaRight" fmla="*/ 1266480 w 148392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6" y="0"/>
                  </a:moveTo>
                  <a:cubicBezTo>
                    <a:pt x="4826" y="7"/>
                    <a:pt x="0" y="484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0786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96"/>
            <p:cNvSpPr/>
            <p:nvPr/>
          </p:nvSpPr>
          <p:spPr>
            <a:xfrm flipV="1">
              <a:off x="2700000" y="5013000"/>
              <a:ext cx="1223640" cy="722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97"/>
            <p:cNvSpPr/>
            <p:nvPr/>
          </p:nvSpPr>
          <p:spPr>
            <a:xfrm flipV="1">
              <a:off x="2916000" y="4725720"/>
              <a:ext cx="72036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8"/>
            <p:cNvSpPr/>
            <p:nvPr/>
          </p:nvSpPr>
          <p:spPr>
            <a:xfrm>
              <a:off x="2916000" y="4726080"/>
              <a:ext cx="72036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9"/>
            <p:cNvSpPr/>
            <p:nvPr/>
          </p:nvSpPr>
          <p:spPr>
            <a:xfrm>
              <a:off x="3276360" y="5373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0"/>
            <p:cNvSpPr/>
            <p:nvPr/>
          </p:nvSpPr>
          <p:spPr>
            <a:xfrm>
              <a:off x="327636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1"/>
            <p:cNvSpPr/>
            <p:nvPr/>
          </p:nvSpPr>
          <p:spPr>
            <a:xfrm>
              <a:off x="2628720" y="5013360"/>
              <a:ext cx="136656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3" name="Object 103"/>
              <p:cNvSpPr txBox="1"/>
              <p:nvPr/>
            </p:nvSpPr>
            <p:spPr>
              <a:xfrm>
                <a:off x="1042920" y="6165720"/>
                <a:ext cx="270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04"/>
              <p:cNvSpPr txBox="1"/>
              <p:nvPr/>
            </p:nvSpPr>
            <p:spPr>
              <a:xfrm>
                <a:off x="5364000" y="6165720"/>
                <a:ext cx="408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105"/>
              <p:cNvSpPr txBox="1"/>
              <p:nvPr/>
            </p:nvSpPr>
            <p:spPr>
              <a:xfrm>
                <a:off x="3132000" y="6093000"/>
                <a:ext cx="392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106"/>
              <p:cNvSpPr txBox="1"/>
              <p:nvPr/>
            </p:nvSpPr>
            <p:spPr>
              <a:xfrm>
                <a:off x="7588080" y="6165720"/>
                <a:ext cx="354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324000" y="476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每组中的两个分数通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38"/>
          <p:cNvGrpSpPr/>
          <p:nvPr/>
        </p:nvGrpSpPr>
        <p:grpSpPr>
          <a:xfrm>
            <a:off x="684360" y="1197000"/>
            <a:ext cx="5976720" cy="1254240"/>
            <a:chOff x="684360" y="1197000"/>
            <a:chExt cx="5976720" cy="1254240"/>
          </a:xfrm>
        </p:grpSpPr>
        <p:sp>
          <p:nvSpPr>
            <p:cNvPr id="619" name="Text Box 5"/>
            <p:cNvSpPr/>
            <p:nvPr/>
          </p:nvSpPr>
          <p:spPr>
            <a:xfrm>
              <a:off x="684360" y="1628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6"/>
                <p:cNvSpPr txBox="1"/>
                <p:nvPr/>
              </p:nvSpPr>
              <p:spPr>
                <a:xfrm>
                  <a:off x="1619280" y="1268280"/>
                  <a:ext cx="1297080" cy="118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Text Box 7"/>
            <p:cNvSpPr/>
            <p:nvPr/>
          </p:nvSpPr>
          <p:spPr>
            <a:xfrm>
              <a:off x="4067280" y="148428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Object 9"/>
                <p:cNvSpPr txBox="1"/>
                <p:nvPr/>
              </p:nvSpPr>
              <p:spPr>
                <a:xfrm>
                  <a:off x="5292720" y="1197000"/>
                  <a:ext cx="136836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3" name="Text Box 12"/>
          <p:cNvSpPr/>
          <p:nvPr/>
        </p:nvSpPr>
        <p:spPr>
          <a:xfrm>
            <a:off x="5651640" y="476280"/>
            <a:ext cx="165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4" descr="复件 u=1723156394,2211366027&amp;gp=1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692360"/>
          </a:xfrm>
          <a:prstGeom prst="rect">
            <a:avLst/>
          </a:prstGeom>
          <a:ln w="0">
            <a:noFill/>
          </a:ln>
        </p:spPr>
      </p:pic>
      <p:sp>
        <p:nvSpPr>
          <p:cNvPr id="625" name="Line 29"/>
          <p:cNvSpPr/>
          <p:nvPr/>
        </p:nvSpPr>
        <p:spPr>
          <a:xfrm>
            <a:off x="133200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7"/>
          <p:cNvSpPr/>
          <p:nvPr/>
        </p:nvSpPr>
        <p:spPr>
          <a:xfrm>
            <a:off x="2124000" y="6392880"/>
            <a:ext cx="2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29"/>
              <p:cNvSpPr txBox="1"/>
              <p:nvPr/>
            </p:nvSpPr>
            <p:spPr>
              <a:xfrm>
                <a:off x="1835280" y="5300640"/>
                <a:ext cx="366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30"/>
              <p:cNvSpPr txBox="1"/>
              <p:nvPr/>
            </p:nvSpPr>
            <p:spPr>
              <a:xfrm>
                <a:off x="6227640" y="5300640"/>
                <a:ext cx="370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132"/>
              <p:cNvSpPr txBox="1"/>
              <p:nvPr/>
            </p:nvSpPr>
            <p:spPr>
              <a:xfrm>
                <a:off x="2916360" y="5229360"/>
                <a:ext cx="395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133"/>
              <p:cNvSpPr txBox="1"/>
              <p:nvPr/>
            </p:nvSpPr>
            <p:spPr>
              <a:xfrm>
                <a:off x="7164360" y="5300640"/>
                <a:ext cx="370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1" name="Group 140"/>
          <p:cNvGrpSpPr/>
          <p:nvPr/>
        </p:nvGrpSpPr>
        <p:grpSpPr>
          <a:xfrm>
            <a:off x="1476360" y="3357720"/>
            <a:ext cx="6480360" cy="3013200"/>
            <a:chOff x="1476360" y="3357720"/>
            <a:chExt cx="6480360" cy="3013200"/>
          </a:xfrm>
        </p:grpSpPr>
        <p:grpSp>
          <p:nvGrpSpPr>
            <p:cNvPr id="632" name="Group 52"/>
            <p:cNvGrpSpPr/>
            <p:nvPr/>
          </p:nvGrpSpPr>
          <p:grpSpPr>
            <a:xfrm>
              <a:off x="2195640" y="3357720"/>
              <a:ext cx="1152360" cy="1439640"/>
              <a:chOff x="2195640" y="3357720"/>
              <a:chExt cx="1152360" cy="1439640"/>
            </a:xfrm>
          </p:grpSpPr>
          <p:grpSp>
            <p:nvGrpSpPr>
              <p:cNvPr id="633" name="Group 39"/>
              <p:cNvGrpSpPr/>
              <p:nvPr/>
            </p:nvGrpSpPr>
            <p:grpSpPr>
              <a:xfrm>
                <a:off x="2195640" y="3357720"/>
                <a:ext cx="1151280" cy="1439640"/>
                <a:chOff x="2195640" y="3357720"/>
                <a:chExt cx="1151280" cy="1439640"/>
              </a:xfrm>
            </p:grpSpPr>
            <p:grpSp>
              <p:nvGrpSpPr>
                <p:cNvPr id="634" name="Group 40"/>
                <p:cNvGrpSpPr/>
                <p:nvPr/>
              </p:nvGrpSpPr>
              <p:grpSpPr>
                <a:xfrm>
                  <a:off x="2195640" y="3357720"/>
                  <a:ext cx="1151280" cy="1439640"/>
                  <a:chOff x="2195640" y="3357720"/>
                  <a:chExt cx="1151280" cy="1439640"/>
                </a:xfrm>
              </p:grpSpPr>
              <p:sp>
                <p:nvSpPr>
                  <p:cNvPr id="635" name="Rectangle 41"/>
                  <p:cNvSpPr/>
                  <p:nvPr/>
                </p:nvSpPr>
                <p:spPr>
                  <a:xfrm>
                    <a:off x="2195640" y="3357720"/>
                    <a:ext cx="1151280" cy="14396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42"/>
                  <p:cNvSpPr/>
                  <p:nvPr/>
                </p:nvSpPr>
                <p:spPr>
                  <a:xfrm>
                    <a:off x="2195640" y="3733200"/>
                    <a:ext cx="115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Line 43"/>
                  <p:cNvSpPr/>
                  <p:nvPr/>
                </p:nvSpPr>
                <p:spPr>
                  <a:xfrm>
                    <a:off x="2195640" y="4485240"/>
                    <a:ext cx="115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8" name="Line 44"/>
                <p:cNvSpPr/>
                <p:nvPr/>
              </p:nvSpPr>
              <p:spPr>
                <a:xfrm>
                  <a:off x="2195640" y="4108320"/>
                  <a:ext cx="11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Rectangle 51"/>
              <p:cNvSpPr/>
              <p:nvPr/>
            </p:nvSpPr>
            <p:spPr>
              <a:xfrm>
                <a:off x="2195640" y="3357720"/>
                <a:ext cx="115236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06"/>
            <p:cNvGrpSpPr/>
            <p:nvPr/>
          </p:nvGrpSpPr>
          <p:grpSpPr>
            <a:xfrm>
              <a:off x="6156360" y="3357720"/>
              <a:ext cx="1152360" cy="1439640"/>
              <a:chOff x="6156360" y="3357720"/>
              <a:chExt cx="1152360" cy="1439640"/>
            </a:xfrm>
          </p:grpSpPr>
          <p:grpSp>
            <p:nvGrpSpPr>
              <p:cNvPr id="641" name="Group 107"/>
              <p:cNvGrpSpPr/>
              <p:nvPr/>
            </p:nvGrpSpPr>
            <p:grpSpPr>
              <a:xfrm>
                <a:off x="6156360" y="3357720"/>
                <a:ext cx="1152360" cy="1439640"/>
                <a:chOff x="6156360" y="3357720"/>
                <a:chExt cx="1152360" cy="1439640"/>
              </a:xfrm>
            </p:grpSpPr>
            <p:grpSp>
              <p:nvGrpSpPr>
                <p:cNvPr id="642" name="Group 108"/>
                <p:cNvGrpSpPr/>
                <p:nvPr/>
              </p:nvGrpSpPr>
              <p:grpSpPr>
                <a:xfrm>
                  <a:off x="6732720" y="3357720"/>
                  <a:ext cx="576000" cy="1439640"/>
                  <a:chOff x="6732720" y="3357720"/>
                  <a:chExt cx="576000" cy="1439640"/>
                </a:xfrm>
              </p:grpSpPr>
              <p:grpSp>
                <p:nvGrpSpPr>
                  <p:cNvPr id="643" name="Group 109"/>
                  <p:cNvGrpSpPr/>
                  <p:nvPr/>
                </p:nvGrpSpPr>
                <p:grpSpPr>
                  <a:xfrm>
                    <a:off x="6732720" y="3357720"/>
                    <a:ext cx="575640" cy="1439640"/>
                    <a:chOff x="6732720" y="3357720"/>
                    <a:chExt cx="575640" cy="1439640"/>
                  </a:xfrm>
                </p:grpSpPr>
                <p:grpSp>
                  <p:nvGrpSpPr>
                    <p:cNvPr id="644" name="Group 110"/>
                    <p:cNvGrpSpPr/>
                    <p:nvPr/>
                  </p:nvGrpSpPr>
                  <p:grpSpPr>
                    <a:xfrm>
                      <a:off x="6732720" y="3357720"/>
                      <a:ext cx="575640" cy="1439640"/>
                      <a:chOff x="6732720" y="3357720"/>
                      <a:chExt cx="575640" cy="1439640"/>
                    </a:xfrm>
                  </p:grpSpPr>
                  <p:sp>
                    <p:nvSpPr>
                      <p:cNvPr id="645" name="Rectangle 111"/>
                      <p:cNvSpPr/>
                      <p:nvPr/>
                    </p:nvSpPr>
                    <p:spPr>
                      <a:xfrm>
                        <a:off x="6732720" y="3357720"/>
                        <a:ext cx="575640" cy="14396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Line 112"/>
                      <p:cNvSpPr/>
                      <p:nvPr/>
                    </p:nvSpPr>
                    <p:spPr>
                      <a:xfrm>
                        <a:off x="6732720" y="3733200"/>
                        <a:ext cx="575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Line 113"/>
                      <p:cNvSpPr/>
                      <p:nvPr/>
                    </p:nvSpPr>
                    <p:spPr>
                      <a:xfrm>
                        <a:off x="6732720" y="4485240"/>
                        <a:ext cx="575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8" name="Line 114"/>
                    <p:cNvSpPr/>
                    <p:nvPr/>
                  </p:nvSpPr>
                  <p:spPr>
                    <a:xfrm>
                      <a:off x="6732720" y="4108320"/>
                      <a:ext cx="57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9" name="Rectangle 115"/>
                  <p:cNvSpPr/>
                  <p:nvPr/>
                </p:nvSpPr>
                <p:spPr>
                  <a:xfrm>
                    <a:off x="6732720" y="3357720"/>
                    <a:ext cx="576000" cy="375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Group 116"/>
                <p:cNvGrpSpPr/>
                <p:nvPr/>
              </p:nvGrpSpPr>
              <p:grpSpPr>
                <a:xfrm>
                  <a:off x="6156360" y="3357720"/>
                  <a:ext cx="576360" cy="1439640"/>
                  <a:chOff x="6156360" y="3357720"/>
                  <a:chExt cx="576360" cy="1439640"/>
                </a:xfrm>
              </p:grpSpPr>
              <p:grpSp>
                <p:nvGrpSpPr>
                  <p:cNvPr id="651" name="Group 117"/>
                  <p:cNvGrpSpPr/>
                  <p:nvPr/>
                </p:nvGrpSpPr>
                <p:grpSpPr>
                  <a:xfrm>
                    <a:off x="6156360" y="3357720"/>
                    <a:ext cx="576000" cy="1439640"/>
                    <a:chOff x="6156360" y="3357720"/>
                    <a:chExt cx="576000" cy="1439640"/>
                  </a:xfrm>
                </p:grpSpPr>
                <p:grpSp>
                  <p:nvGrpSpPr>
                    <p:cNvPr id="652" name="Group 118"/>
                    <p:cNvGrpSpPr/>
                    <p:nvPr/>
                  </p:nvGrpSpPr>
                  <p:grpSpPr>
                    <a:xfrm>
                      <a:off x="6156360" y="3357720"/>
                      <a:ext cx="576000" cy="1439640"/>
                      <a:chOff x="6156360" y="3357720"/>
                      <a:chExt cx="576000" cy="1439640"/>
                    </a:xfrm>
                  </p:grpSpPr>
                  <p:sp>
                    <p:nvSpPr>
                      <p:cNvPr id="653" name="Rectangle 119"/>
                      <p:cNvSpPr/>
                      <p:nvPr/>
                    </p:nvSpPr>
                    <p:spPr>
                      <a:xfrm>
                        <a:off x="6156360" y="3357720"/>
                        <a:ext cx="576000" cy="14396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Line 120"/>
                      <p:cNvSpPr/>
                      <p:nvPr/>
                    </p:nvSpPr>
                    <p:spPr>
                      <a:xfrm>
                        <a:off x="6156360" y="3733200"/>
                        <a:ext cx="57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Line 121"/>
                      <p:cNvSpPr/>
                      <p:nvPr/>
                    </p:nvSpPr>
                    <p:spPr>
                      <a:xfrm>
                        <a:off x="6156360" y="4485240"/>
                        <a:ext cx="57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56" name="Line 122"/>
                    <p:cNvSpPr/>
                    <p:nvPr/>
                  </p:nvSpPr>
                  <p:spPr>
                    <a:xfrm>
                      <a:off x="6156360" y="4108320"/>
                      <a:ext cx="57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Rectangle 123"/>
                  <p:cNvSpPr/>
                  <p:nvPr/>
                </p:nvSpPr>
                <p:spPr>
                  <a:xfrm>
                    <a:off x="6156360" y="3357720"/>
                    <a:ext cx="576360" cy="375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Rectangle 124"/>
              <p:cNvSpPr/>
              <p:nvPr/>
            </p:nvSpPr>
            <p:spPr>
              <a:xfrm>
                <a:off x="6732720" y="3716280"/>
                <a:ext cx="576000" cy="36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Text Box 125"/>
            <p:cNvSpPr/>
            <p:nvPr/>
          </p:nvSpPr>
          <p:spPr>
            <a:xfrm>
              <a:off x="1476360" y="5302080"/>
              <a:ext cx="208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     )=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26"/>
            <p:cNvSpPr/>
            <p:nvPr/>
          </p:nvSpPr>
          <p:spPr>
            <a:xfrm>
              <a:off x="5940360" y="5445000"/>
              <a:ext cx="20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    )=(    )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 Box 135"/>
          <p:cNvSpPr/>
          <p:nvPr/>
        </p:nvSpPr>
        <p:spPr>
          <a:xfrm>
            <a:off x="0" y="23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写出两个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把通分的结果在图中表示出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205092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算一算   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200632622416559"/>
          <p:cNvPicPr/>
          <p:nvPr/>
        </p:nvPicPr>
        <p:blipFill>
          <a:blip r:embed="rId1"/>
          <a:stretch/>
        </p:blipFill>
        <p:spPr>
          <a:xfrm>
            <a:off x="7273800" y="0"/>
            <a:ext cx="1870200" cy="1870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0" y="9079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每组中的分数通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比较它们的大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4"/>
          <p:cNvGrpSpPr/>
          <p:nvPr/>
        </p:nvGrpSpPr>
        <p:grpSpPr>
          <a:xfrm>
            <a:off x="1116000" y="1773360"/>
            <a:ext cx="5545080" cy="1008000"/>
            <a:chOff x="1116000" y="1773360"/>
            <a:chExt cx="5545080" cy="1008000"/>
          </a:xfrm>
        </p:grpSpPr>
        <mc:AlternateContent>
          <mc:Choice xmlns:a14="http://schemas.microsoft.com/office/drawing/2010/main" Requires="a14">
            <p:sp>
              <p:nvSpPr>
                <p:cNvPr id="666" name="Object 9"/>
                <p:cNvSpPr txBox="1"/>
                <p:nvPr/>
              </p:nvSpPr>
              <p:spPr>
                <a:xfrm>
                  <a:off x="3203640" y="1773360"/>
                  <a:ext cx="115236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7" name="Object 10"/>
                <p:cNvSpPr txBox="1"/>
                <p:nvPr/>
              </p:nvSpPr>
              <p:spPr>
                <a:xfrm>
                  <a:off x="1116000" y="1773360"/>
                  <a:ext cx="9367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Object 11"/>
                <p:cNvSpPr txBox="1"/>
                <p:nvPr/>
              </p:nvSpPr>
              <p:spPr>
                <a:xfrm>
                  <a:off x="5508720" y="1773360"/>
                  <a:ext cx="115236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9" name="Text Box 12"/>
          <p:cNvSpPr/>
          <p:nvPr/>
        </p:nvSpPr>
        <p:spPr>
          <a:xfrm>
            <a:off x="539640" y="3716280"/>
            <a:ext cx="69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26"/>
          <p:cNvGrpSpPr/>
          <p:nvPr/>
        </p:nvGrpSpPr>
        <p:grpSpPr>
          <a:xfrm>
            <a:off x="250920" y="3141720"/>
            <a:ext cx="8497800" cy="3716280"/>
            <a:chOff x="250920" y="3141720"/>
            <a:chExt cx="8497800" cy="3716280"/>
          </a:xfrm>
        </p:grpSpPr>
        <p:sp>
          <p:nvSpPr>
            <p:cNvPr id="671" name="Text Box 13"/>
            <p:cNvSpPr/>
            <p:nvPr/>
          </p:nvSpPr>
          <p:spPr>
            <a:xfrm>
              <a:off x="250920" y="3141720"/>
              <a:ext cx="8497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面哪组分数的通分是对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哪组不对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哪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不够简单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7"/>
            <p:cNvSpPr/>
            <p:nvPr/>
          </p:nvSpPr>
          <p:spPr>
            <a:xfrm>
              <a:off x="250920" y="4724280"/>
              <a:ext cx="64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8"/>
            <p:cNvSpPr/>
            <p:nvPr/>
          </p:nvSpPr>
          <p:spPr>
            <a:xfrm>
              <a:off x="2916360" y="4724280"/>
              <a:ext cx="12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1"/>
            <p:cNvSpPr/>
            <p:nvPr/>
          </p:nvSpPr>
          <p:spPr>
            <a:xfrm>
              <a:off x="5867280" y="4653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15"/>
                <p:cNvSpPr txBox="1"/>
                <p:nvPr/>
              </p:nvSpPr>
              <p:spPr>
                <a:xfrm>
                  <a:off x="1187280" y="4653000"/>
                  <a:ext cx="1151280" cy="92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Object 16"/>
                <p:cNvSpPr txBox="1"/>
                <p:nvPr/>
              </p:nvSpPr>
              <p:spPr>
                <a:xfrm>
                  <a:off x="1187280" y="5873760"/>
                  <a:ext cx="1224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Object 19"/>
                <p:cNvSpPr txBox="1"/>
                <p:nvPr/>
              </p:nvSpPr>
              <p:spPr>
                <a:xfrm>
                  <a:off x="3924360" y="4653000"/>
                  <a:ext cx="115236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Object 20"/>
                <p:cNvSpPr txBox="1"/>
                <p:nvPr/>
              </p:nvSpPr>
              <p:spPr>
                <a:xfrm>
                  <a:off x="3851280" y="5661000"/>
                  <a:ext cx="1224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9" name="Object 22"/>
                <p:cNvSpPr txBox="1"/>
                <p:nvPr/>
              </p:nvSpPr>
              <p:spPr>
                <a:xfrm>
                  <a:off x="7020000" y="4581360"/>
                  <a:ext cx="1224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0" name="Object 23"/>
                <p:cNvSpPr txBox="1"/>
                <p:nvPr/>
              </p:nvSpPr>
              <p:spPr>
                <a:xfrm>
                  <a:off x="7020000" y="5589720"/>
                  <a:ext cx="129708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200632622416559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1"/>
          <p:cNvSpPr/>
          <p:nvPr/>
        </p:nvSpPr>
        <p:spPr>
          <a:xfrm>
            <a:off x="2700360" y="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试一试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0" y="54936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一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5"/>
              <p:cNvSpPr txBox="1"/>
              <p:nvPr/>
            </p:nvSpPr>
            <p:spPr>
              <a:xfrm>
                <a:off x="7020000" y="1052640"/>
                <a:ext cx="11592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6" name="Text Box 39"/>
          <p:cNvSpPr/>
          <p:nvPr/>
        </p:nvSpPr>
        <p:spPr>
          <a:xfrm>
            <a:off x="1835280" y="3860640"/>
            <a:ext cx="59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0"/>
          <p:cNvSpPr/>
          <p:nvPr/>
        </p:nvSpPr>
        <p:spPr>
          <a:xfrm>
            <a:off x="1763640" y="354636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3616200" y="3762360"/>
            <a:ext cx="35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0" name="Text Box 47"/>
          <p:cNvSpPr/>
          <p:nvPr/>
        </p:nvSpPr>
        <p:spPr>
          <a:xfrm>
            <a:off x="0" y="153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异分母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成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做通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8"/>
          <p:cNvSpPr/>
          <p:nvPr/>
        </p:nvSpPr>
        <p:spPr>
          <a:xfrm>
            <a:off x="1519920" y="2565360"/>
            <a:ext cx="58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时选用的公分母一般是原来几个分母的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9"/>
          <p:cNvSpPr/>
          <p:nvPr/>
        </p:nvSpPr>
        <p:spPr>
          <a:xfrm>
            <a:off x="468360" y="4869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0"/>
          <p:cNvSpPr/>
          <p:nvPr/>
        </p:nvSpPr>
        <p:spPr>
          <a:xfrm>
            <a:off x="1248840" y="3716280"/>
            <a:ext cx="680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方法先求出原来几个分母的（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把各分数分别化成用这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1"/>
          <p:cNvSpPr/>
          <p:nvPr/>
        </p:nvSpPr>
        <p:spPr>
          <a:xfrm>
            <a:off x="0" y="51577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2"/>
          <p:cNvSpPr/>
          <p:nvPr/>
        </p:nvSpPr>
        <p:spPr>
          <a:xfrm>
            <a:off x="788040" y="515772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依据（             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3"/>
          <p:cNvSpPr/>
          <p:nvPr/>
        </p:nvSpPr>
        <p:spPr>
          <a:xfrm>
            <a:off x="3367800" y="14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4"/>
          <p:cNvSpPr/>
          <p:nvPr/>
        </p:nvSpPr>
        <p:spPr>
          <a:xfrm>
            <a:off x="6194160" y="148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原来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5"/>
          <p:cNvSpPr/>
          <p:nvPr/>
        </p:nvSpPr>
        <p:spPr>
          <a:xfrm>
            <a:off x="125892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6"/>
          <p:cNvSpPr/>
          <p:nvPr/>
        </p:nvSpPr>
        <p:spPr>
          <a:xfrm>
            <a:off x="1001160" y="19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7"/>
          <p:cNvSpPr/>
          <p:nvPr/>
        </p:nvSpPr>
        <p:spPr>
          <a:xfrm>
            <a:off x="1163520" y="306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8"/>
          <p:cNvSpPr/>
          <p:nvPr/>
        </p:nvSpPr>
        <p:spPr>
          <a:xfrm>
            <a:off x="733572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9"/>
          <p:cNvSpPr/>
          <p:nvPr/>
        </p:nvSpPr>
        <p:spPr>
          <a:xfrm>
            <a:off x="5916600" y="429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1"/>
          <p:cNvSpPr/>
          <p:nvPr/>
        </p:nvSpPr>
        <p:spPr>
          <a:xfrm>
            <a:off x="4062960" y="51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分数的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4"/>
          <p:cNvSpPr/>
          <p:nvPr/>
        </p:nvSpPr>
        <p:spPr>
          <a:xfrm>
            <a:off x="1138680" y="5791320"/>
            <a:ext cx="693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目的是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母的分数化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5"/>
          <p:cNvSpPr/>
          <p:nvPr/>
        </p:nvSpPr>
        <p:spPr>
          <a:xfrm>
            <a:off x="350244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6"/>
          <p:cNvSpPr/>
          <p:nvPr/>
        </p:nvSpPr>
        <p:spPr>
          <a:xfrm>
            <a:off x="717588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6:19:17Z</dcterms:created>
  <dc:creator>Liiang</dc:creator>
  <dc:description/>
  <dc:language>en-US</dc:language>
  <cp:lastModifiedBy>a</cp:lastModifiedBy>
  <dcterms:modified xsi:type="dcterms:W3CDTF">2015-03-18T05:57:45Z</dcterms:modified>
  <cp:revision>119</cp:revision>
  <dc:subject/>
  <dc:title>幻灯片 1</dc:title>
</cp:coreProperties>
</file>