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8.gif" ContentType="image/gif"/>
  <Override PartName="/ppt/media/image6.jpeg" ContentType="image/jpeg"/>
  <Override PartName="/ppt/media/image7.gif" ContentType="image/gif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1CEF-C62F-4D76-84EC-16035FA77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CD20-8B0A-4A7B-9B70-A874441AC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CEB2F8-FED3-469B-B5B9-D5343EFAD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2FE034-3CEA-434D-987D-434C77C9A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5C5C7F-9B31-43D3-8032-1983867A3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A10233-F600-4B2A-A74F-2D45FF644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7BB47E-8577-4AD4-B714-80B3F852C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71CA21-0177-4F64-A2BE-F5C87B977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90B66D-3910-4D61-9F05-F576EEAB0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2A04B8-B559-46B8-94D1-39AD96C06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67E101-77AB-4A26-A78C-0C549FEC6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29A1D8-1CF0-4B0B-B0C5-AEA84B9FF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8A43-BDD7-4B38-BFE2-4019D3A3D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B7811B-A3F6-401F-8B60-850F969CB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0EADD7-E45B-4BD0-9FBE-3EF66AF93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249795-17D5-4827-87F5-9981ED10F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1B99C5-35A5-4B1E-A414-5FF263388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97EA72-44F1-4315-93E7-0179D5AF4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D498EE-0189-4766-B832-79B50F21C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F3A0F7-4ECD-4EB1-B135-BEF49EFD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C7A933-FE33-4B07-9DC0-19F8743C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08C28D-4A7D-4968-9ADE-2FF10B0A4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7B818C-1CDF-470E-B154-1C6234107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AD82-2E93-4E53-8415-806712433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FF5D89-82F3-49DD-8F7B-27534A3AE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C8B334-3C13-4529-AE3C-0D83A3634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AC4281-8C29-4326-8A2E-B59523F71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16846B-0CFF-4BA7-9C18-BFC725E90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ABD4D8-EC7E-4218-974C-1B30E0336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D5A064-BC72-40B4-967C-3648D6216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382118-48BF-4B7D-820F-94F2F0C0F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C0AA4E-A2ED-473C-8B5D-FDC5D6662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D7F590-33CC-478F-9BA5-35132809A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B0ECAC-3F36-4299-BD64-3C71306B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51BB8-A08D-4A2D-A789-41AE7E453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6434C5-4843-4833-9D2F-3A479B74A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A6F71E-ED06-41E6-B8B6-62356BA0A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3126F4-6A71-42BE-9430-417B86423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0C00E7-2820-4C36-B161-15F44C072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EDCA0D-021A-4B2E-AF56-B3B80AFB9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99E759-95A6-41FF-A3A5-CF749DCDD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90E9A6-488B-4A48-B4E8-D2F933F63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CE5A77-105B-44A6-93D5-ACB90DAB6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9E43DE-5590-46A4-8AF3-E25CDFDB2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48AD78-1742-4F61-BB42-8F9FEE78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39C57-16DF-455A-84E1-53EEA6E3E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60F755-D3B3-4A82-AF2B-6B728528F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877ABD-9BF5-45F7-B37C-0ED6D263B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A47354-3FC1-4ACA-AA34-8545A2558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0B2A93-D1A5-42EB-9779-8174EB417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D89C5A-1981-42F0-A486-B88BAD8E3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D0608D-A5D3-4DBF-AA32-0304B714C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13964E-CAF3-4246-A367-F3E535C39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B8F1F3-9078-47ED-8666-0352E7BEF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52164C-4EED-4764-B293-FDF3A2E21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297064-6986-4200-B084-94D0B6631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559FD-53C2-4F8C-86BC-FB295C2CD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627DA0-1D84-4520-87A0-6AF4CCAF6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E366D3-C749-4399-9F3C-46D14F9D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9288E4-E9F5-4674-92A4-DF9527D8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899C17-2AD4-4498-838E-DB91413C2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04F26A-8502-453A-A742-213316B6C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FC4071-57E6-47FE-B413-A1A3E0E41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A19EA9-1709-4500-92FF-9DE367A15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D07048-8494-4976-BAF1-FF93F9A16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583513-7294-42DF-B8CE-B9DF67F36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80F4D9-5AE9-4442-912E-1D146800E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7CFC8-7A71-4308-95C2-2869359B6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3A8494-5167-48F6-AB8B-3EB9F3D45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2AE314-C1BA-4DE3-8569-E91FF405E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BE6305-30A8-4FBD-B0ED-ADEFC59F8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37CE1A-A2EE-4100-ABE0-6092587FA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E86658-63E8-4E90-BDD1-97F643E12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DB3CEB-2BF8-4E23-853A-487EE6BE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3A29E1-C97E-446F-A390-5A8B51CBC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2EC856-E6B8-49E8-91A9-60B602D95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A81B81-B3FF-4592-9667-A73DDB849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0DC1B-FE51-446A-A430-E200B6FFE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42C7A-0FBF-4356-9176-7727FDAFB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64DE2-3F4A-4184-AC51-A9893B7F9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1049-346E-40D2-B1F8-9416F53FF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221F9-B021-4546-AA32-DBC6B007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1512B-CD59-40E8-BEE9-4693CEC3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4E9E9-02A2-4DEC-8252-B59708C97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DB044-16C4-4430-9261-DA7F5E2C6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878E3-A64D-408F-B273-B31BE8B2B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74CCB-D068-4B9D-97C4-6F1DF658E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FE0AA-BF3E-42AC-8349-6FBEF0503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D9711-444E-4999-AAC4-204FE9170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AED2C-24DE-4314-A8ED-E74966FD4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5196E-D30F-4A68-817A-72FCCA081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D3A3-7738-452A-A9B3-15E5C54EA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AA576-C4AC-4D11-ABFA-7DC49EAAC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E0712-0E9B-48C5-A31E-2489167EA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9C704-3472-4E4E-BDB5-F4EEFD5FA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30726-2697-4C84-83D8-C3E5361B2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F5389-56CE-4C48-81D7-3536494E0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E0A3F-4277-4172-935C-90E6370B2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D064C-BCF4-4358-8085-E92B14AD7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782F4-CE65-418B-B9F8-E07448604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47AA8-2AAA-47DF-B54A-7D597E3EF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5BFF5-06A1-467C-9A30-E86F94109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9EB8-72E6-463C-9DB7-090D06D44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E3DA7-821B-4C35-A7F9-62A3FE3E2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3AB56-6B9C-48D4-8AC9-8786D4423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CC448-BD0F-41B7-B2BD-99AD6D912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18706-8B13-464C-A7BF-6602EA2E7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5B10D-3D66-4928-B3CB-2A369D13A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7150A-A329-4669-9DCE-E0A5AF06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3116F-0AA6-43A4-97B2-87F020FDF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AA2DE-43FB-4918-BAEE-9A8DA1301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CF6C7-6AA3-4640-A0FC-88AB42F25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8D1EEE-20AD-4119-B208-2541480B3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9854-AF2B-4EA2-AC4A-FC542150C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E6568-6032-4F91-A955-2C153BCCB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9B3523-0DD2-423E-835E-717204364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44936-254B-44BC-956F-F147B8269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B3F9FE-866B-4A38-AF61-AC3F06F22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57C79-807C-4E25-9F38-36783F768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0C184-EF8F-4482-BF54-5231502F7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7EA6E-603E-47C9-B338-71114AE8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4B2E8-49CA-4455-A750-E3D8B3C0D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1463C-3BA7-4B3C-A1A6-E0E9A4715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B4F6D7-D197-441D-A5ED-F6AE7CC83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6C25-6197-441D-B659-0349BB4CA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8CBD59-2B30-47BE-9B69-C4D3501C3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9B11F3-4EF1-4AFC-97D9-5626FB74F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6640B-F1F3-4F83-9EEF-2580B7DBA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6BDED0-62D8-4938-9A68-1A5ED47BF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3538D9-FB1D-430A-BDFB-EC72E7BAA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5EBE73-0DD7-4C48-A00F-EED403B60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EB6581-D7E3-4221-B820-CBEAA8D7D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CB837D-15F6-41F8-9A3A-975ECA5DB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44CDEC-42E5-4EF6-85D2-C5C9C100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F45786-BA8A-498C-A65F-347CE418E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B5A0-8BB2-438E-9A3D-509CC33F2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C6F270-3D9A-4670-9215-04E96790C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9AEF94-F1A1-45BD-9570-1E8850930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CD3FB5-F6B3-4DA7-B8DF-3942CF525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A34647-F0CB-4937-AF9F-80C0217BA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11F92E-3C93-47C1-B649-4EAF0A688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0A2B9F-683E-4494-A411-D4E8A4482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D00996-52D0-4AF5-975E-9D1E395BF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0E720D-01E2-4E74-B4AD-4E27C9F53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64CD2D-4BE3-4AE5-980D-AEBFC4E15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CF503A-E0A1-4DC7-965A-2235CAA4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0A52-10F1-4520-AA11-78A9CC1C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23CE01-A658-4B57-80D9-9E0CC117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75D578-EC29-4530-AC45-275AB58B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69BC22-F8F8-4028-A0AA-55E63FAFF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665017-74BC-468B-A4B9-485D79469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85EC0E-BC6B-4DC7-B9FA-3C7004796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E0AD45-0488-4407-AA88-F492010CC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D70906-7106-4930-8938-986D9B3A4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E16BA1-6D66-48AC-987D-8259CFFDE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18E9C2-4701-4E55-B6F4-4E8739CC9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C9C5D4-449C-408D-BD94-7FB319920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BB24-FAD8-41A7-BB5E-5F3CF174C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E7B128-238B-450F-BBC2-1DCD8A15E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4A87A6-C1C6-4C00-9244-D5182B90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2719F6-77CF-426A-9681-AAAD12008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5B0894-8E37-4998-AEE8-3D78D32D1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ABD496-E44E-461C-B28C-A5757A824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849B80-5506-4541-AB92-C1935A219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931BB7-7285-40AA-9483-A2202752A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37FA1B-EA11-49E3-A976-9CE82C9B0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BC69B6-396F-4CAD-89C3-CAB1A147B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20AAD5-AA07-4071-9DB6-2F072C8C4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ED72E-26BC-4E84-AD10-C20BD6508487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4E559-D752-43D6-8E66-D427006B4CA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82A39-13EA-4FB3-9A81-8D65BD06021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7CA2C-6DA7-4B93-88A9-FA5C30AF8EE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9B1E2-1128-4114-8D17-F08FDE3F14C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63AB3-B7C8-4B13-AA85-474D309C458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171D3-9D8E-4A13-ADD5-D0417D02381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BE561-5AE4-41DB-AB46-5B3A2AA2B38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8033C-B0D1-4FE4-AC12-2AD0A7A41E1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6DA70-93A4-447E-9B20-DDD569DC80D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60E59-9D05-4CD8-BF19-D59487DE901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C8942-12FF-46CD-82BE-2A461353B9F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5CDBE-E809-4A77-95B3-6201A3D08F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89" name="Picture 3" descr="D:\FRONTPAGE THEMES\NATURE\ANABNR2.PNG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F88C3-7734-49EA-8845-490DB1C64A74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F9103-DC78-414F-AB83-6CEE928D1B8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83098-7CB3-4868-8E7D-4A808906D1C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AFCC7-D9F4-4866-AC93-3BB73794BC9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66BF0-816B-4064-A308-F83071D9B27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5F8F5-3CF7-414D-8744-0AB2B4BCFA4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FAE67-33FA-4A21-AD72-2899340E196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C8015-A174-47E1-9D50-1E8DE7757B9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AA667-8B91-4698-9609-EAD5FB3C3CD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32216-591C-461B-B1D8-66254CFB6F7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A9B19-D277-46E3-881C-8339A86A0E6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0B46C-C5C3-40C8-81E1-4CCD5199ED8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0198C-D276-44F2-AD22-59B2127D0A0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Picture 2" descr="D:\数据库\四年级\第五单元\19.陶罐和铁罐\chatu.jpg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3320"/>
          </a:xfrm>
          <a:prstGeom prst="rect">
            <a:avLst/>
          </a:prstGeom>
          <a:ln w="0">
            <a:noFill/>
          </a:ln>
        </p:spPr>
      </p:pic>
      <p:grpSp>
        <p:nvGrpSpPr>
          <p:cNvPr id="584" name="Group 3"/>
          <p:cNvGrpSpPr/>
          <p:nvPr/>
        </p:nvGrpSpPr>
        <p:grpSpPr>
          <a:xfrm>
            <a:off x="2971800" y="1905120"/>
            <a:ext cx="5867280" cy="4040280"/>
            <a:chOff x="2971800" y="1905120"/>
            <a:chExt cx="5867280" cy="4040280"/>
          </a:xfrm>
        </p:grpSpPr>
        <p:sp>
          <p:nvSpPr>
            <p:cNvPr id="585" name="Text Box 4"/>
            <p:cNvSpPr/>
            <p:nvPr/>
          </p:nvSpPr>
          <p:spPr>
            <a:xfrm>
              <a:off x="6553080" y="4403880"/>
              <a:ext cx="2286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3300"/>
                  </a:solidFill>
                  <a:latin typeface="Times New Roman"/>
                </a:rPr>
                <a:t>陶罐</a:t>
              </a:r>
              <a:endParaRPr b="0" lang="en-US" sz="6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86" name="Text Box 5"/>
            <p:cNvSpPr/>
            <p:nvPr/>
          </p:nvSpPr>
          <p:spPr>
            <a:xfrm>
              <a:off x="4648320" y="1905120"/>
              <a:ext cx="12952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fac164"/>
                  </a:solidFill>
                  <a:latin typeface="Times New Roman"/>
                </a:rPr>
                <a:t>和</a:t>
              </a:r>
              <a:endParaRPr b="0" lang="en-US" sz="8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87" name="Text Box 6"/>
            <p:cNvSpPr/>
            <p:nvPr/>
          </p:nvSpPr>
          <p:spPr>
            <a:xfrm>
              <a:off x="2971800" y="4937040"/>
              <a:ext cx="2286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ff00"/>
                  </a:solidFill>
                  <a:latin typeface="Times New Roman"/>
                </a:rPr>
                <a:t>铁罐</a:t>
              </a:r>
              <a:endParaRPr b="0" lang="en-US" sz="6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2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pic>
          <p:nvPicPr>
            <p:cNvPr id="62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WordArt 2"/>
          <p:cNvSpPr txBox="1"/>
          <p:nvPr/>
        </p:nvSpPr>
        <p:spPr>
          <a:xfrm>
            <a:off x="2209680" y="685800"/>
            <a:ext cx="4543560" cy="93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华文细黑"/>
              </a:rPr>
              <a:t>自读课文</a:t>
            </a:r>
            <a:endParaRPr b="1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华文细黑"/>
              <a:ea typeface="华文细黑"/>
            </a:endParaRPr>
          </a:p>
        </p:txBody>
      </p:sp>
      <p:sp>
        <p:nvSpPr>
          <p:cNvPr id="589" name="Text Box 3"/>
          <p:cNvSpPr/>
          <p:nvPr/>
        </p:nvSpPr>
        <p:spPr>
          <a:xfrm>
            <a:off x="1190520" y="3819600"/>
            <a:ext cx="71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90" name="Text Box 21"/>
          <p:cNvSpPr/>
          <p:nvPr/>
        </p:nvSpPr>
        <p:spPr>
          <a:xfrm>
            <a:off x="1143000" y="16765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要求：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91" name="Text Box 22"/>
          <p:cNvSpPr/>
          <p:nvPr/>
        </p:nvSpPr>
        <p:spPr>
          <a:xfrm>
            <a:off x="1752480" y="2590920"/>
            <a:ext cx="64771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、读准字音，画出生字词，联系上下文理解词的意思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、课文围绕陶罐和铁罐讲了一件什么事？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Text Box 2"/>
          <p:cNvSpPr/>
          <p:nvPr/>
        </p:nvSpPr>
        <p:spPr>
          <a:xfrm>
            <a:off x="1752480" y="1600200"/>
            <a:ext cx="6172200" cy="39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陶</a:t>
            </a:r>
            <a:r>
              <a:rPr b="1" lang="zh-CN" sz="3600" spc="-1" strike="noStrike">
                <a:solidFill>
                  <a:srgbClr val="090d19"/>
                </a:solidFill>
                <a:latin typeface="Times New Roman"/>
              </a:rPr>
              <a:t>罐     骄傲     懦弱     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谦虚 </a:t>
            </a:r>
            <a:r>
              <a:rPr b="1" lang="zh-CN" sz="3600" spc="-1" strike="noStrike">
                <a:solidFill>
                  <a:srgbClr val="090d19"/>
                </a:solidFill>
                <a:latin typeface="Times New Roman"/>
              </a:rPr>
              <a:t>  住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嘴  </a:t>
            </a:r>
            <a:r>
              <a:rPr b="1" lang="zh-CN" sz="3600" spc="-1" strike="noStrike">
                <a:solidFill>
                  <a:srgbClr val="090d19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 吵</a:t>
            </a:r>
            <a:r>
              <a:rPr b="1" lang="zh-CN" sz="3600" spc="-1" strike="noStrike">
                <a:solidFill>
                  <a:srgbClr val="090d19"/>
                </a:solidFill>
                <a:latin typeface="Times New Roman"/>
              </a:rPr>
              <a:t>架     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感</a:t>
            </a:r>
            <a:r>
              <a:rPr b="1" lang="zh-CN" sz="3600" spc="-1" strike="noStrike">
                <a:solidFill>
                  <a:srgbClr val="090d19"/>
                </a:solidFill>
                <a:latin typeface="Times New Roman"/>
              </a:rPr>
              <a:t>到     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捧</a:t>
            </a:r>
            <a:r>
              <a:rPr b="1" lang="zh-CN" sz="3600" spc="-1" strike="noStrike">
                <a:solidFill>
                  <a:srgbClr val="090d19"/>
                </a:solidFill>
                <a:latin typeface="Times New Roman"/>
              </a:rPr>
              <a:t>着     傲慢     神气     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恼怒   </a:t>
            </a:r>
            <a:r>
              <a:rPr b="1" lang="zh-CN" sz="3600" spc="-1" strike="noStrike">
                <a:solidFill>
                  <a:srgbClr val="090d19"/>
                </a:solidFill>
                <a:latin typeface="Times New Roman"/>
              </a:rPr>
              <a:t>  理会   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荒</a:t>
            </a:r>
            <a:r>
              <a:rPr b="1" lang="zh-CN" sz="3600" spc="-1" strike="noStrike">
                <a:solidFill>
                  <a:srgbClr val="090d19"/>
                </a:solidFill>
                <a:latin typeface="Times New Roman"/>
              </a:rPr>
              <a:t>凉     惊讶     光洁    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 朴素  </a:t>
            </a:r>
            <a:r>
              <a:rPr b="1" lang="zh-CN" sz="3600" spc="-1" strike="noStrike">
                <a:solidFill>
                  <a:srgbClr val="090d19"/>
                </a:solidFill>
                <a:latin typeface="Times New Roman"/>
              </a:rPr>
              <a:t> 价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值 </a:t>
            </a:r>
            <a:r>
              <a:rPr b="1" lang="zh-CN" sz="3600" spc="-1" strike="noStrike">
                <a:solidFill>
                  <a:srgbClr val="090d19"/>
                </a:solidFill>
                <a:latin typeface="Times New Roman"/>
              </a:rPr>
              <a:t>    兴奋      奚落     轻蔑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90d19"/>
                </a:solidFill>
                <a:latin typeface="Times New Roman"/>
              </a:rPr>
              <a:t>够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受  </a:t>
            </a:r>
            <a:r>
              <a:rPr b="1" lang="zh-CN" sz="3600" spc="-1" strike="noStrike">
                <a:solidFill>
                  <a:srgbClr val="090d19"/>
                </a:solidFill>
                <a:latin typeface="Times New Roman"/>
              </a:rPr>
              <a:t>   相提并论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93" name="Text Box 6"/>
          <p:cNvSpPr/>
          <p:nvPr/>
        </p:nvSpPr>
        <p:spPr>
          <a:xfrm>
            <a:off x="914400" y="762120"/>
            <a:ext cx="42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读一读，认一认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Text Box 2"/>
          <p:cNvSpPr/>
          <p:nvPr/>
        </p:nvSpPr>
        <p:spPr>
          <a:xfrm>
            <a:off x="1371600" y="44956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      “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和你在一起，我感到羞耻，你算什么东西！”铁罐                                            说，“走着瞧吧，总有一天，我要把你碰成碎片！”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95" name="Text Box 3"/>
          <p:cNvSpPr/>
          <p:nvPr/>
        </p:nvSpPr>
        <p:spPr>
          <a:xfrm>
            <a:off x="1066680" y="3049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Times New Roman"/>
                <a:ea typeface="华文中宋"/>
              </a:rPr>
              <a:t>铁罐说的话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  <a:ea typeface="华文中宋"/>
              </a:rPr>
              <a:t>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96" name="Text Box 5"/>
          <p:cNvSpPr/>
          <p:nvPr/>
        </p:nvSpPr>
        <p:spPr>
          <a:xfrm>
            <a:off x="1600200" y="11430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你敢碰我吗？陶罐子！”铁罐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傲慢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地说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97" name="Text Box 6"/>
          <p:cNvSpPr/>
          <p:nvPr/>
        </p:nvSpPr>
        <p:spPr>
          <a:xfrm>
            <a:off x="1447920" y="1905120"/>
            <a:ext cx="6933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    “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我就知道你不敢，懦弱的东西！”铁罐说，带着更加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轻蔑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的神气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98" name="Text Box 7"/>
          <p:cNvSpPr/>
          <p:nvPr/>
        </p:nvSpPr>
        <p:spPr>
          <a:xfrm>
            <a:off x="1447920" y="2895480"/>
            <a:ext cx="69339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   “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住嘴！”铁罐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恼怒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了，“你怎么敢和我相提并论！你等着吧，要不了几天，你就会破成碎片，我却永远在这里，什么也不怕。”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1523880" y="48006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（蛮不讲理、怒不可遏地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 Box 2"/>
          <p:cNvSpPr/>
          <p:nvPr/>
        </p:nvSpPr>
        <p:spPr>
          <a:xfrm>
            <a:off x="1828800" y="51055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陶罐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不再理会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铁罐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1" name="Text Box 3"/>
          <p:cNvSpPr/>
          <p:nvPr/>
        </p:nvSpPr>
        <p:spPr>
          <a:xfrm>
            <a:off x="1219320" y="45720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陶罐说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的话：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2" name="Text Box 4"/>
          <p:cNvSpPr/>
          <p:nvPr/>
        </p:nvSpPr>
        <p:spPr>
          <a:xfrm>
            <a:off x="1752480" y="14479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不敢，铁罐兄弟。”陶罐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谦虚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地回答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3" name="Text Box 5"/>
          <p:cNvSpPr/>
          <p:nvPr/>
        </p:nvSpPr>
        <p:spPr>
          <a:xfrm>
            <a:off x="1447920" y="2209680"/>
            <a:ext cx="685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      “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我确实不敢碰你，但并不是懦弱。”陶罐争辩说，“我们生来就是盛东西的，并不是来互相碰撞的。说到盛东西，我不见得比你差。再说……”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4" name="Text Box 6"/>
          <p:cNvSpPr/>
          <p:nvPr/>
        </p:nvSpPr>
        <p:spPr>
          <a:xfrm>
            <a:off x="1676520" y="388620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    “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何必这样说呢？”陶罐说，“我们还是和睦相处吧，有什么可吵的呢！”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Text Box 2"/>
          <p:cNvSpPr/>
          <p:nvPr/>
        </p:nvSpPr>
        <p:spPr>
          <a:xfrm>
            <a:off x="1371600" y="1066680"/>
            <a:ext cx="723888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Times New Roman"/>
              </a:rPr>
              <a:t>“</a:t>
            </a:r>
            <a:r>
              <a:rPr b="1" lang="zh-CN" sz="2000" spc="-1" strike="noStrike">
                <a:solidFill>
                  <a:srgbClr val="ff6600"/>
                </a:solidFill>
                <a:latin typeface="Times New Roman"/>
              </a:rPr>
              <a:t>你敢碰我吗？陶罐子！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b5249"/>
                </a:solidFill>
                <a:latin typeface="Times New Roman"/>
              </a:rPr>
              <a:t>“</a:t>
            </a:r>
            <a:r>
              <a:rPr b="1" lang="zh-CN" sz="2000" spc="-1" strike="noStrike">
                <a:solidFill>
                  <a:srgbClr val="5b5249"/>
                </a:solidFill>
                <a:latin typeface="Times New Roman"/>
              </a:rPr>
              <a:t>不敢，铁罐兄弟。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Times New Roman"/>
              </a:rPr>
              <a:t>“</a:t>
            </a:r>
            <a:r>
              <a:rPr b="1" lang="zh-CN" sz="2000" spc="-1" strike="noStrike">
                <a:solidFill>
                  <a:srgbClr val="ff6600"/>
                </a:solidFill>
                <a:latin typeface="Times New Roman"/>
              </a:rPr>
              <a:t>我就知道你不敢，懦弱的东西！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b5249"/>
                </a:solidFill>
                <a:latin typeface="Times New Roman"/>
              </a:rPr>
              <a:t>“</a:t>
            </a:r>
            <a:r>
              <a:rPr b="1" lang="zh-CN" sz="2000" spc="-1" strike="noStrike">
                <a:solidFill>
                  <a:srgbClr val="5b5249"/>
                </a:solidFill>
                <a:latin typeface="Times New Roman"/>
              </a:rPr>
              <a:t>我确实不敢碰你，但并不是懦弱。” “我们生来就是盛东西的，并不是来互相碰撞的。说到盛东西，我不见得比你差。再说……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Times New Roman"/>
              </a:rPr>
              <a:t>“</a:t>
            </a:r>
            <a:r>
              <a:rPr b="1" lang="zh-CN" sz="2000" spc="-1" strike="noStrike">
                <a:solidFill>
                  <a:srgbClr val="ff6600"/>
                </a:solidFill>
                <a:latin typeface="Times New Roman"/>
              </a:rPr>
              <a:t>住嘴！” “你怎么敢和我相提并论！你等着吧，要不了几天，你就会破成碎片，我却永远在这里，什么也不怕。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b5249"/>
                </a:solidFill>
                <a:latin typeface="Times New Roman"/>
              </a:rPr>
              <a:t>“</a:t>
            </a:r>
            <a:r>
              <a:rPr b="1" lang="zh-CN" sz="2000" spc="-1" strike="noStrike">
                <a:solidFill>
                  <a:srgbClr val="5b5249"/>
                </a:solidFill>
                <a:latin typeface="Times New Roman"/>
              </a:rPr>
              <a:t>何必这样说呢？”“我们还是和睦相处吧，有什么可吵的呢！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Times New Roman"/>
              </a:rPr>
              <a:t>“</a:t>
            </a:r>
            <a:r>
              <a:rPr b="1" lang="zh-CN" sz="2000" spc="-1" strike="noStrike">
                <a:solidFill>
                  <a:srgbClr val="ff6600"/>
                </a:solidFill>
                <a:latin typeface="Times New Roman"/>
              </a:rPr>
              <a:t>和你在一起，我感到羞耻，你算什么东西！” “走着瞧吧，总有一天，我要把你碰成碎片！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b5249"/>
                </a:solidFill>
                <a:latin typeface="Times New Roman"/>
              </a:rPr>
              <a:t>陶罐不再理会铁罐。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6" name="Text Box 3"/>
          <p:cNvSpPr/>
          <p:nvPr/>
        </p:nvSpPr>
        <p:spPr>
          <a:xfrm>
            <a:off x="1295280" y="3808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陶罐和铁罐的对话：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WordArt 1026"/>
          <p:cNvSpPr txBox="1"/>
          <p:nvPr/>
        </p:nvSpPr>
        <p:spPr>
          <a:xfrm>
            <a:off x="1447920" y="609480"/>
            <a:ext cx="2609640" cy="8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黑体"/>
              </a:rPr>
              <a:t>我能画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608" name="Picture 1027" descr="D:\2003下学期\插图\0001.gif"/>
          <p:cNvPicPr/>
          <p:nvPr/>
        </p:nvPicPr>
        <p:blipFill>
          <a:blip r:embed="rId3"/>
          <a:stretch/>
        </p:blipFill>
        <p:spPr>
          <a:xfrm>
            <a:off x="6934320" y="533520"/>
            <a:ext cx="1861920" cy="2074680"/>
          </a:xfrm>
          <a:prstGeom prst="rect">
            <a:avLst/>
          </a:prstGeom>
          <a:ln w="0">
            <a:noFill/>
          </a:ln>
        </p:spPr>
      </p:pic>
      <p:sp>
        <p:nvSpPr>
          <p:cNvPr id="609" name="Text Box 1028"/>
          <p:cNvSpPr/>
          <p:nvPr/>
        </p:nvSpPr>
        <p:spPr>
          <a:xfrm>
            <a:off x="1066680" y="198108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认真读读描写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铁罐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陶罐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的句子，边读边想他们的样子，小组合作，根据课文的描写，画出铁罐和陶罐的样子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0" name="Text Box 1029"/>
          <p:cNvSpPr/>
          <p:nvPr/>
        </p:nvSpPr>
        <p:spPr>
          <a:xfrm>
            <a:off x="1066680" y="4419720"/>
            <a:ext cx="7543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铁罐：“傲慢”    “轻蔑”     “恼怒”     “蛮不讲理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|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陶罐：“谦虚”      “不再理会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WordArt 2"/>
          <p:cNvSpPr txBox="1"/>
          <p:nvPr/>
        </p:nvSpPr>
        <p:spPr>
          <a:xfrm>
            <a:off x="2286000" y="609480"/>
            <a:ext cx="3809880" cy="77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华文行楷"/>
              </a:rPr>
              <a:t>说一说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华文行楷"/>
              <a:ea typeface="华文行楷"/>
            </a:endParaRPr>
          </a:p>
        </p:txBody>
      </p:sp>
      <p:pic>
        <p:nvPicPr>
          <p:cNvPr id="612" name="Picture 3" descr="D:\2003下学期\4nianjishuangwenban\pic\drf011.gif"/>
          <p:cNvPicPr/>
          <p:nvPr/>
        </p:nvPicPr>
        <p:blipFill>
          <a:blip r:embed="rId1"/>
          <a:stretch/>
        </p:blipFill>
        <p:spPr>
          <a:xfrm>
            <a:off x="7391520" y="609480"/>
            <a:ext cx="825480" cy="990720"/>
          </a:xfrm>
          <a:prstGeom prst="rect">
            <a:avLst/>
          </a:prstGeom>
          <a:ln w="0">
            <a:noFill/>
          </a:ln>
        </p:spPr>
      </p:pic>
      <p:sp>
        <p:nvSpPr>
          <p:cNvPr id="613" name="Text Box 4"/>
          <p:cNvSpPr/>
          <p:nvPr/>
        </p:nvSpPr>
        <p:spPr>
          <a:xfrm>
            <a:off x="154800" y="220968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　　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4" name="Text Box 5"/>
          <p:cNvSpPr/>
          <p:nvPr/>
        </p:nvSpPr>
        <p:spPr>
          <a:xfrm>
            <a:off x="4573440" y="495288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  <a:ea typeface="华文新魏"/>
              </a:rPr>
              <a:t>　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5" name="Text Box 7"/>
          <p:cNvSpPr/>
          <p:nvPr/>
        </p:nvSpPr>
        <p:spPr>
          <a:xfrm>
            <a:off x="1905120" y="2209680"/>
            <a:ext cx="54864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我想对铁罐说：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       </a:t>
            </a:r>
            <a:r>
              <a:rPr b="0" lang="zh-CN" sz="2400" spc="-1" strike="noStrike" u="sng">
                <a:solidFill>
                  <a:srgbClr val="5b5249"/>
                </a:solidFill>
                <a:uFillTx/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6" name="Text Box 8"/>
          <p:cNvSpPr/>
          <p:nvPr/>
        </p:nvSpPr>
        <p:spPr>
          <a:xfrm>
            <a:off x="1828800" y="327672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我想对陶罐说：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7" name="Text Box 9"/>
          <p:cNvSpPr/>
          <p:nvPr/>
        </p:nvSpPr>
        <p:spPr>
          <a:xfrm>
            <a:off x="1905120" y="457200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我想对自己说：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8" name="Line 10"/>
          <p:cNvSpPr/>
          <p:nvPr/>
        </p:nvSpPr>
        <p:spPr>
          <a:xfrm>
            <a:off x="4343400" y="2666880"/>
            <a:ext cx="28954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9" name="Line 11"/>
          <p:cNvSpPr/>
          <p:nvPr/>
        </p:nvSpPr>
        <p:spPr>
          <a:xfrm>
            <a:off x="4267080" y="3733920"/>
            <a:ext cx="3048120" cy="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0" name="Line 12"/>
          <p:cNvSpPr/>
          <p:nvPr/>
        </p:nvSpPr>
        <p:spPr>
          <a:xfrm>
            <a:off x="4267080" y="5029200"/>
            <a:ext cx="3200400" cy="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WordArt 2"/>
          <p:cNvSpPr txBox="1"/>
          <p:nvPr/>
        </p:nvSpPr>
        <p:spPr>
          <a:xfrm>
            <a:off x="3352680" y="533520"/>
            <a:ext cx="403884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993366"/>
                </a:solidFill>
                <a:latin typeface="隶书"/>
              </a:rPr>
              <a:t>好话送给你</a:t>
            </a:r>
            <a:endParaRPr b="1" lang="en-US" sz="2400" spc="1" strike="noStrike">
              <a:ln w="9360">
                <a:solidFill>
                  <a:srgbClr val="ffff99"/>
                </a:solidFill>
                <a:miter/>
              </a:ln>
              <a:solidFill>
                <a:srgbClr val="993366"/>
              </a:solidFill>
              <a:latin typeface="隶书"/>
              <a:ea typeface="隶书"/>
            </a:endParaRPr>
          </a:p>
        </p:txBody>
      </p:sp>
      <p:pic>
        <p:nvPicPr>
          <p:cNvPr id="622" name="Picture 3" descr="D:\2003下学期\4nianjishuangwenban\pic\gaofeng520.gif"/>
          <p:cNvPicPr/>
          <p:nvPr/>
        </p:nvPicPr>
        <p:blipFill>
          <a:blip r:embed="rId1"/>
          <a:stretch/>
        </p:blipFill>
        <p:spPr>
          <a:xfrm>
            <a:off x="1447920" y="0"/>
            <a:ext cx="1371600" cy="1015920"/>
          </a:xfrm>
          <a:prstGeom prst="rect">
            <a:avLst/>
          </a:prstGeom>
          <a:ln w="0">
            <a:noFill/>
          </a:ln>
        </p:spPr>
      </p:pic>
      <p:sp>
        <p:nvSpPr>
          <p:cNvPr id="623" name="Text Box 4"/>
          <p:cNvSpPr/>
          <p:nvPr/>
        </p:nvSpPr>
        <p:spPr>
          <a:xfrm>
            <a:off x="3395520" y="222552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尺有所短，寸有所长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4" name="Text Box 5"/>
          <p:cNvSpPr/>
          <p:nvPr/>
        </p:nvSpPr>
        <p:spPr>
          <a:xfrm>
            <a:off x="4707000" y="350532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左眼看别人的优点，右眼看自己的缺点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5" name="Text Box 6"/>
          <p:cNvSpPr/>
          <p:nvPr/>
        </p:nvSpPr>
        <p:spPr>
          <a:xfrm>
            <a:off x="3729960" y="52704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华文行楷"/>
              </a:rPr>
              <a:t>你们能学着也写一句格言吗？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5-02-10T02:50:08Z</dcterms:modified>
  <cp:revision>29</cp:revision>
  <dc:subject/>
  <dc:title>PowerPoint Presentation</dc:title>
</cp:coreProperties>
</file>