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CFE-6911-458E-A4D5-8C0EEF2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84B-DFDB-493F-AD9B-8C274657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8B4A-BD06-4621-BF4A-EE0B5A0D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E407F-65ED-41C3-8E51-C2C15B01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3CA3B-1E7B-4000-B628-8D34670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8002-0C4D-4DA1-AD59-DCFA573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A2E9-9982-4847-B654-88CD256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31101-60E5-41A2-A136-D8B142D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47510-71FE-410E-855A-549FBDE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547D-5A52-42A3-BD9E-644943B0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494F-DE21-4D9C-A1DA-BC346EB9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2118A-24C7-4CF5-A0E4-96F196BF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4BF-6AF0-42ED-8F96-4C30CFF6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47CD3-5B39-454A-AC23-58A1B941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EBA50-CC9C-4973-8F12-811A21E6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CF8F3-8B21-4240-BB41-ABB4272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666DE-B180-4C45-8A5F-7862FDB3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BD65-45F7-49F1-B03D-5606BDC6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24632-D319-45C1-91ED-4B3140F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DD028-4FCF-428E-9386-EEE4158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EF9DA-3EEF-49D3-A41C-AF28A998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7449B-1B8B-4028-806A-744E7AD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1CFC0-E34E-4398-BE71-2A23D68F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6E5-19FB-450A-9648-D0D65E9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D0CD8-6A92-49E6-BD3C-D7D6103C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FB0D8-AFDE-4A5B-9393-DB1C9504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A8C41-0816-4CE0-B2DC-2D9C4DE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A4CAA-4651-4511-8DBE-900BC608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C1C2-92C7-4438-A4DE-BBFBECF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ABEA-0B1C-4348-BF22-3D9A3573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4E2F2-AAB8-401A-9A89-D8AF854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AA572-0F07-4FF0-8E6A-763373B9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A188E-6E89-41DB-A3B0-1435BF4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561F-841C-43CE-80B8-91EE68D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0BD-5CBC-4C7F-8AC1-773FBAB8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26881-511F-41D1-A517-F5BD13D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F64B-7E75-4356-A270-6479B9B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55D9E-F7EF-4DDB-8197-81937B5E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BF818-397B-465E-8308-23362F8B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82F9D-3206-49F5-8C2A-C03EF67A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8AB18-126E-460D-A93A-99661AC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E710-7CF7-436E-B358-613C08F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957B1-A773-4542-91A4-6360BADB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AA50F-26F9-4672-BFAF-1E9302F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13C3E-AFDC-4212-8F51-96294B5E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598-44BE-44EE-860C-872EFD18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D058F-F114-4AD9-A531-818C980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20AE8-7F1C-4A9D-925B-913A9DF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75C37-DFE1-4174-AE44-E711211E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2D21C-D87B-4955-BD3B-A3C75AE0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0D0BF-4921-4F3D-A77C-082B549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25D5D-7BD7-4240-93F8-EC8F2DE9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DDBBD-3A33-4425-ADC2-C839058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DDB59-1945-4BF8-B9E1-33602C6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6A049-73D1-4AFE-AF85-E4CDEABF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05D8C-B3B4-4F57-8A45-005007A9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BCE-3076-4193-943F-DB41F3B0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A57E0-E9E4-4BA8-98D1-9BC0546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E8E7E-D396-4404-8932-F859A53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25998-2EFE-4315-8204-84AA4CB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240A9-7992-4572-8302-B5F4AEB0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E0D9B-75FA-468B-9EA2-098EBC11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56773-50E0-4399-8823-922482EF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879A7-6ACF-476E-9CDA-940C189A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A36B9-0A5C-41BC-BAFE-750EB2E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9A2F3-103A-4AA0-9148-E9D0A19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54D01-1EBF-40BC-9D86-D3C61CE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D0CA-9752-4715-9417-12DE3DF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83D1B-7A78-4B85-BDE5-122CDC8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19F5F-BE69-4C0A-808D-FF679106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701BC-ADE3-4900-87A4-092CBF2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86003-3F7E-4C37-8ABE-75A7CA9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594BF-443F-4232-9507-123C4CD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C2DC4-27EB-452B-99AA-0C923CC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E9F9F-9949-4E02-B122-4A7A4A0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19100-4DCD-4FEC-8208-2142F6EF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DE043-2B01-4DFB-86EA-2614E19E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D94-2C2A-4693-9514-45FD6D9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13B8-165A-49A9-9014-90D344B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E32D-32D2-4BC6-8223-F911302E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286-2DDB-4BF6-B661-B865D04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42A0-3363-4F8A-901B-FDDB4D4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8CDC-A1E3-4020-A001-813F9BB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725B-4C0D-495C-8732-EA97705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A780-140B-40E5-83BF-C0CF64BB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5DAE-9374-4595-A24F-C2A54259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D136-922B-494B-8B0E-B2084734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72EA-B8AF-4BAE-970F-42B3B6B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7DF0-5BF0-495A-B8F0-243C26D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15D0-51AE-46D0-8F4A-1089295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7E0F-D9C7-40DF-B813-06D59479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34E-DAF4-4AB9-80B8-D34E1584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6EE1-DB69-4437-AA11-0A3E688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4F1EF-9CC1-4409-8DFA-C4541E3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310D-3099-418F-AE9C-0CD0DF6C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F436-9F74-43DF-B573-7783EF2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15A1-7225-417C-9885-96F265F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1E2E-84F5-4467-85BD-ACA879E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A69A-081E-40E7-BCD1-F4F45BA9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327B-6BFC-4DFB-A179-BEFF5EDF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A1C3-C62D-449B-8E11-3A9655A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B957-33A1-4D0D-B948-59D7E55A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682-0C9C-493C-B3E0-FFAC4CA2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116B-E3E7-4764-9CA9-8BE6EF7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8E842-379B-40A0-8C28-8EAE0B4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EAA5-42CC-4661-A5DD-8FD1D75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8ACE-A2B5-44D8-A366-C3F883E2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244B-3C68-4E8A-8C02-37000B3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6219-AA98-4579-8D8F-603F033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6B68-255A-4D32-93CF-CC86533A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E5C2-C973-4EEB-83C1-9E17A6A8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53BC-9C42-43BE-8A87-2CBDD015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9495-2942-4CE5-A302-79704A5D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7A4-12CC-4738-A122-FCFDC8B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0DB5-7C42-43D2-951B-19B92D9C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53E56-E8A6-4D19-9C41-5DBF19F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2531-6F04-4AA8-99E3-6BFE8BEB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8D71-E0A2-4217-A6B4-553C143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7014-7724-4789-A843-5DC2B342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499F-A988-4113-BD7F-1F99015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EA34-6F45-407E-BB95-F6DFA03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C0C7-6372-4BDF-B754-2BE981F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9CC6-98B6-4B69-95B0-DAC284FF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989C-E9E8-4F3D-B6DF-28B8BED6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965-C55D-48E3-AE04-91C60964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C8D9-1970-4C16-82A0-E68C9820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1957-FC54-4975-B739-DF508EB7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338D3-DA10-47E6-9855-94479B0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CFB8F-E1F4-4051-A0AA-54521E5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5381-9A18-44BD-A0C5-E97ABF26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44E7-D686-471D-B5A8-35AFB78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EB59-3A30-49B5-A052-80E04CE7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0573-83CE-4559-81A7-0588CC2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B5DA-7575-40AF-8979-E53F6E1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DB236-6487-46CB-849D-52D69BB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188-3ECF-4710-BF8A-1DF045B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93BD-6883-402F-9F3C-E464BEEA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9B81-6671-4CA6-A66D-76A08DA0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CD67-8BF2-4A0D-BA73-E3E8C357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6B6A-AD19-44AA-A7EA-79A99E6C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16D1-9ED9-4C48-842A-843DEA90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2034-9964-41AE-8C83-1562DCB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C027-7240-4361-A1FF-DDB3EC36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0027-4279-468F-98FA-D0D4C24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FB7AE-0DC1-4006-9E6E-C2542D5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E503-D16C-456A-A436-5B578EC0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054-AB86-46DB-9E96-97CBF98D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3C11-6F8C-43BD-BA30-68369BB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59375-C274-41EC-8B9B-5D13118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0238-14A6-4BC6-BE1F-41CC8B65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E2966-C65F-4B1F-8CFA-2124A75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3962-5406-4D4E-A5BE-1042EC03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26881-106B-4091-9114-3F3D7238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54F19-9E0E-4A6F-847A-3B11F9E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D5A10-11DE-4CAB-A093-52A9F348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FCD5-F00E-4DB8-992A-50C17D3F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7E59-C495-435D-897E-E399F20D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8E7-9CF4-4736-9805-DBA01FB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064F-C536-408C-B7DF-2F572116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2B931-E661-4AD8-9933-A9D616A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4658-0165-4C67-8951-5CDA6EC5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B7A50-58B4-4FE8-B71C-002C99BB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E524-9C01-402B-9BEE-FB9B83C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16A2-0DEE-497E-AF3F-408969A7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A1A04-2CBD-4B70-97FF-360F1165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96493-C567-418F-9B54-E4B0E388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616BF-38F2-47B7-BFDC-E02D6949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DD2AF-DC23-44CA-B12D-EE411C92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94D-E496-4DCD-8436-A7144FD3A00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2CA-EE2E-4FF9-94BE-65F5B9404D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04B8-BC1A-473D-9928-85B9926E2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110C-748C-4334-ACC4-C051C2E2F1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4D1-8379-431F-916D-34C73621DD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8A9-0718-4B2C-8FB9-FE9777F6D7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D330-E376-44DD-A73F-FD8495097A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1284-407D-45DD-9264-D0CBBFCE1B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79F-D6A0-479B-B8DA-3D6AE9DA7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8598-816A-41C7-958D-DA98486689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A317-565C-446D-9F48-A17F3DDE8A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9D9-C325-4B4D-A722-BBA231BAB6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6CD5-654E-4D80-86EA-E9EB8AF32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pic>
        <p:nvPicPr>
          <p:cNvPr id="89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E2EE-DB7E-4376-8CED-5F4025DCBEF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F6B-F03B-4622-B824-A944A2C74E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0BC-C7BD-4FE1-8D4B-31CD78146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138B-FEBF-4C74-B29F-B4F6DA2129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D45B-B0C5-4425-800F-EE76574860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AA92-8061-4ECC-8F1F-56FFB29203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48C-4C21-423F-A33C-B13E47915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58B-88D7-4613-8D74-F5F3CF9A51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2D91-F0D2-4970-B5BE-3FF699E98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6DC-6379-46C5-9EF6-5FFD8CCFA8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3DB-0476-42AD-86B8-E4067B5CAF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BBC-0363-46C4-BE5D-BC472B29A0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BA45-1A17-4DE3-B551-AD295B627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5671080" y="4952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陶渊明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8354160" y="1056600"/>
            <a:ext cx="789840" cy="65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008cb"/>
                </a:solidFill>
                <a:latin typeface="Times New Roman"/>
              </a:rPr>
              <a:t>育才实验中学       李梅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5" name="WordArt 5"/>
          <p:cNvSpPr txBox="1"/>
          <p:nvPr/>
        </p:nvSpPr>
        <p:spPr>
          <a:xfrm>
            <a:off x="1600200" y="18288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桃花源记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1219320" y="7621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编号：５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533520"/>
            <a:ext cx="1219320" cy="5580360"/>
          </a:xfrm>
          <a:prstGeom prst="rect">
            <a:avLst/>
          </a:prstGeom>
          <a:solidFill>
            <a:srgbClr val="fac164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6" name="WordArt 4"/>
          <p:cNvSpPr txBox="1"/>
          <p:nvPr/>
        </p:nvSpPr>
        <p:spPr>
          <a:xfrm>
            <a:off x="1752480" y="1828800"/>
            <a:ext cx="3048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中宋"/>
              </a:rPr>
              <a:t>如此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中宋"/>
              <a:ea typeface="华文中宋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971800" y="4038480"/>
            <a:ext cx="2743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像这样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这样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1219320" y="9907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0ce60c"/>
                </a:solidFill>
                <a:latin typeface="Times New Roman"/>
              </a:rPr>
              <a:t>编号：６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457200"/>
            <a:ext cx="1143000" cy="558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0" name="WordArt 4"/>
          <p:cNvSpPr txBox="1"/>
          <p:nvPr/>
        </p:nvSpPr>
        <p:spPr>
          <a:xfrm>
            <a:off x="1600200" y="1752480"/>
            <a:ext cx="33526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鲜美</a:t>
            </a:r>
            <a:endParaRPr b="0" lang="en-US" sz="72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2743200" y="4343400"/>
            <a:ext cx="6051600" cy="193716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（指色彩）鲜艳美丽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　指食物味道好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AutoShape 2"/>
          <p:cNvSpPr/>
          <p:nvPr/>
        </p:nvSpPr>
        <p:spPr>
          <a:xfrm>
            <a:off x="1143000" y="1447920"/>
            <a:ext cx="3346560" cy="16556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125080" y="1981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c08d6"/>
                </a:solidFill>
                <a:latin typeface="Times New Roman"/>
              </a:rPr>
              <a:t>发现桃源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1143000" y="312408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99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2516040" y="3377880"/>
            <a:ext cx="4416480" cy="2161800"/>
          </a:xfrm>
          <a:prstGeom prst="sun">
            <a:avLst>
              <a:gd name="adj" fmla="val 25000"/>
            </a:avLst>
          </a:prstGeom>
          <a:solidFill>
            <a:srgbClr val="ff6699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访问桃源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8077320" y="3200400"/>
            <a:ext cx="804600" cy="3018600"/>
          </a:xfrm>
          <a:prstGeom prst="rect">
            <a:avLst/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离开桃源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6248520" y="4572000"/>
            <a:ext cx="1752480" cy="12952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ac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8" name="Tree"/>
          <p:cNvSpPr/>
          <p:nvPr/>
        </p:nvSpPr>
        <p:spPr>
          <a:xfrm>
            <a:off x="0" y="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29" name="AutoShape 21"/>
          <p:cNvSpPr/>
          <p:nvPr/>
        </p:nvSpPr>
        <p:spPr>
          <a:xfrm>
            <a:off x="6095880" y="762120"/>
            <a:ext cx="3048120" cy="2438280"/>
          </a:xfrm>
          <a:prstGeom prst="cloudCallout">
            <a:avLst>
              <a:gd name="adj1" fmla="val -78074"/>
              <a:gd name="adj2" fmla="val 47722"/>
            </a:avLst>
          </a:prstGeom>
          <a:solidFill>
            <a:srgbClr val="0ac60a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6477120" y="685800"/>
            <a:ext cx="2133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ec08d6"/>
                </a:solidFill>
                <a:latin typeface="Times New Roman"/>
              </a:rPr>
              <a:t>世外桃源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c08d6"/>
                </a:solidFill>
                <a:latin typeface="Times New Roman"/>
              </a:endParaRPr>
            </a:p>
          </p:txBody>
        </p:sp>
        <p:pic>
          <p:nvPicPr>
            <p:cNvPr id="6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c08d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e684"/>
            </a:gs>
            <a:gs pos="100000">
              <a:srgbClr val="c9ddf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176280" y="304920"/>
            <a:ext cx="3061080" cy="916920"/>
          </a:xfrm>
          <a:prstGeom prst="rect">
            <a:avLst/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707e1"/>
                </a:solidFill>
                <a:latin typeface="Times New Roman"/>
              </a:rPr>
              <a:t>学习目标及重点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219320" y="1828800"/>
            <a:ext cx="7467480" cy="825120"/>
          </a:xfrm>
          <a:prstGeom prst="rect">
            <a:avLst/>
          </a:prstGeom>
          <a:solidFill>
            <a:srgbClr val="f0e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a50021"/>
                </a:solidFill>
                <a:latin typeface="Times New Roman"/>
              </a:rPr>
              <a:t>、了解本文所反映的生活理想与社会现实之间的关系。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219320" y="4572000"/>
            <a:ext cx="7467480" cy="825120"/>
          </a:xfrm>
          <a:prstGeom prst="rect">
            <a:avLst/>
          </a:prstGeom>
          <a:noFill/>
          <a:ln w="9360">
            <a:solidFill>
              <a:srgbClr val="170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、积累一部分常用文言词语，了解古今异义现象。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2"/>
          <p:cNvSpPr txBox="1"/>
          <p:nvPr/>
        </p:nvSpPr>
        <p:spPr>
          <a:xfrm>
            <a:off x="6934320" y="541008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检查预习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1295280" y="12193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59e06"/>
                </a:solidFill>
                <a:latin typeface="Times New Roman"/>
              </a:rPr>
              <a:t>给下列课文中的字注音并解释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阡陌            髫             怡然             诣                骥             津                要                豁然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814320" y="2862360"/>
            <a:ext cx="790200" cy="1312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</a:rPr>
              <a:t>然</a:t>
            </a:r>
            <a:endParaRPr b="0" lang="en-US" sz="8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752480" y="1752480"/>
            <a:ext cx="609840" cy="4038840"/>
          </a:xfrm>
          <a:custGeom>
            <a:avLst/>
            <a:gdLst>
              <a:gd name="textAreaLeft" fmla="*/ 389520 w 609840"/>
              <a:gd name="textAreaRight" fmla="*/ 610200 w 6098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3049560" y="1752480"/>
            <a:ext cx="2009520" cy="3751560"/>
          </a:xfrm>
          <a:prstGeom prst="rect">
            <a:avLst/>
          </a:prstGeom>
          <a:solidFill>
            <a:srgbClr val="0ce6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欣然归往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豁然开朗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怡然自乐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屋舍俨然</a:t>
            </a:r>
            <a:endParaRPr b="0" lang="en-US" sz="60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248520" y="3581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7395840" y="284040"/>
            <a:ext cx="91152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形容词词尾，无实义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228600" y="0"/>
            <a:ext cx="4800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制作卡片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457200" y="1752480"/>
            <a:ext cx="83059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类别：文言实词　　编号：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标题：志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　　　１、动词：作标记　　如“处处志之”（《桃花源记》）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Times New Roman"/>
              </a:rPr>
              <a:t>　　　２、名词：标志　　　如“寻向所志”（《桃花源记》）</a:t>
            </a:r>
            <a:endParaRPr b="0" lang="en-US" sz="4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0" y="457200"/>
            <a:ext cx="1143000" cy="558036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0ce60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066680" y="762120"/>
            <a:ext cx="8077320" cy="416124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号：１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3048120" y="2971800"/>
            <a:ext cx="6095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交错相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邮电运输事业的总称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1" name="WordArt 6"/>
          <p:cNvSpPr txBox="1"/>
          <p:nvPr/>
        </p:nvSpPr>
        <p:spPr>
          <a:xfrm>
            <a:off x="1143000" y="167652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 flipH="1">
            <a:off x="-720" y="380880"/>
            <a:ext cx="1143000" cy="5580360"/>
          </a:xfrm>
          <a:prstGeom prst="rect">
            <a:avLst/>
          </a:prstGeom>
          <a:solidFill>
            <a:srgbClr val="ffcc99"/>
          </a:solidFill>
          <a:ln w="9360">
            <a:solidFill>
              <a:srgbClr val="c9ddf1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1295280" y="914400"/>
            <a:ext cx="784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编号：２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4" name="WordArt 4"/>
          <p:cNvSpPr txBox="1"/>
          <p:nvPr/>
        </p:nvSpPr>
        <p:spPr>
          <a:xfrm>
            <a:off x="1676520" y="182880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妻子</a:t>
            </a:r>
            <a:endParaRPr b="0" i="1" lang="en-US" sz="7200" spc="1" strike="noStrike">
              <a:ln w="9360">
                <a:solidFill>
                  <a:srgbClr val="00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009680" y="3048120"/>
            <a:ext cx="30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妻子和儿女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专指男子的配偶</a:t>
            </a:r>
            <a:endParaRPr b="0" lang="en-US" sz="54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026"/>
          <p:cNvSpPr/>
          <p:nvPr/>
        </p:nvSpPr>
        <p:spPr>
          <a:xfrm>
            <a:off x="1219320" y="533520"/>
            <a:ext cx="7924680" cy="527328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编号：３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7" name="Rectangle 1027"/>
          <p:cNvSpPr/>
          <p:nvPr/>
        </p:nvSpPr>
        <p:spPr>
          <a:xfrm flipH="1">
            <a:off x="-720" y="380880"/>
            <a:ext cx="1203480" cy="5580360"/>
          </a:xfrm>
          <a:prstGeom prst="rect">
            <a:avLst/>
          </a:prstGeom>
          <a:solidFill>
            <a:srgbClr val="fac164"/>
          </a:solidFill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08" name="WordArt 1028"/>
          <p:cNvSpPr txBox="1"/>
          <p:nvPr/>
        </p:nvSpPr>
        <p:spPr>
          <a:xfrm>
            <a:off x="2057400" y="1447920"/>
            <a:ext cx="3581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绝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9" name="Text Box 1030"/>
          <p:cNvSpPr/>
          <p:nvPr/>
        </p:nvSpPr>
        <p:spPr>
          <a:xfrm>
            <a:off x="3184560" y="3745080"/>
            <a:ext cx="5959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与人世隔绝的境地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山穷水尽的地步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143000" y="1003320"/>
            <a:ext cx="8001000" cy="5088240"/>
          </a:xfrm>
          <a:prstGeom prst="rect">
            <a:avLst/>
          </a:pr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ce60c"/>
                </a:solidFill>
                <a:latin typeface="Times New Roman"/>
              </a:rPr>
              <a:t>类别：古今异义词　</a:t>
            </a:r>
            <a:r>
              <a:rPr b="0" lang="zh-CN" sz="4000" spc="-1" strike="noStrike">
                <a:solidFill>
                  <a:srgbClr val="0ce60c"/>
                </a:solidFill>
                <a:latin typeface="Times New Roman"/>
              </a:rPr>
              <a:t>编号：４</a:t>
            </a: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古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今义：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1143000" cy="556272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c08d6"/>
                </a:solidFill>
                <a:latin typeface="Times New Roman"/>
              </a:rPr>
              <a:t>古今异义词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2" name="WordArt 5"/>
          <p:cNvSpPr txBox="1"/>
          <p:nvPr/>
        </p:nvSpPr>
        <p:spPr>
          <a:xfrm>
            <a:off x="1371600" y="2209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无论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2895480" y="4038480"/>
            <a:ext cx="5943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不要说，更不要说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08d6"/>
                </a:solidFill>
                <a:latin typeface="Times New Roman"/>
              </a:rPr>
              <a:t>表条件关系的关联词</a:t>
            </a:r>
            <a:endParaRPr b="0" lang="en-US" sz="4800" spc="-1" strike="noStrike">
              <a:solidFill>
                <a:srgbClr val="ec08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16:10:15Z</dcterms:created>
  <dc:creator>qg</dc:creator>
  <dc:description/>
  <dc:language>en-US</dc:language>
  <cp:lastModifiedBy>a</cp:lastModifiedBy>
  <dcterms:modified xsi:type="dcterms:W3CDTF">2015-02-10T11:33:55Z</dcterms:modified>
  <cp:revision>19</cp:revision>
  <dc:subject/>
  <dc:title>PowerPoint 演示文稿</dc:title>
</cp:coreProperties>
</file>