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65C-DB9D-49F5-85AE-5CC12F2C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572-21F9-4929-A1B1-1728775E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0E4CC-83A7-4892-9F92-57B4E5A2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F80E3-0E5E-49BF-8170-85970679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ECB9B-3E56-438D-93D7-6795AA72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1A89A-2941-4D1F-B0A1-920621E1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5D3DC-8EB0-4DBD-825E-A3895B1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68024-E399-43E9-9417-E08BCF21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47F22-159D-4B43-A277-13977947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7FD12-FA7A-4632-BE13-3745172C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6C02C-699F-451E-A217-CB6B1A58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31B7B-6690-4C02-80A0-3B1C1601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B6A-00AF-4E52-A786-EFCD0D88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940F2-104A-4BBC-A328-ED5F81D9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2CCDB-D100-4D5F-BDBA-1217706A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61966-E8AA-47E2-AFE8-8119697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63ED2-AD51-4332-8D48-85F1701E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99FFC-BB09-4EE3-99F6-C0C5A0A2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4EDD9-E2FD-4330-9CE4-AEF59ED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B28C9-0396-434A-964E-9D2C5CAD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5857E-71DB-4937-BB82-D5FD159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8325E-62F8-4603-8873-44A9949E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E8168-B00C-4696-895F-7AD35DA3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640-CD6A-48B4-8757-9A0765B8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BB393-6B5A-4BDF-85FC-D7D1C62F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E16DD-76F1-49B2-A422-F8D9F848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9996B-3B25-4448-AE3D-91DD73E2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34ACA-2368-41C5-BD80-E600FE41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97A5E-14A5-4ADB-959D-48063B3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45492-D4EA-4CC1-B80C-C878BF5E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41F91-A2C7-424E-AE95-E4D9B55A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965B3-6B78-423F-AE80-39E94E5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BFCA7-3C8D-4DA0-BD61-4C9A019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7E4FE-57B1-426A-ABF0-ABFC33C7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FBEC-D673-4FB4-914E-70EB3D4D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D5DC2-2205-4C94-8023-C3FF4564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EB149-2032-4531-90C1-6C45CAC9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65E65-81C9-4D0E-8AC6-08F271ED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307FB-1757-474E-A51B-F4CCF8CD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4DC5F-5360-4A0C-B0B1-599BF6CF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53E13-A658-4E4B-AB92-03781612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AC96C-6588-4F59-87C0-FBCB2E29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9C57B-38FE-406B-9E53-6E8D2D54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E9514-4623-481B-B45F-899454D4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36128-03CE-452A-BDBE-4F2CEC64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71B5-5B33-4F88-A9FE-7B09E9E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07FBE-1401-4079-8CB1-EA810E5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A18C8-C518-46B5-912A-17812289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C121E-8050-450B-AE41-9DA800C7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3F97F-78C2-4DF0-B433-4158ABD6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A199D-542E-4878-9ED6-25B52666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3D8C7-A5F0-4F78-9A23-266EAC86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49833-ACFF-4F09-8E12-673B9E52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36052-49CB-499D-9BC3-7B4DCA2F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CF2F1-452F-44A3-866C-EBF54450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08FE4-781F-4508-89B1-BC3774A6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B8CF-FCD3-4657-84F3-564A444D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8BB02-A8A9-4853-A808-996841BA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2E6A6-5FE5-45CB-9FE8-7B93953A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FC2E1-8B52-4A60-88A9-0D684E27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8F3A8-1AC0-4863-95B9-671EBF9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02C39-7370-483B-8E3F-FE3BE45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71517-B7C9-47AE-BEE3-1A04D130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56760-744C-44BB-BDD5-505DEFC3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1B3B-D1BA-4088-893A-45125775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4E08-CECB-4E27-BA9E-0B5B2526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4D7B-E443-4DD1-85F9-E9D3F419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DC52-32F2-4A83-A329-948017E1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1C0-C3F2-4950-9228-96DD60B5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6054-1B00-4921-B6F9-F24CE00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77C0-344F-4914-9FE3-3C4C9174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2F7E-3AD0-4ED1-8137-0A93B94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67AB-34A5-47EA-A461-3A4531EB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0BAB-6162-465A-A68F-3690D9E9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2410-D6DD-4177-BA45-5ECAB1BE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2A10-6770-48FD-AB5E-272378B1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EDBB-5FCB-4EC8-8A49-68C4433F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5B56-EDBA-4B50-83E2-9A87C1CB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AD0F-FF5D-4EFE-B9B1-9D8E2122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11E-87F3-4844-942E-DEA720DA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CE3A-5197-4A75-B948-F1004E02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EB71-A8C5-4CFD-A53E-2E3DD66A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DCC2-C5F4-46A4-B80D-C6D5F600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6015-4783-444E-AA6B-C69C3B0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0FA4-3AA4-4C1C-A6F5-5EB4A0DE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0BAA-66DA-49BC-932A-E1053EB7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5F25-F7C3-4FDC-9111-225DEA7D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4E894-6EE2-45F5-B0AB-17AAACB1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CD3C-BBBF-4565-B540-CCC8B6D5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4792-D277-4390-8F97-A0592A5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F3E-0105-4F0F-A46C-AE307889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542B-C6A6-4BFF-A96E-D159EE16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39DB7-F3D1-42E0-826B-6055C037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1499C-5C72-4F34-8960-69BD734B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E56C-F663-45F4-AED7-0DC9F81A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79FF-44C3-4505-8E9A-81AC7342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1F2AF-7920-4FC8-B332-25FE0B5A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5E9D-A853-4EBB-A33C-3F8F2A7C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5F13-8E15-44E5-884D-5AEE5189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F471-76B7-4EF4-9A12-F0A626DA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73DD1-30FA-4BE9-8305-C172A299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378-4597-42C5-B97E-1E7B6137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4AB6-835F-434E-B40F-487B2C60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2F2F-D013-47EE-BE4F-2E6F94A0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DA135-EA9A-4F77-AEF1-E0377407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E1675-DCA6-4803-925F-C63CE12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BC59E-7FCF-48D2-B853-623146D1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2A9CD-F793-4DE8-9B9B-AE6098AE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D33B8-8FE4-47A1-8011-634E084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B8B3-4BDE-4AF0-AE47-B3E6A27E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14860-A8B1-4D11-8F9B-0C46C1BE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89A6E-8688-4AFB-A766-48BC2B07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BC5-0B18-4AA8-8B07-516BA09B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921F-8D41-4140-BBA4-9CCE0E3F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712CB-EB6E-4CBF-B29E-2AB09EF9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30742-351D-4AA6-A41E-93139AE3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888FA-6A82-4D35-B713-A1B3CD2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69088-C867-45BE-9C10-187A7AB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3096C-77A0-48F6-83D3-AF699267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03540-C3C5-46E3-AAA8-5A19AA9C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FE4C-420B-4A43-AD5D-B1DD928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01CC1-9637-4E24-BE8C-5A1980DD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DB58-CD67-4098-A8D6-1EFC2234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68F-B316-4043-B40C-32F542A6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CC3F7-CF86-4D2F-847A-304E86DD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CB486-198C-46DC-A0F3-E03E6C99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F11E7-5BAB-4879-A93F-5D6DEFC1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42C27-7337-478E-9B58-FECF3AB5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698F4-F38A-4BD7-8006-76C2CCF5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71898-E14B-4D96-9353-E57D524C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816FE-9EFF-43A8-BC74-C1A1C02D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2DE7A-A323-445B-A884-0805AE78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425F8-FD91-47A7-9736-6D6904E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5DC6-B9D3-45A9-9F22-884BE39F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6D3-DD7A-4A97-945F-F647B38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A14D2-DA1D-4496-8DB6-FACECD87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E5144-752A-45F3-8148-02446899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01440-009C-4CB0-9139-1B5B8EF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9EB55-97D2-4AC0-A98C-A41DDDB7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59F8-7208-44CA-ABE0-81443C75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39A6C-0641-44D3-A437-08B501AE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F45EB-65CA-49DF-9902-B201AB5A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75CA4-0056-48BF-BDEE-7BFE2D46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DDCF3-7A0C-4EF7-83DA-A3AAEBDD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4EA8C-470A-4FDA-8738-A2B88E14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D72-0CD7-4556-BADA-591244DE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B895-4713-48EB-8298-13D1937A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686D0-11D2-4090-BA79-76B5AA9C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F369F-D3CD-42DF-A73E-3D32206C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51C4-C0C3-4882-B6A1-7424B5FC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085B0-4180-4524-B7D5-7A539F09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0898E-825E-45A3-8A1A-DA410F97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A3AE-D07E-46DE-B7FF-C1F3F2FB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D379F-5E86-40F7-B7E2-993437C9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09DEC-FFB9-4D39-ADA6-44E3F224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42A2E-7A3D-4007-8E9F-153D3DF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F9E8-67B3-414F-95AC-2925653DC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F655-A2CB-468D-A721-AD7B9A5CB9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EA2A-E322-41D1-859B-26B381817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0ACF-0F43-4BD5-83CF-A9E80F4C97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1076-9A08-4BDE-A4A8-054275867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288F-A87E-44E2-952D-CF07193236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CB7D-94A7-4B3E-BFBC-B2FAFDB40F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0144-CABA-46E7-A085-00BC2E3CBE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F02E-8767-4E72-AD08-DAEB416F32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FF7-592D-47B4-96B1-7507BE6FAA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D543-87C8-4778-86D5-491629E1CB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0A68-48D6-4995-A195-3291DA8EA0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E38E-2F9E-4D15-8857-67C6D3075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B52F-DDC7-40BA-ABEE-ADD04DFAF6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B792-2D64-4341-8F07-2975FC8D0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1CA1-A70C-423D-8653-D0BB645BC0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D1F6-4ACD-462F-882B-16ADE737FC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CBF7-CEE4-4714-BA47-99CEADF9EB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BAE6-9628-48AB-BB2A-0F6E09102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C014-3F9E-470A-BC82-2582D1E085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12C0-304D-47AC-827F-133AA24BC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5A49-628C-433D-9DF3-3AC0D5BD75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B283-2FE2-49D7-A9A1-0AC36EE4EC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7B79-C5A6-4CA8-82FD-A194B6488E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5FCE-66F0-4CBF-B7F8-6D18A28DC7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79280" y="1052640"/>
            <a:ext cx="878544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学目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实例使学生初步体会分布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表示数据的过程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几种常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统计图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折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扇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茎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根据问题的需要选择合适的统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表灵活进行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学重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和分析常用统计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合适的统计图表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79280" y="2602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教学内容  统计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468360" y="1773360"/>
            <a:ext cx="215892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统计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3132000" y="260280"/>
            <a:ext cx="27352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取调查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6516720" y="189000"/>
            <a:ext cx="22320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普查或抽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2987640" y="3141720"/>
            <a:ext cx="31687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理并分析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7020000" y="2781360"/>
            <a:ext cx="1873080" cy="132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列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Object 9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60360" cy="3743280"/>
          </a:xfrm>
          <a:prstGeom prst="rect">
            <a:avLst/>
          </a:prstGeom>
          <a:ln w="0">
            <a:noFill/>
          </a:ln>
        </p:spPr>
      </p:pic>
      <p:sp>
        <p:nvSpPr>
          <p:cNvPr id="541" name="Line 13"/>
          <p:cNvSpPr/>
          <p:nvPr/>
        </p:nvSpPr>
        <p:spPr>
          <a:xfrm flipV="1">
            <a:off x="6156360" y="306972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6156360" y="3429000"/>
            <a:ext cx="86364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5867280" y="54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3132000" y="1773360"/>
            <a:ext cx="1871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收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52360" y="4221000"/>
            <a:ext cx="100800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收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1258920" y="4797360"/>
            <a:ext cx="72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2987640" y="4724280"/>
            <a:ext cx="936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2"/>
          <p:cNvSpPr/>
          <p:nvPr/>
        </p:nvSpPr>
        <p:spPr>
          <a:xfrm>
            <a:off x="1979640" y="4221000"/>
            <a:ext cx="1224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理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3924360" y="4437000"/>
            <a:ext cx="1873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取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4"/>
          <p:cNvSpPr/>
          <p:nvPr/>
        </p:nvSpPr>
        <p:spPr>
          <a:xfrm>
            <a:off x="5797440" y="4726080"/>
            <a:ext cx="873360" cy="1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6661080" y="4437000"/>
            <a:ext cx="18734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出决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179280" y="5445000"/>
            <a:ext cx="87854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何整理和分析已收集的数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较准确的获取信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而作出恰当的决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7"/>
          <p:cNvSpPr/>
          <p:nvPr/>
        </p:nvSpPr>
        <p:spPr>
          <a:xfrm>
            <a:off x="5515200" y="5950080"/>
            <a:ext cx="255492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统计学的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468360" y="476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数据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539640" y="1197000"/>
            <a:ext cx="792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下列数据列出统计数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468360" y="3573360"/>
          <a:ext cx="8207280" cy="1036800"/>
        </p:xfrm>
        <a:graphic>
          <a:graphicData uri="http://schemas.openxmlformats.org/drawingml/2006/table">
            <a:tbl>
              <a:tblPr/>
              <a:tblGrid>
                <a:gridCol w="952560"/>
                <a:gridCol w="689040"/>
                <a:gridCol w="820440"/>
                <a:gridCol w="820800"/>
                <a:gridCol w="820800"/>
                <a:gridCol w="820800"/>
                <a:gridCol w="820800"/>
                <a:gridCol w="820440"/>
                <a:gridCol w="820800"/>
                <a:gridCol w="82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Text Box 39"/>
          <p:cNvSpPr/>
          <p:nvPr/>
        </p:nvSpPr>
        <p:spPr>
          <a:xfrm>
            <a:off x="1332000" y="4076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  3      1      5       5     6       3      7  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324000" y="4869000"/>
          <a:ext cx="8569080" cy="1158840"/>
        </p:xfrm>
        <a:graphic>
          <a:graphicData uri="http://schemas.openxmlformats.org/drawingml/2006/table">
            <a:tbl>
              <a:tblPr/>
              <a:tblGrid>
                <a:gridCol w="1368360"/>
                <a:gridCol w="1727280"/>
                <a:gridCol w="2736720"/>
                <a:gridCol w="2736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超过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超过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超过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79280" y="260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绘制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"/>
          <p:cNvGrpSpPr/>
          <p:nvPr/>
        </p:nvGrpSpPr>
        <p:grpSpPr>
          <a:xfrm>
            <a:off x="324000" y="1052640"/>
            <a:ext cx="5039640" cy="2952360"/>
            <a:chOff x="324000" y="1052640"/>
            <a:chExt cx="5039640" cy="2952360"/>
          </a:xfrm>
        </p:grpSpPr>
        <p:pic>
          <p:nvPicPr>
            <p:cNvPr id="561" name="Object 4" descr=""/>
            <p:cNvPicPr/>
            <p:nvPr/>
          </p:nvPicPr>
          <p:blipFill>
            <a:blip r:embed="rId1"/>
            <a:stretch/>
          </p:blipFill>
          <p:spPr>
            <a:xfrm>
              <a:off x="324000" y="1052640"/>
              <a:ext cx="4985280" cy="29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5"/>
            <p:cNvSpPr/>
            <p:nvPr/>
          </p:nvSpPr>
          <p:spPr>
            <a:xfrm>
              <a:off x="4589640" y="3267000"/>
              <a:ext cx="77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数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Object 7" descr=""/>
          <p:cNvPicPr/>
          <p:nvPr/>
        </p:nvPicPr>
        <p:blipFill>
          <a:blip r:embed="rId2"/>
          <a:stretch/>
        </p:blipFill>
        <p:spPr>
          <a:xfrm>
            <a:off x="5297400" y="1039680"/>
            <a:ext cx="35481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9"/>
          <p:cNvGrpSpPr/>
          <p:nvPr/>
        </p:nvGrpSpPr>
        <p:grpSpPr>
          <a:xfrm>
            <a:off x="324000" y="4149720"/>
            <a:ext cx="4968720" cy="2495520"/>
            <a:chOff x="324000" y="4149720"/>
            <a:chExt cx="4968720" cy="2495520"/>
          </a:xfrm>
        </p:grpSpPr>
        <p:pic>
          <p:nvPicPr>
            <p:cNvPr id="565" name="Object 10" descr=""/>
            <p:cNvPicPr/>
            <p:nvPr/>
          </p:nvPicPr>
          <p:blipFill>
            <a:blip r:embed="rId3"/>
            <a:stretch/>
          </p:blipFill>
          <p:spPr>
            <a:xfrm>
              <a:off x="324000" y="4149720"/>
              <a:ext cx="496872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1"/>
            <p:cNvSpPr/>
            <p:nvPr/>
          </p:nvSpPr>
          <p:spPr>
            <a:xfrm>
              <a:off x="4360320" y="6093000"/>
              <a:ext cx="74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数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571680" y="42210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频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 Box 13"/>
          <p:cNvSpPr/>
          <p:nvPr/>
        </p:nvSpPr>
        <p:spPr>
          <a:xfrm>
            <a:off x="5364000" y="3429000"/>
            <a:ext cx="3311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各种图形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数据有信息损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读图获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5435640" y="270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扇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250920" y="981000"/>
            <a:ext cx="85690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是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的智商情况调查后得到的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图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图表回答下列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Object 3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6890040" cy="279684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4"/>
          <p:cNvSpPr/>
          <p:nvPr/>
        </p:nvSpPr>
        <p:spPr>
          <a:xfrm>
            <a:off x="1403280" y="23493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人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24000" y="5300640"/>
            <a:ext cx="61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有多少人的智商在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有多少人的智商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6588000" y="5300640"/>
            <a:ext cx="187344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还能从图中获得什么信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50920" y="18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图知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17"/>
          <p:cNvSpPr/>
          <p:nvPr/>
        </p:nvSpPr>
        <p:spPr>
          <a:xfrm>
            <a:off x="2484360" y="5445000"/>
            <a:ext cx="3311640" cy="648000"/>
          </a:xfrm>
          <a:custGeom>
            <a:avLst/>
            <a:gdLst>
              <a:gd name="textAreaLeft" fmla="*/ 41760 w 3311640"/>
              <a:gd name="textAreaRight" fmla="*/ 3269880 w 3311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10339" h="21600">
                <a:moveTo>
                  <a:pt x="0" y="0"/>
                </a:moveTo>
                <a:lnTo>
                  <a:pt x="110339" y="0"/>
                </a:lnTo>
                <a:lnTo>
                  <a:pt x="110339" y="21600"/>
                </a:lnTo>
                <a:lnTo>
                  <a:pt x="0" y="21600"/>
                </a:lnTo>
                <a:close/>
              </a:path>
              <a:path fill="lightenLess" w="110339" h="21600">
                <a:moveTo>
                  <a:pt x="0" y="0"/>
                </a:moveTo>
                <a:lnTo>
                  <a:pt x="110339" y="0"/>
                </a:lnTo>
                <a:lnTo>
                  <a:pt x="108939" y="1400"/>
                </a:lnTo>
                <a:lnTo>
                  <a:pt x="1400" y="1400"/>
                </a:lnTo>
                <a:close/>
              </a:path>
              <a:path fill="darken" w="110339" h="21600">
                <a:moveTo>
                  <a:pt x="110339" y="0"/>
                </a:moveTo>
                <a:lnTo>
                  <a:pt x="110339" y="21600"/>
                </a:lnTo>
                <a:lnTo>
                  <a:pt x="108939" y="20200"/>
                </a:lnTo>
                <a:lnTo>
                  <a:pt x="108939" y="1400"/>
                </a:lnTo>
                <a:close/>
              </a:path>
              <a:path fill="darkenLess" w="110339" h="21600">
                <a:moveTo>
                  <a:pt x="110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39" y="20200"/>
                </a:lnTo>
                <a:close/>
              </a:path>
              <a:path fill="lighten" w="110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0339" h="21600">
                <a:moveTo>
                  <a:pt x="48163" y="3794"/>
                </a:moveTo>
                <a:lnTo>
                  <a:pt x="62176" y="10800"/>
                </a:lnTo>
                <a:lnTo>
                  <a:pt x="481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5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324000" y="404640"/>
            <a:ext cx="84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395280" y="40464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826920" y="620640"/>
            <a:ext cx="396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分析理解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2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1763640" y="126828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比较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象形统计图与条形统计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755640" y="2708280"/>
            <a:ext cx="403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思考交流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4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1908000" y="364500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比较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折线统计图与扇形统计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0" y="836640"/>
            <a:ext cx="871380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关部门从甲、乙两个城市所有的自动售货机中分别随机抽取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录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: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: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间各自的销售情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1;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.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你用适当的方式统计上述数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后加以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析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24000" y="18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探 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843280" y="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茎叶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5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1835280" y="1989000"/>
            <a:ext cx="4752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 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2195640" y="4149720"/>
            <a:ext cx="4752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3     4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06:02:54Z</dcterms:created>
  <dc:creator>YUJH</dc:creator>
  <dc:description/>
  <dc:language>en-US</dc:language>
  <cp:lastModifiedBy>a</cp:lastModifiedBy>
  <dcterms:modified xsi:type="dcterms:W3CDTF">2015-03-18T06:06:51Z</dcterms:modified>
  <cp:revision>12</cp:revision>
  <dc:subject/>
  <dc:title>幻灯片 1</dc:title>
</cp:coreProperties>
</file>