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6.jpeg" ContentType="image/jpeg"/>
  <Override PartName="/ppt/media/cashreg.wav" ContentType="audio/x-wav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7.jpeg" ContentType="image/jpeg"/>
  <Override PartName="/ppt/media/image9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9AD-87D6-4A89-A37B-73F9D619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233-4295-4385-8478-ECF10CA4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F5A5C-3F0B-4A16-B291-FFB55306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BACEE-2517-4CCA-8889-DCE558D4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C78DA-EE29-4F59-B575-00991F34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38DBA-C125-4BEE-9C9E-B4E21B1A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027E2-8123-4355-82CA-F2E08DB9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40B36-8927-4A13-BA08-A73929B0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0E0B5-A36E-4BDB-9325-9F2BDAFB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4FBD4-2F88-4951-82FB-C4E0EF88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B97E3-9007-43D2-AD16-4D7F4191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CFDA5-CF62-4F96-A688-5E004745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211-7F5F-4E9D-931B-F7D7BC6E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086CD-DF82-4E23-BB83-67710EEF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7CA34-785B-488E-A1AA-D612CC96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54853-09CD-4D1F-9904-CA23B8D9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5EDEC-95D7-4F93-AFCE-1021B2D5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36337-80EF-4CE2-A5B0-035D5CFC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AFAAB-A4BD-48D9-A62E-C025EA44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CABE4-BECA-40F8-A197-7C379B2D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FA75F-1DD6-4A9B-860B-7CA3257C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7C061-0A10-4864-B1CC-E1EC2F8D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0CAE1-C155-453C-87DE-421A1BEC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C3E-E317-4006-9FA8-BBBDFD33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C780D-3F3A-4333-A14A-9042A2FD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1B8B0-726C-490E-96EF-873F0F05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48E09-CEE1-4CDF-9D50-9875556B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448D2-B18D-4427-8A5A-C4FDBAE0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86367-FE0E-4289-98F1-75D2E192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E1B6E-97F3-46EF-8EA4-CDB56A7D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C7B1A-B215-466B-8192-14557896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2BF77-4F2D-4E1C-BB55-7A6A910A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31F24-EC05-492A-A373-A0BBD3CB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FCE1D-FB11-43EB-B2E6-9D0E407A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8D42-A177-46C0-BCCA-3119CDE5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D2C45-9D47-42AC-BC86-EE240B49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24906-2469-4CB6-A0C3-68642E4D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92BDA-3A7B-4B40-A5BB-BA0D89D7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B50A6-EF2A-4904-A590-64A6D33E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BA784-53D5-4963-9CFD-2B3F726D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4BA15-64F2-4D12-9B5C-9A833B07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512C1-0268-44D0-9E72-77CB6944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24FD7-1C59-4845-A0EC-D69FA03B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F945E-0814-4F63-8992-FBA11F93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18766-BFED-4EDB-A07E-94B06189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59B0-6147-4FC6-A9F3-0C98E85B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558F6-AFAE-45AF-8875-1D708E5E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5F46F-597D-4BF9-962D-A02A64BB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A73D9-8934-4245-9BAF-514B93BE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5E021-A0A7-4194-879E-BCBF7527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58E2A-35B9-4A61-9E85-E7D41613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F6938-25DD-4D30-9308-CD86BBB9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E348E-0F8B-49AA-8F7B-F0B11D97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9899E-C2AF-4913-A96A-D5398F2F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DBAA0-6EE3-49EB-A334-B131EE10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EBBA1F-F443-41F5-AA5A-0140CA34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5096-3AE1-48BA-84EF-3BBCE20F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189F9-5FBC-4E78-B81B-24CA00E9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3E9F14-4022-4F60-8900-EC75CF45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1BF7D6-9DD2-40DF-89A4-80D37260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38F0B-AB4E-40BE-8EA5-8C0DEF36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3ED97-0688-4244-9E64-4BEB1E0E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B02B5-095F-45FC-920C-28140ECF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FEA1F4-0827-4C66-8AE2-CB9D63BD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2C24-F935-4162-81E9-5EB5495D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8413-D7CA-4601-A8BA-D8B6A846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185A-0669-4DC2-8D3A-4D8F04F7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A7C0-01E3-489E-895B-323CE95D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EC8-AAF8-41B8-BB4A-AEF48E46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E22D-DA20-47E3-8135-887EEA85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AD9D-FFAA-45C9-8D3C-540E5347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F229-81BA-4ABB-A140-DE4A696C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9DC6-C700-48E0-8628-5F735C7F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191A-BC2C-4725-B1E8-E263FDCF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AF0DD-231E-4364-8796-446B7B64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CF29C-3318-4C67-823D-905135FD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B54DC-93D4-419C-B404-39F6BEDF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F8CC5-15D4-4006-BAFF-23CA5019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8D169-F1B5-4F55-B6A2-DBE1C50A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D066-936B-4182-BEE9-1D4FD529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095FA-F75E-44D0-8577-304F2E5D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41386-7484-471A-A341-B0C9A86E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DE378-49FF-42A9-98B0-4499E5FE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3C18A-D8EB-4047-BD06-F167984C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9D936-A1F1-4377-A799-F4893ACB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C08AC-E000-4ABF-BCB5-70DCD670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063C1-D376-4783-ACE0-A64476C1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46112-A24C-4B40-9E6F-62F89BE6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5DA5E-57AA-4206-B181-F6E2DC24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2B52D-28DF-4FBE-AD5E-7B3F2C25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8997-04F4-4CD9-AFDC-B73EF39B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38F9D-05D8-4D78-A326-8E706D31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F6C4B-4526-4E00-9B50-5B55A88A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6CD24-CC1E-4AFD-9694-C91E7B10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9797A-982F-41E4-B86E-A6D8EAD1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702A2-7FC1-4A44-A165-6EC42263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9B8D5-63E7-4A04-B135-546F2B5B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1E75B-50F3-4926-A109-D106330E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30B52-DD22-4233-8E80-8E5FFDCA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F19C6-0DF2-4933-9C75-828DF5E5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2FC21-C60E-4D62-8B66-B0384A24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005-956D-4DB6-95C6-1D3678D1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145DA-A46F-4CA0-8913-D7DD91B5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E0836-2E9D-4A3C-A887-C2D2B942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556B2-D3A9-46C6-AF4B-36327440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54463-FF8D-4839-AA0F-3DCAB93A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1BB2C-6559-432F-B9C4-0498ACF8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7F50D-6105-4B14-B77B-17790DF4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3A1DC-94BE-424A-84EF-422CD084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A17AF-4470-4575-9712-56288B68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EC18A-BB40-4D17-A510-7528B692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9AEA4-207E-4FBF-BF0B-B93309BE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482-CC77-4C03-AF0E-E5D3F184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B72D4-8B2F-41FD-B568-80578BEF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03F1B-47B0-4032-A8B8-B79CA9DD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368F1-56FB-4367-A18E-4FEFEC22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37CE0-A5C7-43C2-8F39-C0D3D324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71AA3-BA09-4C7C-81BC-70EFD72B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EF7C6-A10E-460A-BF05-D53B2677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9B635-8F15-4E7E-A55C-1CCE91CC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B184C-DE17-4631-B5B6-F8953879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8CC47-4CDD-4D5D-A21C-773E32DC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22B6A-6590-4A41-8919-1214E60E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B53-6D2E-431E-A811-D5EB4671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62705-9830-4182-81FB-78AF5D01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BE75F-968F-418D-9B0A-6D43F1E3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B161B-DB2C-43F7-9158-890B0556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BA135-9A6D-4145-9CDA-6E6A223E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98C5A-FC5D-44BB-8FF6-716BE369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5316B-ED44-464C-9253-DFE95292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54698-7703-4888-AEBD-FCCBC70F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EBD99-2F9B-45A7-B634-EA4A4FCC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CB432-ACFD-4CA6-8BC4-313C4065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C8446-CC27-41B1-8C93-D0151124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F1AE-8C48-4644-9F4A-5C4E29C7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7A1D6-AE22-49AC-89B2-91551130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A4AEB-1D86-4747-9143-15B53D27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EA471-33EC-456A-BC1D-5A0ADDB2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CC5B9-0200-4CC4-ACD3-F3E5CCAB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5D52F-9EFF-4D5F-90CB-684CE35B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F362C-B566-4658-B813-A38BC069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84C40-02D6-4490-882C-6FFF904E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12800-8F3E-403A-AA83-005C7BDB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9177F-1199-4D13-A074-AA482D8D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7B40C-2A9D-4237-B46A-857A38E6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3FE-2C6A-4FBA-B2E2-6297649B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CBBE1-383C-4226-A47C-00E11866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4B22D-74EE-44C8-B337-581D1280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DD5DD-CF77-4151-95FE-F8C9D33E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1DF18-57AB-4E3F-A604-98D949E7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59788-FD1A-4C93-BDAB-F9B0D20D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E1D9B-3E48-4163-BA93-0A8D1BDE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CA280-570B-427E-B98A-76AD9918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8A041-9B12-4FA9-8B4C-1463F9E1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BD4C6-869F-403D-8B5E-A418F624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C01DC-68AF-4393-9E2C-959BA005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7B00-6D62-4695-A699-0498090D5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0374-312A-4E6E-9BDC-0BA3310D106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A227-C837-4DDD-847D-6A7291DD5E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CDE8-3CFC-44AA-8D1C-28B87B3E9A1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0629-F867-4757-BA1E-B11362BAE3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2C97-826A-4A57-BEB0-AE835CF3960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416A-F6E5-43A4-87C1-2A2DB064B6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2B2D-E036-4302-B568-22A7CDC16E3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964C-C079-4B14-9FF2-67FC392074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2443-3135-4145-AB4C-5806541BDBC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341D-76EE-4078-B45C-9647AEADE0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EBC1-4498-4D0B-9AF0-562B8AADB4C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209A-1A32-47AF-BA7F-CCFCBED224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A2A0-9C7F-4536-B9E1-CCB51327315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5D2B-7360-4723-8EA7-D8EDA839EA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1042-998E-4E1A-B162-56BEDB8E407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FACF-975D-4C44-A68B-10570EB9A2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9810-9E90-4052-A834-9A515C7D8FC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F1B0-C5ED-4138-8883-173646074E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A073-476E-40D7-BF6E-FDD7421A87E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30BF-4F6E-4F26-B96B-2B091C1388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5DFC-4C8C-4219-80BE-9C2F0B7F3A7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885C-C8C6-40FC-A8CA-AF34401F79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F0C6-6F15-498E-A10A-0305EF89FBD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DF98-F8A3-4D44-9969-5B34ECC8C6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图"/>
          <p:cNvPicPr/>
          <p:nvPr/>
        </p:nvPicPr>
        <p:blipFill>
          <a:blip r:embed="rId1"/>
          <a:srcRect l="0" t="0" r="0" b="-11"/>
          <a:stretch/>
        </p:blipFill>
        <p:spPr>
          <a:xfrm>
            <a:off x="0" y="91440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2590920" y="1386000"/>
            <a:ext cx="373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cc"/>
                </a:solidFill>
                <a:latin typeface="华文隶书"/>
                <a:ea typeface="华文隶书"/>
              </a:rPr>
              <a:t>童    趣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089760" y="306864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沈  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1.WAV" descr=""/>
          <p:cNvPicPr/>
          <p:nvPr/>
        </p:nvPicPr>
        <p:blipFill>
          <a:blip r:embed="rId2"/>
          <a:stretch/>
        </p:blipFill>
        <p:spPr>
          <a:xfrm>
            <a:off x="87631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bjsc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3"/>
          <p:cNvSpPr/>
          <p:nvPr/>
        </p:nvSpPr>
        <p:spPr>
          <a:xfrm>
            <a:off x="609480" y="152388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993300"/>
                </a:solidFill>
                <a:latin typeface="宋体"/>
              </a:rPr>
              <a:t>作者把原来这三件自然之物大化、美化、情感化、理想化，感到奥妙无穷而乐在其中，这便是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993300"/>
                </a:solidFill>
                <a:latin typeface="宋体"/>
              </a:rPr>
              <a:t>物外之趣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993300"/>
                </a:solidFill>
                <a:latin typeface="宋体"/>
              </a:rPr>
              <a:t>。这表明作者在幼年时已经有了自发的审美意识和审美情趣。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Group 4"/>
          <p:cNvGrpSpPr/>
          <p:nvPr/>
        </p:nvGrpSpPr>
        <p:grpSpPr>
          <a:xfrm>
            <a:off x="142920" y="777960"/>
            <a:ext cx="8858160" cy="5303880"/>
            <a:chOff x="142920" y="777960"/>
            <a:chExt cx="8858160" cy="5303880"/>
          </a:xfrm>
        </p:grpSpPr>
        <p:sp>
          <p:nvSpPr>
            <p:cNvPr id="586" name="Rectangle 5"/>
            <p:cNvSpPr/>
            <p:nvPr/>
          </p:nvSpPr>
          <p:spPr>
            <a:xfrm>
              <a:off x="142920" y="777960"/>
              <a:ext cx="8858160" cy="53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Group 6"/>
            <p:cNvGrpSpPr/>
            <p:nvPr/>
          </p:nvGrpSpPr>
          <p:grpSpPr>
            <a:xfrm>
              <a:off x="142920" y="777960"/>
              <a:ext cx="7864560" cy="3165480"/>
              <a:chOff x="142920" y="777960"/>
              <a:chExt cx="7864560" cy="3165480"/>
            </a:xfrm>
          </p:grpSpPr>
          <p:sp>
            <p:nvSpPr>
              <p:cNvPr id="588" name="Rectangle 7"/>
              <p:cNvSpPr/>
              <p:nvPr/>
            </p:nvSpPr>
            <p:spPr>
              <a:xfrm>
                <a:off x="142920" y="777960"/>
                <a:ext cx="786456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9" name="Group 8"/>
              <p:cNvGrpSpPr/>
              <p:nvPr/>
            </p:nvGrpSpPr>
            <p:grpSpPr>
              <a:xfrm>
                <a:off x="142920" y="777960"/>
                <a:ext cx="6537240" cy="3165480"/>
                <a:chOff x="142920" y="777960"/>
                <a:chExt cx="6537240" cy="3165480"/>
              </a:xfrm>
            </p:grpSpPr>
            <p:sp>
              <p:nvSpPr>
                <p:cNvPr id="590" name="Rectangle 9"/>
                <p:cNvSpPr/>
                <p:nvPr/>
              </p:nvSpPr>
              <p:spPr>
                <a:xfrm>
                  <a:off x="142920" y="777960"/>
                  <a:ext cx="6537240" cy="31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Rectangle 10"/>
                <p:cNvSpPr/>
                <p:nvPr/>
              </p:nvSpPr>
              <p:spPr>
                <a:xfrm>
                  <a:off x="142920" y="777960"/>
                  <a:ext cx="6537240" cy="11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6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bjsc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3"/>
          <p:cNvSpPr/>
          <p:nvPr/>
        </p:nvSpPr>
        <p:spPr>
          <a:xfrm>
            <a:off x="1733760" y="1050840"/>
            <a:ext cx="570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你认为这种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物外之趣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是怎样产生的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457200" y="29113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3333cc"/>
                </a:solidFill>
                <a:latin typeface="宋体"/>
              </a:rPr>
              <a:t>是借助于丰富的联想和想像创造出来的。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5"/>
          <p:cNvGrpSpPr/>
          <p:nvPr/>
        </p:nvGrpSpPr>
        <p:grpSpPr>
          <a:xfrm>
            <a:off x="142920" y="777960"/>
            <a:ext cx="8858160" cy="5303880"/>
            <a:chOff x="142920" y="777960"/>
            <a:chExt cx="8858160" cy="5303880"/>
          </a:xfrm>
        </p:grpSpPr>
        <p:sp>
          <p:nvSpPr>
            <p:cNvPr id="596" name="Rectangle 6"/>
            <p:cNvSpPr/>
            <p:nvPr/>
          </p:nvSpPr>
          <p:spPr>
            <a:xfrm>
              <a:off x="142920" y="777960"/>
              <a:ext cx="8858160" cy="53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Group 7"/>
            <p:cNvGrpSpPr/>
            <p:nvPr/>
          </p:nvGrpSpPr>
          <p:grpSpPr>
            <a:xfrm>
              <a:off x="142920" y="777960"/>
              <a:ext cx="7864560" cy="3165480"/>
              <a:chOff x="142920" y="777960"/>
              <a:chExt cx="7864560" cy="3165480"/>
            </a:xfrm>
          </p:grpSpPr>
          <p:sp>
            <p:nvSpPr>
              <p:cNvPr id="598" name="Rectangle 8"/>
              <p:cNvSpPr/>
              <p:nvPr/>
            </p:nvSpPr>
            <p:spPr>
              <a:xfrm>
                <a:off x="142920" y="777960"/>
                <a:ext cx="786456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9" name="Group 9"/>
              <p:cNvGrpSpPr/>
              <p:nvPr/>
            </p:nvGrpSpPr>
            <p:grpSpPr>
              <a:xfrm>
                <a:off x="142920" y="777960"/>
                <a:ext cx="6537240" cy="3165480"/>
                <a:chOff x="142920" y="777960"/>
                <a:chExt cx="6537240" cy="3165480"/>
              </a:xfrm>
            </p:grpSpPr>
            <p:sp>
              <p:nvSpPr>
                <p:cNvPr id="600" name="Rectangle 10"/>
                <p:cNvSpPr/>
                <p:nvPr/>
              </p:nvSpPr>
              <p:spPr>
                <a:xfrm>
                  <a:off x="142920" y="777960"/>
                  <a:ext cx="6537240" cy="31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Rectangle 11"/>
                <p:cNvSpPr/>
                <p:nvPr/>
              </p:nvSpPr>
              <p:spPr>
                <a:xfrm>
                  <a:off x="142920" y="777960"/>
                  <a:ext cx="6537240" cy="118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7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checker dir="ver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bjsc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3"/>
          <p:cNvSpPr/>
          <p:nvPr/>
        </p:nvSpPr>
        <p:spPr>
          <a:xfrm>
            <a:off x="685800" y="37339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宋体"/>
              </a:rPr>
              <a:t>    </a:t>
            </a:r>
            <a:r>
              <a:rPr b="1" lang="zh-CN" sz="5400" spc="-1" strike="noStrike">
                <a:solidFill>
                  <a:srgbClr val="ff0066"/>
                </a:solidFill>
                <a:latin typeface="宋体"/>
              </a:rPr>
              <a:t>你有没有过类似的经历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zh-CN" sz="5400" spc="-1" strike="noStrike">
                <a:solidFill>
                  <a:srgbClr val="ff0066"/>
                </a:solidFill>
                <a:latin typeface="宋体"/>
              </a:rPr>
              <a:t>试展示一下自己的想像力和创造力。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4"/>
          <p:cNvGrpSpPr/>
          <p:nvPr/>
        </p:nvGrpSpPr>
        <p:grpSpPr>
          <a:xfrm>
            <a:off x="142920" y="777960"/>
            <a:ext cx="8858160" cy="5303880"/>
            <a:chOff x="142920" y="777960"/>
            <a:chExt cx="8858160" cy="5303880"/>
          </a:xfrm>
        </p:grpSpPr>
        <p:sp>
          <p:nvSpPr>
            <p:cNvPr id="605" name="Rectangle 5"/>
            <p:cNvSpPr/>
            <p:nvPr/>
          </p:nvSpPr>
          <p:spPr>
            <a:xfrm>
              <a:off x="142920" y="777960"/>
              <a:ext cx="8858160" cy="53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Group 6"/>
            <p:cNvGrpSpPr/>
            <p:nvPr/>
          </p:nvGrpSpPr>
          <p:grpSpPr>
            <a:xfrm>
              <a:off x="142920" y="777960"/>
              <a:ext cx="7864560" cy="3165480"/>
              <a:chOff x="142920" y="777960"/>
              <a:chExt cx="7864560" cy="3165480"/>
            </a:xfrm>
          </p:grpSpPr>
          <p:sp>
            <p:nvSpPr>
              <p:cNvPr id="607" name="Rectangle 7"/>
              <p:cNvSpPr/>
              <p:nvPr/>
            </p:nvSpPr>
            <p:spPr>
              <a:xfrm>
                <a:off x="142920" y="777960"/>
                <a:ext cx="786456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8" name="Group 8"/>
              <p:cNvGrpSpPr/>
              <p:nvPr/>
            </p:nvGrpSpPr>
            <p:grpSpPr>
              <a:xfrm>
                <a:off x="142920" y="777960"/>
                <a:ext cx="6537240" cy="3165480"/>
                <a:chOff x="142920" y="777960"/>
                <a:chExt cx="6537240" cy="3165480"/>
              </a:xfrm>
            </p:grpSpPr>
            <p:sp>
              <p:nvSpPr>
                <p:cNvPr id="609" name="Rectangle 9"/>
                <p:cNvSpPr/>
                <p:nvPr/>
              </p:nvSpPr>
              <p:spPr>
                <a:xfrm>
                  <a:off x="142920" y="777960"/>
                  <a:ext cx="6537240" cy="31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Rectangle 10"/>
                <p:cNvSpPr/>
                <p:nvPr/>
              </p:nvSpPr>
              <p:spPr>
                <a:xfrm>
                  <a:off x="142920" y="777960"/>
                  <a:ext cx="6537240" cy="15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7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1" name="Group 11"/>
          <p:cNvGrpSpPr/>
          <p:nvPr/>
        </p:nvGrpSpPr>
        <p:grpSpPr>
          <a:xfrm>
            <a:off x="142920" y="777960"/>
            <a:ext cx="8858160" cy="5303880"/>
            <a:chOff x="142920" y="777960"/>
            <a:chExt cx="8858160" cy="5303880"/>
          </a:xfrm>
        </p:grpSpPr>
        <p:sp>
          <p:nvSpPr>
            <p:cNvPr id="612" name="Rectangle 12"/>
            <p:cNvSpPr/>
            <p:nvPr/>
          </p:nvSpPr>
          <p:spPr>
            <a:xfrm>
              <a:off x="142920" y="777960"/>
              <a:ext cx="8858160" cy="53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" name="Group 13"/>
            <p:cNvGrpSpPr/>
            <p:nvPr/>
          </p:nvGrpSpPr>
          <p:grpSpPr>
            <a:xfrm>
              <a:off x="142920" y="777960"/>
              <a:ext cx="7864560" cy="3165480"/>
              <a:chOff x="142920" y="777960"/>
              <a:chExt cx="7864560" cy="3165480"/>
            </a:xfrm>
          </p:grpSpPr>
          <p:sp>
            <p:nvSpPr>
              <p:cNvPr id="614" name="Rectangle 14"/>
              <p:cNvSpPr/>
              <p:nvPr/>
            </p:nvSpPr>
            <p:spPr>
              <a:xfrm>
                <a:off x="142920" y="777960"/>
                <a:ext cx="786456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5" name="Group 15"/>
              <p:cNvGrpSpPr/>
              <p:nvPr/>
            </p:nvGrpSpPr>
            <p:grpSpPr>
              <a:xfrm>
                <a:off x="142920" y="777960"/>
                <a:ext cx="6537240" cy="3165480"/>
                <a:chOff x="142920" y="777960"/>
                <a:chExt cx="6537240" cy="3165480"/>
              </a:xfrm>
            </p:grpSpPr>
            <p:sp>
              <p:nvSpPr>
                <p:cNvPr id="616" name="Rectangle 16"/>
                <p:cNvSpPr/>
                <p:nvPr/>
              </p:nvSpPr>
              <p:spPr>
                <a:xfrm>
                  <a:off x="142920" y="777960"/>
                  <a:ext cx="6537240" cy="31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Rectangle 17"/>
                <p:cNvSpPr/>
                <p:nvPr/>
              </p:nvSpPr>
              <p:spPr>
                <a:xfrm>
                  <a:off x="142920" y="777960"/>
                  <a:ext cx="6537240" cy="118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7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bjsc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3"/>
          <p:cNvSpPr/>
          <p:nvPr/>
        </p:nvSpPr>
        <p:spPr>
          <a:xfrm>
            <a:off x="1894320" y="838080"/>
            <a:ext cx="475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宋体"/>
              </a:rPr>
              <a:t>这篇课文对你有怎样的启发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380880" y="22096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联想和想像是创新的基础。我们要培养创新能力，首先要培养自己的联想和想像的能力。我们要保持青少年特有的好奇心和富于幻想的特点，勇于实践，做一个敢想敢做、勇于开拓的人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5"/>
          <p:cNvGrpSpPr/>
          <p:nvPr/>
        </p:nvGrpSpPr>
        <p:grpSpPr>
          <a:xfrm>
            <a:off x="142920" y="777960"/>
            <a:ext cx="8858160" cy="5303880"/>
            <a:chOff x="142920" y="777960"/>
            <a:chExt cx="8858160" cy="5303880"/>
          </a:xfrm>
        </p:grpSpPr>
        <p:sp>
          <p:nvSpPr>
            <p:cNvPr id="622" name="Rectangle 6"/>
            <p:cNvSpPr/>
            <p:nvPr/>
          </p:nvSpPr>
          <p:spPr>
            <a:xfrm>
              <a:off x="142920" y="777960"/>
              <a:ext cx="8858160" cy="53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7"/>
            <p:cNvGrpSpPr/>
            <p:nvPr/>
          </p:nvGrpSpPr>
          <p:grpSpPr>
            <a:xfrm>
              <a:off x="142920" y="777960"/>
              <a:ext cx="7864560" cy="3165480"/>
              <a:chOff x="142920" y="777960"/>
              <a:chExt cx="7864560" cy="3165480"/>
            </a:xfrm>
          </p:grpSpPr>
          <p:sp>
            <p:nvSpPr>
              <p:cNvPr id="624" name="Rectangle 8"/>
              <p:cNvSpPr/>
              <p:nvPr/>
            </p:nvSpPr>
            <p:spPr>
              <a:xfrm>
                <a:off x="142920" y="777960"/>
                <a:ext cx="786456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5" name="Group 9"/>
              <p:cNvGrpSpPr/>
              <p:nvPr/>
            </p:nvGrpSpPr>
            <p:grpSpPr>
              <a:xfrm>
                <a:off x="142920" y="777960"/>
                <a:ext cx="6537240" cy="3165480"/>
                <a:chOff x="142920" y="777960"/>
                <a:chExt cx="6537240" cy="3165480"/>
              </a:xfrm>
            </p:grpSpPr>
            <p:sp>
              <p:nvSpPr>
                <p:cNvPr id="626" name="Rectangle 10"/>
                <p:cNvSpPr/>
                <p:nvPr/>
              </p:nvSpPr>
              <p:spPr>
                <a:xfrm>
                  <a:off x="142920" y="777960"/>
                  <a:ext cx="6537240" cy="31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Rectangle 11"/>
                <p:cNvSpPr/>
                <p:nvPr/>
              </p:nvSpPr>
              <p:spPr>
                <a:xfrm>
                  <a:off x="142920" y="777960"/>
                  <a:ext cx="6537240" cy="118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7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Bar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152280" y="990720"/>
            <a:ext cx="88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你认为怎样做才算是一个有情趣的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2057400" y="2438280"/>
            <a:ext cx="5334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宋体"/>
              </a:rPr>
              <a:t>热爱自然，热爱生活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宋体"/>
              </a:rPr>
              <a:t>富于联想和想像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宋体"/>
              </a:rPr>
              <a:t>有一定的审美能力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宋体"/>
              </a:rPr>
              <a:t>能发现美、认识美。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-343080" y="16844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960480" y="1684440"/>
            <a:ext cx="6537240" cy="30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6" descr="earthline"/>
          <p:cNvPicPr/>
          <p:nvPr/>
        </p:nvPicPr>
        <p:blipFill>
          <a:blip r:embed="rId1"/>
          <a:stretch/>
        </p:blipFill>
        <p:spPr>
          <a:xfrm>
            <a:off x="76320" y="6019920"/>
            <a:ext cx="8915400" cy="46980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7"/>
          <p:cNvSpPr/>
          <p:nvPr/>
        </p:nvSpPr>
        <p:spPr>
          <a:xfrm>
            <a:off x="-291960" y="146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8"/>
          <p:cNvSpPr/>
          <p:nvPr/>
        </p:nvSpPr>
        <p:spPr>
          <a:xfrm>
            <a:off x="1011240" y="1463760"/>
            <a:ext cx="653724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9" descr="l-18"/>
          <p:cNvPicPr/>
          <p:nvPr/>
        </p:nvPicPr>
        <p:blipFill>
          <a:blip r:embed="rId2"/>
          <a:stretch/>
        </p:blipFill>
        <p:spPr>
          <a:xfrm>
            <a:off x="0" y="217440"/>
            <a:ext cx="9144000" cy="468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3"/>
          <p:cNvSpPr/>
          <p:nvPr/>
        </p:nvSpPr>
        <p:spPr>
          <a:xfrm>
            <a:off x="0" y="228600"/>
            <a:ext cx="91440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沈复</a:t>
            </a: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(1763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～</a:t>
            </a: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?)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清代散文家。字三白</a:t>
            </a: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号梅逸。长洲</a:t>
            </a: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今江苏苏州</a:t>
            </a: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人。他一生长期作幕僚</a:t>
            </a: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奔走南北</a:t>
            </a: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游历过许多地方。。</a:t>
            </a: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浮生六记</a:t>
            </a: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是自传体的散文。作者以纯朴的文笔</a:t>
            </a: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记叙自己大半生的经历</a:t>
            </a: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欢愉处与愁苦处两相对照</a:t>
            </a: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真切动人。书中描述了他和妻子陈芸志趣投合</a:t>
            </a: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伉俪情深，愿意过一种布衣蔬食而从事艺术的生活，由于封建礼教的压迫与贫困生活的煎熬</a:t>
            </a: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终至理想破灭</a:t>
            </a: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经历了生离死别的惨痛，在</a:t>
            </a: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浮生六记</a:t>
            </a:r>
            <a:r>
              <a:rPr b="1" lang="en-US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6600cc"/>
                </a:solidFill>
                <a:latin typeface="华文中宋"/>
                <a:ea typeface="华文中宋"/>
              </a:rPr>
              <a:t>中以较长的篇幅记述了夫妇间的家庭生活，在中国古代文学作品中实属稀见。书中对山水园林、饮食起居均有独到的评述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3"/>
          <p:cNvSpPr/>
          <p:nvPr/>
        </p:nvSpPr>
        <p:spPr>
          <a:xfrm>
            <a:off x="915480" y="141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一、读准字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0" y="140508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童稚（        ）                   藐（        ）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项为（    ）之强（      ）    鹤唳（       ）云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怡（       ）然称快              凹（     ）凸（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土砾（            ）               壑（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庞（      ）然大物               虾蟆（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呀（    ）然一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1600200" y="1447920"/>
            <a:ext cx="6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zh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1"/>
          <p:cNvSpPr/>
          <p:nvPr/>
        </p:nvSpPr>
        <p:spPr>
          <a:xfrm>
            <a:off x="6249960" y="13716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iǎ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3"/>
          <p:cNvSpPr/>
          <p:nvPr/>
        </p:nvSpPr>
        <p:spPr>
          <a:xfrm>
            <a:off x="1221480" y="236232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wè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5"/>
          <p:cNvSpPr/>
          <p:nvPr/>
        </p:nvSpPr>
        <p:spPr>
          <a:xfrm>
            <a:off x="3408840" y="236232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jiān</a:t>
            </a:r>
            <a:r>
              <a:rPr b="1" lang="en-US" sz="2800" spc="-1" strike="noStrike">
                <a:solidFill>
                  <a:srgbClr val="cc0099"/>
                </a:solidFill>
                <a:latin typeface="zypyyb"/>
                <a:ea typeface="zypyyb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8"/>
          <p:cNvSpPr/>
          <p:nvPr/>
        </p:nvSpPr>
        <p:spPr>
          <a:xfrm>
            <a:off x="6630480" y="2438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l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20"/>
          <p:cNvSpPr/>
          <p:nvPr/>
        </p:nvSpPr>
        <p:spPr>
          <a:xfrm>
            <a:off x="1144080" y="33526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y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22"/>
          <p:cNvSpPr/>
          <p:nvPr/>
        </p:nvSpPr>
        <p:spPr>
          <a:xfrm>
            <a:off x="6096960" y="33526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ā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3"/>
          <p:cNvSpPr/>
          <p:nvPr/>
        </p:nvSpPr>
        <p:spPr>
          <a:xfrm>
            <a:off x="7993440" y="33526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t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5"/>
          <p:cNvSpPr/>
          <p:nvPr/>
        </p:nvSpPr>
        <p:spPr>
          <a:xfrm>
            <a:off x="1829880" y="4419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l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7"/>
          <p:cNvSpPr/>
          <p:nvPr/>
        </p:nvSpPr>
        <p:spPr>
          <a:xfrm>
            <a:off x="6402600" y="4419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8"/>
          <p:cNvSpPr/>
          <p:nvPr/>
        </p:nvSpPr>
        <p:spPr>
          <a:xfrm>
            <a:off x="806400" y="5334120"/>
            <a:ext cx="10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cc0099"/>
                </a:solidFill>
                <a:latin typeface="zypyyb"/>
                <a:ea typeface="zypyyb"/>
              </a:rPr>
              <a:t>2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0099"/>
                </a:solidFill>
                <a:latin typeface="zypyyb"/>
                <a:ea typeface="zypyyb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9"/>
          <p:cNvSpPr/>
          <p:nvPr/>
        </p:nvSpPr>
        <p:spPr>
          <a:xfrm>
            <a:off x="6609600" y="534816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cc0099"/>
                </a:solidFill>
                <a:latin typeface="zypyyb"/>
                <a:ea typeface="zypyyb"/>
              </a:rPr>
              <a:t>2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   m</a:t>
            </a:r>
            <a:r>
              <a:rPr b="1" lang="en-US" sz="2800" spc="-1" strike="noStrike">
                <a:solidFill>
                  <a:srgbClr val="cc0099"/>
                </a:solidFill>
                <a:latin typeface="zypyyb"/>
                <a:ea typeface="zypyyb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1"/>
          <p:cNvSpPr/>
          <p:nvPr/>
        </p:nvSpPr>
        <p:spPr>
          <a:xfrm>
            <a:off x="909000" y="6248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y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0" y="2895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三、齐读，力求流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在正音的基础上，全班齐读，力求读得流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4078800" y="380880"/>
            <a:ext cx="66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二、小组比读，力求准确无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分小组读课文，注意读音，及时纠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0" y="-37476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组词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项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(        )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为制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心之所向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果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(          )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如鹤唳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(             )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云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以丛草为林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(          )                  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兴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(        )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正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昂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(        )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首视之         驱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(           )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之别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呀然一惊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(    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289080" y="144360"/>
            <a:ext cx="885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华文中宋"/>
              </a:rPr>
              <a:t>四、默读，读懂文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华文中宋"/>
              </a:rPr>
              <a:t>默默读，结合注释理解文意，不能理解的讨论交流，同学之间互相解答。重点词句教师稍作提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681120" y="1778040"/>
            <a:ext cx="2206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1</a:t>
            </a:r>
            <a:r>
              <a:rPr b="1" lang="zh-CN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、张目对日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  <a:ea typeface="华文细黑"/>
              </a:rPr>
              <a:t>——</a:t>
            </a:r>
            <a:r>
              <a:rPr b="1" lang="en-US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2</a:t>
            </a:r>
            <a:r>
              <a:rPr b="1" lang="zh-CN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、明察秋毫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  <a:ea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3</a:t>
            </a:r>
            <a:r>
              <a:rPr b="1" lang="zh-CN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、纹   理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  <a:ea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4</a:t>
            </a:r>
            <a:r>
              <a:rPr b="1" lang="zh-CN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、夏蚊成雷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  <a:ea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5</a:t>
            </a:r>
            <a:r>
              <a:rPr b="1" lang="zh-CN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、心之所向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  <a:ea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4791600" y="17524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华文中宋"/>
                <a:ea typeface="华文中宋"/>
              </a:rPr>
              <a:t>睁大眼睛直视太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3184560" y="2438280"/>
            <a:ext cx="59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比喻为人非常精明，任何小问题都看得很清楚（秋毫指秋天鸟兽身上新长的细毛，比喻极细小的东西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3989520" y="39625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物体上呈线条的花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5604120" y="4724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中宋"/>
              </a:rPr>
              <a:t>夏天的蚊群发出雷鸣似的叫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1"/>
          <p:cNvSpPr/>
          <p:nvPr/>
        </p:nvSpPr>
        <p:spPr>
          <a:xfrm>
            <a:off x="4167720" y="56386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心里这么一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367560" y="228600"/>
            <a:ext cx="2846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6</a:t>
            </a:r>
            <a:r>
              <a:rPr b="1" lang="zh-CN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、项为之强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  <a:ea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7</a:t>
            </a:r>
            <a:r>
              <a:rPr b="1" lang="zh-CN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、果如鹤唳云端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  <a:ea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8</a:t>
            </a:r>
            <a:r>
              <a:rPr b="1" lang="zh-CN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、怡然称快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  <a:ea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9</a:t>
            </a:r>
            <a:r>
              <a:rPr b="1" lang="zh-CN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、凹凸    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  <a:ea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10</a:t>
            </a:r>
            <a:r>
              <a:rPr b="1" lang="zh-CN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、壑      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  <a:ea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11</a:t>
            </a:r>
            <a:r>
              <a:rPr b="1" lang="zh-CN" sz="2800" spc="-1" strike="noStrike">
                <a:solidFill>
                  <a:srgbClr val="d60093"/>
                </a:solidFill>
                <a:latin typeface="华文细黑"/>
                <a:ea typeface="华文细黑"/>
              </a:rPr>
              <a:t>、庞然大物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  <a:ea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3505320" y="30492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脖子因为抬头长久看也变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僵硬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3429000" y="1447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果然像鹤群在青云边上发出叫声一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5040000" y="27432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高兴得连声叫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4428000" y="35812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高低不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4835880" y="44956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山沟或大水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5144040" y="541008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外表上庞大的东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1772640" y="1219320"/>
            <a:ext cx="540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作者提到的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物外之趣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指的是什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533520" y="24382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“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物外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指超出事物本身。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物外之趣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是作者根据眼前自然景物的形象，在头脑中创造出超出事物原本特性的新的形象，从中得到的乐趣。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2" name=""/>
          <p:cNvGraphicFramePr/>
          <p:nvPr/>
        </p:nvGraphicFramePr>
        <p:xfrm>
          <a:off x="609480" y="380880"/>
          <a:ext cx="8001000" cy="5943600"/>
        </p:xfrm>
        <a:graphic>
          <a:graphicData uri="http://schemas.openxmlformats.org/drawingml/2006/table">
            <a:tbl>
              <a:tblPr/>
              <a:tblGrid>
                <a:gridCol w="2000520"/>
                <a:gridCol w="2000160"/>
                <a:gridCol w="2000160"/>
                <a:gridCol w="20001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宋体"/>
                        </a:rPr>
                        <a:t>自然景物</a:t>
                      </a: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宋体"/>
                        </a:rPr>
                        <a:t>思维方式</a:t>
                      </a: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 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宋体"/>
                        </a:rPr>
                        <a:t>新的形象</a:t>
                      </a: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  </a:t>
                      </a: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宋体"/>
                        </a:rPr>
                        <a:t>物外之趣</a:t>
                      </a: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 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Text Box 265"/>
          <p:cNvSpPr/>
          <p:nvPr/>
        </p:nvSpPr>
        <p:spPr>
          <a:xfrm>
            <a:off x="1127520" y="114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夏蚊成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66"/>
          <p:cNvSpPr/>
          <p:nvPr/>
        </p:nvSpPr>
        <p:spPr>
          <a:xfrm>
            <a:off x="1130040" y="2057400"/>
            <a:ext cx="8784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草丛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虫蚊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土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67"/>
          <p:cNvSpPr/>
          <p:nvPr/>
        </p:nvSpPr>
        <p:spPr>
          <a:xfrm>
            <a:off x="1129680" y="502920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癞蛤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268"/>
          <p:cNvSpPr/>
          <p:nvPr/>
        </p:nvSpPr>
        <p:spPr>
          <a:xfrm>
            <a:off x="5089680" y="1066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群鹤舞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269"/>
          <p:cNvSpPr/>
          <p:nvPr/>
        </p:nvSpPr>
        <p:spPr>
          <a:xfrm>
            <a:off x="5122080" y="2057400"/>
            <a:ext cx="97128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森林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野兽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丘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70"/>
          <p:cNvSpPr/>
          <p:nvPr/>
        </p:nvSpPr>
        <p:spPr>
          <a:xfrm>
            <a:off x="5089680" y="5105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庞然大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271"/>
          <p:cNvSpPr/>
          <p:nvPr/>
        </p:nvSpPr>
        <p:spPr>
          <a:xfrm>
            <a:off x="7071120" y="1066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怡然称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272"/>
          <p:cNvSpPr/>
          <p:nvPr/>
        </p:nvSpPr>
        <p:spPr>
          <a:xfrm>
            <a:off x="7071120" y="2743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怡然自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273"/>
          <p:cNvSpPr/>
          <p:nvPr/>
        </p:nvSpPr>
        <p:spPr>
          <a:xfrm>
            <a:off x="7020360" y="4495680"/>
            <a:ext cx="13708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大快人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鞭打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驱赶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274"/>
          <p:cNvSpPr/>
          <p:nvPr/>
        </p:nvSpPr>
        <p:spPr>
          <a:xfrm>
            <a:off x="3424320" y="2057400"/>
            <a:ext cx="48708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03:46:37Z</dcterms:created>
  <dc:creator>wutao</dc:creator>
  <dc:description/>
  <dc:language>en-US</dc:language>
  <cp:lastModifiedBy>a</cp:lastModifiedBy>
  <dcterms:modified xsi:type="dcterms:W3CDTF">2015-03-17T07:15:17Z</dcterms:modified>
  <cp:revision>101</cp:revision>
  <dc:subject/>
  <dc:title>PowerPoint 演示文稿</dc:title>
</cp:coreProperties>
</file>