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FBA-C468-485E-81A8-54403981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99A-BEA3-4CB1-857A-9761BBEC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6D61E-6A0F-4184-A382-152F01C1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9EE27-C756-4299-91D6-8C4D09C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812CA-761A-44CF-AD6D-AA4B4589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69DF8-4A87-4125-8273-35C89FE7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125F7-97A5-4110-B9E8-93547A6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2120B-51D0-4216-95EC-9F2B6B26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8BCA4-8AB4-40D1-8C3D-2973AA26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FB831-C5DE-4358-878B-58950D80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073BE-B5B2-4176-985C-8D8690F2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56E8F-DD8C-4920-9DEF-97246990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D99-7D2D-4693-87DD-5FAD230E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8B8D6-5E31-450B-80A9-453E49AA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5C098-8920-42F8-B6AF-9E5E95DE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28613-5573-4FC8-9387-59304CA2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64368-B96D-4F40-AC71-87066345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37D66-99EA-4651-97FB-46515CB3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2CDB4-0E31-477D-AD67-FA83128F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652FA-4840-4FCF-B8F6-479A2D48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AABC7-1F51-44F5-990D-6176C29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82275-B493-48E7-876C-B04C9DFE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97B59-1750-4194-932E-2BEF9041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0ED-3D5A-4CF3-B2DC-1077B465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4D9E2-9FDB-499F-ADB9-EF05AD2C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F3456-C6E7-4777-B311-87D3D1DE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2E9D1-1731-4584-9F16-AE547EDC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54F3C-F924-4930-97E2-7A5D7F2D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EC498-8381-4047-AF2F-9AA14DE2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968C2-C2E2-4EF4-B303-FE2C2434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E801E-4A39-48D4-889F-FC6979BE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486DE-1426-4348-9035-2D55FD72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FC14A-445F-4E26-A876-02DB84D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3F840-8E7C-48DD-9FAB-74505C7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8877-5280-4C3C-A29D-15A9B8AA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EFD83-6E07-4E00-94AF-8164C40E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A8E91-8AE8-4D04-B3ED-A36852AF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3F9E0-2D4B-4FEF-BBB8-AEC1BFF7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B1D94-B555-4483-9941-B6CF2812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66C14-A2F8-4589-9B7E-00FD78E7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9FC71-991C-4959-AAD5-AD3304DC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490C0-4A0B-4221-BECF-3C29B04B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874C3-BD6C-4C6C-9F1E-969C0BC8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08B69-2340-4CBB-9E4B-6FF21CBB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6FA65-861A-4C65-A81A-25562B0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3EEF-1CF3-4F08-AE8B-C9E9CB87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68291-208A-4090-B1E5-D66A41C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BDEFB-43C8-406D-8C45-61428203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74E05-8F46-4CF1-99DD-10776FC5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6D04E-0B0A-4207-9168-37F1F912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C9065-D2A7-4A1E-90AD-30B95975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C882E-27A7-427B-8A27-55C5724D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59401-06D9-41A1-AAFE-C3B6B482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5A161-B937-4F1C-AC3D-42587B4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F0199-DB17-49EE-BBA6-66815BED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CB1D9-DB66-4D66-BEBF-937A2837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D978-08C4-425B-9DD8-80F446DA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6F18D-B8C6-4986-8342-31F8FE4F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3BBD4-2F81-4373-93DD-CE91D9D3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176E6-79E3-4A92-A525-5D694226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A1B27-321A-4367-9777-B155454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D33CD-39CC-4D2B-AE58-B1081E39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2D22A-8590-44AC-BBB2-DB42ECF2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DA4B6-C4E7-4B90-A902-BFA80997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2C63-AC0D-4B1C-A156-93573F53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0687-7B45-43AA-A627-A80C015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4416-056A-43FA-9C17-D72F77E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3370-C0F7-4DA6-96D6-55CD3363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C52-8A35-4BB9-BA78-6C62ED7F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0113-DE33-40A3-A59B-8B82B41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EA10-EBDE-4937-A917-1B49F52C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4A60-3BB2-4A9F-902B-6760ECC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F778-8C1A-409D-B0A2-3DA5C0A1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EE06-5721-49C4-8A3F-C70CCA66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082B-6FDF-4813-ABB8-421963C7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D21A-DF6D-4AE2-A251-B910B08D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3D291-49A4-4D0C-91C9-9EA53477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FE17-6C5F-4F09-9D6B-F9EDE3D4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5870-0C7B-4E07-B616-2CFDDB03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32F-7FD5-4E10-8309-3E2906E9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8850-9901-4747-9207-8E6BBE5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4A04-5DB1-42AE-AD9A-4DED59B6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B7DC6-5544-40D3-AE2E-8BE5D52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7719-CE27-4614-878F-C112F9B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D79A-2681-4520-AD73-216F374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9157-643C-496E-AD4F-39DB71EB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BC04-9F97-4064-96CC-7654CD0B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77C9B-6E9B-4484-9642-2E4921EE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4236-0DC0-4C4F-BEE4-2A78E322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0E73F-9D15-4E6C-A71E-3485F398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A6E-3829-42B0-BA39-60F57FE1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833E9-03E8-49AE-B6A3-5BFDBB9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5169-7765-4756-9AC6-3D635C39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FF8A-4F54-4B24-A254-790DCD75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902B4-67D9-4B10-B25F-C8DD68FE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FEA0-9962-479E-B18D-52D87D57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5F8C-3709-4316-9E95-5CDF4780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0113-91B3-4A4A-B460-E16A4680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D717E-2252-457E-B872-D58C048E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3E4A0-08B5-438F-86AE-F9275F32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5405-AB48-4F8C-90C7-7B184AEA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7BC-C422-4E68-B375-B4F5059F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8F5AF-2FC2-47AA-AFAE-CB5E0957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2791C-1E22-4791-B319-1F6C744D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5E18-F3FD-47CF-BA03-BC1165EC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2532C-D1E1-4231-A3B8-1956A2C2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5058-D312-4510-A71E-DA7BE538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27786-1732-4315-9FD3-FAB7D6ED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76B1C-1A0C-40C5-AB64-C2F9D82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218B5-E4A3-4425-A39A-5CD823C0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9B70-268A-4452-9A37-3D1743B0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D6C88-A3E3-4400-8F75-017F85F0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9B4-CA04-47B2-8EB1-88664206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C8383-7E3F-46F0-95C0-C041B321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E9656-38F1-4681-9124-6C19943D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7CB8D-B8F8-46CF-96D8-A679C4B9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C0F7B-4EF6-45AC-AB68-4E50B3D6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0B63-994C-41F0-9844-C37BC60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1CE0A-B5F3-4D28-8AA9-10D9F4BA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5FECA-3A43-453D-98C3-8455A851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E6AE9-6062-49EE-8103-AF7F5B8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E020-CA9B-47A7-AC10-02FB813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F79EF-0A0B-4C7C-B218-188B0AA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89B-9CC7-4B33-9566-E68D1BE3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F4032-60CD-45F2-8F11-0E07B9CE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7000C-4673-44A9-A592-2D98771F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C8C5A-A10E-4218-B8D3-F983FF06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AB270-E735-4E8F-8419-F9B54B8D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7983C-4732-469B-8BA7-F19D2D16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F5E6F-638B-4CB3-B8E6-B437FF71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6DED2-6596-4528-A221-A76A4407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7E15-3423-40AE-AEF8-C382A672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6CF97-7342-4E78-8148-FEB2F704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C599B-82C4-446F-9578-08038762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6AE-A0E4-4CD8-B875-B60FA073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0E35F-4548-419E-AE0F-AAF8AF89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23663-1F4E-45DC-ACF0-8F52CC8D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0B2FA-6F5A-4281-A8BB-9B097C87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4AD28-A054-4DBC-8575-373F87FB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93D1-2EE3-477A-9851-E3770655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0971E-F1CD-4AC4-B752-36630D50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E9A88-0281-42D8-AA9E-CA02395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A5ABD-7FE8-4A1D-BAA3-5BB83FAC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0D2C8-8BAC-4AEF-8966-BF8E3D28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3933-B740-444E-8F81-5A3664E7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D50-57C6-4D77-A3A2-7A97EF1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6C885-AB67-4B63-873E-7BFD70F5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A6021-FE8A-484D-B760-1787D66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5440-B4C4-448A-9D2F-D6DA392C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B944E-DD6B-40A6-AAA2-585C1CA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00CE-79DA-4514-94EB-C9DC312C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A9074-EFBE-4744-AB2A-4D59CC3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66E36-6A61-4697-9A76-03FB0EDD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C2561-B4B2-42BA-9325-17E6719C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1E88B-5493-447B-AF58-1B94AF64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E9712-1181-4319-8631-AF6C8A9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C28A-FFCC-4AA5-B8B9-066B2AECB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F9B-E333-4C8D-A186-43E645A9CA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757D-AA1E-48FA-9146-892BA6498A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0B69-6244-4379-87AB-F1EA2023AD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3A4B-E03C-45CC-9215-23AAE2D44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F527-5D19-448E-916B-B481E45FEB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1C52-BFA0-4B60-A493-18369E1381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C9D6-28DA-4C28-8123-21E3329171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6EA2-4746-42E7-9D7F-35F72C31FE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4B2B-F950-4DAF-8422-4C3CE657E8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0F34-5CF3-4963-AFB6-233C90C630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5495-E7F8-40CE-B517-2287E15963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81B9-F371-4224-95C1-804699378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8FBA-1C39-4ED1-8DC2-9FF14D3F1C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2C06-BA64-497C-BAD9-6A8FFA64B3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3A3E-1DDD-4D9B-8054-8AEE396631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BE7-0D70-45CC-99A8-498CA9358A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0611-0EDA-447C-9E9C-FC49FD59ED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49F-5FED-44DB-93E4-A8E903450E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3BC9-41CF-4E97-BB16-BA0A02059F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16EB-F2FF-4303-843C-1D8BFCEA62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48ED-97AA-47FE-9B3F-B363F3BDB6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9C7B-40D1-4EA8-AACB-BEBCEDB1E9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3DEE-D697-4C69-9387-D632E1DA45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BFF5-B55F-4F5E-9157-22092C2794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WordArt 7" descr=""/>
          <p:cNvPicPr/>
          <p:nvPr/>
        </p:nvPicPr>
        <p:blipFill>
          <a:blip r:embed="rId2"/>
          <a:stretch/>
        </p:blipFill>
        <p:spPr>
          <a:xfrm>
            <a:off x="817560" y="1054080"/>
            <a:ext cx="70772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"/>
          <p:cNvSpPr/>
          <p:nvPr/>
        </p:nvSpPr>
        <p:spPr>
          <a:xfrm>
            <a:off x="1560960" y="260280"/>
            <a:ext cx="384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用下面关联词语造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即使刮风下雨，我也准时上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447840" y="1903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2019600" y="260280"/>
            <a:ext cx="3844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用下面关联词语造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即使刮风下雨，我也准时上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在家里，我既要做饭，也要洗衣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47840" y="1903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6"/>
          <p:cNvSpPr/>
          <p:nvPr/>
        </p:nvSpPr>
        <p:spPr>
          <a:xfrm>
            <a:off x="3819600" y="198900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/kejian/yuwen/166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227400" y="2379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陶校长是谁？他是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1" descr=""/>
          <p:cNvPicPr/>
          <p:nvPr/>
        </p:nvPicPr>
        <p:blipFill>
          <a:blip r:embed="rId14"/>
          <a:srcRect l="0" t="26806" r="31601" b="8844"/>
          <a:stretch/>
        </p:blipFill>
        <p:spPr>
          <a:xfrm>
            <a:off x="2484360" y="1612800"/>
            <a:ext cx="32940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3227400" y="2379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陶校长是谁？他是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1737360" y="202572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陶行知      教育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3652920" y="237960"/>
            <a:ext cx="134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陶校长和同学们谈了哪四个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请用横线在课文中划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3652920" y="237960"/>
            <a:ext cx="134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陶校长和同学们谈了哪四个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请用横线在课文中划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2143080" y="2075040"/>
            <a:ext cx="476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）自己的身体有没有进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）自己的学问有没有进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）自己担任的工作有没有进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）自己的道德有没有进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2768400" y="2379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他为什么要谈这些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894320" y="1930320"/>
            <a:ext cx="531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）因为健康是生命之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）因为学问是一切前进活力的源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）因为工作的好坏对我们今天和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都有很大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）因为道德是做人的根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2539080" y="2379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概括文章的中心思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447840" y="1903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3289320" y="260280"/>
            <a:ext cx="26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概括文章的中心思想：</a:t>
            </a:r>
            <a:r>
              <a:rPr b="1" lang="zh-CN" sz="3600" spc="-1" strike="noStrike">
                <a:solidFill>
                  <a:srgbClr val="990099"/>
                </a:solidFill>
                <a:latin typeface="方正姚体"/>
                <a:ea typeface="方正姚体"/>
              </a:rPr>
              <a:t>陶行知先生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方正姚体"/>
                <a:ea typeface="方正姚体"/>
              </a:rPr>
              <a:t>学生每天从健康、学问、工作、道德四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方正姚体"/>
                <a:ea typeface="方正姚体"/>
              </a:rPr>
              <a:t>问一问自己，以此激励和鞭策自己不断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方正姚体"/>
                <a:ea typeface="方正姚体"/>
              </a:rPr>
              <a:t>步。充分体现了老一辈教育家对学生的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方正姚体"/>
                <a:ea typeface="方正姚体"/>
              </a:rPr>
              <a:t>怀和爱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47840" y="1903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"/>
          <p:cNvSpPr/>
          <p:nvPr/>
        </p:nvSpPr>
        <p:spPr>
          <a:xfrm>
            <a:off x="987840" y="260280"/>
            <a:ext cx="384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ea typeface="华文隶书"/>
              </a:rPr>
              <a:t>过关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用下面关联词语造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447840" y="1903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03-01-02T12:06:5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20:19Z</dcterms:modified>
  <cp:revision>13</cp:revision>
  <dc:subject>第一PPT模板网-WWW.1PPT.COM</dc:subject>
  <dc:title>第一PPT模板网-WWW.1PPT.COM</dc:title>
</cp:coreProperties>
</file>