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1979-9206-4DDF-A52E-4681B2AC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2C4-3D92-4939-89B4-1C0BD501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974E9-392C-4D00-A102-E4B6BAA0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AF962-38D4-420F-B181-F988B074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7A3F4-3CF6-4D77-9273-E6D33538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72C8A-5520-4007-85DE-04E002F1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31C92-8E06-416E-AE8A-0287353F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C8A68-22CD-4E83-A01E-E038EC50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A19CE-E3DF-40AD-B88E-2818B475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135F8-15B4-4501-ADEF-89C78BAC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75BA5-79B5-4B6E-BD73-480DBA16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EE521-B43F-4DCA-B6C7-5A9D7A59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B6BF-C072-4D9D-B70E-A599ABDE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BECEE-52A7-49A1-BBCB-1D96CB92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A889F-95B1-4E20-9B50-11F0AB75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8EE06-2100-4D6F-BF1B-6CEE974D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D8686-2EC9-432F-A37C-5221BC6C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9508F-F549-4272-B6DC-CA63CFC4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09525-64D4-4807-BC79-592385AD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4AA59-C47B-4D52-A944-84761529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C00F6-2DEB-4724-B20E-251C517B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50F2D-0CF5-4A88-955F-D00AB6F8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B8AD6-5414-4447-A69A-F1337CF0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061-618F-42E9-A10E-F3C8DC4D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3C1D0-E543-4180-A92D-889DECFD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E4F9E-A9AE-42FB-AC99-0EF05B3E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87FD2-CA50-4A5D-B77E-C7A0B94E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5F26A-922C-4331-B3F9-8B87D14A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F38EB-E54C-4A68-A169-F9A869E1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B7C98-DE44-45BA-96EF-1CB35018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E9A33-5624-4E40-811F-F0C41589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EBF72-8CB0-486B-BE5E-C8804D3D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EFC00-DC42-4A67-BE3A-B3A83253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63422-7739-4D54-97B1-6E858B69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0DC1-90D6-45E9-A9E2-81C2F9A5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D10A7-3B61-4F3A-BA83-A3BA032F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0B555-065E-4A47-916E-7AD314F0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EA7FD-A1D7-45CF-8CB8-49A387D4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D2B87-008E-4CBA-AB7C-270DDCF4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B8DE5-95C3-4953-AD09-7CCD222F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A6B31-2EC8-4EDA-9C49-AD99476E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A7506-D5A7-4926-8013-1E08A797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4ADAF-406C-42B7-902E-00841574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6C6B1-5C80-48BB-A0E1-7EF3A35F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D2FC4-DA7F-43AC-9290-2255A980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3A96-C1EB-4D30-8A5D-ABAFD41F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0C304-3812-4063-ACB3-CDFB12CF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D1524-0D6B-422F-A5F4-8D5CE7DA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91B79-42FF-471B-8DD9-076474B4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B8087-D73F-43C6-8C92-D5C53FB2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18F52-0715-48CB-9DAD-FDFA45BF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3EDE5D-60E4-4464-B5AF-691597A2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9F6F3-BB6A-4EAB-A79E-0850AE0C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0F239-ADD2-4ECE-B0B6-B75832C1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BD66E-5682-4355-91ED-0E865863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B586A0-4C5F-4DDC-A997-53EBD6DC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6605-76C9-4ACD-9D10-8FA5CEDC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9A919-A297-4AAF-ADC4-5EAC8203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25630-D638-412C-AF07-BC7A953D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8611B4-66E7-4794-862E-979C6288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D1C579-D615-4E90-BBC3-D6A2A2F6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5FC5E-46C8-46F5-AA35-8442DB5D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5A76B-0E0E-4082-8131-CBC82DD6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9D379-A0FC-47B3-9D38-C2021C03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B2CF4-06F5-4D8A-8C48-983398E3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4E50F-A650-4EE1-9B69-B92287D8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E0A55-C57E-4476-86BF-535B1559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CB1D-1E6F-47E7-B055-3CDED77D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6A29A-A960-4BBB-9BDD-35183531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E7A740-24AD-4CE3-AA49-DCF58B2B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87750E-C05A-45D0-80D3-244BDCB1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FA4C28-3957-4476-AE18-4CADDD6D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12563-2DAA-48E0-B26C-A8C2A95B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0AD93E-10B1-4F09-B6ED-58F4672E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85E0E-FF68-4B63-ABA7-A12F082E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C6CA2-2F51-4310-8BB9-908D11B1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050A4-2262-40D0-8C38-B3BEBCD4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9809-C0AE-496A-89EF-7A19AAF1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4BCF-C72B-4476-A3DB-3C033F5F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C82D-022D-452F-9897-4EF6FA65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674-8E49-475E-9F4E-16DD85C2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C61F-50E6-48BE-B3C1-7606C32D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16C3-44E6-40F0-91A8-12BCA533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4E5C-87A3-4457-9FD5-B4781358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1D06-9BDD-4FBE-A993-38E0D268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5B15-80F1-4E74-9BDA-3D961638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EF0E6-639D-4510-AF0B-88ECF7A6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0DD83-4BFB-4288-921A-6A714ECC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31A11-5770-4BE0-9BD5-37A2B0B9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EB31C-02EA-42E6-BF88-A86B6773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703A4-2CE7-4A7B-A3E5-EC902D00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63D-69A3-4768-BC50-129E38FD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8BECB-FCF3-451D-8277-41335095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06C82-8C85-4E47-8FA6-A1188EAB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1C6E3-C199-498C-8065-97D57145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15C6D-A1F4-45FA-BE10-577DA18C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E467E-B073-4BD4-8A69-75600CF7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B1729-447D-4679-9947-F2001E6A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0E9BE-92F0-4987-B4AB-35E44B7D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82FA7-721D-42B7-9462-BF149AEE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C2F27-0BD0-4CE5-BA2F-4B0273F4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33F29-1755-4435-8996-3F83BCF2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C66-04C4-4F3B-812A-9D5635F5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9C687-9D5A-4FDA-B281-9792BAB6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84846-BCA7-40E8-A207-52F2982A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38D2D-066B-4BC2-816F-CDE2AC14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4DC34-A76B-4FCE-BE07-A510296C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698EE-A3CB-4AEE-A06F-5FB84699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7A50E-F483-41C8-A87B-D70E5B85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C838A-0D52-486A-B45F-152C5B79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4B640-BD5E-49DB-9C76-344605C8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12DFC-EB5F-476C-8E0F-56A49751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400A7-D959-49A6-9BE0-9F8CE357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F43-73FB-4126-9150-E8698DC2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B8FE7-41DF-4C16-B36B-5DD6209E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242AB-A603-46F5-A4E5-6E930C0F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DF67B-F92F-4596-AB30-D5D204BB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506AE-EDD9-48C7-B4FC-5E3D4570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79365-0C70-4F2F-AAFE-B8B36F6E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1B25E-556A-4703-94A6-CC320CE1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E1EB0-BDA0-4DD2-841F-DE447732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489C3-2BD6-4A93-858B-464838BD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E9EE7-545A-4389-9F20-48EE3BC4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1782E-C0A8-4A44-9500-2DBE88AD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783-B170-45D1-885B-C644D2EB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DCCD4-B9F7-4CBA-88CD-B2A9EC62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764F6-2A0A-40A4-A177-1A5CF557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169AF-0A42-457C-B8F8-77A3BF01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0AF73-245A-47B0-B4A8-00349354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BB77B-F814-484C-B584-95B03A13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5FB21-F90C-4760-8627-A9DEAC46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3D397-7DAD-47B3-B704-ED7540DE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5D221-1870-4458-9EFA-84C7DA93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A39AB-8C09-44B0-9372-972A19C0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21852-8631-4BD0-A749-E9AE5456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FD3-84FB-400F-84C3-C7342833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7B33E-8672-4895-8324-5A2ADF67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DAB51-CB5C-49DE-B638-F84B12FE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1F5F1-FEF5-4122-8953-4B7C5B06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C4436-FC23-43C4-A8A1-6359724B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339A3-93CB-4AA0-BDC3-EF5618D7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98DB7-2F5C-4518-8C36-D892761A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46F51-18A2-4735-9B9E-FB8E1B15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5C31E-6962-458E-9335-2DF91487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99870-5943-4D3E-ABFE-D76E89F0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BD1CD-0C40-4E8B-A6C1-54B3704F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387-8AEB-4BB3-ACD4-5B8ECB34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B28DC-E2DE-4289-8E4F-6F3AE50C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9CFAC-C7DC-4A92-9D9A-C67BC1EB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E22D5-AD98-4E3A-88B0-596EB50A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13D63-48BF-4AFF-9B01-E20124E3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47369-FA1E-43B6-A099-FA3E4E1C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E059F-2F8D-4763-B132-6B417D23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7BE80-801D-407E-97D2-21F7F75B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5F6E5-CB4A-451F-B846-790C5E41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4EFC5-A4E0-4D85-9CA6-DACF31EF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68E39-DD22-46AA-BB22-84DFB006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A93-1B1F-42EC-A71E-8282D5AC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5F2B1-798F-404E-9CCD-28AB80E6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5B654-F5EF-402D-9373-8DDE59C1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80592-97E0-42B3-B591-64EE1468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86CC8-7805-40EA-91B8-02FFDA93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B27BB-A1DB-4B04-813B-71CCD361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B0108-D5D3-4433-A566-7274DE7A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51D9C-AC0C-4597-82B6-79DCC39C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5994A-A8D5-4F0F-9ADC-FFEB8226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585FA-1AC8-469B-96F4-A54A61D8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0A12F-6776-4D69-8478-CB7E79C3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54FB-B7E2-4ECF-AFEA-716761069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A515-019F-4B6B-AC4D-0276266876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2D10-D63C-4A65-AD9E-6C46F7AE5A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35B9-DBA4-4A4F-BF40-013D8465DAF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D701-BD0B-4617-B83B-F89C1119F5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FF0D-C8EB-4574-9CFB-4A65DF9733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FC78-E6E0-470F-83F9-E75D6023ED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8F7E-ED30-4D7E-9AE5-59F5FE8571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B6F9-CA11-4A6D-A016-BFCF4731C9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9705-E334-4626-9126-68CD8AC7982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F71D-2BBA-4974-8551-5DA40ED1E2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B12B-05C8-4B1B-8795-A894AE2E7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5E79-B648-4C40-9BEF-44C9CD0F0E3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DFBD-3938-48D6-886E-30EAC50189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15D3-063F-4349-AB3D-77162989DC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039A-9360-4C60-BEDD-6145533C04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1BB4-56B7-40CF-B275-9B3AFADD501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0217-84FC-457E-9889-4B1E6622F6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E74D-67EC-478D-8B80-4119144CFEC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596D-5C3E-41D4-BBE0-851982E0D1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4B9C-6966-4848-AA99-BE2316E488E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7096-805A-48F9-8472-8BDC14D546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9460-D98E-4247-AC2F-68806DE9E7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3FEB-1028-4B1E-8463-27FDDC59B8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EE37-AD79-4AAC-983D-E78B013332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761D-4EFB-4DFA-A0A6-E36427477C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TR097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1332000" y="20408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图形的变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108000" y="442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旋转在学业考试中的几种出现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Track05.MP3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fill="hold"/>
                                        <p:tgtEl>
                                          <p:spTgt spid="5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图，将半径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c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割成十个区域，其中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于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称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于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称，连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则图中阴影部分的面积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果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HWOCRTEMP_ROC10"/>
          <p:cNvPicPr/>
          <p:nvPr/>
        </p:nvPicPr>
        <p:blipFill>
          <a:blip r:embed="rId1"/>
          <a:stretch/>
        </p:blipFill>
        <p:spPr>
          <a:xfrm>
            <a:off x="6300720" y="4149720"/>
            <a:ext cx="18604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图是某设计师设计图案的一部分，请你运用旋转变换的方法，在方格纸中将图形绕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顺时针依次旋转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80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70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依次画出旋转后所得到的图形，你会得到一个美丽的图案，但涂阴影时不要涂错了位置，否则不会出现理想的效果，你来试一试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HWOCRTEMP_ROC1740"/>
          <p:cNvPicPr/>
          <p:nvPr/>
        </p:nvPicPr>
        <p:blipFill>
          <a:blip r:embed="rId1"/>
          <a:srcRect l="0" t="0" r="54" b="0"/>
          <a:stretch/>
        </p:blipFill>
        <p:spPr>
          <a:xfrm>
            <a:off x="6732720" y="4797360"/>
            <a:ext cx="16160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图：已知正方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正方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G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边长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正方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正方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角线的交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和，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G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绕着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旋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求这两个图形重叠部分的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4"/>
          <p:cNvGrpSpPr/>
          <p:nvPr/>
        </p:nvGrpSpPr>
        <p:grpSpPr>
          <a:xfrm>
            <a:off x="1981080" y="4393800"/>
            <a:ext cx="2433240" cy="2034000"/>
            <a:chOff x="1981080" y="4393800"/>
            <a:chExt cx="2433240" cy="2034000"/>
          </a:xfrm>
        </p:grpSpPr>
        <p:sp>
          <p:nvSpPr>
            <p:cNvPr id="628" name="Rectangle 5"/>
            <p:cNvSpPr/>
            <p:nvPr/>
          </p:nvSpPr>
          <p:spPr>
            <a:xfrm rot="21021600">
              <a:off x="2411640" y="4509720"/>
              <a:ext cx="151272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6"/>
            <p:cNvSpPr/>
            <p:nvPr/>
          </p:nvSpPr>
          <p:spPr>
            <a:xfrm>
              <a:off x="1981080" y="45100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"/>
            <p:cNvSpPr/>
            <p:nvPr/>
          </p:nvSpPr>
          <p:spPr>
            <a:xfrm>
              <a:off x="2124000" y="60595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8"/>
            <p:cNvSpPr/>
            <p:nvPr/>
          </p:nvSpPr>
          <p:spPr>
            <a:xfrm>
              <a:off x="4069080" y="5734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2628720" y="3357720"/>
            <a:ext cx="2216880" cy="1952280"/>
            <a:chOff x="2628720" y="3357720"/>
            <a:chExt cx="2216880" cy="1952280"/>
          </a:xfrm>
        </p:grpSpPr>
        <p:sp>
          <p:nvSpPr>
            <p:cNvPr id="633" name="Rectangle 10"/>
            <p:cNvSpPr/>
            <p:nvPr/>
          </p:nvSpPr>
          <p:spPr>
            <a:xfrm>
              <a:off x="2987280" y="3644640"/>
              <a:ext cx="1512720" cy="15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11"/>
            <p:cNvSpPr/>
            <p:nvPr/>
          </p:nvSpPr>
          <p:spPr>
            <a:xfrm>
              <a:off x="2628720" y="3357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12"/>
            <p:cNvSpPr/>
            <p:nvPr/>
          </p:nvSpPr>
          <p:spPr>
            <a:xfrm>
              <a:off x="2628720" y="494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13"/>
            <p:cNvSpPr/>
            <p:nvPr/>
          </p:nvSpPr>
          <p:spPr>
            <a:xfrm>
              <a:off x="4500360" y="4941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14"/>
            <p:cNvSpPr/>
            <p:nvPr/>
          </p:nvSpPr>
          <p:spPr>
            <a:xfrm>
              <a:off x="4500360" y="342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15"/>
            <p:cNvSpPr/>
            <p:nvPr/>
          </p:nvSpPr>
          <p:spPr>
            <a:xfrm>
              <a:off x="3707640" y="414936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(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Line 16"/>
          <p:cNvSpPr/>
          <p:nvPr/>
        </p:nvSpPr>
        <p:spPr>
          <a:xfrm flipH="1" flipV="1">
            <a:off x="3779640" y="4437000"/>
            <a:ext cx="718920" cy="72072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7"/>
          <p:cNvSpPr/>
          <p:nvPr/>
        </p:nvSpPr>
        <p:spPr>
          <a:xfrm flipV="1">
            <a:off x="2987640" y="4437000"/>
            <a:ext cx="792360" cy="72072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18"/>
          <p:cNvGrpSpPr/>
          <p:nvPr/>
        </p:nvGrpSpPr>
        <p:grpSpPr>
          <a:xfrm>
            <a:off x="5290560" y="3357720"/>
            <a:ext cx="2890800" cy="3624120"/>
            <a:chOff x="5290560" y="3357720"/>
            <a:chExt cx="2890800" cy="3624120"/>
          </a:xfrm>
        </p:grpSpPr>
        <p:sp>
          <p:nvSpPr>
            <p:cNvPr id="642" name="Text Box 19"/>
            <p:cNvSpPr/>
            <p:nvPr/>
          </p:nvSpPr>
          <p:spPr>
            <a:xfrm>
              <a:off x="5724720" y="4653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20"/>
            <p:cNvSpPr/>
            <p:nvPr/>
          </p:nvSpPr>
          <p:spPr>
            <a:xfrm>
              <a:off x="7164720" y="5229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Group 21"/>
            <p:cNvGrpSpPr/>
            <p:nvPr/>
          </p:nvGrpSpPr>
          <p:grpSpPr>
            <a:xfrm>
              <a:off x="5290560" y="4415040"/>
              <a:ext cx="2890800" cy="2566800"/>
              <a:chOff x="5290560" y="4415040"/>
              <a:chExt cx="2890800" cy="2566800"/>
            </a:xfrm>
          </p:grpSpPr>
          <p:sp>
            <p:nvSpPr>
              <p:cNvPr id="645" name="Rectangle 22"/>
              <p:cNvSpPr/>
              <p:nvPr/>
            </p:nvSpPr>
            <p:spPr>
              <a:xfrm rot="19403400">
                <a:off x="5934960" y="4716720"/>
                <a:ext cx="1512720" cy="151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23"/>
              <p:cNvSpPr/>
              <p:nvPr/>
            </p:nvSpPr>
            <p:spPr>
              <a:xfrm rot="19981800">
                <a:off x="5356440" y="524484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Text Box 24"/>
              <p:cNvSpPr/>
              <p:nvPr/>
            </p:nvSpPr>
            <p:spPr>
              <a:xfrm rot="19981800">
                <a:off x="6184080" y="65520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Text Box 25"/>
              <p:cNvSpPr/>
              <p:nvPr/>
            </p:nvSpPr>
            <p:spPr>
              <a:xfrm rot="19981800">
                <a:off x="7770960" y="5382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Rectangle 26"/>
            <p:cNvSpPr/>
            <p:nvPr/>
          </p:nvSpPr>
          <p:spPr>
            <a:xfrm>
              <a:off x="6083280" y="3645000"/>
              <a:ext cx="151308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27"/>
            <p:cNvSpPr/>
            <p:nvPr/>
          </p:nvSpPr>
          <p:spPr>
            <a:xfrm>
              <a:off x="5724720" y="3357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28"/>
            <p:cNvSpPr/>
            <p:nvPr/>
          </p:nvSpPr>
          <p:spPr>
            <a:xfrm>
              <a:off x="5940720" y="5229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29"/>
            <p:cNvSpPr/>
            <p:nvPr/>
          </p:nvSpPr>
          <p:spPr>
            <a:xfrm>
              <a:off x="7596720" y="4942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30"/>
            <p:cNvSpPr/>
            <p:nvPr/>
          </p:nvSpPr>
          <p:spPr>
            <a:xfrm>
              <a:off x="7596720" y="3429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1"/>
            <p:cNvSpPr/>
            <p:nvPr/>
          </p:nvSpPr>
          <p:spPr>
            <a:xfrm>
              <a:off x="6804000" y="414972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(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32"/>
            <p:cNvSpPr/>
            <p:nvPr/>
          </p:nvSpPr>
          <p:spPr>
            <a:xfrm flipH="1" flipV="1">
              <a:off x="6875280" y="4437360"/>
              <a:ext cx="718920" cy="720720"/>
            </a:xfrm>
            <a:prstGeom prst="line">
              <a:avLst/>
            </a:prstGeom>
            <a:ln w="381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33"/>
            <p:cNvSpPr/>
            <p:nvPr/>
          </p:nvSpPr>
          <p:spPr>
            <a:xfrm flipV="1">
              <a:off x="6083280" y="4437360"/>
              <a:ext cx="792360" cy="720720"/>
            </a:xfrm>
            <a:prstGeom prst="line">
              <a:avLst/>
            </a:prstGeom>
            <a:ln w="381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Text Box 34"/>
          <p:cNvSpPr/>
          <p:nvPr/>
        </p:nvSpPr>
        <p:spPr>
          <a:xfrm>
            <a:off x="399780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5"/>
          <p:cNvSpPr/>
          <p:nvPr/>
        </p:nvSpPr>
        <p:spPr>
          <a:xfrm>
            <a:off x="2700360" y="42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把两个全等的等腰直角三角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其直角边长均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叠放在一起（如图①），且使三角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直角顶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三角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斜边中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重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现将三角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顺时针旋转（旋转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满足条件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°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四边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G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旋转过程中两三角板的重叠部分（如图②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上述旋转过程中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怎样的数量关系？四边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G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面积有何变化？证明你发现的结论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在上述旋转过程中，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=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K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面积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之间的函数关系式，并写出自变量的取值范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前提下，是否存在某一位置，使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K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面积恰好等于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面积的？若存在，求出此时的值；若不存在，说明理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3" descr="HWOCRTEMP_ROC420"/>
          <p:cNvPicPr/>
          <p:nvPr/>
        </p:nvPicPr>
        <p:blipFill>
          <a:blip r:embed="rId1"/>
          <a:stretch/>
        </p:blipFill>
        <p:spPr>
          <a:xfrm>
            <a:off x="3419640" y="4941720"/>
            <a:ext cx="1500120" cy="15814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HWOCRTEMP_ROC430"/>
          <p:cNvPicPr/>
          <p:nvPr/>
        </p:nvPicPr>
        <p:blipFill>
          <a:blip r:embed="rId2"/>
          <a:stretch/>
        </p:blipFill>
        <p:spPr>
          <a:xfrm>
            <a:off x="5940360" y="4869000"/>
            <a:ext cx="172872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探究提高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图，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△A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，已知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A=90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=30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=6c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把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中心逆时针旋转，使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旋转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边的延长线上的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处，那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边扫过的图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图中阴影部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面积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取近似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4" descr="HWOCRTEMP_ROC2520"/>
          <p:cNvPicPr/>
          <p:nvPr/>
        </p:nvPicPr>
        <p:blipFill>
          <a:blip r:embed="rId1"/>
          <a:stretch/>
        </p:blipFill>
        <p:spPr>
          <a:xfrm>
            <a:off x="5867280" y="4289400"/>
            <a:ext cx="25210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探究提高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457200" y="1600200"/>
            <a:ext cx="8229600" cy="4824360"/>
            <a:chOff x="457200" y="1600200"/>
            <a:chExt cx="8229600" cy="4824360"/>
          </a:xfrm>
        </p:grpSpPr>
        <p:sp>
          <p:nvSpPr>
            <p:cNvPr id="667" name="Rectangle 4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已知，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正方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的一点，连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）将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绕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顺时针旋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到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′C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位置（如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长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长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），求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旋转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′C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过程中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所扫过区域（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中阴影部分）的面积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=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B=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B=135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长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）如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PC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2PB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请说明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必在对角线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上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8" name="Picture 5" descr=""/>
            <p:cNvPicPr/>
            <p:nvPr/>
          </p:nvPicPr>
          <p:blipFill>
            <a:blip r:embed="rId1"/>
            <a:stretch/>
          </p:blipFill>
          <p:spPr>
            <a:xfrm>
              <a:off x="1476360" y="4724280"/>
              <a:ext cx="141912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6" descr=""/>
            <p:cNvPicPr/>
            <p:nvPr/>
          </p:nvPicPr>
          <p:blipFill>
            <a:blip r:embed="rId2"/>
            <a:stretch/>
          </p:blipFill>
          <p:spPr>
            <a:xfrm>
              <a:off x="4788000" y="4724280"/>
              <a:ext cx="1465200" cy="1671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探究提高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3"/>
          <p:cNvGrpSpPr/>
          <p:nvPr/>
        </p:nvGrpSpPr>
        <p:grpSpPr>
          <a:xfrm>
            <a:off x="468360" y="1197000"/>
            <a:ext cx="8229600" cy="5429160"/>
            <a:chOff x="468360" y="1197000"/>
            <a:chExt cx="8229600" cy="5429160"/>
          </a:xfrm>
        </p:grpSpPr>
        <p:sp>
          <p:nvSpPr>
            <p:cNvPr id="672" name="Rectangle 4"/>
            <p:cNvSpPr/>
            <p:nvPr/>
          </p:nvSpPr>
          <p:spPr>
            <a:xfrm>
              <a:off x="468360" y="11970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当汽车在雨天行驶时，为了看清楚道路，司机要启动前方挡风玻璃上的雨刷器．如图是某汽车的一个雨刷器的示意图，雨刷器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与雨刷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在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处固定连接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不能转动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，当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绕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点转动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0°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时，雨刷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扫过的面积是多少呢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小明仔细观察了雨刷器的转动情况，量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D=80 cm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、∠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BA=20°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、端点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与点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的距离分别为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15cm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5 cm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．他经过认真思考只选用了其中的部分数据就求得了结果，你知道小明是怎样计算的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也请你算一算雨刷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扫过的面积为</a:t>
              </a:r>
              <a:r>
                <a:rPr b="0" lang="zh-CN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m2(π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．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4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Picture 5" descr="HWOCRTEMP_ROC250"/>
            <p:cNvPicPr/>
            <p:nvPr/>
          </p:nvPicPr>
          <p:blipFill>
            <a:blip r:embed="rId1"/>
            <a:stretch/>
          </p:blipFill>
          <p:spPr>
            <a:xfrm>
              <a:off x="5580000" y="5191200"/>
              <a:ext cx="1656000" cy="143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2700360" y="3141720"/>
            <a:ext cx="404352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Arial"/>
              </a:rPr>
              <a:t>谢谢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468360" y="6922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已知如图，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若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绕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顺时针旋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得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试猜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什么关系？说明理由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面积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求四边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F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多少度时，四边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E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矩形？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3" descr="1"/>
          <p:cNvPicPr/>
          <p:nvPr/>
        </p:nvPicPr>
        <p:blipFill>
          <a:blip r:embed="rId1"/>
          <a:stretch/>
        </p:blipFill>
        <p:spPr>
          <a:xfrm>
            <a:off x="5724360" y="2997360"/>
            <a:ext cx="247824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0" y="685800"/>
            <a:ext cx="896472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旋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一个图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绕某一个定点沿某一个方向转动一个角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样的图形运动称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旋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个定点称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旋转中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动的角度称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旋转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性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旋转不改变图形的形状和大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即旋转前后的两个图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全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任意一对对应点与旋转中心的连线所成的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彼此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相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都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旋转角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经过旋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对应点到旋转中心的距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旋转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要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旋转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①中心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②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向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角度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395280" y="0"/>
            <a:ext cx="6985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755640" y="1628640"/>
            <a:ext cx="73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旋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一个图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绕某一个定点沿某一个方向转动一个角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样的图形运动称为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旋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个定点称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旋转中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转动的角度称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旋转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8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468360" y="1268280"/>
            <a:ext cx="82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性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旋转不改变图形的形状和大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即旋转前后的两个图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全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任意一对对应点与旋转中心的连线所成的角彼此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都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旋转角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经过旋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对应点到旋转中心的距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旋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旋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①中心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方向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角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0" y="-73080"/>
            <a:ext cx="896472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学业考试</a:t>
            </a:r>
            <a:r>
              <a:rPr b="1" lang="zh-CN" sz="3200" spc="-1" strike="noStrike">
                <a:solidFill>
                  <a:srgbClr val="66ff33"/>
                </a:solidFill>
                <a:latin typeface="宋体"/>
              </a:rPr>
              <a:t>对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旋转的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通过具体实例认识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旋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探索它的基本性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理解对应点到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旋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心的距离相等、对应点与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旋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心连线所成的角彼此相等的性质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了解平行四边形、圆是中心对称图形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能作出简单平面图形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旋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后的图形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学业考试对旋转的要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索图形之间的变换关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轴对称、平移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旋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及其组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灵活运用轴对称、平移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旋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组合进行图案设计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欣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旋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现实生活中的应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实验操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5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3189240" cy="20084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6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3024000" cy="23367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7" descr=""/>
          <p:cNvPicPr/>
          <p:nvPr/>
        </p:nvPicPr>
        <p:blipFill>
          <a:blip r:embed="rId3"/>
          <a:stretch/>
        </p:blipFill>
        <p:spPr>
          <a:xfrm>
            <a:off x="3054240" y="3789360"/>
            <a:ext cx="238140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归纳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图，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半径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半径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图上所示位置出发绕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无滑动的滚动，要使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圆心返回到原来的位置，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滚动的圈数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HWOCRTEMP_ROC2430"/>
          <p:cNvPicPr/>
          <p:nvPr/>
        </p:nvPicPr>
        <p:blipFill>
          <a:blip r:embed="rId1"/>
          <a:stretch/>
        </p:blipFill>
        <p:spPr>
          <a:xfrm>
            <a:off x="6012000" y="3664080"/>
            <a:ext cx="16840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395280" y="921240"/>
            <a:ext cx="8459640" cy="2725200"/>
            <a:chOff x="395280" y="921240"/>
            <a:chExt cx="8459640" cy="2725200"/>
          </a:xfrm>
        </p:grpSpPr>
        <p:sp>
          <p:nvSpPr>
            <p:cNvPr id="596" name="Rectangle 3"/>
            <p:cNvSpPr/>
            <p:nvPr/>
          </p:nvSpPr>
          <p:spPr>
            <a:xfrm>
              <a:off x="395280" y="921240"/>
              <a:ext cx="8459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1.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在图中，将左边方格纸中的图形绕</a:t>
              </a:r>
              <a:r>
                <a:rPr b="0" lang="en-US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O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顺时针旋转</a:t>
              </a:r>
              <a:r>
                <a:rPr b="0" lang="en-US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90°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得到的图形是（ 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4"/>
            <p:cNvGrpSpPr/>
            <p:nvPr/>
          </p:nvGrpSpPr>
          <p:grpSpPr>
            <a:xfrm>
              <a:off x="1046160" y="2209680"/>
              <a:ext cx="6694560" cy="1436760"/>
              <a:chOff x="1046160" y="2209680"/>
              <a:chExt cx="6694560" cy="1436760"/>
            </a:xfrm>
          </p:grpSpPr>
          <p:pic>
            <p:nvPicPr>
              <p:cNvPr id="598" name="Picture 5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046160" y="2270160"/>
                <a:ext cx="933480" cy="92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Picture 6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2558880" y="2263680"/>
                <a:ext cx="933480" cy="94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0" name="Picture 7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3938400" y="2263680"/>
                <a:ext cx="924120" cy="94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1" name="Picture 8" descr=""/>
              <p:cNvPicPr/>
              <p:nvPr/>
            </p:nvPicPr>
            <p:blipFill>
              <a:blip r:embed="rId4">
                <a:biLevel thresh="50000"/>
              </a:blip>
              <a:stretch/>
            </p:blipFill>
            <p:spPr>
              <a:xfrm>
                <a:off x="5367240" y="2209680"/>
                <a:ext cx="942840" cy="92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" name="Picture 9" descr=""/>
              <p:cNvPicPr/>
              <p:nvPr/>
            </p:nvPicPr>
            <p:blipFill>
              <a:blip r:embed="rId5">
                <a:biLevel thresh="50000"/>
              </a:blip>
              <a:stretch/>
            </p:blipFill>
            <p:spPr>
              <a:xfrm>
                <a:off x="6807240" y="2273400"/>
                <a:ext cx="933480" cy="93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Rectangle 10"/>
              <p:cNvSpPr/>
              <p:nvPr/>
            </p:nvSpPr>
            <p:spPr>
              <a:xfrm>
                <a:off x="2695680" y="3270960"/>
                <a:ext cx="285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.                   B.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11"/>
              <p:cNvSpPr/>
              <p:nvPr/>
            </p:nvSpPr>
            <p:spPr>
              <a:xfrm>
                <a:off x="7095960" y="327816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12"/>
              <p:cNvSpPr/>
              <p:nvPr/>
            </p:nvSpPr>
            <p:spPr>
              <a:xfrm>
                <a:off x="5729400" y="327816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6" name="Group 13"/>
          <p:cNvGrpSpPr/>
          <p:nvPr/>
        </p:nvGrpSpPr>
        <p:grpSpPr>
          <a:xfrm>
            <a:off x="395280" y="3645000"/>
            <a:ext cx="7777080" cy="2808360"/>
            <a:chOff x="395280" y="3645000"/>
            <a:chExt cx="7777080" cy="2808360"/>
          </a:xfrm>
        </p:grpSpPr>
        <p:pic>
          <p:nvPicPr>
            <p:cNvPr id="607" name="Picture 14" descr=""/>
            <p:cNvPicPr/>
            <p:nvPr/>
          </p:nvPicPr>
          <p:blipFill>
            <a:blip r:embed="rId6"/>
            <a:stretch/>
          </p:blipFill>
          <p:spPr>
            <a:xfrm>
              <a:off x="5868720" y="4737240"/>
              <a:ext cx="2303640" cy="171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8" name="Group 15"/>
            <p:cNvGrpSpPr/>
            <p:nvPr/>
          </p:nvGrpSpPr>
          <p:grpSpPr>
            <a:xfrm>
              <a:off x="395280" y="3645000"/>
              <a:ext cx="7704000" cy="2043720"/>
              <a:chOff x="395280" y="3645000"/>
              <a:chExt cx="7704000" cy="2043720"/>
            </a:xfrm>
          </p:grpSpPr>
          <p:sp>
            <p:nvSpPr>
              <p:cNvPr id="609" name="Rectangle 16"/>
              <p:cNvSpPr/>
              <p:nvPr/>
            </p:nvSpPr>
            <p:spPr>
              <a:xfrm>
                <a:off x="395280" y="3645000"/>
                <a:ext cx="770400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如图，已知正方形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BCD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的边长为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2.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如果将线段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D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绕着点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旋转后，点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落在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B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的延长线上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D′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点处，那么          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′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等于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__________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0" name="Object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5219640" y="4724640"/>
                <a:ext cx="1440000" cy="307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11" name="Text Box 18"/>
          <p:cNvSpPr/>
          <p:nvPr/>
        </p:nvSpPr>
        <p:spPr>
          <a:xfrm>
            <a:off x="395280" y="260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宋体"/>
                <a:ea typeface="Times New Roman"/>
              </a:rPr>
              <a:t>例题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179280" y="907920"/>
            <a:ext cx="8964720" cy="2154240"/>
            <a:chOff x="179280" y="907920"/>
            <a:chExt cx="8964720" cy="2154240"/>
          </a:xfrm>
        </p:grpSpPr>
        <p:sp>
          <p:nvSpPr>
            <p:cNvPr id="613" name="Rectangle 3"/>
            <p:cNvSpPr/>
            <p:nvPr/>
          </p:nvSpPr>
          <p:spPr>
            <a:xfrm>
              <a:off x="179280" y="907920"/>
              <a:ext cx="8964720" cy="18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如图，在△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中，∠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=90°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B=AC=2cm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，把这个三角形在平面内绕点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顺时针旋转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0°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，那么点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移动所走过的路线长是</a:t>
              </a:r>
              <a:r>
                <a:rPr b="0" lang="zh-CN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．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不取近似值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4" name="Picture 4" descr="HWOCRTEMP_ROC3660"/>
            <p:cNvPicPr/>
            <p:nvPr/>
          </p:nvPicPr>
          <p:blipFill>
            <a:blip r:embed="rId1"/>
            <a:stretch/>
          </p:blipFill>
          <p:spPr>
            <a:xfrm>
              <a:off x="7524720" y="1989000"/>
              <a:ext cx="1363680" cy="107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6"/>
          <p:cNvGrpSpPr/>
          <p:nvPr/>
        </p:nvGrpSpPr>
        <p:grpSpPr>
          <a:xfrm>
            <a:off x="395280" y="3500280"/>
            <a:ext cx="8532720" cy="2438640"/>
            <a:chOff x="395280" y="3500280"/>
            <a:chExt cx="8532720" cy="2438640"/>
          </a:xfrm>
        </p:grpSpPr>
        <p:pic>
          <p:nvPicPr>
            <p:cNvPr id="617" name="Picture 7" descr="HWOCRTEMP_ROC4010"/>
            <p:cNvPicPr/>
            <p:nvPr/>
          </p:nvPicPr>
          <p:blipFill>
            <a:blip r:embed="rId2"/>
            <a:stretch/>
          </p:blipFill>
          <p:spPr>
            <a:xfrm>
              <a:off x="1547640" y="4437000"/>
              <a:ext cx="5975640" cy="15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Text Box 8"/>
            <p:cNvSpPr/>
            <p:nvPr/>
          </p:nvSpPr>
          <p:spPr>
            <a:xfrm>
              <a:off x="395280" y="3500280"/>
              <a:ext cx="8532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．下面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张扑克牌中，属于中心对称的是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 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2:57:47Z</dcterms:created>
  <dc:creator>czuser</dc:creator>
  <dc:description/>
  <cp:keywords/>
  <dc:language>en-US</dc:language>
  <cp:lastModifiedBy>a</cp:lastModifiedBy>
  <dcterms:modified xsi:type="dcterms:W3CDTF">2015-03-18T05:58:19Z</dcterms:modified>
  <cp:revision>16</cp:revision>
  <dc:subject/>
  <dc:title>幻灯片 1</dc:title>
</cp:coreProperties>
</file>