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0D6-2808-42E3-992A-E282F134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E8E-46AB-4484-AC32-E28821D2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BED0E-0758-4447-8C88-1913F7B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A77A-B53D-42C9-A586-66DF13E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F0C03-15CC-4DA4-A16F-ED0CE0F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DB78E-0AD5-4E79-9CE7-BC41F28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48283-F88D-45A0-8664-57A5F98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A7349-08B4-4F28-88BB-56A1DEA9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AB09C-4623-404B-98A1-9F59F043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E1D2-AA16-4F40-BCBF-F691039D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1D1A-683D-49C2-8D09-AA7E906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62DA4-6251-4D83-91E1-4601688B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5D3-A2FA-47C3-8A3C-AB4F111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6A04-9C2F-4E6E-89D6-817797C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B3A87-B09C-47F8-8AE0-A2E0B186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6A4FE-9FD9-43A2-B067-C8C9E4A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50C1C-1F7D-4BCD-BE28-4E207F6B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C1E23-D14A-4654-B438-AA3535D8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A290-ECDF-49D4-B3F7-9C4134E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91F26-B401-42C0-AB6D-AA40C59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1506A-DD13-4181-BE99-BF3BAD0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7E9EE-6D73-425B-92C3-D6BEEB5F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C88C9-3AED-4AD6-9C8C-7638043D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5E2-FCB7-4CC4-A3F3-D941804E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97B39-ACE0-468B-A44B-93E3A83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448DD-62D8-40FA-95F1-D4101136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8036A-BEBE-4CDA-9E17-07A8BE38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0071-FBFE-4826-9E6E-CC88D165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8182E-3ADF-47DF-AB85-138CF28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3E68-2524-4940-8551-1006B5F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AC9E5-664E-4997-A5A2-61A3269A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A0455-8D47-4ADF-ACFC-0069D02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6D99A-A4AA-4B8F-941D-0AD1D13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2C65F-E7A4-47D5-857E-74789D2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5702-356F-4A6B-83C4-5ED51781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25677-D1FD-4F99-8BA9-60E3FE3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D3E97-FD7A-4568-A385-DBCDF776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75EA2-F822-4A5F-8813-9B29132E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7ADE4-6F00-4881-8AB2-1834DE7A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12A6E-6E7A-4CA6-AA78-A2AF53A6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2767-7C0C-4A08-B7DB-940B64A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E23F0-35A8-41F9-8A2B-ED0DAF51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F3072-4164-4DE9-A557-4B4CD3C6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B33CE-F082-4908-9A3E-6A895391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8CB71-F2C7-4CD8-8C06-447DCA91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0AB-8130-4579-A285-9B28505E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56506-0D88-400E-A1DA-C345F1B8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8BCA5-09AD-44D4-89FB-B592DC25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FDD4C-C0C6-4F89-89D0-AD513B05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4F645-A3BB-454A-89E0-3C2A58BB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7C74B-D62C-411F-86E1-BCDBBCE8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15959-1107-4062-A2FB-F04A3E8F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5AA47-01F7-4BC6-8DC5-9D178F2D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2D02F-12AA-4585-873F-EDDF384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B543F-DBBF-4363-82B4-1E7CF2B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CCD67-FEC8-4C8C-BF41-D9290E7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F33E-A0CC-4D7A-B1F2-AEDACA66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DEC24-641D-45C9-B4FF-C8D28955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C1431-5B28-41E1-84ED-E4ADAEB3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61103-D305-4C4C-9560-D1401F9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D7444-5837-4C06-989A-21D4D4F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53167-1DB4-49B8-9ADD-82CCE054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877ED-8A12-42AE-A048-CD64F4EA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94633-6AB4-4098-895D-E4506EEB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1C0F-5F6E-4CB5-AE67-657E751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AE48-0E3B-426E-B139-E78D00BD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BB4-9EFD-4DCD-B3BB-9AA3BD3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839-626A-4F9C-BDBE-4EBE6DE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EDD-AF33-4925-A802-00EAF531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E33-5ACB-4261-B066-8A01625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CB9A-079B-4221-9A6E-8FB4726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6FB-ED7D-4192-979D-7A3FD93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C04F-FB66-4FC1-B90E-A4CB6F79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F996-0F2C-40F5-9F7B-8B2A347C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5640-B8F7-43ED-B9B6-C5AD06E0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ADE2-80F7-460D-927F-3381F982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7B83-E5FF-4AF3-A951-0A52489B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6D3F5-9974-4C5B-83CF-3049729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AD92-EB85-48CE-8327-BA610EDD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1C2-4E9F-4652-AEE8-42F2F467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00D3-DF26-48CD-A504-129B9D18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64D5-C610-4F6C-AE07-24C82E3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319C-720D-4F36-A22E-4134AE5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CC92-F7DC-47C9-84A9-D0932C6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C999-71B1-407F-812D-B95FD78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3A8F-B3F9-468F-A664-BBA5231C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4894-AEC7-4EFA-AFA2-8E3292B5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518D-83DA-46D4-A730-3D30C64D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E76F-97B2-4253-994A-E9BE4F02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DA80-1C60-4496-8EA9-832AC6A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D10-4274-47D2-A688-4351C31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1311-C6CA-4350-A6BD-F361549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FC8A-1834-49B3-8A4F-0E74062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A20C-A9D8-4689-8698-CCAA95B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E1E6-1405-4D40-8FBE-01E25D66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C54C-F3E6-4795-A888-85F6225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093D-F9B3-4400-8841-B94AD1A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133D-204A-4147-9A66-60B6A839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CB3A-C770-42F3-9CC7-F9673657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48CA-7035-4721-9E15-6E5B78AC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12A3C-8E1A-4FE9-809E-FC299275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9A2-FAF2-4FFD-8834-7498CA9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6E52C-DD03-4B12-89FE-9611C0B5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32B9-7271-4D8A-B76D-31457F2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EE00-F367-45C7-BEEF-4929ED32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79CD4-D6A7-4346-89C5-37AA53CA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A000-B56F-491E-8342-9FB4A011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FC97-390D-40E8-9862-E8D4AC8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5E98D-93CE-48FC-AE4B-37377C4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7A892-5052-4597-A575-8D2BBF7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69D6-C8E0-4F1F-BCC5-BA1A894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3058-838C-4FE8-8098-C7649DB5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AE5-9957-4EAD-9AB3-3FC60CA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7B93-848A-4412-8DCB-BFC7229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8740-A2D9-4FAF-9423-CD60A064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DC39-3A71-4213-84C4-F8858F8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90B3D-58CD-493D-900A-763185E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2C2D5-C9F0-4CAF-8B16-35985133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A8F16-8C3B-443A-857C-485C0ECD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E452B-B398-401E-AC11-6044B2F1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A18C8-A30F-4852-A5DE-1B994ED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0F192-D198-4520-8BCA-E8D794C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ED18-DC62-4D95-9A9A-BD69286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B75-F976-46D5-863C-B812107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84FC5-9123-49FB-9F6D-23039BC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7B8E2-420A-4D48-B31C-2A6F627E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2FF1-08C6-4B75-80AD-5E59E1B2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31DA-5154-40DA-9111-81498991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9D5A-FA8B-45D9-B902-63F94089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A76E9-91B9-4B94-A50A-E87804AA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A2DF4-4110-4660-AC91-DEE8C76A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7088-26E5-4C70-9231-A1EFDDA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E473-253B-4CB1-9433-99173CE6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9428E-E34C-4285-A998-27FCBC9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779-0A63-45D3-8534-065AD32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EB0B-4FFD-4A70-9488-9EFD44E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77B8D-1C71-4BAB-8B38-43A4E38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8E49-C6D3-4115-8E5C-2677671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4624C-A7FD-4F75-B692-1A1CE880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6D84-9B75-4AD4-8A5F-C1C7B30A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AD625-2071-49D9-A1E7-9EE3EB8A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C2889-628B-474F-9672-52236157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1DBF2-788F-4070-AD46-ABEB5107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5082B-0E7C-4C62-9817-604E9306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8079-F626-4846-BAC7-B852E22F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FB69-6755-4ABB-B40A-9C86833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6BDBE-DA1D-455F-9428-83602C21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766BB-0DEC-4F12-9B82-4E4C2B1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5953-3251-4E6E-B5D0-32DF39E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96AA1-3208-401C-9973-3D16784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AAD2-F1EB-4F30-8E39-A9CA860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CEAF-22CE-414B-8ABF-F0235FDB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B6BE-0DFF-49DE-96FB-007A1984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94264-99C1-4A4D-9941-A5BCC8A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2774A-95AA-463E-9A09-E791E0D9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41111-DEAF-4718-A7F5-37653BC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F30-791B-478C-8094-CCBDDAA8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EA9-058E-4467-9AEA-D4DF8CA217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6EB-4406-4B56-96D6-195BE36017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66A-7593-42C0-9748-E5BAB46F34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A64F-2E53-4BDC-8585-0F53316F9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2992-F892-4977-BAA0-493BFC3F6F4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DF5-A41C-4FB5-9A82-E3BA26395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F1E1-2B05-48DA-8769-D4F971DA30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138-D747-4D0F-83D0-E8AADAE70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933B-35D8-4817-A5E3-F9057733A6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8399-AC7E-451E-A541-4D401B4A5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1DF-DA91-43EA-A2BA-6396AEB5F0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5B40-3072-4A68-B1F1-8767E258C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456-F944-4A59-AE64-EDFF966D810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E85-721B-46B2-A6B4-C56A998EC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F79-8E98-40F7-BE98-9DDA873E08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7E3-2377-45C6-838B-37BB039443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4520-9569-436F-A4CD-FA4DDF11A2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C8C-CE58-44A8-8F45-E74AF4934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6F48-A61A-436D-A51A-180D36A196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EA7B-7533-4968-9989-45B194AA19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F04F-A699-46E4-92E8-B49C8F83D7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7799-4BDA-4307-8F0D-1A0DB21B34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CD1-EFCB-4E7E-84DF-8EE74E4152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5AFE-BE2D-45E7-A95F-B51C4F7233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685800" y="20574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4.9.</a:t>
            </a: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图形的放大与缩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76520" y="45720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隶书"/>
                <a:ea typeface="华文隶书"/>
              </a:rPr>
              <a:t>六合一中              孙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762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406440" y="1125360"/>
            <a:ext cx="8196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下面的一个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上面的方法亲自试一试缩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射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分别取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=2O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O=2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那么结果又会怎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 rot="1565400">
            <a:off x="2438280" y="2133360"/>
            <a:ext cx="911520" cy="693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5"/>
          <p:cNvGrpSpPr/>
          <p:nvPr/>
        </p:nvGrpSpPr>
        <p:grpSpPr>
          <a:xfrm>
            <a:off x="1946520" y="4219560"/>
            <a:ext cx="4879440" cy="1860120"/>
            <a:chOff x="1946520" y="4219560"/>
            <a:chExt cx="4879440" cy="1860120"/>
          </a:xfrm>
        </p:grpSpPr>
        <p:sp>
          <p:nvSpPr>
            <p:cNvPr id="621" name="Line 6"/>
            <p:cNvSpPr/>
            <p:nvPr/>
          </p:nvSpPr>
          <p:spPr>
            <a:xfrm flipV="1">
              <a:off x="2629440" y="4219560"/>
              <a:ext cx="3798360" cy="186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2126160" y="4337280"/>
              <a:ext cx="4699800" cy="95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 flipV="1">
              <a:off x="1946520" y="4761000"/>
              <a:ext cx="4392360" cy="52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AutoShape 9"/>
            <p:cNvSpPr/>
            <p:nvPr/>
          </p:nvSpPr>
          <p:spPr>
            <a:xfrm rot="2155200">
              <a:off x="5979600" y="4444560"/>
              <a:ext cx="635040" cy="6292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Text Box 10"/>
          <p:cNvSpPr/>
          <p:nvPr/>
        </p:nvSpPr>
        <p:spPr>
          <a:xfrm>
            <a:off x="60958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480060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5943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2096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982880" y="2362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12588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609480" y="60948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小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如果两个图形不仅是相似图形，而且是每组对应点所在的直线都经过同一个点，那么这样的两个图形叫做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这个点叫做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这时的相似比又称为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位似图形上任意一对对应点到位似中心的距离之比等于</a:t>
            </a:r>
            <a:r>
              <a:rPr b="0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学会把任意图形</a:t>
            </a:r>
            <a:r>
              <a:rPr b="0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3413520" y="20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44802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5703840" y="3276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296064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69520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放大与缩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1066680" y="563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还可以用</a:t>
            </a:r>
            <a:r>
              <a:rPr b="0" lang="en-US" sz="2800" spc="-1" strike="noStrike">
                <a:solidFill>
                  <a:srgbClr val="37322d"/>
                </a:solidFill>
                <a:latin typeface="Times New Roman"/>
              </a:rPr>
              <a:t>Word    Powerpoint  Authorware       Photoshop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几何画板等工具把图形放大与缩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80880" y="1219320"/>
            <a:ext cx="830592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: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37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1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1;   2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把放大前后的图形夹在作业本中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339360" y="10666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行楷"/>
              </a:rPr>
              <a:t>图形的放大与缩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3" descr="big2"/>
          <p:cNvPicPr/>
          <p:nvPr/>
        </p:nvPicPr>
        <p:blipFill>
          <a:blip r:embed="rId1"/>
          <a:stretch/>
        </p:blipFill>
        <p:spPr>
          <a:xfrm>
            <a:off x="990720" y="32767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big2"/>
          <p:cNvPicPr/>
          <p:nvPr/>
        </p:nvPicPr>
        <p:blipFill>
          <a:blip r:embed="rId2"/>
          <a:stretch/>
        </p:blipFill>
        <p:spPr>
          <a:xfrm>
            <a:off x="2438280" y="312408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big2"/>
          <p:cNvPicPr/>
          <p:nvPr/>
        </p:nvPicPr>
        <p:blipFill>
          <a:blip r:embed="rId3"/>
          <a:stretch/>
        </p:blipFill>
        <p:spPr>
          <a:xfrm>
            <a:off x="4343400" y="28954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big2"/>
          <p:cNvPicPr/>
          <p:nvPr/>
        </p:nvPicPr>
        <p:blipFill>
          <a:blip r:embed="rId4"/>
          <a:stretch/>
        </p:blipFill>
        <p:spPr>
          <a:xfrm>
            <a:off x="6477120" y="2743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34"/>
          <p:cNvPicPr/>
          <p:nvPr/>
        </p:nvPicPr>
        <p:blipFill>
          <a:blip r:embed="rId5"/>
          <a:stretch/>
        </p:blipFill>
        <p:spPr>
          <a:xfrm>
            <a:off x="7246800" y="5181480"/>
            <a:ext cx="1897200" cy="1074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34"/>
          <p:cNvPicPr/>
          <p:nvPr/>
        </p:nvPicPr>
        <p:blipFill>
          <a:blip r:embed="rId6"/>
          <a:stretch/>
        </p:blipFill>
        <p:spPr>
          <a:xfrm>
            <a:off x="4419720" y="4648320"/>
            <a:ext cx="2846160" cy="1612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0030"/>
          <p:cNvPicPr/>
          <p:nvPr/>
        </p:nvPicPr>
        <p:blipFill>
          <a:blip r:embed="rId7"/>
          <a:stretch/>
        </p:blipFill>
        <p:spPr>
          <a:xfrm>
            <a:off x="1066680" y="4457880"/>
            <a:ext cx="22860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nts and Settings\All Users\Documents\My Pictures\示例图片\102573.jpg"/>
          <p:cNvPicPr/>
          <p:nvPr/>
        </p:nvPicPr>
        <p:blipFill>
          <a:blip r:embed="rId1"/>
          <a:stretch/>
        </p:blipFill>
        <p:spPr>
          <a:xfrm>
            <a:off x="457200" y="1066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C:\Documents and Settings\All Users\Documents\My Pictures\示例图片\102573.jpg"/>
          <p:cNvPicPr/>
          <p:nvPr/>
        </p:nvPicPr>
        <p:blipFill>
          <a:blip r:embed="rId2"/>
          <a:stretch/>
        </p:blipFill>
        <p:spPr>
          <a:xfrm>
            <a:off x="2666880" y="2743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:\Documents and Settings\All Users\Documents\My Pictures\示例图片\102573.jpg"/>
          <p:cNvPicPr/>
          <p:nvPr/>
        </p:nvPicPr>
        <p:blipFill>
          <a:blip r:embed="rId3"/>
          <a:stretch/>
        </p:blipFill>
        <p:spPr>
          <a:xfrm>
            <a:off x="5486400" y="4800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C:\Documents and Settings\All Users\Documents\My Pictures\示例图片\102573.jpg"/>
          <p:cNvPicPr/>
          <p:nvPr/>
        </p:nvPicPr>
        <p:blipFill>
          <a:blip r:embed="rId4"/>
          <a:stretch/>
        </p:blipFill>
        <p:spPr>
          <a:xfrm>
            <a:off x="4343400" y="3962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547" name="Line 6"/>
          <p:cNvSpPr/>
          <p:nvPr/>
        </p:nvSpPr>
        <p:spPr>
          <a:xfrm>
            <a:off x="990720" y="533520"/>
            <a:ext cx="6172200" cy="5486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0" y="3200400"/>
            <a:ext cx="7162920" cy="281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8"/>
          <p:cNvSpPr/>
          <p:nvPr/>
        </p:nvSpPr>
        <p:spPr>
          <a:xfrm flipH="1" flipV="1">
            <a:off x="380520" y="838080"/>
            <a:ext cx="6782040" cy="5181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7238880" y="5867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-360" y="2209680"/>
            <a:ext cx="7162920" cy="3810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1676520" y="761760"/>
            <a:ext cx="5486400" cy="5257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3657600" y="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一组图片是形状相同的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取一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与另一张图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相应的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间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连线是否经过镜头中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片上换其它的点试一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还有类似的规律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286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22860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3962520" y="4495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5486400" y="5486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1143000" y="685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8"/>
          <p:cNvSpPr/>
          <p:nvPr/>
        </p:nvSpPr>
        <p:spPr>
          <a:xfrm>
            <a:off x="29718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85800" y="4572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图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图形不仅是相似图形，而且是每组对应点所在的直线都经过同一个点，那么这样的两个图形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图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914400" y="56386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个点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1440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时的相似比又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609480" y="25146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征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80880" y="3809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判断题：位似图形是相似图形（　　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相似图形是位似图形（　　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638680" y="4419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5715000" y="3809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838080" y="1981080"/>
            <a:ext cx="152424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2286000" y="1981080"/>
            <a:ext cx="380988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279440" y="497376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2590920" y="25146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相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438280" y="3124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组对应点所在的直线都经过同一个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09680" y="50148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7a35"/>
                </a:solidFill>
                <a:latin typeface="Times New Roman"/>
              </a:rPr>
              <a:t>相似图形不一定是位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2514600" y="6553080"/>
            <a:ext cx="91440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2209680" y="6095880"/>
            <a:ext cx="38124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做一做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下列各组图形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哪些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若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指出它的位似中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85800" y="2209680"/>
            <a:ext cx="2057400" cy="205740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1219320" y="2743200"/>
            <a:ext cx="990360" cy="99072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1219320" y="2209680"/>
            <a:ext cx="9903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685800" y="27432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685800" y="27432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0"/>
          <p:cNvSpPr/>
          <p:nvPr/>
        </p:nvSpPr>
        <p:spPr>
          <a:xfrm flipH="1">
            <a:off x="1218960" y="2209680"/>
            <a:ext cx="9903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1"/>
          <p:cNvSpPr/>
          <p:nvPr/>
        </p:nvSpPr>
        <p:spPr>
          <a:xfrm>
            <a:off x="121932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121896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447920" y="3124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4191120" y="2514600"/>
            <a:ext cx="2286000" cy="985680"/>
          </a:xfrm>
          <a:prstGeom prst="leftArrow">
            <a:avLst>
              <a:gd name="adj1" fmla="val 38167"/>
              <a:gd name="adj2" fmla="val 579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5"/>
          <p:cNvSpPr/>
          <p:nvPr/>
        </p:nvSpPr>
        <p:spPr>
          <a:xfrm rot="21108600">
            <a:off x="4419720" y="3352680"/>
            <a:ext cx="3276360" cy="1325520"/>
          </a:xfrm>
          <a:prstGeom prst="leftArrow">
            <a:avLst>
              <a:gd name="adj1" fmla="val 33009"/>
              <a:gd name="adj2" fmla="val 633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11430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7"/>
          <p:cNvSpPr/>
          <p:nvPr/>
        </p:nvSpPr>
        <p:spPr>
          <a:xfrm>
            <a:off x="54864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C:\Documents and Settings\sj\My Documents\My Pictures\2004112902-01.jpg"/>
          <p:cNvPicPr/>
          <p:nvPr/>
        </p:nvPicPr>
        <p:blipFill>
          <a:blip r:embed="rId1"/>
          <a:stretch/>
        </p:blipFill>
        <p:spPr>
          <a:xfrm>
            <a:off x="914400" y="1295280"/>
            <a:ext cx="6781680" cy="37972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各个图形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位似图形的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53352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175248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3048120" y="57913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5494" y="10800"/>
                </a:moveTo>
                <a:lnTo>
                  <a:pt x="4989" y="17806"/>
                </a:lnTo>
                <a:lnTo>
                  <a:pt x="4989" y="3794"/>
                </a:lnTo>
                <a:close/>
              </a:path>
              <a:path fill="darken" w="23991" h="21600">
                <a:moveTo>
                  <a:pt x="17340" y="3794"/>
                </a:moveTo>
                <a:lnTo>
                  <a:pt x="17340" y="17806"/>
                </a:lnTo>
                <a:lnTo>
                  <a:pt x="19002" y="17806"/>
                </a:lnTo>
                <a:lnTo>
                  <a:pt x="190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457200" y="7621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课本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任取一对对应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度量这两个点到位似中心的距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们的比与位似比有什么关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再试一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还有类似的规律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04920" y="3276720"/>
            <a:ext cx="78483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位似图形上任意一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对应点到位似中心的距离之比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等于相似比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7621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上可以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结论是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0" y="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旋转 DSC00257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308880" y="2514600"/>
            <a:ext cx="60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想一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还记得本章第三节用橡皮筋放大图形的方法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际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这种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大前后的两个图形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用这种方法将一个已知的多边形放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放大后的图形与原图形的位似比分别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33520" y="76212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堂练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如下方法可以将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边缩小为原来的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取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取它们的中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, △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边就是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应三边的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△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位似图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6964200" y="1130400"/>
                <a:ext cx="274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4" name="Line 4"/>
          <p:cNvSpPr/>
          <p:nvPr/>
        </p:nvSpPr>
        <p:spPr>
          <a:xfrm flipV="1">
            <a:off x="2336760" y="3297240"/>
            <a:ext cx="3848040" cy="248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2340720" y="5689080"/>
            <a:ext cx="4624560" cy="38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6"/>
          <p:cNvSpPr/>
          <p:nvPr/>
        </p:nvSpPr>
        <p:spPr>
          <a:xfrm flipV="1">
            <a:off x="2372040" y="4966560"/>
            <a:ext cx="3142440" cy="75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7"/>
          <p:cNvSpPr/>
          <p:nvPr/>
        </p:nvSpPr>
        <p:spPr>
          <a:xfrm rot="1748400">
            <a:off x="3943080" y="4729320"/>
            <a:ext cx="974520" cy="966600"/>
          </a:xfrm>
          <a:prstGeom prst="rtTriangle">
            <a:avLst/>
          </a:prstGeom>
          <a:solidFill>
            <a:srgbClr val="f93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 rot="1748400">
            <a:off x="5365440" y="3769920"/>
            <a:ext cx="1949400" cy="193212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4419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22096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396252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4724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35053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553080" y="5943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57150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6"/>
              <p:cNvSpPr txBox="1"/>
              <p:nvPr/>
            </p:nvSpPr>
            <p:spPr>
              <a:xfrm>
                <a:off x="6858000" y="2273400"/>
                <a:ext cx="274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5:41:12Z</dcterms:created>
  <dc:creator>sj</dc:creator>
  <dc:description/>
  <dc:language>en-US</dc:language>
  <cp:lastModifiedBy>a</cp:lastModifiedBy>
  <dcterms:modified xsi:type="dcterms:W3CDTF">2015-03-17T05:46:57Z</dcterms:modified>
  <cp:revision>2</cp:revision>
  <dc:subject/>
  <dc:title>PowerPoint 演示文稿</dc:title>
</cp:coreProperties>
</file>