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331-545D-49E4-B13D-ADE8B1E3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FD0-D2A8-4958-BB06-D8BB2AF9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D8838-A95E-49FA-A031-2B0F299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EAD11-57C6-4ABD-8A3A-77B8AED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7DAA0-35DD-4A3E-B309-0CF30B6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47130-A020-4634-A75F-57A3DC5F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95A0B-4478-4FBF-AD5F-343E4B6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B8D77-6216-47E5-85E8-ED2C4B0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250A2-2C92-4ACF-8C28-8BC555C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3D48B-A2C5-4EEB-AD25-2C8BDB88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32A83-6F07-4DB7-B0A9-E49D01A2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C6E6-8F0B-4CD4-B2BD-1A4A8B78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AC7-7456-4FBA-9ABA-B6C254C6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3A6FB-984C-4AF4-B172-6F2DDC5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54B9-13A5-4B98-9A72-EE58441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90361-EAB9-4DA8-AB5F-6AAF7749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784FD-3D8E-4043-BCE3-6690352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FA1B0-376E-437A-ADF6-29A0364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6E7F1-3BF0-48AF-A63C-184D6E3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0FEA4-66A0-4DCE-A6E1-553AFAD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2121-6011-4BC6-8AEE-2D1BD05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119E-1AE7-429B-96FC-E35C590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7A881-A9C9-412B-BE08-5C5E7AA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2CE-800E-43C8-A07B-626DA1B7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98822-3164-4B77-84C5-78F766A4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97C13-75B8-4216-B300-38432F94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05589-44F9-4C29-B9B9-A746D746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F36B5-70B7-4D39-92A2-71F5698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82FE9-A2ED-4070-BEE5-D53D1CB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352C-8315-482C-B6EB-BC0ED22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5813-7B3B-4681-ABFD-B5C07117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05372-CF3C-4EBD-8D32-13408E8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D720E-FD20-4058-AB99-B9BE44F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A772-BC5A-42A0-A73C-064FDC0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929D-94D8-4E50-8DEA-E0631D0C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74BE-1DA7-4E47-9E28-9A3225FD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7A909-7676-4BF9-8965-0CF1C6A2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3BD0F-2896-4129-A606-329D0EA3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114C7-BB17-45C0-9690-9A48146C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01C0C-F58B-4979-9546-B29A535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F2AB9-B33F-4B1F-A765-19F1D7D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B03EC-2D03-4886-82F1-EF9DDF5B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C2904-EA1A-4140-B0BF-40EBE46E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8828F-96F6-455C-BFC3-BA3E733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1949-B572-45C3-A076-AC0E8F2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E8F-BA8E-4570-A432-A67A2C30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9D39A-D795-4832-B382-F3A78F2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F4CAF-B598-4738-A62B-115F486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54E83-4647-43F1-BE32-A646321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C7D2B-2A8E-4CE6-B130-D02C23D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CCC5A-D928-495E-84F2-A2C08FA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71E56-6D70-4443-B3D3-7A4A26E1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2C4E1-582D-4A21-9A3E-2D445B19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73EEE-A7F0-4EF3-95AD-6E11B79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45321-1CEE-44EC-811E-C447F95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C0134-FBE1-43E3-9CD7-F823F132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615-25D7-48F4-AD7B-6934C32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A1297-448B-405C-8668-E55AD4A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99D25-7033-44DE-A315-3D64C79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32FED-B1E6-4723-BC8C-7BE77C0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14E4F-948E-4920-AE22-28C43D1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76F4-AA1D-47E9-8A37-540A431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968FA-86DF-49ED-B7B1-46E55020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4780B-D246-43FD-A670-87AA3C8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BCDB5-477B-424F-BE48-BF7A7AC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31C6B-82D8-400E-9FDE-9BFBFC7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27708-1BE6-4D29-B808-BF99707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CB1E-BFD5-42B1-A8B2-C6F46AB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93A2E-067A-4F6A-BE06-5986A177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BF2BC-F490-4FDD-8AA9-903FA7E4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A18DB-6CAB-473D-92B5-A8D2989E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F388D-122F-40DC-83A5-E0A40B7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04C46-A170-4C22-817E-B44110F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84811-082D-411D-966D-B667F25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AAAF6-71C6-491A-86E3-212AE82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D09FA-15BA-40F2-BF5A-22409E32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9C81C-2984-4B42-8055-03AF11A9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B6D2-F460-4D8D-9E72-76A51F29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700-7AC8-446D-8389-596E827D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BAD-0080-4C06-8DD8-172C5CA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677-E0A7-4308-8EDD-CF1CC4B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888A-053B-4904-AC04-BDE37E6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3556-A22E-434F-9B97-5654E33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7E53-8406-4209-B260-1555572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648-D1D0-44C7-8995-F3CC6C6B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09A-A75D-45DC-BB98-3D6A37DB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B0FB-14E4-444D-9672-B7A5A4E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33A5-1DAA-4B19-8B2F-ED947C24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A663-8B32-44A5-93C5-A70E7499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7196-165B-4C1C-9839-1F2BE87E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8FD8-79E2-4767-9FBE-2C2143B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1EE-43DF-495B-9E56-AC265B3F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381A-0983-4C0C-8AC6-378F450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5AED-5D51-4362-B869-91A682B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BC5F-235B-4E18-B887-FC6AEDC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D825-84EF-4241-9CD7-CE35B14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36FB-DAC9-4648-B7BE-81C8EAF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2893-911A-457E-8C19-BF48C439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C319-63EF-4937-91B7-8AFDC759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43B4-8187-4462-B502-533C649C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517C-9334-462A-A04B-CF1A1A9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A91B-AE78-4206-92D8-1CF3697A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8FD-195A-4345-9A21-0E2EBE0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724E-FDB6-4243-80EE-6C967DEC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BEB3-B97F-4C50-A003-CBFC49A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7C3E-4FAA-4080-8ACE-C3C3149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1492-1175-46CE-9C7D-3E6FD01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5548-EC0C-4D6C-B791-01A58EF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4341-752C-4C64-9A62-2BFE9B0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3A69-DCA0-474A-BC4F-62F0543C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438F-C8A4-4EFC-936F-A5E1B1F5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AFF4-CDF6-427B-A57D-C71D212B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BC81A-5C23-4EAC-9C01-C71D91A4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608-8679-443D-8205-E84FE6CD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92F1-CBDC-4A80-A4DC-DA753D5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8B477-5DDB-492E-BFDC-E6C9E11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BAD1-5A2D-48E3-9C03-04FFEB4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679F-E3F3-49BC-9FC0-F6CA1C4E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8998-D30A-4F40-9DFA-712C654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9DAA-41F1-4CEC-B12F-AFA7FD2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F640-4A48-477D-9687-D36E30E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1E5E-5B7D-4E53-9FF2-718CCF6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9364-9064-4830-A1E8-48B9BF8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0367-1497-4501-A13F-D8CF81D0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96E-4B01-48A4-8B30-87A88FF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55FF0-0630-4EE2-9192-4003AF6E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633F-D520-4D17-9003-0EBFD077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82C7-17CC-4C2B-87F6-E2E586A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0E4E1-8A2B-4253-80B6-0C646324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F0D65-77A7-441C-A9EE-FD811D9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D827B-9A49-4444-A46F-4438495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F007-8352-4827-922F-5137C9E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CDE74-4623-4D4C-8B2E-B1A69D3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9D7C-6B03-48B4-B734-140FB602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D188-F5FA-4A95-97F1-81DA408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5D6-5892-4C18-ACDE-E504560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0218-7948-4ADD-8BC1-3D874C52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2DD9-C5E4-4542-9ECD-A891F2C6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D712-F13C-4849-9A8D-EB1F4209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8A1F-6118-48FC-9A46-529BDBFD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44B8-5CE8-4053-ADF3-1489822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0C9A3-9B02-41D2-8B0F-77DB4AD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8B00-36C4-4958-8C3D-1BA04691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13CE-D5B5-4DC8-BB78-143FA1F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4C10-579F-485C-9745-102D7F0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7DA2-95B9-4DF0-9D5B-C6142E6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4C5-BFE6-4AFE-A146-21C5102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1BF3-37B2-4388-AA57-2601718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E10D2-389E-4637-AAFE-0D60BFD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C5E3-03A3-4655-B5D0-331C6DC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E24D-2634-4369-A7F5-8DB9C10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E61E-7368-48CE-A2FC-4C5040A6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5FFD0-1012-4842-B83C-9B58D4ED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0929-B817-4E4D-BB5D-A188991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479A-7B18-47D9-A6F1-343F345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7AFD-B8D5-47B8-8C7D-02D6E522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75AB-6FDB-40DD-AFFF-61675ACE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8F4-29C4-453F-883B-F080DBD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0B34-2FB4-4551-AD57-E376E73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51B6-B400-438F-B0AF-5CB3740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C342-6078-4132-BA36-E92C71B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2062-A4B4-479F-AB35-DFD2181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A8D77-B817-43DD-B391-31C20F0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18CA6-01FF-4743-825A-1D1DFF35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329E-D024-4A00-A223-CD059C3D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67CCB-AF20-42A9-9746-FE7A704A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70EEE-D7B6-44BF-A045-2DE11AAB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5004-C930-4ECB-AE93-79821C6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E28-1790-4D30-8CB1-28577548E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9485-98C8-43A1-A228-239CEFC0E2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1CD-B1CC-4425-A3E0-69C571ABA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AE32-5C2B-4B75-908E-9D8C0F9B0F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F60-AA43-4C38-8CE7-44FAD2400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E6B-C953-479C-B41F-FCF257E92D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F08C-90C3-414D-9742-2CDAC48916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8B6-12D9-4D19-8DAA-822854A41A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615-8601-45DE-8C2F-983B83147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24F9-068D-4915-9503-DE0DD973CB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786-7948-45E4-80EB-EC5F8095C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27B-1D32-4D3E-AF9A-E83AB7C572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B022-6DE0-4F14-815E-1E396A576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F850-0BCC-4F18-8377-AA47E0D1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EA3-0C2C-4109-BCF4-DBA932196F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4530-F90D-4D2D-895B-B647FBAB9E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1D0-E1CB-47D8-A5B8-2E64BBD3EA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1D5-F4D6-469D-BEB5-730F8F511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7C7-00B1-4C5A-943C-888C9952B0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70F-FCED-4CA2-B23E-592E4F636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4E8E-124A-4E89-BB04-8E13EE784B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FA5-7005-4A2D-9410-6381D9C9D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80C-0F6B-4FAE-BA47-98220BBF26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049-9ACE-4ED9-ACEF-14D3898F5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927-423B-42A7-8870-B3B11278F1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4C5-C70A-4030-BA50-4B9FB88BF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2666880" y="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隶书"/>
                <a:ea typeface="隶书"/>
              </a:rPr>
              <a:t>图 形 的 拼 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609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目标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6094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动手操作，使学生体会并能用自己的语言描述长方形、正方形边的特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33520" y="2057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观察、操作，使学生初步感知所学图形之间的关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533520" y="2666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图形拼组，使学生获得美的感受，激发学习兴趣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重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0" y="3657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难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60948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量拼摆图形，让学生发现图形由简单到复杂的变化及联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具、学具准备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33520" y="5334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媒体课件、长方形纸片、小棒、硬纸条、大头针、学具盒等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1676520" y="3276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步感知图形之间的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>
            <a:hlinkClick r:id="" action="ppaction://hlinkshowjump?jump=nextslide"/>
          </p:cNvPr>
          <p:cNvSpPr/>
          <p:nvPr/>
        </p:nvSpPr>
        <p:spPr>
          <a:xfrm>
            <a:off x="68580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形象感知，引入新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3">
            <a:hlinkClick r:id="rId1" action="ppaction://hlinksldjump"/>
          </p:cNvPr>
          <p:cNvSpPr/>
          <p:nvPr/>
        </p:nvSpPr>
        <p:spPr>
          <a:xfrm>
            <a:off x="685800" y="274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实践探索，构建新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">
            <a:hlinkClick r:id="rId2" action="ppaction://hlinksldjump"/>
          </p:cNvPr>
          <p:cNvSpPr/>
          <p:nvPr/>
        </p:nvSpPr>
        <p:spPr>
          <a:xfrm>
            <a:off x="2304720" y="36576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巩固运用，实践创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5">
            <a:hlinkClick r:id="rId3" action="ppaction://hlinksldjump"/>
          </p:cNvPr>
          <p:cNvSpPr/>
          <p:nvPr/>
        </p:nvSpPr>
        <p:spPr>
          <a:xfrm>
            <a:off x="60948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全课小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6">
            <a:hlinkClick r:id="rId4" action="ppaction://hlinksldjump"/>
          </p:cNvPr>
          <p:cNvSpPr/>
          <p:nvPr/>
        </p:nvSpPr>
        <p:spPr>
          <a:xfrm>
            <a:off x="2226240" y="5334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五、课外延伸，生活拓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615480" y="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隶书"/>
                <a:ea typeface="隶书"/>
              </a:rPr>
              <a:t>图 形 的 拼 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6094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过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3352680" y="228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教学过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60948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形象感知，引入新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838080" y="1981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出示汽车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762120" y="2743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师：这是什么？是由哪些图形组成的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609480" y="4876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课件出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Object 11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819160" cy="1666800"/>
          </a:xfrm>
          <a:prstGeom prst="rect">
            <a:avLst/>
          </a:prstGeom>
          <a:ln w="0">
            <a:noFill/>
          </a:ln>
        </p:spPr>
      </p:pic>
      <p:sp>
        <p:nvSpPr>
          <p:cNvPr id="604" name="Oval 12"/>
          <p:cNvSpPr/>
          <p:nvPr/>
        </p:nvSpPr>
        <p:spPr>
          <a:xfrm>
            <a:off x="2971800" y="48006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5486400" y="4876920"/>
            <a:ext cx="137160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7315200" y="4952880"/>
            <a:ext cx="83808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4191120" y="4572000"/>
            <a:ext cx="1066680" cy="10666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AutoShape 16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457200" y="44956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小结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原来呀，图形中存在着这么多的秘密，你们还想知道更多的图形之间的秘密吗？让我们来快乐地进行图形变变变吧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0" y="228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实践探索，构建新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04920" y="685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探索长方形和正方形边的特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533520" y="106668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你能用小棒摆出这些图形吗？（讨论只有圆不能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学生独自用小棒摆一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四人小组互相交流你们摆了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讨论你们有什么发现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展示并准备用几句话介绍一下，你摆的图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全班交流、反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AutoShape 7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8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探索图形之间的联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380880" y="1219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用正方形拼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33520" y="1981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（出示长方形）用两个同样的长方形拼一拼，你能拼出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0" y="44956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：两个同样的长方形可以拼成一个正方形或长方形，也可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1752480" y="3200400"/>
            <a:ext cx="4572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2514600" y="3200400"/>
            <a:ext cx="4572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9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10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2"/>
          <p:cNvSpPr/>
          <p:nvPr/>
        </p:nvSpPr>
        <p:spPr>
          <a:xfrm>
            <a:off x="9907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展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533520" y="533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把长方形变成正方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示长方形纸，如果要把长方形变成正方形怎么变？你会变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533520" y="2438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你认为哪种方法对？哪种变得最好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8380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操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剪出正方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22860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把正方形变其他图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8"/>
          <p:cNvSpPr/>
          <p:nvPr/>
        </p:nvSpPr>
        <p:spPr>
          <a:xfrm>
            <a:off x="1908000" y="4419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现在你手中是什么图形？正方形还能变成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9"/>
          <p:cNvSpPr/>
          <p:nvPr/>
        </p:nvSpPr>
        <p:spPr>
          <a:xfrm>
            <a:off x="914400" y="495288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自己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2028960" y="5486400"/>
            <a:ext cx="5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小组交流怎么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AutoShape 21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AutoShape 22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0" y="380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巩固运用，实践创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304920" y="3657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小朋友，通过合作拼出了许多美丽的图案，个个都是很棒的图案设计师，现在就请你们帮小强一个忙，他们家买了许多新地砖，一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块就能拼成一个图案，现在老师这儿就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块地砖的样本，请你们发现想象为小强设计地板图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04920" y="914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综合拼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609480" y="1371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如果给你更多的图形，你们能否拼出更多的美丽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1520280" y="175248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提供学具盒，进行图形拼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7621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展示多种拼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1459080" y="25909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课件展示教师的拼组作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2556360" y="3048120"/>
            <a:ext cx="7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小组合作，再拼一次，展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1312200" y="5334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件出示地砖样本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7"/>
          <p:cNvSpPr/>
          <p:nvPr/>
        </p:nvSpPr>
        <p:spPr>
          <a:xfrm>
            <a:off x="1495800" y="58672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试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1419480" y="6400800"/>
            <a:ext cx="5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作品展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Object 19" descr=""/>
          <p:cNvPicPr/>
          <p:nvPr/>
        </p:nvPicPr>
        <p:blipFill>
          <a:blip r:embed="rId1"/>
          <a:stretch/>
        </p:blipFill>
        <p:spPr>
          <a:xfrm>
            <a:off x="4191120" y="5410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20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AutoShape 21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37160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全课小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272320" y="2133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今天你开心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5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2454840" y="685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五、课外延伸，生活拓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出示一个大风车，这是什么？你们喜欢大风车吗？你们会运用今天的知识做一个大风车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2030760" y="25146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小组讨论，怎么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1573200" y="31240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说一说，做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2182680" y="373392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演示风车的做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321920" y="42670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做一做，玩一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620960" y="48006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最后完整地介绍风车的制作过程。（体现图形的转化过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12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5:05:23Z</dcterms:created>
  <dc:creator>gg</dc:creator>
  <dc:description/>
  <dc:language>en-US</dc:language>
  <cp:lastModifiedBy>a</cp:lastModifiedBy>
  <dcterms:modified xsi:type="dcterms:W3CDTF">2015-03-17T06:20:51Z</dcterms:modified>
  <cp:revision>5</cp:revision>
  <dc:subject/>
  <dc:title>PowerPoint 演示文稿</dc:title>
</cp:coreProperties>
</file>