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11.gif" ContentType="image/gif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1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ABB-F32B-4577-854E-CB54CE69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BDC-37A9-4419-9934-4CC18060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DB336-F2B3-4EA9-804D-213A4CA9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2D170-AD9A-4ECD-9BA6-EF321CF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C2584-8230-4FBA-AEE9-91F10514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BA533-E224-450C-BC5B-A0EE27F3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870AD-3E77-43C3-88B3-1ABF94F3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DD71E-5C73-40DA-BD8A-1A33C7C6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ACBB2-66A3-4A5F-A9CA-670D5BD0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39693-E7F1-4547-95C4-83CA842D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96FAD-F637-4730-9CA7-B60102B2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7F44F-A3AE-4A66-857D-DC77FE49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4E8-4A54-4A20-B345-D0ADA019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31192-A550-4B5C-9D61-16730043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DECE5-FE16-4E42-B450-DF9B47C6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AF702-1837-48BB-B03E-4554B7D8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A3287-C2B2-47AA-BFEF-D283678D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5D984-8294-455B-88F3-AE90FBC4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E8965-1D68-41EA-B305-4DC07FE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1D544-7CA0-4984-9887-F19C3294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D413D-A193-40D0-8222-AAAC8C0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10740-78E0-44BA-930B-B1E950BB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36196-B721-4252-8311-0EEC2096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F92-7973-4B7C-9B8B-2DA3776A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82BF5-E258-4246-AA12-213D6C27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A9B8F-CB03-4FCB-90AE-226F78CF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C8CAB-81BB-4073-A9B3-C2FE4DA8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E3F1D-EF22-449B-8D35-F2F29B69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5035C-B13E-4631-B19C-988B6580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95D9D-C6D7-4370-B1DD-F7FCE4AF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762CE-16B5-4763-A22E-8BFF31A3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CF584-B731-48AE-9F0B-C849BCC3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4D619-BFFE-4033-8BEF-ADDAD5D1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A0D72-11A5-4356-A2D6-7BCB9BA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A7B7-FA7F-452F-8965-4082776A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8FE01-B874-4034-ADB3-C9810CA2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526D6-3C8C-467B-8CDF-414901A1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E4037-C573-44E9-977B-6A23D5D2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9FFAB-D93A-421D-BA7F-80422ABE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7FF44-02F7-49BF-8298-BC5DB0AB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05E9F-E2FD-4A10-B275-BA215EDC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B0EC9-55CC-49F0-AA30-E897B077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34EE8-ABEB-4EC3-AE52-498CE63F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1B9F3-AED1-41BF-BF63-6A9BED5C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B457D-7F3D-498E-A209-76440B3E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89D3-30D5-4B8A-9438-56253235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B8DA1-1EBF-4F48-A5E5-0BE3738D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33F82-CA26-483E-BD5D-95B9152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F2EB8-9434-42E5-9A6C-DDB86B48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35EA3-5004-43AA-869C-9830B9D1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58BB9-4D8C-4C49-98B1-0A0D5546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14AB0-22F6-4155-8E5E-146109B3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82D04-681B-488C-9FD4-621BF4E9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C1B76-0779-4151-A62A-AAA425BF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A0C2A-3242-4245-8A33-BCC9A8CA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8AE1A-27DF-49FF-8337-49500574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8789-F189-47C4-8303-AC56D057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9E9A6-7B0D-488A-980B-21EF3199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231E2-15FD-41AE-A330-B2329C6D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22DB7-0626-4063-9AFE-A8038D19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0AEBB-76D8-457E-8A31-3E2468AF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CC3F1-14B8-4349-AF45-EA5D2730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AFCF5-30B5-4BA0-8B5F-B9528C41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D1626-CEA8-492E-B117-7166C155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8859B-F3BE-49BB-80EF-A3CA830A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B638C-EC5E-4427-B96A-E2A6ABBD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7F2FD-71BD-4FD0-A63F-D7111307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3F83-2905-48F9-B966-0BA2DB0E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0AC95-2FA0-4223-A481-0EA512AD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35AFB-19A0-411F-ACFE-037E2C69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E25BC-0CC9-42DF-ACBA-BF996F67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1602C-5785-4C59-ABDF-A2842839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B53BC-A0DC-4CDC-A01C-937F47DF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CDA2E-CCEC-47B2-8E4F-E9F2C2F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E24BF-7A9D-4AE7-8FB9-BE370374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F121C-56BF-4C96-BF31-A2833BC0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1E360-181F-4FE6-AF87-5B68C37E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63A6-145B-4914-9C1F-28083132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8891-9D85-4CA8-8B6E-3376EC50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6A6-AB16-4601-80FD-BD3B5676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6E8-9608-4FC8-9CA1-47723971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4071-9231-457E-B011-D501ABF9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028B-7EB5-4BFF-BC78-78FC2021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A104-151E-43B6-954F-AB614DB8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7A29-C346-4ECA-A2DE-FC8C48C2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4406-22AC-455E-A5C3-BAC5F655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0181-468F-4A63-9C2A-51AC9DAA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2FCF-5485-4F97-A49A-E189F9DA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C2F5-4551-4752-9987-A44EF1F5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EF47-C23A-483A-A263-F8DFFD89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F855D-6A62-4A24-B80B-1157A9CD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F25-70F8-44CD-83D4-FEDF957F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406F3-653C-460B-B1D0-C19C0E28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B91A-5426-41CC-8255-BAAE5DB3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ED76-FE2C-4424-86EA-88FD1613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E66D-2D33-4DFB-A6D9-A9DFF323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2A93-7FE8-40E6-BF0A-50CE0EF2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8243-B978-424C-A857-399E95CA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6ABA-D4D0-46F8-81F7-E0FE5437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C4FB-96CE-4EF9-ABBD-6ABEA42C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0C39-6F9E-46DB-8177-F89D08FD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33E3-6A6C-41B6-9B8F-4DFDAD8C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3C0-249B-43D0-B32C-61AE8C95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F81C5-6359-4058-93ED-48DA00BE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33850-21C0-41EC-9915-03BB2B48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5E7DD-6055-41B9-ABAF-E47A3D6F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31D59-3EC9-4D08-A8C6-FBC3B32E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81C2-771E-4584-B6E5-464419EF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48A27-8471-496F-A901-45F809A1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6F742-71C6-47E4-84BF-2DF8D5F4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1BA1-6238-4C0B-8232-88C7405A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29D46-EB7C-4E7D-86E7-0ECCB5BC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416CF-B856-41C7-BA93-EBD02238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E62-47CC-4FE3-971D-85128498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DB435-BF1D-40E5-A2C0-62F6774F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7C5D7-ABB1-4C64-B5A4-A3AC6165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AA43A-7FB7-4A09-9BDA-85304E75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DAAE1-5A31-4047-A8EC-4FE91C0E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24C40-0494-4EFF-BEBE-C2E54B17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DC925-E090-4CB0-AB60-7246287B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12B81-3A5A-4C90-B28C-F7CD8310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4CABA-3447-4BF4-BEFE-0D0692C2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AC46C-4CFF-41F5-8F09-3555ED09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68C81-FFF0-47D4-A16A-C917D3BA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A10-04EE-4AAB-AE6F-FB9559D5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5CD5B-DAB9-4C68-BD91-4988EF78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1D824-212C-4E79-B972-A0717A1A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0760D-E877-476C-AC19-4B433CCC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B772B-A452-414E-B5EC-CFEF1EDD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5DB86-319D-4004-8FF3-7FE5B03D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FDD1C-237E-46E7-A8DB-42676E31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84E43-48B1-45F2-8636-F1364C41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4119F-D20D-4EF0-B525-B4B54813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B9CEF-F2A6-4B5C-9431-999CE17C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3D147-F0AB-49D4-8D99-470892C1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12E-D7DF-4B0C-B3B7-AC4EE30B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D5CC9-3837-4AEC-B7CF-A8FF2930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F342-1672-4599-920E-EBF7D51D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094FD-51B2-48C1-A06F-19D5CC48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18741-7279-4D58-B69B-A6B636DD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CEBA1-787E-49B3-9E91-3BFECCE9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068B9-4CAD-4B1A-BA70-360E919D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C2382-2A37-4216-9656-52F96739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E8DC1-88CD-4ECC-A145-E2824767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49ECF-66FC-44F9-96F8-5F2D4537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6505E-1156-4979-8DB3-54FB17E5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BE0-23E0-4A0E-A7D2-D9542EEC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98900-3081-4988-A2FB-E8A341BB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48CE2-ED67-4F3C-A6A9-323B84BB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4A9A5-72A0-46B4-A8C4-DF07F1C3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E78DA-1DF2-45B4-AC0B-26637F0F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FD284-8F78-464A-8D58-C4DE6B59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13864-B39B-4FA2-8A6C-C9B999BF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B875A-286F-40D6-9217-E566510A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2C1BA-A64E-4183-A229-491A44AC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99FD8-6980-4E43-84F9-A650E1F1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98010-7342-46A9-8359-111676F2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F3E-EA3B-456B-877C-128C3DF6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173E7-4F72-46B1-ADCC-52428F8C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4B2E1-C7F8-4170-8389-E49C162B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DE6D9-BF9E-4DEC-B74B-AFCCCE19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FA0C0-F0D5-40FF-A7CA-2A14F7D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CFD0E-81B9-4E8A-B16B-470009DA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C6125-ACBC-47AC-97BF-79912B40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FD99A-B7B4-4D58-B930-E4EE6B42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31E98-256E-4761-ADCE-031F3CBF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DFBC2-1098-4FB1-A00C-C05569A3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42ABC-3BCC-4963-9432-CD20EB5A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BD3F-5AB6-469C-AF77-91E1B9FE59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3A10-3717-48E6-A2AE-07FC6DDDAC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7CD7-2939-447E-A39C-EFC4D86D88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55E8-3851-4F37-AC67-15DDDE2D33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88D1-8781-40C4-A605-CDF22B8968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B946-C7BB-4D7F-BBB6-B1FD7AC039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0DAF-533E-4704-A17D-5732FFF476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B861-2D29-48E6-B9E6-609322BEB4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8F65-29A6-41E9-825B-AF40A37340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EFB2-0E58-4ABE-9392-E38B097E79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26B4-ECB5-4D80-9B5D-04FDB0D372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5F50-6901-4FC1-8CEE-BEE0A7DFF2D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B011-4769-4750-B947-295331D9E2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43F6-9803-401B-BB7E-C70D214B74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BB9A-2947-4F31-BBF6-26D15A66D7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1024-DAAF-4186-9AA6-64F3E92A76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A2E4-53AE-4CE3-95B8-64F030B254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2AF3-7B2E-4DB2-959B-ED79C16342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AD9E-6B95-42DE-8AC1-A64C8B65CD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0D44-27BE-447A-98AA-C6CB09401B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B401-D5A4-4912-BD5B-8D064860F1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5F04-7C44-47F3-A85C-9FBC7952BE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81AD-456B-428D-8A44-4284F6FB9A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E354-B18D-414C-A7A8-6EA6466A84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7C67-E061-4BB8-9F3E-6732B11498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6043-CF11-4ED7-933B-E5D0EC7D5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6"/>
          <p:cNvSpPr/>
          <p:nvPr/>
        </p:nvSpPr>
        <p:spPr>
          <a:xfrm>
            <a:off x="6229440" y="5229360"/>
            <a:ext cx="25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沈引兔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2006.10.18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AutoShape 2"/>
          <p:cNvSpPr/>
          <p:nvPr/>
        </p:nvSpPr>
        <p:spPr>
          <a:xfrm>
            <a:off x="250920" y="260280"/>
            <a:ext cx="3311280" cy="792360"/>
          </a:xfrm>
          <a:prstGeom prst="cloudCallout">
            <a:avLst>
              <a:gd name="adj1" fmla="val 12990"/>
              <a:gd name="adj2" fmla="val 1498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35" name="Group 70"/>
          <p:cNvGrpSpPr/>
          <p:nvPr/>
        </p:nvGrpSpPr>
        <p:grpSpPr>
          <a:xfrm>
            <a:off x="2953800" y="906840"/>
            <a:ext cx="2821680" cy="3589200"/>
            <a:chOff x="2953800" y="906840"/>
            <a:chExt cx="2821680" cy="3589200"/>
          </a:xfrm>
        </p:grpSpPr>
        <p:sp>
          <p:nvSpPr>
            <p:cNvPr id="736" name="AutoShape 71"/>
            <p:cNvSpPr/>
            <p:nvPr/>
          </p:nvSpPr>
          <p:spPr>
            <a:xfrm flipV="1" rot="12528000">
              <a:off x="3147480" y="1412280"/>
              <a:ext cx="2449440" cy="1368720"/>
            </a:xfrm>
            <a:prstGeom prst="rtTriangl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7" name="AutoShape 72"/>
            <p:cNvSpPr/>
            <p:nvPr/>
          </p:nvSpPr>
          <p:spPr>
            <a:xfrm rot="9072000">
              <a:off x="3132000" y="2622240"/>
              <a:ext cx="2449440" cy="1368360"/>
            </a:xfrm>
            <a:prstGeom prst="rtTriangle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38" name="AutoShape 73"/>
          <p:cNvSpPr/>
          <p:nvPr/>
        </p:nvSpPr>
        <p:spPr>
          <a:xfrm rot="9072000">
            <a:off x="3131640" y="2622240"/>
            <a:ext cx="2449800" cy="1368360"/>
          </a:xfrm>
          <a:prstGeom prst="rtTriangl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9" name="Text Box 74"/>
          <p:cNvSpPr/>
          <p:nvPr/>
        </p:nvSpPr>
        <p:spPr>
          <a:xfrm>
            <a:off x="2413080" y="3054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0" name="Text Box 75"/>
          <p:cNvSpPr/>
          <p:nvPr/>
        </p:nvSpPr>
        <p:spPr>
          <a:xfrm>
            <a:off x="4788000" y="1685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Text Box 76"/>
          <p:cNvSpPr/>
          <p:nvPr/>
        </p:nvSpPr>
        <p:spPr>
          <a:xfrm>
            <a:off x="5653080" y="3125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Oval 77"/>
          <p:cNvSpPr/>
          <p:nvPr/>
        </p:nvSpPr>
        <p:spPr>
          <a:xfrm>
            <a:off x="4351320" y="2905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3" name="Text Box 78"/>
          <p:cNvSpPr/>
          <p:nvPr/>
        </p:nvSpPr>
        <p:spPr>
          <a:xfrm>
            <a:off x="4572000" y="2611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4" name="Text Box 79"/>
          <p:cNvSpPr/>
          <p:nvPr/>
        </p:nvSpPr>
        <p:spPr>
          <a:xfrm>
            <a:off x="2771640" y="16146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Text Box 80"/>
          <p:cNvSpPr/>
          <p:nvPr/>
        </p:nvSpPr>
        <p:spPr>
          <a:xfrm>
            <a:off x="4284720" y="4205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Text Box 81"/>
          <p:cNvSpPr/>
          <p:nvPr/>
        </p:nvSpPr>
        <p:spPr>
          <a:xfrm>
            <a:off x="514836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7" name="Text Box 83"/>
          <p:cNvSpPr/>
          <p:nvPr/>
        </p:nvSpPr>
        <p:spPr>
          <a:xfrm>
            <a:off x="1258920" y="4865760"/>
            <a:ext cx="69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旋转角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8" name="Text Box 84"/>
          <p:cNvSpPr/>
          <p:nvPr/>
        </p:nvSpPr>
        <p:spPr>
          <a:xfrm>
            <a:off x="3130560" y="493092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∠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O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∠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28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AutoShape 4"/>
          <p:cNvSpPr/>
          <p:nvPr/>
        </p:nvSpPr>
        <p:spPr>
          <a:xfrm>
            <a:off x="152280" y="189000"/>
            <a:ext cx="3556080" cy="718920"/>
          </a:xfrm>
          <a:prstGeom prst="cloudCallout">
            <a:avLst>
              <a:gd name="adj1" fmla="val -30402"/>
              <a:gd name="adj2" fmla="val 17538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精心做一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978200" y="981000"/>
            <a:ext cx="67705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在正方形</a:t>
            </a:r>
            <a:r>
              <a:rPr b="0" lang="en-US" sz="2600" spc="-1" strike="noStrike">
                <a:solidFill>
                  <a:srgbClr val="000000"/>
                </a:solidFill>
                <a:latin typeface="华文中宋"/>
              </a:rPr>
              <a:t>ABCD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华文中宋"/>
              </a:rPr>
              <a:t>E</a:t>
            </a:r>
            <a:r>
              <a:rPr b="0" lang="zh-CN" sz="2600" spc="-1" strike="noStrike">
                <a:solidFill>
                  <a:srgbClr val="000000"/>
                </a:solidFill>
                <a:latin typeface="华文中宋"/>
              </a:rPr>
              <a:t>是</a:t>
            </a:r>
            <a:r>
              <a:rPr b="0" lang="en-US" sz="2600" spc="-1" strike="noStrike">
                <a:solidFill>
                  <a:srgbClr val="000000"/>
                </a:solidFill>
                <a:latin typeface="华文中宋"/>
              </a:rPr>
              <a:t>CB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延长线上一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华文中宋"/>
              </a:rPr>
              <a:t>△ABE</a:t>
            </a:r>
            <a:r>
              <a:rPr b="0" lang="zh-CN" sz="2600" spc="-1" strike="noStrike">
                <a:solidFill>
                  <a:srgbClr val="000000"/>
                </a:solidFill>
                <a:latin typeface="华文中宋"/>
              </a:rPr>
              <a:t>经过旋转后得到△</a:t>
            </a:r>
            <a:r>
              <a:rPr b="0" lang="en-US" sz="2600" spc="-1" strike="noStrike">
                <a:solidFill>
                  <a:srgbClr val="000000"/>
                </a:solidFill>
                <a:latin typeface="华文中宋"/>
              </a:rPr>
              <a:t>ADF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请按图回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3543480" y="24811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旋转中心是哪一点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3543480" y="3071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旋转了多少度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3" name="Text Box 11"/>
          <p:cNvSpPr/>
          <p:nvPr/>
        </p:nvSpPr>
        <p:spPr>
          <a:xfrm>
            <a:off x="3543480" y="361800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如果点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的中点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那么经过上述旋转后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点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到了什么位置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Text Box 27"/>
          <p:cNvSpPr/>
          <p:nvPr/>
        </p:nvSpPr>
        <p:spPr>
          <a:xfrm>
            <a:off x="7221600" y="2508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5" name="Text Box 28"/>
          <p:cNvSpPr/>
          <p:nvPr/>
        </p:nvSpPr>
        <p:spPr>
          <a:xfrm>
            <a:off x="6804000" y="31179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0" lang="en-US" sz="2000" spc="-1" strike="noStrike" baseline="38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6" name="Rectangle 31"/>
          <p:cNvSpPr/>
          <p:nvPr/>
        </p:nvSpPr>
        <p:spPr>
          <a:xfrm>
            <a:off x="682560" y="3357720"/>
            <a:ext cx="2448000" cy="24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57" name="Group 32"/>
          <p:cNvGrpSpPr/>
          <p:nvPr/>
        </p:nvGrpSpPr>
        <p:grpSpPr>
          <a:xfrm>
            <a:off x="682560" y="2349000"/>
            <a:ext cx="2448000" cy="1008720"/>
            <a:chOff x="682560" y="2349000"/>
            <a:chExt cx="2448000" cy="1008720"/>
          </a:xfrm>
        </p:grpSpPr>
        <p:sp>
          <p:nvSpPr>
            <p:cNvPr id="758" name="Line 33"/>
            <p:cNvSpPr/>
            <p:nvPr/>
          </p:nvSpPr>
          <p:spPr>
            <a:xfrm flipV="1">
              <a:off x="682560" y="2349000"/>
              <a:ext cx="2448000" cy="100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9" name="Line 34"/>
            <p:cNvSpPr/>
            <p:nvPr/>
          </p:nvSpPr>
          <p:spPr>
            <a:xfrm flipV="1">
              <a:off x="3130560" y="2349000"/>
              <a:ext cx="0" cy="100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0" name="Line 35"/>
            <p:cNvSpPr/>
            <p:nvPr/>
          </p:nvSpPr>
          <p:spPr>
            <a:xfrm>
              <a:off x="682560" y="3357720"/>
              <a:ext cx="2448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61" name="Group 36"/>
          <p:cNvGrpSpPr/>
          <p:nvPr/>
        </p:nvGrpSpPr>
        <p:grpSpPr>
          <a:xfrm>
            <a:off x="682560" y="3357720"/>
            <a:ext cx="1008000" cy="2447640"/>
            <a:chOff x="682560" y="3357720"/>
            <a:chExt cx="1008000" cy="2447640"/>
          </a:xfrm>
        </p:grpSpPr>
        <p:sp>
          <p:nvSpPr>
            <p:cNvPr id="762" name="Line 37"/>
            <p:cNvSpPr/>
            <p:nvPr/>
          </p:nvSpPr>
          <p:spPr>
            <a:xfrm>
              <a:off x="682560" y="3357720"/>
              <a:ext cx="1008000" cy="244764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3" name="Line 38"/>
            <p:cNvSpPr/>
            <p:nvPr/>
          </p:nvSpPr>
          <p:spPr>
            <a:xfrm>
              <a:off x="682560" y="5805360"/>
              <a:ext cx="1008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4" name="Line 39"/>
            <p:cNvSpPr/>
            <p:nvPr/>
          </p:nvSpPr>
          <p:spPr>
            <a:xfrm>
              <a:off x="682560" y="3357720"/>
              <a:ext cx="0" cy="244764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65" name="Text Box 40"/>
          <p:cNvSpPr/>
          <p:nvPr/>
        </p:nvSpPr>
        <p:spPr>
          <a:xfrm>
            <a:off x="250920" y="31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6" name="Text Box 41"/>
          <p:cNvSpPr/>
          <p:nvPr/>
        </p:nvSpPr>
        <p:spPr>
          <a:xfrm>
            <a:off x="3203640" y="306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7" name="Text Box 42"/>
          <p:cNvSpPr/>
          <p:nvPr/>
        </p:nvSpPr>
        <p:spPr>
          <a:xfrm>
            <a:off x="1690560" y="5419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Text Box 43"/>
          <p:cNvSpPr/>
          <p:nvPr/>
        </p:nvSpPr>
        <p:spPr>
          <a:xfrm>
            <a:off x="3203640" y="558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9" name="Text Box 44"/>
          <p:cNvSpPr/>
          <p:nvPr/>
        </p:nvSpPr>
        <p:spPr>
          <a:xfrm>
            <a:off x="3132000" y="20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0" name="Text Box 45"/>
          <p:cNvSpPr/>
          <p:nvPr/>
        </p:nvSpPr>
        <p:spPr>
          <a:xfrm>
            <a:off x="1619280" y="290052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Text Box 46"/>
          <p:cNvSpPr/>
          <p:nvPr/>
        </p:nvSpPr>
        <p:spPr>
          <a:xfrm>
            <a:off x="32220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2" name="Text Box 47"/>
          <p:cNvSpPr/>
          <p:nvPr/>
        </p:nvSpPr>
        <p:spPr>
          <a:xfrm>
            <a:off x="539640" y="40924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3" name="Arc 61"/>
          <p:cNvSpPr/>
          <p:nvPr/>
        </p:nvSpPr>
        <p:spPr>
          <a:xfrm flipH="1" rot="11585400">
            <a:off x="884880" y="3187440"/>
            <a:ext cx="934920" cy="1541520"/>
          </a:xfrm>
          <a:custGeom>
            <a:avLst/>
            <a:gdLst/>
            <a:ahLst/>
            <a:rect l="l" t="t" r="r" b="b"/>
            <a:pathLst>
              <a:path fill="none" w="23100" h="25671">
                <a:moveTo>
                  <a:pt x="0" y="52"/>
                </a:moveTo>
                <a:cubicBezTo>
                  <a:pt x="499" y="17"/>
                  <a:pt x="999" y="0"/>
                  <a:pt x="1500" y="0"/>
                </a:cubicBezTo>
                <a:cubicBezTo>
                  <a:pt x="13429" y="0"/>
                  <a:pt x="23100" y="9670"/>
                  <a:pt x="23100" y="21600"/>
                </a:cubicBezTo>
                <a:cubicBezTo>
                  <a:pt x="23100" y="22966"/>
                  <a:pt x="22970" y="24329"/>
                  <a:pt x="22712" y="25670"/>
                </a:cubicBezTo>
              </a:path>
              <a:path stroke="0" w="23100" h="25671">
                <a:moveTo>
                  <a:pt x="0" y="52"/>
                </a:moveTo>
                <a:cubicBezTo>
                  <a:pt x="499" y="17"/>
                  <a:pt x="999" y="0"/>
                  <a:pt x="1500" y="0"/>
                </a:cubicBezTo>
                <a:cubicBezTo>
                  <a:pt x="13429" y="0"/>
                  <a:pt x="23100" y="9670"/>
                  <a:pt x="23100" y="21600"/>
                </a:cubicBezTo>
                <a:cubicBezTo>
                  <a:pt x="23100" y="22966"/>
                  <a:pt x="22970" y="24329"/>
                  <a:pt x="22712" y="25670"/>
                </a:cubicBezTo>
                <a:lnTo>
                  <a:pt x="1500" y="21600"/>
                </a:lnTo>
                <a:lnTo>
                  <a:pt x="0" y="52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prstDash val="dash"/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4" name="Line 65"/>
          <p:cNvSpPr/>
          <p:nvPr/>
        </p:nvSpPr>
        <p:spPr>
          <a:xfrm flipH="1">
            <a:off x="1709280" y="2387520"/>
            <a:ext cx="1368360" cy="345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5" name="Text Box 66"/>
          <p:cNvSpPr/>
          <p:nvPr/>
        </p:nvSpPr>
        <p:spPr>
          <a:xfrm>
            <a:off x="3527280" y="457056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连结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EF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，那么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EF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是怎样的三角形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76" name="Group 68"/>
          <p:cNvGrpSpPr/>
          <p:nvPr/>
        </p:nvGrpSpPr>
        <p:grpSpPr>
          <a:xfrm>
            <a:off x="-1765080" y="2349360"/>
            <a:ext cx="4894920" cy="2016000"/>
            <a:chOff x="-1765080" y="2349360"/>
            <a:chExt cx="4894920" cy="2016000"/>
          </a:xfrm>
        </p:grpSpPr>
        <p:grpSp>
          <p:nvGrpSpPr>
            <p:cNvPr id="777" name="Group 48"/>
            <p:cNvGrpSpPr/>
            <p:nvPr/>
          </p:nvGrpSpPr>
          <p:grpSpPr>
            <a:xfrm>
              <a:off x="-1765080" y="2349360"/>
              <a:ext cx="4894920" cy="2016000"/>
              <a:chOff x="-1765080" y="2349360"/>
              <a:chExt cx="4894920" cy="2016000"/>
            </a:xfrm>
          </p:grpSpPr>
          <p:grpSp>
            <p:nvGrpSpPr>
              <p:cNvPr id="778" name="Group 49"/>
              <p:cNvGrpSpPr/>
              <p:nvPr/>
            </p:nvGrpSpPr>
            <p:grpSpPr>
              <a:xfrm>
                <a:off x="682200" y="2349360"/>
                <a:ext cx="2447640" cy="1008000"/>
                <a:chOff x="682200" y="2349360"/>
                <a:chExt cx="2447640" cy="1008000"/>
              </a:xfrm>
            </p:grpSpPr>
            <p:sp>
              <p:nvSpPr>
                <p:cNvPr id="779" name="Line 50"/>
                <p:cNvSpPr/>
                <p:nvPr/>
              </p:nvSpPr>
              <p:spPr>
                <a:xfrm flipV="1">
                  <a:off x="682200" y="2349360"/>
                  <a:ext cx="2447640" cy="1008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80" name="Line 51"/>
                <p:cNvSpPr/>
                <p:nvPr/>
              </p:nvSpPr>
              <p:spPr>
                <a:xfrm flipV="1">
                  <a:off x="3129840" y="2349360"/>
                  <a:ext cx="0" cy="1008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81" name="Line 52"/>
                <p:cNvSpPr/>
                <p:nvPr/>
              </p:nvSpPr>
              <p:spPr>
                <a:xfrm>
                  <a:off x="682200" y="3357360"/>
                  <a:ext cx="2447640" cy="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53"/>
              <p:cNvGrpSpPr/>
              <p:nvPr/>
            </p:nvGrpSpPr>
            <p:grpSpPr>
              <a:xfrm>
                <a:off x="-1765080" y="3357360"/>
                <a:ext cx="2447640" cy="1008000"/>
                <a:chOff x="-1765080" y="3357360"/>
                <a:chExt cx="2447640" cy="1008000"/>
              </a:xfrm>
            </p:grpSpPr>
            <p:sp>
              <p:nvSpPr>
                <p:cNvPr id="783" name="Line 54"/>
                <p:cNvSpPr/>
                <p:nvPr/>
              </p:nvSpPr>
              <p:spPr>
                <a:xfrm flipH="1">
                  <a:off x="-1765080" y="3357360"/>
                  <a:ext cx="2447640" cy="100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84" name="Line 55"/>
                <p:cNvSpPr/>
                <p:nvPr/>
              </p:nvSpPr>
              <p:spPr>
                <a:xfrm>
                  <a:off x="-1765080" y="3357360"/>
                  <a:ext cx="0" cy="100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85" name="Line 56"/>
                <p:cNvSpPr/>
                <p:nvPr/>
              </p:nvSpPr>
              <p:spPr>
                <a:xfrm flipH="1">
                  <a:off x="-1765080" y="3357360"/>
                  <a:ext cx="2447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6" name="Oval 67"/>
            <p:cNvSpPr/>
            <p:nvPr/>
          </p:nvSpPr>
          <p:spPr>
            <a:xfrm>
              <a:off x="1950840" y="331272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68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30" descr=""/>
          <p:cNvPicPr/>
          <p:nvPr/>
        </p:nvPicPr>
        <p:blipFill>
          <a:blip r:embed="rId1"/>
          <a:srcRect l="49888" t="13517" r="245" b="-375"/>
          <a:stretch/>
        </p:blipFill>
        <p:spPr>
          <a:xfrm>
            <a:off x="6227640" y="4149720"/>
            <a:ext cx="2203560" cy="230364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6"/>
          <p:cNvSpPr/>
          <p:nvPr/>
        </p:nvSpPr>
        <p:spPr>
          <a:xfrm>
            <a:off x="179280" y="150840"/>
            <a:ext cx="3124440" cy="757080"/>
          </a:xfrm>
          <a:prstGeom prst="cloudCallout">
            <a:avLst>
              <a:gd name="adj1" fmla="val -29370"/>
              <a:gd name="adj2" fmla="val 14140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动手画一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9" name="Text Box 8"/>
          <p:cNvSpPr/>
          <p:nvPr/>
        </p:nvSpPr>
        <p:spPr>
          <a:xfrm>
            <a:off x="1403280" y="9079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的一点，将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顺时针旋转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90</a:t>
            </a:r>
            <a:r>
              <a:rPr b="0" lang="en-US" sz="2000" spc="-1" strike="noStrike" baseline="50000">
                <a:solidFill>
                  <a:srgbClr val="ff33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旋转后的线段与原线段的位置关系如何？如果逆时针旋转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90</a:t>
            </a:r>
            <a:r>
              <a:rPr b="0" lang="en-US" sz="2000" spc="-1" strike="noStrike" baseline="50000">
                <a:solidFill>
                  <a:srgbClr val="ff33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呢？你能将它们画出来吗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0" name="Line 17"/>
          <p:cNvSpPr/>
          <p:nvPr/>
        </p:nvSpPr>
        <p:spPr>
          <a:xfrm>
            <a:off x="3333600" y="2635200"/>
            <a:ext cx="172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1" name="Text Box 18"/>
          <p:cNvSpPr/>
          <p:nvPr/>
        </p:nvSpPr>
        <p:spPr>
          <a:xfrm>
            <a:off x="2987640" y="25495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2" name="Text Box 19"/>
          <p:cNvSpPr/>
          <p:nvPr/>
        </p:nvSpPr>
        <p:spPr>
          <a:xfrm>
            <a:off x="4917960" y="25891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4357800" y="2611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4529160" y="25956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5" name="Text Box 31"/>
          <p:cNvSpPr/>
          <p:nvPr/>
        </p:nvSpPr>
        <p:spPr>
          <a:xfrm>
            <a:off x="1317600" y="4206960"/>
            <a:ext cx="58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宋体"/>
              </a:rPr>
              <a:t>逆时针方向旋转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  <a:ea typeface="宋体"/>
              </a:rPr>
              <a:t>90°, A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″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  <a:ea typeface="宋体"/>
              </a:rPr>
              <a:t>B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″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  <a:ea typeface="宋体"/>
              </a:rPr>
              <a:t>⊥A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6" name="Text Box 32"/>
          <p:cNvSpPr/>
          <p:nvPr/>
        </p:nvSpPr>
        <p:spPr>
          <a:xfrm>
            <a:off x="826920" y="3213000"/>
            <a:ext cx="55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宋体"/>
              </a:rPr>
              <a:t>解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宋体"/>
              </a:rPr>
              <a:t>顺时针方向旋转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  <a:ea typeface="宋体"/>
              </a:rPr>
              <a:t>90°, A′B′⊥A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7" name="Text Box 34"/>
          <p:cNvSpPr/>
          <p:nvPr/>
        </p:nvSpPr>
        <p:spPr>
          <a:xfrm>
            <a:off x="1698840" y="5372280"/>
            <a:ext cx="49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: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线段旋转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90 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°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后与原来位置互相垂直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98" name="Group 39"/>
          <p:cNvGrpSpPr/>
          <p:nvPr/>
        </p:nvGrpSpPr>
        <p:grpSpPr>
          <a:xfrm>
            <a:off x="6370560" y="1982880"/>
            <a:ext cx="2087640" cy="2238120"/>
            <a:chOff x="6370560" y="1982880"/>
            <a:chExt cx="2087640" cy="2238120"/>
          </a:xfrm>
        </p:grpSpPr>
        <p:pic>
          <p:nvPicPr>
            <p:cNvPr id="799" name="Picture 29" descr=""/>
            <p:cNvPicPr/>
            <p:nvPr/>
          </p:nvPicPr>
          <p:blipFill>
            <a:blip r:embed="rId2"/>
            <a:srcRect l="0" t="0" r="50133" b="22234"/>
            <a:stretch/>
          </p:blipFill>
          <p:spPr>
            <a:xfrm>
              <a:off x="6370560" y="2268360"/>
              <a:ext cx="208764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Text Box 38"/>
            <p:cNvSpPr/>
            <p:nvPr/>
          </p:nvSpPr>
          <p:spPr>
            <a:xfrm>
              <a:off x="7667640" y="198288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A′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1"/>
          <p:cNvSpPr/>
          <p:nvPr/>
        </p:nvSpPr>
        <p:spPr>
          <a:xfrm>
            <a:off x="971640" y="765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节课我们主要学了什么内容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2" name="Text Box 24"/>
          <p:cNvSpPr/>
          <p:nvPr/>
        </p:nvSpPr>
        <p:spPr>
          <a:xfrm>
            <a:off x="900000" y="17064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旋转的概念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平面内，将一个图形绕着一个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定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转动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这样的图形运动称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旋转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03" name="Group 31"/>
          <p:cNvGrpSpPr/>
          <p:nvPr/>
        </p:nvGrpSpPr>
        <p:grpSpPr>
          <a:xfrm>
            <a:off x="898560" y="2708280"/>
            <a:ext cx="6337440" cy="1952280"/>
            <a:chOff x="898560" y="2708280"/>
            <a:chExt cx="6337440" cy="1952280"/>
          </a:xfrm>
        </p:grpSpPr>
        <p:sp>
          <p:nvSpPr>
            <p:cNvPr id="804" name="Text Box 23"/>
            <p:cNvSpPr/>
            <p:nvPr/>
          </p:nvSpPr>
          <p:spPr>
            <a:xfrm>
              <a:off x="898560" y="3427200"/>
              <a:ext cx="51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决定旋转的三个要素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5" name="AutoShape 25"/>
            <p:cNvSpPr/>
            <p:nvPr/>
          </p:nvSpPr>
          <p:spPr>
            <a:xfrm>
              <a:off x="4643280" y="2852640"/>
              <a:ext cx="73080" cy="1655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6" name="Text Box 27"/>
            <p:cNvSpPr/>
            <p:nvPr/>
          </p:nvSpPr>
          <p:spPr>
            <a:xfrm>
              <a:off x="4859280" y="2708280"/>
              <a:ext cx="23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旋转中心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7" name="Text Box 28"/>
            <p:cNvSpPr/>
            <p:nvPr/>
          </p:nvSpPr>
          <p:spPr>
            <a:xfrm>
              <a:off x="4811760" y="3420720"/>
              <a:ext cx="18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旋转方向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8" name="Text Box 29"/>
            <p:cNvSpPr/>
            <p:nvPr/>
          </p:nvSpPr>
          <p:spPr>
            <a:xfrm>
              <a:off x="4803840" y="4140000"/>
              <a:ext cx="23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旋转角度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09" name="AutoShape 33"/>
          <p:cNvSpPr/>
          <p:nvPr/>
        </p:nvSpPr>
        <p:spPr>
          <a:xfrm>
            <a:off x="7740720" y="5877000"/>
            <a:ext cx="934920" cy="691920"/>
          </a:xfrm>
          <a:custGeom>
            <a:avLst/>
            <a:gdLst>
              <a:gd name="textAreaLeft" fmla="*/ 44640 w 934920"/>
              <a:gd name="textAreaRight" fmla="*/ 890280 w 93492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9182" h="21600">
                <a:moveTo>
                  <a:pt x="0" y="0"/>
                </a:moveTo>
                <a:lnTo>
                  <a:pt x="29182" y="0"/>
                </a:lnTo>
                <a:lnTo>
                  <a:pt x="29182" y="21600"/>
                </a:lnTo>
                <a:lnTo>
                  <a:pt x="0" y="21600"/>
                </a:lnTo>
                <a:close/>
              </a:path>
              <a:path fill="lightenLess" w="29182" h="21600">
                <a:moveTo>
                  <a:pt x="0" y="0"/>
                </a:moveTo>
                <a:lnTo>
                  <a:pt x="29182" y="0"/>
                </a:lnTo>
                <a:lnTo>
                  <a:pt x="27782" y="1400"/>
                </a:lnTo>
                <a:lnTo>
                  <a:pt x="1400" y="1400"/>
                </a:lnTo>
                <a:close/>
              </a:path>
              <a:path fill="darken" w="29182" h="21600">
                <a:moveTo>
                  <a:pt x="29182" y="0"/>
                </a:moveTo>
                <a:lnTo>
                  <a:pt x="29182" y="21600"/>
                </a:lnTo>
                <a:lnTo>
                  <a:pt x="27782" y="20200"/>
                </a:lnTo>
                <a:lnTo>
                  <a:pt x="27782" y="1400"/>
                </a:lnTo>
                <a:close/>
              </a:path>
              <a:path fill="darkenLess" w="29182" h="21600">
                <a:moveTo>
                  <a:pt x="29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82" y="20200"/>
                </a:lnTo>
                <a:close/>
              </a:path>
              <a:path fill="lighten" w="29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82" h="21600">
                <a:moveTo>
                  <a:pt x="7584" y="3794"/>
                </a:moveTo>
                <a:lnTo>
                  <a:pt x="21597" y="10800"/>
                </a:lnTo>
                <a:lnTo>
                  <a:pt x="7584" y="17806"/>
                </a:lnTo>
                <a:close/>
              </a:path>
            </a:pathLst>
          </a:cu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Text Box 34"/>
          <p:cNvSpPr/>
          <p:nvPr/>
        </p:nvSpPr>
        <p:spPr>
          <a:xfrm>
            <a:off x="1116000" y="50925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过这节课的学习谈谈你的感想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2"/>
          <p:cNvSpPr/>
          <p:nvPr/>
        </p:nvSpPr>
        <p:spPr>
          <a:xfrm>
            <a:off x="1243080" y="36306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见作业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1260360" y="2822400"/>
            <a:ext cx="70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课本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页练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1042920" y="204300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课后作业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7740720" y="5805360"/>
            <a:ext cx="934920" cy="692280"/>
          </a:xfrm>
          <a:custGeom>
            <a:avLst/>
            <a:gdLst>
              <a:gd name="textAreaLeft" fmla="*/ 44640 w 934920"/>
              <a:gd name="textAreaRight" fmla="*/ 890280 w 934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9167" h="21600">
                <a:moveTo>
                  <a:pt x="0" y="0"/>
                </a:moveTo>
                <a:lnTo>
                  <a:pt x="29167" y="0"/>
                </a:lnTo>
                <a:lnTo>
                  <a:pt x="29167" y="21600"/>
                </a:lnTo>
                <a:lnTo>
                  <a:pt x="0" y="21600"/>
                </a:lnTo>
                <a:close/>
              </a:path>
              <a:path fill="lightenLess" w="29167" h="21600">
                <a:moveTo>
                  <a:pt x="0" y="0"/>
                </a:moveTo>
                <a:lnTo>
                  <a:pt x="29167" y="0"/>
                </a:lnTo>
                <a:lnTo>
                  <a:pt x="27767" y="1400"/>
                </a:lnTo>
                <a:lnTo>
                  <a:pt x="1400" y="1400"/>
                </a:lnTo>
                <a:close/>
              </a:path>
              <a:path fill="darken" w="29167" h="21600">
                <a:moveTo>
                  <a:pt x="29167" y="0"/>
                </a:moveTo>
                <a:lnTo>
                  <a:pt x="29167" y="21600"/>
                </a:lnTo>
                <a:lnTo>
                  <a:pt x="27767" y="20200"/>
                </a:lnTo>
                <a:lnTo>
                  <a:pt x="27767" y="1400"/>
                </a:lnTo>
                <a:close/>
              </a:path>
              <a:path fill="darkenLess" w="29167" h="21600">
                <a:moveTo>
                  <a:pt x="29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67" y="20200"/>
                </a:lnTo>
                <a:close/>
              </a:path>
              <a:path fill="lighten" w="29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67" h="21600">
                <a:moveTo>
                  <a:pt x="7577" y="3794"/>
                </a:moveTo>
                <a:lnTo>
                  <a:pt x="21590" y="10800"/>
                </a:lnTo>
                <a:lnTo>
                  <a:pt x="7577" y="17806"/>
                </a:lnTo>
                <a:close/>
              </a:path>
            </a:pathLst>
          </a:cu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6"/>
          <p:cNvSpPr/>
          <p:nvPr/>
        </p:nvSpPr>
        <p:spPr>
          <a:xfrm>
            <a:off x="1116000" y="283680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课后作业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6" name="Text Box 7"/>
          <p:cNvSpPr/>
          <p:nvPr/>
        </p:nvSpPr>
        <p:spPr>
          <a:xfrm>
            <a:off x="3348000" y="2952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见作业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WordArt 4"/>
          <p:cNvSpPr txBox="1"/>
          <p:nvPr/>
        </p:nvSpPr>
        <p:spPr>
          <a:xfrm rot="5400000">
            <a:off x="2483640" y="2203920"/>
            <a:ext cx="3456000" cy="24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1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82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6" descr="39"/>
          <p:cNvPicPr/>
          <p:nvPr/>
        </p:nvPicPr>
        <p:blipFill>
          <a:blip r:embed="rId1"/>
          <a:srcRect l="0" t="0" r="0" b="-25"/>
          <a:stretch/>
        </p:blipFill>
        <p:spPr>
          <a:xfrm>
            <a:off x="-82440" y="0"/>
            <a:ext cx="9262800" cy="681984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7"/>
          <p:cNvSpPr/>
          <p:nvPr/>
        </p:nvSpPr>
        <p:spPr>
          <a:xfrm>
            <a:off x="-65160" y="376200"/>
            <a:ext cx="34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隶书"/>
              </a:rPr>
              <a:t>世界如此美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971640" y="1052640"/>
            <a:ext cx="7775640" cy="3625200"/>
            <a:chOff x="971640" y="1052640"/>
            <a:chExt cx="7775640" cy="3625200"/>
          </a:xfrm>
        </p:grpSpPr>
        <p:graphicFrame>
          <p:nvGraphicFramePr>
            <p:cNvPr id="579" name="ShockwaveFlash1"/>
            <p:cNvGraphicFramePr/>
            <p:nvPr/>
          </p:nvGraphicFramePr>
          <p:xfrm>
            <a:off x="971640" y="1941480"/>
            <a:ext cx="3168720" cy="273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0" name="ShockwaveFlash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941480"/>
                      <a:ext cx="3168720" cy="273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81" name="Picture 19" descr="CLOCK__4"/>
            <p:cNvPicPr/>
            <p:nvPr/>
          </p:nvPicPr>
          <p:blipFill>
            <a:blip r:embed="rId3"/>
            <a:stretch/>
          </p:blipFill>
          <p:spPr>
            <a:xfrm>
              <a:off x="5075280" y="2014560"/>
              <a:ext cx="216072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20"/>
            <p:cNvSpPr/>
            <p:nvPr/>
          </p:nvSpPr>
          <p:spPr>
            <a:xfrm>
              <a:off x="1042920" y="1052640"/>
              <a:ext cx="77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33"/>
                  </a:solidFill>
                  <a:latin typeface="Arial"/>
                  <a:ea typeface="宋体"/>
                </a:rPr>
                <a:t>观察：下列图片中，电扇的风叶，时钟的时针、分针在转动的过程中有什么共同特征？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83" name="Rectangle 15"/>
          <p:cNvSpPr/>
          <p:nvPr/>
        </p:nvSpPr>
        <p:spPr>
          <a:xfrm>
            <a:off x="1116000" y="45925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平面内，一个图形绕一个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定点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转动，像这样的运动我们称它为</a:t>
            </a:r>
            <a:r>
              <a:rPr b="1" i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旋转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。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1116000" y="5646600"/>
            <a:ext cx="69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请列举一些日常生活中其它的旋转现象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1042920" y="11592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§15.2.1 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图形的旋转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9" descr="风车4"/>
          <p:cNvPicPr/>
          <p:nvPr/>
        </p:nvPicPr>
        <p:blipFill>
          <a:blip r:embed="rId1"/>
          <a:stretch/>
        </p:blipFill>
        <p:spPr>
          <a:xfrm>
            <a:off x="0" y="3789360"/>
            <a:ext cx="4560840" cy="3068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1" descr="dhj02-"/>
          <p:cNvPicPr/>
          <p:nvPr/>
        </p:nvPicPr>
        <p:blipFill>
          <a:blip r:embed="rId2"/>
          <a:stretch/>
        </p:blipFill>
        <p:spPr>
          <a:xfrm>
            <a:off x="4727520" y="0"/>
            <a:ext cx="4416480" cy="3143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3" descr="GY_001"/>
          <p:cNvPicPr/>
          <p:nvPr/>
        </p:nvPicPr>
        <p:blipFill>
          <a:blip r:embed="rId3"/>
          <a:stretch/>
        </p:blipFill>
        <p:spPr>
          <a:xfrm>
            <a:off x="4718160" y="3790800"/>
            <a:ext cx="4425840" cy="3067200"/>
          </a:xfrm>
          <a:prstGeom prst="rect">
            <a:avLst/>
          </a:prstGeom>
          <a:ln w="0">
            <a:noFill/>
          </a:ln>
        </p:spPr>
      </p:pic>
      <p:pic>
        <p:nvPicPr>
          <p:cNvPr id="589" name="Object 14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5"/>
          <p:cNvSpPr/>
          <p:nvPr/>
        </p:nvSpPr>
        <p:spPr>
          <a:xfrm>
            <a:off x="2884320" y="31575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生 活 中 的 旋 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5" descr="秋千"/>
          <p:cNvPicPr/>
          <p:nvPr/>
        </p:nvPicPr>
        <p:blipFill>
          <a:blip r:embed="rId1"/>
          <a:stretch/>
        </p:blipFill>
        <p:spPr>
          <a:xfrm>
            <a:off x="2987640" y="3716280"/>
            <a:ext cx="5962680" cy="35434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0" descr="U515P33T148D33393F2100DT20040517165953"/>
          <p:cNvPicPr/>
          <p:nvPr/>
        </p:nvPicPr>
        <p:blipFill>
          <a:blip r:embed="rId2"/>
          <a:stretch/>
        </p:blipFill>
        <p:spPr>
          <a:xfrm>
            <a:off x="4572000" y="-27000"/>
            <a:ext cx="4572000" cy="30225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2" descr="05"/>
          <p:cNvPicPr/>
          <p:nvPr/>
        </p:nvPicPr>
        <p:blipFill>
          <a:blip r:embed="rId3"/>
          <a:stretch/>
        </p:blipFill>
        <p:spPr>
          <a:xfrm>
            <a:off x="17640" y="-27000"/>
            <a:ext cx="4410000" cy="30243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3" descr="儿童风车"/>
          <p:cNvPicPr/>
          <p:nvPr/>
        </p:nvPicPr>
        <p:blipFill>
          <a:blip r:embed="rId4"/>
          <a:stretch/>
        </p:blipFill>
        <p:spPr>
          <a:xfrm>
            <a:off x="19080" y="3716280"/>
            <a:ext cx="4443480" cy="30844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6"/>
          <p:cNvSpPr/>
          <p:nvPr/>
        </p:nvSpPr>
        <p:spPr>
          <a:xfrm>
            <a:off x="2884320" y="3068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生 活 中 的 旋 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127"/>
          <p:cNvGrpSpPr/>
          <p:nvPr/>
        </p:nvGrpSpPr>
        <p:grpSpPr>
          <a:xfrm>
            <a:off x="4052880" y="476280"/>
            <a:ext cx="228240" cy="4736160"/>
            <a:chOff x="4052880" y="476280"/>
            <a:chExt cx="228240" cy="4736160"/>
          </a:xfrm>
        </p:grpSpPr>
        <p:grpSp>
          <p:nvGrpSpPr>
            <p:cNvPr id="597" name="Group 128"/>
            <p:cNvGrpSpPr/>
            <p:nvPr/>
          </p:nvGrpSpPr>
          <p:grpSpPr>
            <a:xfrm>
              <a:off x="4052880" y="2835000"/>
              <a:ext cx="216000" cy="2377440"/>
              <a:chOff x="4052880" y="2835000"/>
              <a:chExt cx="216000" cy="2377440"/>
            </a:xfrm>
          </p:grpSpPr>
          <p:sp>
            <p:nvSpPr>
              <p:cNvPr id="598" name="Line 129"/>
              <p:cNvSpPr/>
              <p:nvPr/>
            </p:nvSpPr>
            <p:spPr>
              <a:xfrm>
                <a:off x="4167360" y="2835000"/>
                <a:ext cx="0" cy="2092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9" name="Oval 130"/>
              <p:cNvSpPr/>
              <p:nvPr/>
            </p:nvSpPr>
            <p:spPr>
              <a:xfrm>
                <a:off x="4052880" y="4927320"/>
                <a:ext cx="216000" cy="285120"/>
              </a:xfrm>
              <a:prstGeom prst="ellipse">
                <a:avLst/>
              </a:prstGeom>
              <a:solidFill>
                <a:srgbClr val="0000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131"/>
            <p:cNvGrpSpPr/>
            <p:nvPr/>
          </p:nvGrpSpPr>
          <p:grpSpPr>
            <a:xfrm>
              <a:off x="4065480" y="476280"/>
              <a:ext cx="215640" cy="2377440"/>
              <a:chOff x="4065480" y="476280"/>
              <a:chExt cx="215640" cy="2377440"/>
            </a:xfrm>
          </p:grpSpPr>
          <p:sp>
            <p:nvSpPr>
              <p:cNvPr id="601" name="Line 132"/>
              <p:cNvSpPr/>
              <p:nvPr/>
            </p:nvSpPr>
            <p:spPr>
              <a:xfrm flipV="1">
                <a:off x="4167000" y="761400"/>
                <a:ext cx="0" cy="2092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2" name="Oval 133"/>
              <p:cNvSpPr/>
              <p:nvPr/>
            </p:nvSpPr>
            <p:spPr>
              <a:xfrm rot="10800000">
                <a:off x="4065480" y="476280"/>
                <a:ext cx="215640" cy="285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603" name="Group 62"/>
          <p:cNvGrpSpPr/>
          <p:nvPr/>
        </p:nvGrpSpPr>
        <p:grpSpPr>
          <a:xfrm>
            <a:off x="4065480" y="476280"/>
            <a:ext cx="218880" cy="4736160"/>
            <a:chOff x="4065480" y="476280"/>
            <a:chExt cx="218880" cy="4736160"/>
          </a:xfrm>
        </p:grpSpPr>
        <p:grpSp>
          <p:nvGrpSpPr>
            <p:cNvPr id="604" name="Group 63"/>
            <p:cNvGrpSpPr/>
            <p:nvPr/>
          </p:nvGrpSpPr>
          <p:grpSpPr>
            <a:xfrm>
              <a:off x="4065480" y="2835000"/>
              <a:ext cx="207000" cy="2377440"/>
              <a:chOff x="4065480" y="2835000"/>
              <a:chExt cx="207000" cy="2377440"/>
            </a:xfrm>
          </p:grpSpPr>
          <p:sp>
            <p:nvSpPr>
              <p:cNvPr id="605" name="Line 64"/>
              <p:cNvSpPr/>
              <p:nvPr/>
            </p:nvSpPr>
            <p:spPr>
              <a:xfrm>
                <a:off x="4174920" y="2835000"/>
                <a:ext cx="0" cy="2092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6" name="Oval 65"/>
              <p:cNvSpPr/>
              <p:nvPr/>
            </p:nvSpPr>
            <p:spPr>
              <a:xfrm>
                <a:off x="4065480" y="4927320"/>
                <a:ext cx="207000" cy="285120"/>
              </a:xfrm>
              <a:prstGeom prst="ellipse">
                <a:avLst/>
              </a:prstGeom>
              <a:solidFill>
                <a:srgbClr val="0000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66"/>
            <p:cNvGrpSpPr/>
            <p:nvPr/>
          </p:nvGrpSpPr>
          <p:grpSpPr>
            <a:xfrm>
              <a:off x="4077720" y="476280"/>
              <a:ext cx="206640" cy="2377440"/>
              <a:chOff x="4077720" y="476280"/>
              <a:chExt cx="206640" cy="2377440"/>
            </a:xfrm>
          </p:grpSpPr>
          <p:sp>
            <p:nvSpPr>
              <p:cNvPr id="608" name="Line 67"/>
              <p:cNvSpPr/>
              <p:nvPr/>
            </p:nvSpPr>
            <p:spPr>
              <a:xfrm flipV="1">
                <a:off x="4174920" y="761400"/>
                <a:ext cx="0" cy="2092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9" name="Oval 68"/>
              <p:cNvSpPr/>
              <p:nvPr/>
            </p:nvSpPr>
            <p:spPr>
              <a:xfrm rot="10800000">
                <a:off x="4077720" y="476280"/>
                <a:ext cx="206640" cy="285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610" name="Group 41"/>
          <p:cNvGrpSpPr/>
          <p:nvPr/>
        </p:nvGrpSpPr>
        <p:grpSpPr>
          <a:xfrm>
            <a:off x="4067280" y="476280"/>
            <a:ext cx="228240" cy="4736160"/>
            <a:chOff x="4067280" y="476280"/>
            <a:chExt cx="228240" cy="4736160"/>
          </a:xfrm>
        </p:grpSpPr>
        <p:grpSp>
          <p:nvGrpSpPr>
            <p:cNvPr id="611" name="Group 25"/>
            <p:cNvGrpSpPr/>
            <p:nvPr/>
          </p:nvGrpSpPr>
          <p:grpSpPr>
            <a:xfrm>
              <a:off x="4067280" y="2835000"/>
              <a:ext cx="216000" cy="2377440"/>
              <a:chOff x="4067280" y="2835000"/>
              <a:chExt cx="216000" cy="2377440"/>
            </a:xfrm>
          </p:grpSpPr>
          <p:sp>
            <p:nvSpPr>
              <p:cNvPr id="612" name="Line 23"/>
              <p:cNvSpPr/>
              <p:nvPr/>
            </p:nvSpPr>
            <p:spPr>
              <a:xfrm>
                <a:off x="4181760" y="2835000"/>
                <a:ext cx="0" cy="2092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3" name="Oval 24"/>
              <p:cNvSpPr/>
              <p:nvPr/>
            </p:nvSpPr>
            <p:spPr>
              <a:xfrm>
                <a:off x="4067280" y="4927320"/>
                <a:ext cx="216000" cy="285120"/>
              </a:xfrm>
              <a:prstGeom prst="ellipse">
                <a:avLst/>
              </a:prstGeom>
              <a:solidFill>
                <a:srgbClr val="0000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34"/>
            <p:cNvGrpSpPr/>
            <p:nvPr/>
          </p:nvGrpSpPr>
          <p:grpSpPr>
            <a:xfrm>
              <a:off x="4079880" y="476280"/>
              <a:ext cx="215640" cy="2377440"/>
              <a:chOff x="4079880" y="476280"/>
              <a:chExt cx="215640" cy="2377440"/>
            </a:xfrm>
          </p:grpSpPr>
          <p:sp>
            <p:nvSpPr>
              <p:cNvPr id="615" name="Line 35"/>
              <p:cNvSpPr/>
              <p:nvPr/>
            </p:nvSpPr>
            <p:spPr>
              <a:xfrm flipV="1">
                <a:off x="4181400" y="761400"/>
                <a:ext cx="0" cy="2092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6" name="Oval 36"/>
              <p:cNvSpPr/>
              <p:nvPr/>
            </p:nvSpPr>
            <p:spPr>
              <a:xfrm rot="10800000">
                <a:off x="4079880" y="476280"/>
                <a:ext cx="215640" cy="285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Oval 26"/>
          <p:cNvSpPr/>
          <p:nvPr/>
        </p:nvSpPr>
        <p:spPr>
          <a:xfrm>
            <a:off x="4138560" y="28414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Text Box 42"/>
          <p:cNvSpPr/>
          <p:nvPr/>
        </p:nvSpPr>
        <p:spPr>
          <a:xfrm>
            <a:off x="2916360" y="11890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单摆的转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Text Box 27"/>
          <p:cNvSpPr/>
          <p:nvPr/>
        </p:nvSpPr>
        <p:spPr>
          <a:xfrm>
            <a:off x="3967200" y="2414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0" name="Group 171"/>
          <p:cNvGrpSpPr/>
          <p:nvPr/>
        </p:nvGrpSpPr>
        <p:grpSpPr>
          <a:xfrm>
            <a:off x="3912480" y="3246120"/>
            <a:ext cx="5158080" cy="463320"/>
            <a:chOff x="3912480" y="3246120"/>
            <a:chExt cx="5158080" cy="463320"/>
          </a:xfrm>
        </p:grpSpPr>
        <p:sp>
          <p:nvSpPr>
            <p:cNvPr id="621" name="Arc 71"/>
            <p:cNvSpPr/>
            <p:nvPr/>
          </p:nvSpPr>
          <p:spPr>
            <a:xfrm flipH="1" rot="3034800">
              <a:off x="4040280" y="3247560"/>
              <a:ext cx="206280" cy="428760"/>
            </a:xfrm>
            <a:custGeom>
              <a:avLst/>
              <a:gdLst/>
              <a:ahLst/>
              <a:rect l="l" t="t" r="r" b="b"/>
              <a:pathLst>
                <a:path fill="none" w="15531" h="21471">
                  <a:moveTo>
                    <a:pt x="13172" y="21470"/>
                  </a:moveTo>
                  <a:cubicBezTo>
                    <a:pt x="8162" y="20920"/>
                    <a:pt x="3502" y="18635"/>
                    <a:pt x="0" y="15011"/>
                  </a:cubicBezTo>
                </a:path>
                <a:path stroke="0" w="15531" h="21471">
                  <a:moveTo>
                    <a:pt x="13172" y="21470"/>
                  </a:moveTo>
                  <a:cubicBezTo>
                    <a:pt x="8162" y="20920"/>
                    <a:pt x="3502" y="18635"/>
                    <a:pt x="0" y="15011"/>
                  </a:cubicBezTo>
                  <a:lnTo>
                    <a:pt x="15531" y="0"/>
                  </a:lnTo>
                  <a:lnTo>
                    <a:pt x="13172" y="2147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622" name="Group 77"/>
            <p:cNvGrpSpPr/>
            <p:nvPr/>
          </p:nvGrpSpPr>
          <p:grpSpPr>
            <a:xfrm>
              <a:off x="4067280" y="3249720"/>
              <a:ext cx="5003280" cy="459720"/>
              <a:chOff x="4067280" y="3249720"/>
              <a:chExt cx="5003280" cy="459720"/>
            </a:xfrm>
          </p:grpSpPr>
          <p:sp>
            <p:nvSpPr>
              <p:cNvPr id="623" name="Line 72"/>
              <p:cNvSpPr/>
              <p:nvPr/>
            </p:nvSpPr>
            <p:spPr>
              <a:xfrm>
                <a:off x="4067280" y="3492720"/>
                <a:ext cx="1843560" cy="3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4" name="Text Box 73"/>
              <p:cNvSpPr/>
              <p:nvPr/>
            </p:nvSpPr>
            <p:spPr>
              <a:xfrm>
                <a:off x="5995800" y="3249720"/>
                <a:ext cx="307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∠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AOB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Arial"/>
                  </a:rPr>
                  <a:t>叫做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</a:rPr>
                  <a:t>旋转角，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76"/>
          <p:cNvGrpSpPr/>
          <p:nvPr/>
        </p:nvGrpSpPr>
        <p:grpSpPr>
          <a:xfrm>
            <a:off x="4356000" y="2421000"/>
            <a:ext cx="4176000" cy="459720"/>
            <a:chOff x="4356000" y="2421000"/>
            <a:chExt cx="4176000" cy="459720"/>
          </a:xfrm>
        </p:grpSpPr>
        <p:sp>
          <p:nvSpPr>
            <p:cNvPr id="626" name="Text Box 74"/>
            <p:cNvSpPr/>
            <p:nvPr/>
          </p:nvSpPr>
          <p:spPr>
            <a:xfrm>
              <a:off x="5524920" y="2421000"/>
              <a:ext cx="30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定点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称为旋转中心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7" name="Line 75"/>
            <p:cNvSpPr/>
            <p:nvPr/>
          </p:nvSpPr>
          <p:spPr>
            <a:xfrm>
              <a:off x="4356000" y="2664000"/>
              <a:ext cx="1252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28" name="Text Box 138"/>
          <p:cNvSpPr/>
          <p:nvPr/>
        </p:nvSpPr>
        <p:spPr>
          <a:xfrm>
            <a:off x="5796000" y="3686040"/>
            <a:ext cx="30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即对应点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与旋转中心连线的夹角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Text Box 139"/>
          <p:cNvSpPr/>
          <p:nvPr/>
        </p:nvSpPr>
        <p:spPr>
          <a:xfrm>
            <a:off x="5954760" y="44784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O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的度数叫做旋转的角度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30" name="Group 141"/>
          <p:cNvGrpSpPr/>
          <p:nvPr/>
        </p:nvGrpSpPr>
        <p:grpSpPr>
          <a:xfrm>
            <a:off x="4051800" y="3317760"/>
            <a:ext cx="677520" cy="775080"/>
            <a:chOff x="4051800" y="3317760"/>
            <a:chExt cx="677520" cy="775080"/>
          </a:xfrm>
        </p:grpSpPr>
        <p:sp>
          <p:nvSpPr>
            <p:cNvPr id="631" name="Arc 135"/>
            <p:cNvSpPr/>
            <p:nvPr/>
          </p:nvSpPr>
          <p:spPr>
            <a:xfrm rot="18565200">
              <a:off x="4120920" y="3406320"/>
              <a:ext cx="406080" cy="371520"/>
            </a:xfrm>
            <a:custGeom>
              <a:avLst/>
              <a:gdLst/>
              <a:ahLst/>
              <a:rect l="l" t="t" r="r" b="b"/>
              <a:pathLst>
                <a:path fill="none" w="17778" h="21471">
                  <a:moveTo>
                    <a:pt x="15419" y="21470"/>
                  </a:moveTo>
                  <a:cubicBezTo>
                    <a:pt x="9187" y="20786"/>
                    <a:pt x="3561" y="17428"/>
                    <a:pt x="0" y="12268"/>
                  </a:cubicBezTo>
                </a:path>
                <a:path stroke="0" w="17778" h="21471">
                  <a:moveTo>
                    <a:pt x="15419" y="21470"/>
                  </a:moveTo>
                  <a:cubicBezTo>
                    <a:pt x="9187" y="20786"/>
                    <a:pt x="3561" y="17428"/>
                    <a:pt x="0" y="12268"/>
                  </a:cubicBezTo>
                  <a:lnTo>
                    <a:pt x="17778" y="0"/>
                  </a:lnTo>
                  <a:lnTo>
                    <a:pt x="15419" y="2147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2" name="Text Box 140"/>
            <p:cNvSpPr/>
            <p:nvPr/>
          </p:nvSpPr>
          <p:spPr>
            <a:xfrm>
              <a:off x="4154400" y="3693960"/>
              <a:ext cx="57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r>
                <a:rPr b="0" lang="en-US" sz="1600" spc="-1" strike="noStrike" baseline="4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33" name="Text Box 125"/>
          <p:cNvSpPr/>
          <p:nvPr/>
        </p:nvSpPr>
        <p:spPr>
          <a:xfrm>
            <a:off x="3951360" y="51991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34" name="Group 170"/>
          <p:cNvGrpSpPr/>
          <p:nvPr/>
        </p:nvGrpSpPr>
        <p:grpSpPr>
          <a:xfrm>
            <a:off x="3116160" y="4710240"/>
            <a:ext cx="1347840" cy="556560"/>
            <a:chOff x="3116160" y="4710240"/>
            <a:chExt cx="1347840" cy="556560"/>
          </a:xfrm>
        </p:grpSpPr>
        <p:grpSp>
          <p:nvGrpSpPr>
            <p:cNvPr id="635" name="Group 154"/>
            <p:cNvGrpSpPr/>
            <p:nvPr/>
          </p:nvGrpSpPr>
          <p:grpSpPr>
            <a:xfrm>
              <a:off x="3887640" y="4826160"/>
              <a:ext cx="576360" cy="440640"/>
              <a:chOff x="3887640" y="4826160"/>
              <a:chExt cx="576360" cy="440640"/>
            </a:xfrm>
          </p:grpSpPr>
          <p:sp>
            <p:nvSpPr>
              <p:cNvPr id="636" name="Text Box 147"/>
              <p:cNvSpPr/>
              <p:nvPr/>
            </p:nvSpPr>
            <p:spPr>
              <a:xfrm>
                <a:off x="3887640" y="4835520"/>
                <a:ext cx="576360" cy="43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中宋"/>
                  </a:rPr>
                  <a:t>·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7" name="Line 153"/>
              <p:cNvSpPr/>
              <p:nvPr/>
            </p:nvSpPr>
            <p:spPr>
              <a:xfrm>
                <a:off x="4181400" y="4826160"/>
                <a:ext cx="0" cy="215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65"/>
            <p:cNvGrpSpPr/>
            <p:nvPr/>
          </p:nvGrpSpPr>
          <p:grpSpPr>
            <a:xfrm>
              <a:off x="3116160" y="4710240"/>
              <a:ext cx="576360" cy="460080"/>
              <a:chOff x="3116160" y="4710240"/>
              <a:chExt cx="576360" cy="460080"/>
            </a:xfrm>
          </p:grpSpPr>
          <p:sp>
            <p:nvSpPr>
              <p:cNvPr id="639" name="Text Box 148"/>
              <p:cNvSpPr/>
              <p:nvPr/>
            </p:nvSpPr>
            <p:spPr>
              <a:xfrm>
                <a:off x="3116160" y="473868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中宋"/>
                  </a:rPr>
                  <a:t>·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0" name="Line 164"/>
              <p:cNvSpPr/>
              <p:nvPr/>
            </p:nvSpPr>
            <p:spPr>
              <a:xfrm flipH="1">
                <a:off x="3421080" y="4710240"/>
                <a:ext cx="71280" cy="21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Text Box 126"/>
          <p:cNvSpPr/>
          <p:nvPr/>
        </p:nvSpPr>
        <p:spPr>
          <a:xfrm>
            <a:off x="2863800" y="4876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42" name="Group 169"/>
          <p:cNvGrpSpPr/>
          <p:nvPr/>
        </p:nvGrpSpPr>
        <p:grpSpPr>
          <a:xfrm>
            <a:off x="5018040" y="4552920"/>
            <a:ext cx="576360" cy="460440"/>
            <a:chOff x="5018040" y="4552920"/>
            <a:chExt cx="576360" cy="460440"/>
          </a:xfrm>
        </p:grpSpPr>
        <p:sp>
          <p:nvSpPr>
            <p:cNvPr id="643" name="Text Box 151"/>
            <p:cNvSpPr/>
            <p:nvPr/>
          </p:nvSpPr>
          <p:spPr>
            <a:xfrm>
              <a:off x="5018040" y="4581360"/>
              <a:ext cx="57636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中宋"/>
                </a:rPr>
                <a:t>·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4" name="Line 168"/>
            <p:cNvSpPr/>
            <p:nvPr/>
          </p:nvSpPr>
          <p:spPr>
            <a:xfrm>
              <a:off x="5146560" y="4552920"/>
              <a:ext cx="146160" cy="244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45" name="Text Box 134"/>
          <p:cNvSpPr/>
          <p:nvPr/>
        </p:nvSpPr>
        <p:spPr>
          <a:xfrm>
            <a:off x="5364000" y="48546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3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5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AutoShape 269"/>
          <p:cNvSpPr/>
          <p:nvPr/>
        </p:nvSpPr>
        <p:spPr>
          <a:xfrm>
            <a:off x="108000" y="404640"/>
            <a:ext cx="5256000" cy="720720"/>
          </a:xfrm>
          <a:prstGeom prst="cloudCallout">
            <a:avLst>
              <a:gd name="adj1" fmla="val -27013"/>
              <a:gd name="adj2" fmla="val 10220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合作学习、共同交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Text Box 270"/>
          <p:cNvSpPr/>
          <p:nvPr/>
        </p:nvSpPr>
        <p:spPr>
          <a:xfrm>
            <a:off x="785880" y="17575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手操作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Text Box 283"/>
          <p:cNvSpPr/>
          <p:nvPr/>
        </p:nvSpPr>
        <p:spPr>
          <a:xfrm>
            <a:off x="1403280" y="2421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透明胶片覆盖在正方形网格纸上的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Text Box 284"/>
          <p:cNvSpPr/>
          <p:nvPr/>
        </p:nvSpPr>
        <p:spPr>
          <a:xfrm>
            <a:off x="1403280" y="29005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透明胶片上画出一个与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重合的三角形 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Text Box 285"/>
          <p:cNvSpPr/>
          <p:nvPr/>
        </p:nvSpPr>
        <p:spPr>
          <a:xfrm>
            <a:off x="1417680" y="3389400"/>
            <a:ext cx="695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一枚图钉的尖端在任意一格点（记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处固定网格纸和透明胶片，并将透明胶片绕图钉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旋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此时透明胶片上的三角形就转到了新的位置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Text Box 287"/>
          <p:cNvSpPr/>
          <p:nvPr/>
        </p:nvSpPr>
        <p:spPr>
          <a:xfrm>
            <a:off x="1433520" y="501336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用透明胶固定好网格纸和胶片的位置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给胶片上的三角形标上字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AutoShape 4"/>
          <p:cNvSpPr/>
          <p:nvPr/>
        </p:nvSpPr>
        <p:spPr>
          <a:xfrm>
            <a:off x="179280" y="333360"/>
            <a:ext cx="3175200" cy="836640"/>
          </a:xfrm>
          <a:prstGeom prst="cloudCallout">
            <a:avLst>
              <a:gd name="adj1" fmla="val 15601"/>
              <a:gd name="adj2" fmla="val 13462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Rectangle 80"/>
          <p:cNvSpPr/>
          <p:nvPr/>
        </p:nvSpPr>
        <p:spPr>
          <a:xfrm>
            <a:off x="4081320" y="1197000"/>
            <a:ext cx="48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'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Rectangle 81"/>
          <p:cNvSpPr/>
          <p:nvPr/>
        </p:nvSpPr>
        <p:spPr>
          <a:xfrm>
            <a:off x="4851360" y="2278080"/>
            <a:ext cx="48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'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Rectangle 82"/>
          <p:cNvSpPr/>
          <p:nvPr/>
        </p:nvSpPr>
        <p:spPr>
          <a:xfrm>
            <a:off x="5572080" y="3932280"/>
            <a:ext cx="41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Rectangle 84"/>
          <p:cNvSpPr/>
          <p:nvPr/>
        </p:nvSpPr>
        <p:spPr>
          <a:xfrm>
            <a:off x="6033960" y="2697120"/>
            <a:ext cx="48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7" name="Freeform 85"/>
          <p:cNvSpPr/>
          <p:nvPr/>
        </p:nvSpPr>
        <p:spPr>
          <a:xfrm>
            <a:off x="3316320" y="2851200"/>
            <a:ext cx="2604960" cy="1217520"/>
          </a:xfrm>
          <a:custGeom>
            <a:avLst/>
            <a:gdLst/>
            <a:ahLst/>
            <a:rect l="l" t="t" r="r" b="b"/>
            <a:pathLst>
              <a:path w="978" h="528">
                <a:moveTo>
                  <a:pt x="780" y="528"/>
                </a:moveTo>
                <a:lnTo>
                  <a:pt x="0" y="528"/>
                </a:lnTo>
                <a:lnTo>
                  <a:pt x="978" y="0"/>
                </a:lnTo>
                <a:lnTo>
                  <a:pt x="780" y="528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Arc 88"/>
          <p:cNvSpPr/>
          <p:nvPr/>
        </p:nvSpPr>
        <p:spPr>
          <a:xfrm flipV="1" rot="15795600">
            <a:off x="4369320" y="1465920"/>
            <a:ext cx="1592280" cy="134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59" name="Group 107"/>
          <p:cNvGrpSpPr/>
          <p:nvPr/>
        </p:nvGrpSpPr>
        <p:grpSpPr>
          <a:xfrm>
            <a:off x="2537640" y="1397160"/>
            <a:ext cx="3391560" cy="2690640"/>
            <a:chOff x="2537640" y="1397160"/>
            <a:chExt cx="3391560" cy="2690640"/>
          </a:xfrm>
        </p:grpSpPr>
        <p:sp>
          <p:nvSpPr>
            <p:cNvPr id="660" name="Freeform 101"/>
            <p:cNvSpPr/>
            <p:nvPr/>
          </p:nvSpPr>
          <p:spPr>
            <a:xfrm>
              <a:off x="3324240" y="2854440"/>
              <a:ext cx="2604960" cy="1217520"/>
            </a:xfrm>
            <a:custGeom>
              <a:avLst/>
              <a:gdLst/>
              <a:ahLst/>
              <a:rect l="l" t="t" r="r" b="b"/>
              <a:pathLst>
                <a:path w="978" h="528">
                  <a:moveTo>
                    <a:pt x="780" y="528"/>
                  </a:moveTo>
                  <a:lnTo>
                    <a:pt x="0" y="528"/>
                  </a:lnTo>
                  <a:lnTo>
                    <a:pt x="978" y="0"/>
                  </a:lnTo>
                  <a:lnTo>
                    <a:pt x="780" y="5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1" name="Freeform 103"/>
            <p:cNvSpPr/>
            <p:nvPr/>
          </p:nvSpPr>
          <p:spPr>
            <a:xfrm rot="18942000">
              <a:off x="2592360" y="2133720"/>
              <a:ext cx="2604960" cy="1217520"/>
            </a:xfrm>
            <a:custGeom>
              <a:avLst/>
              <a:gdLst/>
              <a:ahLst/>
              <a:rect l="l" t="t" r="r" b="b"/>
              <a:pathLst>
                <a:path w="978" h="528">
                  <a:moveTo>
                    <a:pt x="780" y="528"/>
                  </a:moveTo>
                  <a:lnTo>
                    <a:pt x="0" y="528"/>
                  </a:lnTo>
                  <a:lnTo>
                    <a:pt x="978" y="0"/>
                  </a:lnTo>
                  <a:lnTo>
                    <a:pt x="780" y="5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62" name="Group 106"/>
          <p:cNvGrpSpPr/>
          <p:nvPr/>
        </p:nvGrpSpPr>
        <p:grpSpPr>
          <a:xfrm>
            <a:off x="819000" y="2838600"/>
            <a:ext cx="5167080" cy="2420640"/>
            <a:chOff x="819000" y="2838600"/>
            <a:chExt cx="5167080" cy="2420640"/>
          </a:xfrm>
        </p:grpSpPr>
        <p:sp>
          <p:nvSpPr>
            <p:cNvPr id="663" name="Freeform 104"/>
            <p:cNvSpPr/>
            <p:nvPr/>
          </p:nvSpPr>
          <p:spPr>
            <a:xfrm>
              <a:off x="3381120" y="2838600"/>
              <a:ext cx="2604960" cy="1217520"/>
            </a:xfrm>
            <a:custGeom>
              <a:avLst/>
              <a:gdLst/>
              <a:ahLst/>
              <a:rect l="l" t="t" r="r" b="b"/>
              <a:pathLst>
                <a:path w="978" h="528">
                  <a:moveTo>
                    <a:pt x="780" y="528"/>
                  </a:moveTo>
                  <a:lnTo>
                    <a:pt x="0" y="528"/>
                  </a:lnTo>
                  <a:lnTo>
                    <a:pt x="978" y="0"/>
                  </a:lnTo>
                  <a:lnTo>
                    <a:pt x="780" y="528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4" name="Freeform 105"/>
            <p:cNvSpPr/>
            <p:nvPr/>
          </p:nvSpPr>
          <p:spPr>
            <a:xfrm flipH="1" flipV="1">
              <a:off x="819000" y="4041720"/>
              <a:ext cx="2604960" cy="1217520"/>
            </a:xfrm>
            <a:custGeom>
              <a:avLst/>
              <a:gdLst/>
              <a:ahLst/>
              <a:rect l="l" t="t" r="r" b="b"/>
              <a:pathLst>
                <a:path w="978" h="528">
                  <a:moveTo>
                    <a:pt x="780" y="528"/>
                  </a:moveTo>
                  <a:lnTo>
                    <a:pt x="0" y="528"/>
                  </a:lnTo>
                  <a:lnTo>
                    <a:pt x="978" y="0"/>
                  </a:lnTo>
                  <a:lnTo>
                    <a:pt x="780" y="5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65" name="Rectangle 83"/>
          <p:cNvSpPr/>
          <p:nvPr/>
        </p:nvSpPr>
        <p:spPr>
          <a:xfrm>
            <a:off x="3069360" y="393228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Arc 91"/>
          <p:cNvSpPr/>
          <p:nvPr/>
        </p:nvSpPr>
        <p:spPr>
          <a:xfrm flipH="1" rot="5614200">
            <a:off x="4317840" y="2892600"/>
            <a:ext cx="1357560" cy="927000"/>
          </a:xfrm>
          <a:custGeom>
            <a:avLst/>
            <a:gdLst/>
            <a:ahLst/>
            <a:rect l="l" t="t" r="r" b="b"/>
            <a:pathLst>
              <a:path fill="none" w="20776" h="21572">
                <a:moveTo>
                  <a:pt x="1099" y="-1"/>
                </a:moveTo>
                <a:cubicBezTo>
                  <a:pt x="10335" y="470"/>
                  <a:pt x="18246" y="6768"/>
                  <a:pt x="20776" y="15663"/>
                </a:cubicBezTo>
              </a:path>
              <a:path stroke="0" w="20776" h="21572">
                <a:moveTo>
                  <a:pt x="1099" y="-1"/>
                </a:moveTo>
                <a:cubicBezTo>
                  <a:pt x="10335" y="470"/>
                  <a:pt x="18246" y="6768"/>
                  <a:pt x="20776" y="15663"/>
                </a:cubicBezTo>
                <a:lnTo>
                  <a:pt x="0" y="21572"/>
                </a:lnTo>
                <a:lnTo>
                  <a:pt x="1099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Text Box 144"/>
          <p:cNvSpPr/>
          <p:nvPr/>
        </p:nvSpPr>
        <p:spPr>
          <a:xfrm>
            <a:off x="3780000" y="4724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OA'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或∠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OB'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Rectangle 145"/>
          <p:cNvSpPr/>
          <p:nvPr/>
        </p:nvSpPr>
        <p:spPr>
          <a:xfrm>
            <a:off x="2124000" y="4797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旋转角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_______________________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1" dur="3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33"/>
          <p:cNvSpPr/>
          <p:nvPr/>
        </p:nvSpPr>
        <p:spPr>
          <a:xfrm>
            <a:off x="0" y="260280"/>
            <a:ext cx="3311640" cy="792360"/>
          </a:xfrm>
          <a:prstGeom prst="cloudCallout">
            <a:avLst>
              <a:gd name="adj1" fmla="val 7814"/>
              <a:gd name="adj2" fmla="val 13777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70" name="Group 123"/>
          <p:cNvGrpSpPr/>
          <p:nvPr/>
        </p:nvGrpSpPr>
        <p:grpSpPr>
          <a:xfrm>
            <a:off x="1908000" y="1109520"/>
            <a:ext cx="6335280" cy="5532120"/>
            <a:chOff x="1908000" y="1109520"/>
            <a:chExt cx="6335280" cy="5532120"/>
          </a:xfrm>
        </p:grpSpPr>
        <p:grpSp>
          <p:nvGrpSpPr>
            <p:cNvPr id="671" name="Group 124"/>
            <p:cNvGrpSpPr/>
            <p:nvPr/>
          </p:nvGrpSpPr>
          <p:grpSpPr>
            <a:xfrm>
              <a:off x="1908000" y="1109520"/>
              <a:ext cx="3902040" cy="3143160"/>
              <a:chOff x="1908000" y="1109520"/>
              <a:chExt cx="3902040" cy="3143160"/>
            </a:xfrm>
          </p:grpSpPr>
          <p:sp>
            <p:nvSpPr>
              <p:cNvPr id="672" name="Text Box 125"/>
              <p:cNvSpPr/>
              <p:nvPr/>
            </p:nvSpPr>
            <p:spPr>
              <a:xfrm>
                <a:off x="1908000" y="2478240"/>
                <a:ext cx="6476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3" name="Text Box 126"/>
              <p:cNvSpPr/>
              <p:nvPr/>
            </p:nvSpPr>
            <p:spPr>
              <a:xfrm>
                <a:off x="4298760" y="11095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4" name="Text Box 127"/>
              <p:cNvSpPr/>
              <p:nvPr/>
            </p:nvSpPr>
            <p:spPr>
              <a:xfrm>
                <a:off x="5162400" y="25225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5" name="Text Box 128"/>
              <p:cNvSpPr/>
              <p:nvPr/>
            </p:nvSpPr>
            <p:spPr>
              <a:xfrm>
                <a:off x="4500360" y="37321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6" name="AutoShape 129"/>
              <p:cNvSpPr/>
              <p:nvPr/>
            </p:nvSpPr>
            <p:spPr>
              <a:xfrm rot="9072000">
                <a:off x="2626560" y="2074680"/>
                <a:ext cx="2449800" cy="1368720"/>
              </a:xfrm>
              <a:prstGeom prst="rtTriangle">
                <a:avLst/>
              </a:prstGeom>
              <a:solidFill>
                <a:srgbClr val="ccec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7" name="Freeform 130"/>
              <p:cNvSpPr/>
              <p:nvPr/>
            </p:nvSpPr>
            <p:spPr>
              <a:xfrm>
                <a:off x="2411280" y="2738520"/>
                <a:ext cx="2665440" cy="1136520"/>
              </a:xfrm>
              <a:custGeom>
                <a:avLst/>
                <a:gdLst/>
                <a:ahLst/>
                <a:rect l="l" t="t" r="r" b="b"/>
                <a:pathLst>
                  <a:path w="1551" h="3">
                    <a:moveTo>
                      <a:pt x="0" y="0"/>
                    </a:moveTo>
                    <a:lnTo>
                      <a:pt x="1551" y="3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8" name="Freeform 131"/>
              <p:cNvSpPr/>
              <p:nvPr/>
            </p:nvSpPr>
            <p:spPr>
              <a:xfrm>
                <a:off x="4571640" y="1571760"/>
                <a:ext cx="505080" cy="2303280"/>
              </a:xfrm>
              <a:custGeom>
                <a:avLst/>
                <a:gdLst/>
                <a:ahLst/>
                <a:rect l="l" t="t" r="r" b="b"/>
                <a:pathLst>
                  <a:path w="667" h="1262">
                    <a:moveTo>
                      <a:pt x="0" y="0"/>
                    </a:moveTo>
                    <a:lnTo>
                      <a:pt x="667" y="1262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9" name="Freeform 132"/>
              <p:cNvSpPr/>
              <p:nvPr/>
            </p:nvSpPr>
            <p:spPr>
              <a:xfrm>
                <a:off x="5076720" y="2795400"/>
                <a:ext cx="144360" cy="1008360"/>
              </a:xfrm>
              <a:custGeom>
                <a:avLst/>
                <a:gdLst/>
                <a:ahLst/>
                <a:rect l="l" t="t" r="r" b="b"/>
                <a:pathLst>
                  <a:path w="45" h="738">
                    <a:moveTo>
                      <a:pt x="45" y="0"/>
                    </a:moveTo>
                    <a:lnTo>
                      <a:pt x="0" y="738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0" name="Oval 133"/>
              <p:cNvSpPr/>
              <p:nvPr/>
            </p:nvSpPr>
            <p:spPr>
              <a:xfrm>
                <a:off x="5005080" y="3803760"/>
                <a:ext cx="144720" cy="144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134"/>
            <p:cNvGrpSpPr/>
            <p:nvPr/>
          </p:nvGrpSpPr>
          <p:grpSpPr>
            <a:xfrm>
              <a:off x="4341240" y="3498480"/>
              <a:ext cx="3902040" cy="3143160"/>
              <a:chOff x="4341240" y="3498480"/>
              <a:chExt cx="3902040" cy="3143160"/>
            </a:xfrm>
          </p:grpSpPr>
          <p:sp>
            <p:nvSpPr>
              <p:cNvPr id="682" name="Text Box 135"/>
              <p:cNvSpPr/>
              <p:nvPr/>
            </p:nvSpPr>
            <p:spPr>
              <a:xfrm rot="10800000">
                <a:off x="7595640" y="4754160"/>
                <a:ext cx="6476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3" name="Text Box 136"/>
              <p:cNvSpPr/>
              <p:nvPr/>
            </p:nvSpPr>
            <p:spPr>
              <a:xfrm rot="10800000">
                <a:off x="5204880" y="61225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4" name="Text Box 137"/>
              <p:cNvSpPr/>
              <p:nvPr/>
            </p:nvSpPr>
            <p:spPr>
              <a:xfrm rot="10800000">
                <a:off x="4341240" y="47095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5" name="Text Box 138"/>
              <p:cNvSpPr/>
              <p:nvPr/>
            </p:nvSpPr>
            <p:spPr>
              <a:xfrm rot="10800000">
                <a:off x="5003280" y="34984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6" name="AutoShape 139"/>
              <p:cNvSpPr/>
              <p:nvPr/>
            </p:nvSpPr>
            <p:spPr>
              <a:xfrm rot="19872000">
                <a:off x="5074560" y="4307400"/>
                <a:ext cx="2449800" cy="1368720"/>
              </a:xfrm>
              <a:prstGeom prst="rtTriangl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7" name="Freeform 140"/>
              <p:cNvSpPr/>
              <p:nvPr/>
            </p:nvSpPr>
            <p:spPr>
              <a:xfrm rot="10800000">
                <a:off x="5074560" y="3876120"/>
                <a:ext cx="2665440" cy="1136520"/>
              </a:xfrm>
              <a:custGeom>
                <a:avLst/>
                <a:gdLst/>
                <a:ahLst/>
                <a:rect l="l" t="t" r="r" b="b"/>
                <a:pathLst>
                  <a:path w="1551" h="3">
                    <a:moveTo>
                      <a:pt x="0" y="0"/>
                    </a:moveTo>
                    <a:lnTo>
                      <a:pt x="1551" y="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8" name="Freeform 141"/>
              <p:cNvSpPr/>
              <p:nvPr/>
            </p:nvSpPr>
            <p:spPr>
              <a:xfrm rot="10800000">
                <a:off x="5074560" y="3876120"/>
                <a:ext cx="505080" cy="2303280"/>
              </a:xfrm>
              <a:custGeom>
                <a:avLst/>
                <a:gdLst/>
                <a:ahLst/>
                <a:rect l="l" t="t" r="r" b="b"/>
                <a:pathLst>
                  <a:path w="667" h="1262">
                    <a:moveTo>
                      <a:pt x="0" y="0"/>
                    </a:moveTo>
                    <a:lnTo>
                      <a:pt x="667" y="1262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9" name="Freeform 142"/>
              <p:cNvSpPr/>
              <p:nvPr/>
            </p:nvSpPr>
            <p:spPr>
              <a:xfrm rot="10800000">
                <a:off x="4930200" y="3947400"/>
                <a:ext cx="144360" cy="1008360"/>
              </a:xfrm>
              <a:custGeom>
                <a:avLst/>
                <a:gdLst/>
                <a:ahLst/>
                <a:rect l="l" t="t" r="r" b="b"/>
                <a:pathLst>
                  <a:path w="45" h="738">
                    <a:moveTo>
                      <a:pt x="45" y="0"/>
                    </a:moveTo>
                    <a:lnTo>
                      <a:pt x="0" y="73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0" name="Oval 143"/>
              <p:cNvSpPr/>
              <p:nvPr/>
            </p:nvSpPr>
            <p:spPr>
              <a:xfrm rot="10800000">
                <a:off x="5001480" y="3803040"/>
                <a:ext cx="144720" cy="144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691" name="Freeform 67"/>
          <p:cNvSpPr/>
          <p:nvPr/>
        </p:nvSpPr>
        <p:spPr>
          <a:xfrm>
            <a:off x="2392200" y="2722680"/>
            <a:ext cx="2665440" cy="1136520"/>
          </a:xfrm>
          <a:custGeom>
            <a:avLst/>
            <a:gdLst/>
            <a:ahLst/>
            <a:rect l="l" t="t" r="r" b="b"/>
            <a:pathLst>
              <a:path w="1551" h="3">
                <a:moveTo>
                  <a:pt x="0" y="0"/>
                </a:moveTo>
                <a:lnTo>
                  <a:pt x="1551" y="3"/>
                </a:ln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Freeform 69"/>
          <p:cNvSpPr/>
          <p:nvPr/>
        </p:nvSpPr>
        <p:spPr>
          <a:xfrm>
            <a:off x="5057640" y="2779560"/>
            <a:ext cx="144720" cy="1008360"/>
          </a:xfrm>
          <a:custGeom>
            <a:avLst/>
            <a:gdLst/>
            <a:ahLst/>
            <a:rect l="l" t="t" r="r" b="b"/>
            <a:pathLst>
              <a:path w="45" h="738">
                <a:moveTo>
                  <a:pt x="45" y="0"/>
                </a:moveTo>
                <a:lnTo>
                  <a:pt x="0" y="738"/>
                </a:ln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Oval 92"/>
          <p:cNvSpPr/>
          <p:nvPr/>
        </p:nvSpPr>
        <p:spPr>
          <a:xfrm>
            <a:off x="4986360" y="37879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1889280" y="2462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4280040" y="10936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5057640" y="2320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AutoShape 4"/>
          <p:cNvSpPr/>
          <p:nvPr/>
        </p:nvSpPr>
        <p:spPr>
          <a:xfrm rot="9072000">
            <a:off x="2607840" y="2058840"/>
            <a:ext cx="2449440" cy="1368720"/>
          </a:xfrm>
          <a:prstGeom prst="rtTriangle">
            <a:avLst/>
          </a:prstGeom>
          <a:solidFill>
            <a:srgbClr val="cce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4481640" y="3716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4626000" y="54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5994360" y="3400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6772320" y="2033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Freeform 68"/>
          <p:cNvSpPr/>
          <p:nvPr/>
        </p:nvSpPr>
        <p:spPr>
          <a:xfrm>
            <a:off x="4552920" y="1555920"/>
            <a:ext cx="504720" cy="2303280"/>
          </a:xfrm>
          <a:custGeom>
            <a:avLst/>
            <a:gdLst/>
            <a:ahLst/>
            <a:rect l="l" t="t" r="r" b="b"/>
            <a:pathLst>
              <a:path w="667" h="1262">
                <a:moveTo>
                  <a:pt x="0" y="0"/>
                </a:moveTo>
                <a:lnTo>
                  <a:pt x="667" y="1262"/>
                </a:ln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03" name="Group 7"/>
          <p:cNvGrpSpPr/>
          <p:nvPr/>
        </p:nvGrpSpPr>
        <p:grpSpPr>
          <a:xfrm>
            <a:off x="3733200" y="1003680"/>
            <a:ext cx="3319560" cy="3000240"/>
            <a:chOff x="3733200" y="1003680"/>
            <a:chExt cx="3319560" cy="3000240"/>
          </a:xfrm>
        </p:grpSpPr>
        <p:sp>
          <p:nvSpPr>
            <p:cNvPr id="704" name="AutoShape 147"/>
            <p:cNvSpPr/>
            <p:nvPr/>
          </p:nvSpPr>
          <p:spPr>
            <a:xfrm rot="12672000">
              <a:off x="4192200" y="1545480"/>
              <a:ext cx="2449440" cy="136836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5" name="Freeform 144"/>
            <p:cNvSpPr/>
            <p:nvPr/>
          </p:nvSpPr>
          <p:spPr>
            <a:xfrm rot="3600000">
              <a:off x="3573000" y="1848600"/>
              <a:ext cx="2607840" cy="1136520"/>
            </a:xfrm>
            <a:custGeom>
              <a:avLst/>
              <a:gdLst/>
              <a:ahLst/>
              <a:rect l="l" t="t" r="r" b="b"/>
              <a:pathLst>
                <a:path w="1551" h="3">
                  <a:moveTo>
                    <a:pt x="0" y="0"/>
                  </a:moveTo>
                  <a:lnTo>
                    <a:pt x="1551" y="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6" name="Freeform 145"/>
            <p:cNvSpPr/>
            <p:nvPr/>
          </p:nvSpPr>
          <p:spPr>
            <a:xfrm rot="3600000">
              <a:off x="5506560" y="3136680"/>
              <a:ext cx="129960" cy="1081080"/>
            </a:xfrm>
            <a:custGeom>
              <a:avLst/>
              <a:gdLst/>
              <a:ahLst/>
              <a:rect l="l" t="t" r="r" b="b"/>
              <a:pathLst>
                <a:path w="45" h="738">
                  <a:moveTo>
                    <a:pt x="45" y="0"/>
                  </a:moveTo>
                  <a:lnTo>
                    <a:pt x="0" y="73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7" name="Freeform 146"/>
            <p:cNvSpPr/>
            <p:nvPr/>
          </p:nvSpPr>
          <p:spPr>
            <a:xfrm rot="3600000">
              <a:off x="5696280" y="1931400"/>
              <a:ext cx="502920" cy="2260440"/>
            </a:xfrm>
            <a:custGeom>
              <a:avLst/>
              <a:gdLst/>
              <a:ahLst/>
              <a:rect l="l" t="t" r="r" b="b"/>
              <a:pathLst>
                <a:path w="667" h="1262">
                  <a:moveTo>
                    <a:pt x="0" y="0"/>
                  </a:moveTo>
                  <a:lnTo>
                    <a:pt x="667" y="1262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08" name="Arc 10"/>
          <p:cNvSpPr/>
          <p:nvPr/>
        </p:nvSpPr>
        <p:spPr>
          <a:xfrm flipH="1" flipV="1" rot="4663800">
            <a:off x="2671920" y="583920"/>
            <a:ext cx="1733760" cy="2590560"/>
          </a:xfrm>
          <a:custGeom>
            <a:avLst/>
            <a:gdLst/>
            <a:ahLst/>
            <a:rect l="l" t="t" r="r" b="b"/>
            <a:pathLst>
              <a:path fill="none" w="21600" h="33126">
                <a:moveTo>
                  <a:pt x="4134" y="0"/>
                </a:moveTo>
                <a:cubicBezTo>
                  <a:pt x="14278" y="1978"/>
                  <a:pt x="21600" y="10865"/>
                  <a:pt x="21600" y="21201"/>
                </a:cubicBezTo>
                <a:cubicBezTo>
                  <a:pt x="21600" y="25442"/>
                  <a:pt x="20351" y="29589"/>
                  <a:pt x="18009" y="-32411"/>
                </a:cubicBezTo>
              </a:path>
              <a:path stroke="0" w="21600" h="33126">
                <a:moveTo>
                  <a:pt x="4134" y="0"/>
                </a:moveTo>
                <a:cubicBezTo>
                  <a:pt x="14278" y="1978"/>
                  <a:pt x="21600" y="10865"/>
                  <a:pt x="21600" y="21201"/>
                </a:cubicBezTo>
                <a:cubicBezTo>
                  <a:pt x="21600" y="25442"/>
                  <a:pt x="20351" y="29589"/>
                  <a:pt x="18009" y="-32411"/>
                </a:cubicBezTo>
                <a:lnTo>
                  <a:pt x="0" y="21201"/>
                </a:lnTo>
                <a:lnTo>
                  <a:pt x="4134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09" name="Group 18"/>
          <p:cNvGrpSpPr/>
          <p:nvPr/>
        </p:nvGrpSpPr>
        <p:grpSpPr>
          <a:xfrm>
            <a:off x="1908000" y="1096920"/>
            <a:ext cx="6335280" cy="5532120"/>
            <a:chOff x="1908000" y="1096920"/>
            <a:chExt cx="6335280" cy="5532120"/>
          </a:xfrm>
        </p:grpSpPr>
        <p:grpSp>
          <p:nvGrpSpPr>
            <p:cNvPr id="710" name="Group 19"/>
            <p:cNvGrpSpPr/>
            <p:nvPr/>
          </p:nvGrpSpPr>
          <p:grpSpPr>
            <a:xfrm>
              <a:off x="1908000" y="1096920"/>
              <a:ext cx="3902040" cy="3143160"/>
              <a:chOff x="1908000" y="1096920"/>
              <a:chExt cx="3902040" cy="3143160"/>
            </a:xfrm>
          </p:grpSpPr>
          <p:sp>
            <p:nvSpPr>
              <p:cNvPr id="711" name="Text Box 20"/>
              <p:cNvSpPr/>
              <p:nvPr/>
            </p:nvSpPr>
            <p:spPr>
              <a:xfrm>
                <a:off x="1908000" y="2465640"/>
                <a:ext cx="6476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2" name="Text Box 21"/>
              <p:cNvSpPr/>
              <p:nvPr/>
            </p:nvSpPr>
            <p:spPr>
              <a:xfrm>
                <a:off x="4298760" y="10969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3" name="Text Box 22"/>
              <p:cNvSpPr/>
              <p:nvPr/>
            </p:nvSpPr>
            <p:spPr>
              <a:xfrm>
                <a:off x="5162400" y="25099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4" name="Text Box 23"/>
              <p:cNvSpPr/>
              <p:nvPr/>
            </p:nvSpPr>
            <p:spPr>
              <a:xfrm>
                <a:off x="4500360" y="3719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5" name="AutoShape 24"/>
              <p:cNvSpPr/>
              <p:nvPr/>
            </p:nvSpPr>
            <p:spPr>
              <a:xfrm rot="9072000">
                <a:off x="2626560" y="2062080"/>
                <a:ext cx="2449800" cy="1368720"/>
              </a:xfrm>
              <a:prstGeom prst="rtTriangle">
                <a:avLst/>
              </a:prstGeom>
              <a:solidFill>
                <a:srgbClr val="ccec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6" name="Freeform 25"/>
              <p:cNvSpPr/>
              <p:nvPr/>
            </p:nvSpPr>
            <p:spPr>
              <a:xfrm>
                <a:off x="2411280" y="2725920"/>
                <a:ext cx="2665440" cy="1136520"/>
              </a:xfrm>
              <a:custGeom>
                <a:avLst/>
                <a:gdLst/>
                <a:ahLst/>
                <a:rect l="l" t="t" r="r" b="b"/>
                <a:pathLst>
                  <a:path w="1551" h="3">
                    <a:moveTo>
                      <a:pt x="0" y="0"/>
                    </a:moveTo>
                    <a:lnTo>
                      <a:pt x="1551" y="3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7" name="Freeform 26"/>
              <p:cNvSpPr/>
              <p:nvPr/>
            </p:nvSpPr>
            <p:spPr>
              <a:xfrm>
                <a:off x="4571640" y="1559160"/>
                <a:ext cx="505080" cy="2303280"/>
              </a:xfrm>
              <a:custGeom>
                <a:avLst/>
                <a:gdLst/>
                <a:ahLst/>
                <a:rect l="l" t="t" r="r" b="b"/>
                <a:pathLst>
                  <a:path w="667" h="1262">
                    <a:moveTo>
                      <a:pt x="0" y="0"/>
                    </a:moveTo>
                    <a:lnTo>
                      <a:pt x="667" y="1262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8" name="Freeform 27"/>
              <p:cNvSpPr/>
              <p:nvPr/>
            </p:nvSpPr>
            <p:spPr>
              <a:xfrm>
                <a:off x="5076720" y="2782800"/>
                <a:ext cx="144360" cy="1008360"/>
              </a:xfrm>
              <a:custGeom>
                <a:avLst/>
                <a:gdLst/>
                <a:ahLst/>
                <a:rect l="l" t="t" r="r" b="b"/>
                <a:pathLst>
                  <a:path w="45" h="738">
                    <a:moveTo>
                      <a:pt x="45" y="0"/>
                    </a:moveTo>
                    <a:lnTo>
                      <a:pt x="0" y="738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9" name="Oval 28"/>
              <p:cNvSpPr/>
              <p:nvPr/>
            </p:nvSpPr>
            <p:spPr>
              <a:xfrm>
                <a:off x="5005080" y="3791160"/>
                <a:ext cx="144720" cy="144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29"/>
            <p:cNvGrpSpPr/>
            <p:nvPr/>
          </p:nvGrpSpPr>
          <p:grpSpPr>
            <a:xfrm>
              <a:off x="4341240" y="3485880"/>
              <a:ext cx="3902040" cy="3143160"/>
              <a:chOff x="4341240" y="3485880"/>
              <a:chExt cx="3902040" cy="3143160"/>
            </a:xfrm>
          </p:grpSpPr>
          <p:sp>
            <p:nvSpPr>
              <p:cNvPr id="721" name="Text Box 30"/>
              <p:cNvSpPr/>
              <p:nvPr/>
            </p:nvSpPr>
            <p:spPr>
              <a:xfrm rot="10800000">
                <a:off x="7595640" y="4741560"/>
                <a:ext cx="6476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2" name="Text Box 31"/>
              <p:cNvSpPr/>
              <p:nvPr/>
            </p:nvSpPr>
            <p:spPr>
              <a:xfrm rot="10800000">
                <a:off x="5204880" y="61099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3" name="Text Box 32"/>
              <p:cNvSpPr/>
              <p:nvPr/>
            </p:nvSpPr>
            <p:spPr>
              <a:xfrm rot="10800000">
                <a:off x="4341240" y="46969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4" name="Text Box 33"/>
              <p:cNvSpPr/>
              <p:nvPr/>
            </p:nvSpPr>
            <p:spPr>
              <a:xfrm rot="10800000">
                <a:off x="5003280" y="34858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5" name="AutoShape 34"/>
              <p:cNvSpPr/>
              <p:nvPr/>
            </p:nvSpPr>
            <p:spPr>
              <a:xfrm rot="19872000">
                <a:off x="5074560" y="4294800"/>
                <a:ext cx="2449800" cy="1368720"/>
              </a:xfrm>
              <a:prstGeom prst="rtTriangl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6" name="Freeform 35"/>
              <p:cNvSpPr/>
              <p:nvPr/>
            </p:nvSpPr>
            <p:spPr>
              <a:xfrm rot="10800000">
                <a:off x="5074560" y="3863520"/>
                <a:ext cx="2665440" cy="1136520"/>
              </a:xfrm>
              <a:custGeom>
                <a:avLst/>
                <a:gdLst/>
                <a:ahLst/>
                <a:rect l="l" t="t" r="r" b="b"/>
                <a:pathLst>
                  <a:path w="1551" h="3">
                    <a:moveTo>
                      <a:pt x="0" y="0"/>
                    </a:moveTo>
                    <a:lnTo>
                      <a:pt x="1551" y="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7" name="Freeform 36"/>
              <p:cNvSpPr/>
              <p:nvPr/>
            </p:nvSpPr>
            <p:spPr>
              <a:xfrm rot="10800000">
                <a:off x="5074560" y="3863520"/>
                <a:ext cx="505080" cy="2303280"/>
              </a:xfrm>
              <a:custGeom>
                <a:avLst/>
                <a:gdLst/>
                <a:ahLst/>
                <a:rect l="l" t="t" r="r" b="b"/>
                <a:pathLst>
                  <a:path w="667" h="1262">
                    <a:moveTo>
                      <a:pt x="0" y="0"/>
                    </a:moveTo>
                    <a:lnTo>
                      <a:pt x="667" y="1262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8" name="Freeform 37"/>
              <p:cNvSpPr/>
              <p:nvPr/>
            </p:nvSpPr>
            <p:spPr>
              <a:xfrm rot="10800000">
                <a:off x="4930200" y="3934800"/>
                <a:ext cx="144360" cy="1008360"/>
              </a:xfrm>
              <a:custGeom>
                <a:avLst/>
                <a:gdLst/>
                <a:ahLst/>
                <a:rect l="l" t="t" r="r" b="b"/>
                <a:pathLst>
                  <a:path w="45" h="738">
                    <a:moveTo>
                      <a:pt x="45" y="0"/>
                    </a:moveTo>
                    <a:lnTo>
                      <a:pt x="0" y="73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9" name="Oval 38"/>
              <p:cNvSpPr/>
              <p:nvPr/>
            </p:nvSpPr>
            <p:spPr>
              <a:xfrm rot="10800000">
                <a:off x="5001480" y="3790440"/>
                <a:ext cx="144720" cy="144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Arc 9"/>
          <p:cNvSpPr/>
          <p:nvPr/>
        </p:nvSpPr>
        <p:spPr>
          <a:xfrm rot="15984000">
            <a:off x="4254840" y="1899000"/>
            <a:ext cx="3022560" cy="2138400"/>
          </a:xfrm>
          <a:custGeom>
            <a:avLst/>
            <a:gdLst/>
            <a:ahLst/>
            <a:rect l="l" t="t" r="r" b="b"/>
            <a:pathLst>
              <a:path fill="none" w="21600" h="16950">
                <a:moveTo>
                  <a:pt x="21532" y="0"/>
                </a:moveTo>
                <a:cubicBezTo>
                  <a:pt x="21577" y="566"/>
                  <a:pt x="21600" y="1134"/>
                  <a:pt x="21600" y="1702"/>
                </a:cubicBezTo>
                <a:cubicBezTo>
                  <a:pt x="21600" y="7418"/>
                  <a:pt x="19334" y="12901"/>
                  <a:pt x="15298" y="16949"/>
                </a:cubicBezTo>
              </a:path>
              <a:path stroke="0" w="21600" h="16950">
                <a:moveTo>
                  <a:pt x="21532" y="0"/>
                </a:moveTo>
                <a:cubicBezTo>
                  <a:pt x="21577" y="566"/>
                  <a:pt x="21600" y="1134"/>
                  <a:pt x="21600" y="1702"/>
                </a:cubicBezTo>
                <a:cubicBezTo>
                  <a:pt x="21600" y="7418"/>
                  <a:pt x="19334" y="12901"/>
                  <a:pt x="15298" y="16949"/>
                </a:cubicBezTo>
                <a:lnTo>
                  <a:pt x="0" y="1702"/>
                </a:lnTo>
                <a:lnTo>
                  <a:pt x="21532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1" name="Arc 8"/>
          <p:cNvSpPr/>
          <p:nvPr/>
        </p:nvSpPr>
        <p:spPr>
          <a:xfrm>
            <a:off x="5259240" y="2766960"/>
            <a:ext cx="851040" cy="1152720"/>
          </a:xfrm>
          <a:custGeom>
            <a:avLst/>
            <a:gdLst/>
            <a:ahLst/>
            <a:rect l="l" t="t" r="r" b="b"/>
            <a:pathLst>
              <a:path fill="none" w="19667" h="21600">
                <a:moveTo>
                  <a:pt x="-1" y="0"/>
                </a:moveTo>
                <a:cubicBezTo>
                  <a:pt x="8472" y="0"/>
                  <a:pt x="16163" y="4953"/>
                  <a:pt x="19666" y="12668"/>
                </a:cubicBezTo>
              </a:path>
              <a:path stroke="0" w="19667" h="21600">
                <a:moveTo>
                  <a:pt x="-1" y="0"/>
                </a:moveTo>
                <a:cubicBezTo>
                  <a:pt x="8472" y="0"/>
                  <a:pt x="16163" y="4953"/>
                  <a:pt x="19666" y="1266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2" name="Text Box 40"/>
          <p:cNvSpPr/>
          <p:nvPr/>
        </p:nvSpPr>
        <p:spPr>
          <a:xfrm>
            <a:off x="3216240" y="4775040"/>
            <a:ext cx="44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∠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O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∠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Text Box 43"/>
          <p:cNvSpPr/>
          <p:nvPr/>
        </p:nvSpPr>
        <p:spPr>
          <a:xfrm>
            <a:off x="1450800" y="4724280"/>
            <a:ext cx="69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旋转角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97" dur="3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6:59:35Z</dcterms:created>
  <dc:creator>Microsoft user</dc:creator>
  <dc:description/>
  <dc:language>en-US</dc:language>
  <cp:lastModifiedBy>a</cp:lastModifiedBy>
  <dcterms:modified xsi:type="dcterms:W3CDTF">2015-03-16T15:05:31Z</dcterms:modified>
  <cp:revision>246</cp:revision>
  <dc:subject/>
  <dc:title>PowerPoint 演示文稿</dc:title>
</cp:coreProperties>
</file>