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2.jpeg" ContentType="image/jpeg"/>
  <Override PartName="/ppt/media/image7.jpeg" ContentType="image/jpeg"/>
  <Override PartName="/ppt/media/image20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27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23.png" ContentType="image/png"/>
  <Override PartName="/ppt/media/image4.png" ContentType="image/png"/>
  <Override PartName="/ppt/media/image3.png" ContentType="image/png"/>
  <Override PartName="/ppt/media/image24.jpeg" ContentType="image/jpeg"/>
  <Override PartName="/ppt/media/image22.png" ContentType="image/png"/>
  <Override PartName="/ppt/media/image1.jpeg" ContentType="image/jpeg"/>
  <Override PartName="/ppt/media/%E6%8F%90%E9%97%AE%E6%97%B6%E5%A5%8F%E5%B9%BB%E6%83%B3%E7%A9%BA%E9%97%B4.wav" ContentType="audio/x-wav"/>
  <Override PartName="/ppt/media/image15.jpeg" ContentType="image/jpeg"/>
  <Override PartName="/ppt/media/image21.png" ContentType="image/png"/>
  <Override PartName="/ppt/media/image19.png" ContentType="image/png"/>
  <Override PartName="/ppt/media/image18.jpeg" ContentType="image/jpeg"/>
  <Override PartName="/ppt/media/image17.png" ContentType="image/png"/>
  <Override PartName="/ppt/media/image16.jpeg" ContentType="image/jpeg"/>
  <Override PartName="/ppt/media/image14.png" ContentType="image/png"/>
  <Override PartName="/ppt/media/image25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81144-121D-49ED-904F-859887AED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81E75-5B85-41C0-95D6-A143A052C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B7E387-A672-401C-9E84-B9CD3F114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64668E-2037-473B-AE6C-9E2D0A539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2D62D3-0EB9-42E7-ABBA-5A356A491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463EF3-95B2-4698-A3C9-F7389681E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94C5B1-7A76-4003-B1D0-0B783AA77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85ADCE-E87D-4159-8F84-B0CAA7F14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F5D5B8-9BCA-4F90-B75F-7B7B3D105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855903-36BD-4D8E-9CB0-C588F7AC1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EB94CF-090A-47D0-90F6-ACAE99CB2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33FB7A-34B1-46B1-AD87-DA2C4999C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43447-F920-4298-B5F3-7D8B6E438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C59477-6757-4438-9B6F-D68782ED5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05F58C-1CBD-4519-88AC-266F4001A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3B3C50-A7C7-491D-B6F6-CCEDCFF8C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82AC2C-8FE3-4184-A053-73D56EAEB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E934A6-6CBC-4AEF-8C30-71678E076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AB4EA0-6477-4295-AC7C-DAD916E88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175B4A-A9EF-4939-95D6-D50C4F139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2BB7A0-F75A-4D57-A670-725674941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BE95C1-FE35-4595-87E1-FBAF4D56F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4C32F0-F123-431C-9AFD-9455A9A60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30A2F-025B-494A-A0DB-FF16290D1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B4E951-FBC9-4FEB-A325-0361EEBD2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1A249E-AB1B-4FC1-AF02-12D1E5C76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0E9A74-2077-4679-B563-BB7CCD06C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66978D-BC07-46BE-91BC-9CDEF7C4D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47FF51-ED3B-47F4-B3FE-6CAB272EA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3A56E7-B729-4DB3-A649-6BB5ECE95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CD1630-F6A4-406D-B53C-C324D0B28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2800EF-C7D8-4A87-BB23-225D0E6B7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95962C-9837-4937-BCBA-DBD28D185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777D59-01C0-4270-A1C5-A2164F4C9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14B55-859B-4101-AC28-11722E785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A85265-D600-4714-A6B8-6E41DA4B2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488B2E-AC82-4AEE-AD71-4FE17C9C3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491E59-3138-45DD-8F0E-8ED6106B2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F6F9F9-C1B4-450F-9EF2-7CF196679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9B683F-19EA-436E-BB65-6279CE3C5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D3296F-8984-452E-8CBA-23CAFB2ED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054009-F5D2-4C38-85F5-63A6D08BE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6D6601-F883-4D94-8231-FEF4499C9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593867-C891-4DF1-BDB5-71B657EAD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5CD3E4-0D75-4178-AE72-0642F5A50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2525C-FC7F-4FE2-9238-4A3028640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089AC5-B153-4229-B35D-D4781643B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E705AF-37B0-4198-9482-3E280CE99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FE93E6-D520-4A6E-9D39-8FB63C7EA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C2DC9E-44FE-41D7-99B5-EFCB3E0D2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5A4AEA-6ED4-4CE4-9257-0D79D938E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656B6D2-7A3B-429F-AF3E-EA4D5FC18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ABC05FA-A126-43DD-92FF-CAA2BE953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B50F3BA-E21D-4870-A938-ED3159DAA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042AB04-0144-4109-8A56-2FB2A961F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16F0461-3B1F-4B35-A3B9-349068F14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0D9DF-28C5-4767-B60B-EE484035F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5B68757-B3F2-43AB-8011-D5E2F694A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DC92972-FC31-435A-9766-03C2205F7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02F5589-32D4-4C2F-9230-9D981C9EC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9C704F7-2DAE-48CF-A036-A88E9B28D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5F68C4C-AF16-49FB-979A-98900DE3C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9A7A7AB-3A04-420F-9257-7011CB963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62C905B-C13E-4B7C-9A99-B63428FAC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91A33-5655-4EEE-89E0-BE56F0B18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D4119-623B-4A71-BD1B-99EE1C911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42279-CA2F-46F4-9BD7-024B708C9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D1539-2CCA-48C8-9F84-8C0B288FA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840D6-1CEA-47FE-9213-E5600BA96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954E7-9241-4AF0-9526-41124D4C8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DAE7B-3AF1-408D-B3B5-4BD1054A9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F4E6A-9654-45B4-926C-C7407829F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EDE32-9B80-4A4E-8250-821514702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E9E22-7FF0-4835-BCFA-82D2C2E96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138AF6-C7C9-42DD-849B-C3CDC0C61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87842E-4B63-4B3A-A782-23D8A8DC9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85EE65-D29E-411C-84C2-BC8746BD0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447EB8-AE0B-4807-B4E6-98EB6ADB0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96524A-E2D4-49D6-B4DB-2AC0BE0C3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F5471-51C3-40DF-ACBA-04824D9D6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1E7576-DB42-464A-9452-560C20909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E77B65-DE7B-4829-9AF0-D09B0EF99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649211-1953-4F8C-B26C-A279B093B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D6CCAA-A144-46D3-AD50-AAD7FF404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73E90A-2295-4661-A7D7-A06E2CB9F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101D28-6E0E-4EAE-88DC-3CF0F3FF7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23F7CA-70A0-4B97-AB0E-9D1B8F066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9AE990-A00F-4A66-A5D6-CB013C1D4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3BD30A-865B-44F6-A04F-1AF40CD30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767D52-C54C-40E9-8C06-E23508B06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E0FF8-82A0-4352-8334-4C19FBBB4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35CDDF-05E3-4E8E-A434-DC7083602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E08EC8-61A5-42E2-9836-A328FC188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A22F06-BC53-4D2D-A09E-DDA08EF66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BC5CA7-03C6-4D3A-B385-86B6438F5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636977-E936-4211-875D-E08CF8017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0F55CB-789F-4486-A553-24C0BEF48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69C9E1-805D-4D39-A44E-6D0531143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2A73A6-D4B0-4095-A0CE-793C3D807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80F821-BBD2-4128-82CB-CF6F660D6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82288F-6087-4AE2-9782-810474414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50277-0AC4-466F-9661-B374A6499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DCFCCB-3F2B-49F4-83DD-4087CF8E0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A32A54-62E0-413E-A156-804EFEA52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9F055A-DDCB-47C6-BA63-D0CD1BD52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FD21A6-4DE6-412A-8B8E-30B222E09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C776D2-FE7A-431E-9413-A8AFD57FD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23C840-FB1B-4453-BA0E-6F979CF3E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3A827E-5F3D-4963-9AB0-D69D2B5B9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1F185C-8795-4CAD-8BE7-82878FEC7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C275B8-ED3A-4C38-9E92-E0FBBC61A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8B90E6-BF9A-4D01-B746-FEFEBF52F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6D2E5-3557-4778-A68A-76BA8E078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21361B-F756-46B7-8614-737275F94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658E3D-3B8B-431E-8295-1B258B073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C427BE-7CBC-4716-B4C0-C8E20A443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B9885C-A3A6-4F37-8E30-5F2530331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CC6D72-EFBC-463D-9C1D-765D3F821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A1E1B6-3BAE-42B9-97FE-FA11F8381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C80570-79F8-4538-8CCF-EF24F283E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792E6E-758F-4A4E-92F1-28D31DA1B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49FFA9-AB88-4E82-8625-EB36A5B6D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0A811D-CB1B-4537-BF3F-6FCD9E0A9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DFEED-5CB4-4170-A3CE-299257E25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609460-71D7-4855-A569-D8C701475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49265F-7CC9-4A8F-9EE3-43A2849B2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F43B98-BE42-4CE9-A20C-8335EE0CC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EF06E8-1AA1-46E6-8B8E-0EDD8453B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69D3D0-8E62-43AD-8411-9AEB0379D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10144C-FE79-4D6B-97EA-22F49AEAF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E40FA0-2C2B-47BE-B849-5E93D156C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99CF0E-BF89-4BBD-A3BF-8EE88A6C5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19474D-D66C-4EF1-8AE4-3803C8DCC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D50A33-4442-4D26-B0F8-C2B4AC5F3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EB23C-C39F-4D50-B5B7-FDF8CF45F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870244-7365-4D7E-8332-B9C9FB115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17B415-D384-4973-AC01-7B76677E3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46BBDF-C6CA-4499-8363-B7E66C248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4B2945-B46B-42E1-8855-5E8D6D9F1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07E374-2129-4DA4-BD8D-FB4E0BFDF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232557-125B-452C-B739-140B84670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13D261-7678-4596-8050-4D8899145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CDC052-6126-4E1B-8C9D-33BA9B373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DDC90C-2FC3-40CC-BB2A-60A9F52F9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802AC5-B67E-486C-AF63-381C74079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B0AD9-758D-42FA-ABEC-722DD4318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360DC3-68C3-41A0-88F8-A22814DEC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6521E6-44D1-47CC-9B2E-19FC385C8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B8A1E9-915A-4BB5-BBA7-40727EA14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2FD35C-3197-4C66-A672-B18D34614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299796-44BD-452D-8214-62DA41650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99A9BA-F891-4A02-8F1A-6DC4F95F4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EBA028-9E9A-48C5-880E-BA53AE391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97C438-8476-455D-A1BA-C7A92BD1C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88FF98-A010-4CC1-B1D1-1C8C5D4DB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812577-37AC-4C60-8143-01E2BB735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2CEF7-575F-4FFD-8916-2DF2284DFE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13BCD-3466-4031-A7EA-E67B0422A56F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9FC8D-6E92-4D3D-B9E3-4D62025911D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992C1-0781-4273-BE24-3F8860AA1B32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E36B7-ACAB-43B7-9C0B-51B10886808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E6511-FF83-4E5B-8867-81825AD9D2C2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DDAC2-322B-49CA-8831-7D54338B862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0E751-C9B0-4406-B42F-EBBD9AD62B1A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B2E05-8DB1-4D36-BF40-20CD6CFBFE4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140E6-B6EA-4D37-AE12-D16641BC8299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10320-5C2F-48AA-A53E-0357E89F1E1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11E15-683E-4A09-8997-DDC55C8D2B59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BEFAF-DDDD-4373-822E-681F1B57627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73A24-0312-479A-B4A7-2ACF773F4A4C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FA2A6-D5BA-4C7E-BBE3-970579A3713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AFF55-4DC6-44FE-8B9F-9B78F84F17BB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B3AF4-B862-4642-A4D1-3904D057F9E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AAF2E-C176-40AB-99A8-18EBF060870B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4BC46-701C-455E-A1E0-4F11FFC5888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0A593-1C2D-41A9-9947-42A63769C0ED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2CE0D-261F-49B1-B0C0-AA92CFEE004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6CD7D-CF07-4D2A-A4C7-D48A1AD22604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FF1D9-FE85-456C-B6A3-F3C1E9390ED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A8573-9C1D-4767-82F5-A330D9035974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96B77-68DE-4178-B459-61D7022A756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audio" Target="../media/&#25552;&#38382;&#26102;&#22863;&#24187;&#24819;&#31354;&#38388;.wav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8.xml"/><Relationship Id="rId3" Type="http://schemas.openxmlformats.org/officeDocument/2006/relationships/image" Target="../media/image3.png"/><Relationship Id="rId4" Type="http://schemas.openxmlformats.org/officeDocument/2006/relationships/slide" Target="slide8.xml"/><Relationship Id="rId5" Type="http://schemas.openxmlformats.org/officeDocument/2006/relationships/image" Target="../media/image3.png"/><Relationship Id="rId6" Type="http://schemas.openxmlformats.org/officeDocument/2006/relationships/slide" Target="slide3.xml"/><Relationship Id="rId7" Type="http://schemas.openxmlformats.org/officeDocument/2006/relationships/image" Target="../media/image3.png"/><Relationship Id="rId8" Type="http://schemas.openxmlformats.org/officeDocument/2006/relationships/slide" Target="slide10.xml"/><Relationship Id="rId9" Type="http://schemas.openxmlformats.org/officeDocument/2006/relationships/image" Target="../media/image3.png"/><Relationship Id="rId10" Type="http://schemas.openxmlformats.org/officeDocument/2006/relationships/slide" Target="slide6.xml"/><Relationship Id="rId11" Type="http://schemas.openxmlformats.org/officeDocument/2006/relationships/image" Target="../media/image3.png"/><Relationship Id="rId12" Type="http://schemas.openxmlformats.org/officeDocument/2006/relationships/slide" Target="slide2.xml"/><Relationship Id="rId13" Type="http://schemas.openxmlformats.org/officeDocument/2006/relationships/slide" Target="slide16.xml"/><Relationship Id="rId14" Type="http://schemas.openxmlformats.org/officeDocument/2006/relationships/image" Target="../media/image3.png"/><Relationship Id="rId1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Picture 2" descr="鲁迅"/>
          <p:cNvPicPr/>
          <p:nvPr/>
        </p:nvPicPr>
        <p:blipFill>
          <a:blip r:embed="rId1"/>
          <a:stretch/>
        </p:blipFill>
        <p:spPr>
          <a:xfrm>
            <a:off x="1014480" y="260280"/>
            <a:ext cx="4147920" cy="5761080"/>
          </a:xfrm>
          <a:prstGeom prst="rect">
            <a:avLst/>
          </a:prstGeom>
          <a:ln w="0">
            <a:noFill/>
          </a:ln>
        </p:spPr>
      </p:pic>
      <p:sp>
        <p:nvSpPr>
          <p:cNvPr id="534" name="Text Box 3"/>
          <p:cNvSpPr/>
          <p:nvPr/>
        </p:nvSpPr>
        <p:spPr>
          <a:xfrm>
            <a:off x="4427640" y="746280"/>
            <a:ext cx="374652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0" spc="-1" strike="noStrike">
                <a:solidFill>
                  <a:srgbClr val="000000"/>
                </a:solidFill>
                <a:latin typeface="Arial"/>
                <a:ea typeface="华文新魏"/>
              </a:rPr>
              <a:t>藤野先生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华文新魏"/>
              </a:rPr>
              <a:t>鲁迅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2" name="Picture 2" descr="仙台学校"/>
          <p:cNvPicPr/>
          <p:nvPr/>
        </p:nvPicPr>
        <p:blipFill>
          <a:blip r:embed="rId1"/>
          <a:stretch/>
        </p:blipFill>
        <p:spPr>
          <a:xfrm>
            <a:off x="1066680" y="325440"/>
            <a:ext cx="7620120" cy="5389560"/>
          </a:xfrm>
          <a:prstGeom prst="rect">
            <a:avLst/>
          </a:prstGeom>
          <a:ln w="0">
            <a:noFill/>
          </a:ln>
        </p:spPr>
      </p:pic>
      <p:sp>
        <p:nvSpPr>
          <p:cNvPr id="593" name="Text Box 3"/>
          <p:cNvSpPr/>
          <p:nvPr/>
        </p:nvSpPr>
        <p:spPr>
          <a:xfrm>
            <a:off x="3625560" y="580716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仙台医学专门学校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AutoShape 4">
            <a:hlinkClick r:id="rId2" action="ppaction://hlinksldjump"/>
          </p:cNvPr>
          <p:cNvSpPr/>
          <p:nvPr/>
        </p:nvSpPr>
        <p:spPr>
          <a:xfrm>
            <a:off x="8077320" y="6095880"/>
            <a:ext cx="304560" cy="38124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32">
                <a:moveTo>
                  <a:pt x="0" y="0"/>
                </a:moveTo>
                <a:lnTo>
                  <a:pt x="21600" y="0"/>
                </a:lnTo>
                <a:lnTo>
                  <a:pt x="21600" y="27032"/>
                </a:lnTo>
                <a:lnTo>
                  <a:pt x="0" y="27032"/>
                </a:lnTo>
                <a:close/>
              </a:path>
              <a:path fill="lightenLess" w="21600" h="2703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32">
                <a:moveTo>
                  <a:pt x="21600" y="0"/>
                </a:moveTo>
                <a:lnTo>
                  <a:pt x="21600" y="27032"/>
                </a:lnTo>
                <a:lnTo>
                  <a:pt x="20200" y="25632"/>
                </a:lnTo>
                <a:lnTo>
                  <a:pt x="20200" y="1400"/>
                </a:lnTo>
                <a:close/>
              </a:path>
              <a:path fill="darkenLess" w="21600" h="27032">
                <a:moveTo>
                  <a:pt x="21600" y="27032"/>
                </a:moveTo>
                <a:lnTo>
                  <a:pt x="0" y="27032"/>
                </a:lnTo>
                <a:lnTo>
                  <a:pt x="1400" y="25632"/>
                </a:lnTo>
                <a:lnTo>
                  <a:pt x="20200" y="25632"/>
                </a:lnTo>
                <a:close/>
              </a:path>
              <a:path fill="lighten" w="21600" h="27032">
                <a:moveTo>
                  <a:pt x="0" y="27032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32"/>
                </a:lnTo>
                <a:close/>
              </a:path>
              <a:path fill="darken" w="21600" h="27032">
                <a:moveTo>
                  <a:pt x="7301" y="13516"/>
                </a:moveTo>
                <a:lnTo>
                  <a:pt x="17806" y="6509"/>
                </a:lnTo>
                <a:lnTo>
                  <a:pt x="17806" y="20522"/>
                </a:lnTo>
                <a:close/>
              </a:path>
              <a:path fill="darken" w="21600" h="27032">
                <a:moveTo>
                  <a:pt x="3794" y="6509"/>
                </a:moveTo>
                <a:lnTo>
                  <a:pt x="5456" y="6509"/>
                </a:lnTo>
                <a:lnTo>
                  <a:pt x="5456" y="20522"/>
                </a:lnTo>
                <a:lnTo>
                  <a:pt x="3794" y="20522"/>
                </a:lnTo>
                <a:close/>
              </a:path>
            </a:pathLst>
          </a:custGeom>
          <a:solidFill>
            <a:srgbClr val="00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AutoShape 5">
            <a:hlinkClick r:id="" action="ppaction://hlinkshowjump?jump=previousslide"/>
          </p:cNvPr>
          <p:cNvSpPr/>
          <p:nvPr/>
        </p:nvSpPr>
        <p:spPr>
          <a:xfrm>
            <a:off x="8458200" y="6095880"/>
            <a:ext cx="304920" cy="38124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00">
                <a:moveTo>
                  <a:pt x="0" y="0"/>
                </a:moveTo>
                <a:lnTo>
                  <a:pt x="21600" y="0"/>
                </a:lnTo>
                <a:lnTo>
                  <a:pt x="21600" y="27000"/>
                </a:lnTo>
                <a:lnTo>
                  <a:pt x="0" y="27000"/>
                </a:lnTo>
                <a:close/>
              </a:path>
              <a:path fill="lightenLess" w="21600" h="270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0">
                <a:moveTo>
                  <a:pt x="21600" y="0"/>
                </a:moveTo>
                <a:lnTo>
                  <a:pt x="21600" y="27000"/>
                </a:lnTo>
                <a:lnTo>
                  <a:pt x="20200" y="25600"/>
                </a:lnTo>
                <a:lnTo>
                  <a:pt x="20200" y="1400"/>
                </a:lnTo>
                <a:close/>
              </a:path>
              <a:path fill="darkenLess" w="21600" h="27000">
                <a:moveTo>
                  <a:pt x="21600" y="27000"/>
                </a:moveTo>
                <a:lnTo>
                  <a:pt x="0" y="27000"/>
                </a:lnTo>
                <a:lnTo>
                  <a:pt x="1400" y="25600"/>
                </a:lnTo>
                <a:lnTo>
                  <a:pt x="20200" y="25600"/>
                </a:lnTo>
                <a:close/>
              </a:path>
              <a:path fill="lighten" w="21600" h="27000">
                <a:moveTo>
                  <a:pt x="0" y="270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0"/>
                </a:lnTo>
                <a:close/>
              </a:path>
              <a:path fill="darken" w="21600" h="27000">
                <a:moveTo>
                  <a:pt x="3794" y="10193"/>
                </a:moveTo>
                <a:lnTo>
                  <a:pt x="7301" y="10193"/>
                </a:lnTo>
                <a:lnTo>
                  <a:pt x="7301" y="15528"/>
                </a:lnTo>
                <a:cubicBezTo>
                  <a:pt x="7301" y="16451"/>
                  <a:pt x="8102" y="17182"/>
                  <a:pt x="9138" y="17182"/>
                </a:cubicBezTo>
                <a:lnTo>
                  <a:pt x="10800" y="17182"/>
                </a:lnTo>
                <a:cubicBezTo>
                  <a:pt x="11836" y="17182"/>
                  <a:pt x="12636" y="16451"/>
                  <a:pt x="12636" y="15528"/>
                </a:cubicBezTo>
                <a:lnTo>
                  <a:pt x="12636" y="10193"/>
                </a:lnTo>
                <a:lnTo>
                  <a:pt x="10800" y="10193"/>
                </a:lnTo>
                <a:lnTo>
                  <a:pt x="14308" y="6685"/>
                </a:lnTo>
                <a:lnTo>
                  <a:pt x="17981" y="10193"/>
                </a:lnTo>
                <a:lnTo>
                  <a:pt x="16144" y="10193"/>
                </a:lnTo>
                <a:lnTo>
                  <a:pt x="16144" y="15528"/>
                </a:lnTo>
                <a:cubicBezTo>
                  <a:pt x="16144" y="18296"/>
                  <a:pt x="13568" y="20855"/>
                  <a:pt x="10800" y="20855"/>
                </a:cubicBezTo>
                <a:lnTo>
                  <a:pt x="9138" y="20855"/>
                </a:lnTo>
                <a:cubicBezTo>
                  <a:pt x="6370" y="20855"/>
                  <a:pt x="3794" y="18296"/>
                  <a:pt x="3794" y="15528"/>
                </a:cubicBezTo>
                <a:close/>
              </a:path>
            </a:pathLst>
          </a:custGeom>
          <a:solidFill>
            <a:srgbClr val="00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8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6" name="Picture 2" descr="18TBC352"/>
          <p:cNvPicPr/>
          <p:nvPr/>
        </p:nvPicPr>
        <p:blipFill>
          <a:blip r:embed="rId1"/>
          <a:stretch/>
        </p:blipFill>
        <p:spPr>
          <a:xfrm>
            <a:off x="1371600" y="380880"/>
            <a:ext cx="1676520" cy="920880"/>
          </a:xfrm>
          <a:prstGeom prst="rect">
            <a:avLst/>
          </a:prstGeom>
          <a:ln w="0">
            <a:noFill/>
          </a:ln>
        </p:spPr>
      </p:pic>
      <p:sp>
        <p:nvSpPr>
          <p:cNvPr id="597" name="Text Box 3"/>
          <p:cNvSpPr/>
          <p:nvPr/>
        </p:nvSpPr>
        <p:spPr>
          <a:xfrm>
            <a:off x="5861880" y="457200"/>
            <a:ext cx="796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课文，理清文章段落结构 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AutoShape 4"/>
          <p:cNvSpPr/>
          <p:nvPr/>
        </p:nvSpPr>
        <p:spPr>
          <a:xfrm>
            <a:off x="5257800" y="2590920"/>
            <a:ext cx="152280" cy="1676160"/>
          </a:xfrm>
          <a:custGeom>
            <a:avLst/>
            <a:gdLst>
              <a:gd name="textAreaLeft" fmla="*/ 97200 w 152280"/>
              <a:gd name="textAreaRight" fmla="*/ 152640 w 152280"/>
              <a:gd name="textAreaTop" fmla="*/ 43560 h 1676160"/>
              <a:gd name="textAreaBottom" fmla="*/ 1632600 h 1676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5"/>
          <p:cNvSpPr/>
          <p:nvPr/>
        </p:nvSpPr>
        <p:spPr>
          <a:xfrm>
            <a:off x="2193840" y="304812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第二部分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与藤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Text Box 6"/>
          <p:cNvSpPr/>
          <p:nvPr/>
        </p:nvSpPr>
        <p:spPr>
          <a:xfrm>
            <a:off x="5750280" y="215748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相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7"/>
          <p:cNvSpPr/>
          <p:nvPr/>
        </p:nvSpPr>
        <p:spPr>
          <a:xfrm>
            <a:off x="5750280" y="299556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相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Text Box 8"/>
          <p:cNvSpPr/>
          <p:nvPr/>
        </p:nvSpPr>
        <p:spPr>
          <a:xfrm>
            <a:off x="5750280" y="383364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离别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9"/>
          <p:cNvSpPr/>
          <p:nvPr/>
        </p:nvSpPr>
        <p:spPr>
          <a:xfrm>
            <a:off x="3406680" y="4876920"/>
            <a:ext cx="177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第三部分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对藤野的怀念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Text Box 10"/>
          <p:cNvSpPr/>
          <p:nvPr/>
        </p:nvSpPr>
        <p:spPr>
          <a:xfrm>
            <a:off x="2448000" y="144792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第一部分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Text Box 11"/>
          <p:cNvSpPr/>
          <p:nvPr/>
        </p:nvSpPr>
        <p:spPr>
          <a:xfrm>
            <a:off x="3946680" y="159228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Text Box 12"/>
          <p:cNvSpPr/>
          <p:nvPr/>
        </p:nvSpPr>
        <p:spPr>
          <a:xfrm>
            <a:off x="5771880" y="1447920"/>
            <a:ext cx="40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见藤野前，在东京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AutoShape 13">
            <a:hlinkClick r:id="rId2" action="ppaction://hlinksldjump"/>
          </p:cNvPr>
          <p:cNvSpPr/>
          <p:nvPr/>
        </p:nvSpPr>
        <p:spPr>
          <a:xfrm>
            <a:off x="8077320" y="6095880"/>
            <a:ext cx="304560" cy="38124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32">
                <a:moveTo>
                  <a:pt x="0" y="0"/>
                </a:moveTo>
                <a:lnTo>
                  <a:pt x="21600" y="0"/>
                </a:lnTo>
                <a:lnTo>
                  <a:pt x="21600" y="27032"/>
                </a:lnTo>
                <a:lnTo>
                  <a:pt x="0" y="27032"/>
                </a:lnTo>
                <a:close/>
              </a:path>
              <a:path fill="lightenLess" w="21600" h="2703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32">
                <a:moveTo>
                  <a:pt x="21600" y="0"/>
                </a:moveTo>
                <a:lnTo>
                  <a:pt x="21600" y="27032"/>
                </a:lnTo>
                <a:lnTo>
                  <a:pt x="20200" y="25632"/>
                </a:lnTo>
                <a:lnTo>
                  <a:pt x="20200" y="1400"/>
                </a:lnTo>
                <a:close/>
              </a:path>
              <a:path fill="darkenLess" w="21600" h="27032">
                <a:moveTo>
                  <a:pt x="21600" y="27032"/>
                </a:moveTo>
                <a:lnTo>
                  <a:pt x="0" y="27032"/>
                </a:lnTo>
                <a:lnTo>
                  <a:pt x="1400" y="25632"/>
                </a:lnTo>
                <a:lnTo>
                  <a:pt x="20200" y="25632"/>
                </a:lnTo>
                <a:close/>
              </a:path>
              <a:path fill="lighten" w="21600" h="27032">
                <a:moveTo>
                  <a:pt x="0" y="27032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32"/>
                </a:lnTo>
                <a:close/>
              </a:path>
              <a:path fill="darken" w="21600" h="27032">
                <a:moveTo>
                  <a:pt x="7301" y="13516"/>
                </a:moveTo>
                <a:lnTo>
                  <a:pt x="17806" y="6509"/>
                </a:lnTo>
                <a:lnTo>
                  <a:pt x="17806" y="20522"/>
                </a:lnTo>
                <a:close/>
              </a:path>
              <a:path fill="darken" w="21600" h="27032">
                <a:moveTo>
                  <a:pt x="3794" y="6509"/>
                </a:moveTo>
                <a:lnTo>
                  <a:pt x="5456" y="6509"/>
                </a:lnTo>
                <a:lnTo>
                  <a:pt x="5456" y="20522"/>
                </a:lnTo>
                <a:lnTo>
                  <a:pt x="3794" y="20522"/>
                </a:lnTo>
                <a:close/>
              </a:path>
            </a:pathLst>
          </a:custGeom>
          <a:solidFill>
            <a:srgbClr val="00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AutoShape 14">
            <a:hlinkClick r:id="" action="ppaction://hlinkshowjump?jump=previousslide"/>
          </p:cNvPr>
          <p:cNvSpPr/>
          <p:nvPr/>
        </p:nvSpPr>
        <p:spPr>
          <a:xfrm>
            <a:off x="8458200" y="6095880"/>
            <a:ext cx="304920" cy="38124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00">
                <a:moveTo>
                  <a:pt x="0" y="0"/>
                </a:moveTo>
                <a:lnTo>
                  <a:pt x="21600" y="0"/>
                </a:lnTo>
                <a:lnTo>
                  <a:pt x="21600" y="27000"/>
                </a:lnTo>
                <a:lnTo>
                  <a:pt x="0" y="27000"/>
                </a:lnTo>
                <a:close/>
              </a:path>
              <a:path fill="lightenLess" w="21600" h="270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0">
                <a:moveTo>
                  <a:pt x="21600" y="0"/>
                </a:moveTo>
                <a:lnTo>
                  <a:pt x="21600" y="27000"/>
                </a:lnTo>
                <a:lnTo>
                  <a:pt x="20200" y="25600"/>
                </a:lnTo>
                <a:lnTo>
                  <a:pt x="20200" y="1400"/>
                </a:lnTo>
                <a:close/>
              </a:path>
              <a:path fill="darkenLess" w="21600" h="27000">
                <a:moveTo>
                  <a:pt x="21600" y="27000"/>
                </a:moveTo>
                <a:lnTo>
                  <a:pt x="0" y="27000"/>
                </a:lnTo>
                <a:lnTo>
                  <a:pt x="1400" y="25600"/>
                </a:lnTo>
                <a:lnTo>
                  <a:pt x="20200" y="25600"/>
                </a:lnTo>
                <a:close/>
              </a:path>
              <a:path fill="lighten" w="21600" h="27000">
                <a:moveTo>
                  <a:pt x="0" y="270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0"/>
                </a:lnTo>
                <a:close/>
              </a:path>
              <a:path fill="darken" w="21600" h="27000">
                <a:moveTo>
                  <a:pt x="3794" y="10193"/>
                </a:moveTo>
                <a:lnTo>
                  <a:pt x="7301" y="10193"/>
                </a:lnTo>
                <a:lnTo>
                  <a:pt x="7301" y="15528"/>
                </a:lnTo>
                <a:cubicBezTo>
                  <a:pt x="7301" y="16451"/>
                  <a:pt x="8102" y="17182"/>
                  <a:pt x="9138" y="17182"/>
                </a:cubicBezTo>
                <a:lnTo>
                  <a:pt x="10800" y="17182"/>
                </a:lnTo>
                <a:cubicBezTo>
                  <a:pt x="11836" y="17182"/>
                  <a:pt x="12636" y="16451"/>
                  <a:pt x="12636" y="15528"/>
                </a:cubicBezTo>
                <a:lnTo>
                  <a:pt x="12636" y="10193"/>
                </a:lnTo>
                <a:lnTo>
                  <a:pt x="10800" y="10193"/>
                </a:lnTo>
                <a:lnTo>
                  <a:pt x="14308" y="6685"/>
                </a:lnTo>
                <a:lnTo>
                  <a:pt x="17981" y="10193"/>
                </a:lnTo>
                <a:lnTo>
                  <a:pt x="16144" y="10193"/>
                </a:lnTo>
                <a:lnTo>
                  <a:pt x="16144" y="15528"/>
                </a:lnTo>
                <a:cubicBezTo>
                  <a:pt x="16144" y="18296"/>
                  <a:pt x="13568" y="20855"/>
                  <a:pt x="10800" y="20855"/>
                </a:cubicBezTo>
                <a:lnTo>
                  <a:pt x="9138" y="20855"/>
                </a:lnTo>
                <a:cubicBezTo>
                  <a:pt x="6370" y="20855"/>
                  <a:pt x="3794" y="18296"/>
                  <a:pt x="3794" y="15528"/>
                </a:cubicBezTo>
                <a:close/>
              </a:path>
            </a:pathLst>
          </a:custGeom>
          <a:solidFill>
            <a:srgbClr val="00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09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Text Box 2"/>
          <p:cNvSpPr/>
          <p:nvPr/>
        </p:nvSpPr>
        <p:spPr>
          <a:xfrm>
            <a:off x="3493800" y="609480"/>
            <a:ext cx="4021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课文如何描写藤野先生的形象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0" name="Picture 3" descr="藤野先生2"/>
          <p:cNvPicPr/>
          <p:nvPr/>
        </p:nvPicPr>
        <p:blipFill>
          <a:blip r:embed="rId1"/>
          <a:stretch/>
        </p:blipFill>
        <p:spPr>
          <a:xfrm>
            <a:off x="5943600" y="1828800"/>
            <a:ext cx="2706840" cy="3720960"/>
          </a:xfrm>
          <a:prstGeom prst="rect">
            <a:avLst/>
          </a:prstGeom>
          <a:ln w="0">
            <a:noFill/>
          </a:ln>
        </p:spPr>
      </p:pic>
      <p:sp>
        <p:nvSpPr>
          <p:cNvPr id="611" name="Text Box 4"/>
          <p:cNvSpPr/>
          <p:nvPr/>
        </p:nvSpPr>
        <p:spPr>
          <a:xfrm>
            <a:off x="1066680" y="2286000"/>
            <a:ext cx="253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目睹印象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Text Box 5"/>
          <p:cNvSpPr/>
          <p:nvPr/>
        </p:nvSpPr>
        <p:spPr>
          <a:xfrm>
            <a:off x="1441080" y="3276720"/>
            <a:ext cx="198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耳闻亲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Text Box 6"/>
          <p:cNvSpPr/>
          <p:nvPr/>
        </p:nvSpPr>
        <p:spPr>
          <a:xfrm>
            <a:off x="4179600" y="22860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治学严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Text Box 7"/>
          <p:cNvSpPr/>
          <p:nvPr/>
        </p:nvSpPr>
        <p:spPr>
          <a:xfrm>
            <a:off x="4179600" y="32767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生活俭朴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8"/>
          <p:cNvSpPr/>
          <p:nvPr/>
        </p:nvSpPr>
        <p:spPr>
          <a:xfrm>
            <a:off x="3429000" y="4343400"/>
            <a:ext cx="0" cy="685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9"/>
          <p:cNvSpPr/>
          <p:nvPr/>
        </p:nvSpPr>
        <p:spPr>
          <a:xfrm>
            <a:off x="3429000" y="4038480"/>
            <a:ext cx="0" cy="1067040"/>
          </a:xfrm>
          <a:prstGeom prst="line">
            <a:avLst/>
          </a:prstGeom>
          <a:ln cap="sq" w="15228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Text Box 10"/>
          <p:cNvSpPr/>
          <p:nvPr/>
        </p:nvSpPr>
        <p:spPr>
          <a:xfrm>
            <a:off x="2738520" y="525780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Times New Roman"/>
                <a:ea typeface="黑体"/>
              </a:rPr>
              <a:t>学者形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 Box 11"/>
          <p:cNvSpPr/>
          <p:nvPr/>
        </p:nvSpPr>
        <p:spPr>
          <a:xfrm>
            <a:off x="6613560" y="571500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藤野严九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9" name="Picture 12" descr="16TBC032"/>
          <p:cNvPicPr/>
          <p:nvPr/>
        </p:nvPicPr>
        <p:blipFill>
          <a:blip r:embed="rId2"/>
          <a:stretch/>
        </p:blipFill>
        <p:spPr>
          <a:xfrm>
            <a:off x="1143000" y="533520"/>
            <a:ext cx="934920" cy="1143000"/>
          </a:xfrm>
          <a:prstGeom prst="rect">
            <a:avLst/>
          </a:prstGeom>
          <a:ln w="0">
            <a:noFill/>
          </a:ln>
        </p:spPr>
      </p:pic>
      <p:sp>
        <p:nvSpPr>
          <p:cNvPr id="620" name="AutoShape 13">
            <a:hlinkClick r:id="rId3" action="ppaction://hlinksldjump"/>
          </p:cNvPr>
          <p:cNvSpPr/>
          <p:nvPr/>
        </p:nvSpPr>
        <p:spPr>
          <a:xfrm>
            <a:off x="8229600" y="6248520"/>
            <a:ext cx="304920" cy="3808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6975">
                <a:moveTo>
                  <a:pt x="0" y="0"/>
                </a:moveTo>
                <a:lnTo>
                  <a:pt x="21600" y="0"/>
                </a:lnTo>
                <a:lnTo>
                  <a:pt x="21600" y="26975"/>
                </a:lnTo>
                <a:lnTo>
                  <a:pt x="0" y="26975"/>
                </a:lnTo>
                <a:close/>
              </a:path>
              <a:path fill="lightenLess" w="21600" h="269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75">
                <a:moveTo>
                  <a:pt x="21600" y="0"/>
                </a:moveTo>
                <a:lnTo>
                  <a:pt x="21600" y="26975"/>
                </a:lnTo>
                <a:lnTo>
                  <a:pt x="20200" y="25575"/>
                </a:lnTo>
                <a:lnTo>
                  <a:pt x="20200" y="1400"/>
                </a:lnTo>
                <a:close/>
              </a:path>
              <a:path fill="darkenLess" w="21600" h="26975">
                <a:moveTo>
                  <a:pt x="21600" y="26975"/>
                </a:moveTo>
                <a:lnTo>
                  <a:pt x="0" y="26975"/>
                </a:lnTo>
                <a:lnTo>
                  <a:pt x="1400" y="25575"/>
                </a:lnTo>
                <a:lnTo>
                  <a:pt x="20200" y="25575"/>
                </a:lnTo>
                <a:close/>
              </a:path>
              <a:path fill="lighten" w="21600" h="26975">
                <a:moveTo>
                  <a:pt x="0" y="269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75"/>
                </a:lnTo>
                <a:close/>
              </a:path>
              <a:path fill="darken" w="21600" h="26975">
                <a:moveTo>
                  <a:pt x="7301" y="13487"/>
                </a:moveTo>
                <a:lnTo>
                  <a:pt x="17806" y="6481"/>
                </a:lnTo>
                <a:lnTo>
                  <a:pt x="17806" y="20494"/>
                </a:lnTo>
                <a:close/>
              </a:path>
              <a:path fill="darken" w="21600" h="26975">
                <a:moveTo>
                  <a:pt x="3794" y="6481"/>
                </a:moveTo>
                <a:lnTo>
                  <a:pt x="5456" y="6481"/>
                </a:lnTo>
                <a:lnTo>
                  <a:pt x="5456" y="20494"/>
                </a:lnTo>
                <a:lnTo>
                  <a:pt x="3794" y="20494"/>
                </a:lnTo>
                <a:close/>
              </a:path>
            </a:pathLst>
          </a:custGeom>
          <a:solidFill>
            <a:srgbClr val="00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AutoShape 14">
            <a:hlinkClick r:id="" action="ppaction://hlinkshowjump?jump=previousslide"/>
          </p:cNvPr>
          <p:cNvSpPr/>
          <p:nvPr/>
        </p:nvSpPr>
        <p:spPr>
          <a:xfrm>
            <a:off x="8534520" y="6248520"/>
            <a:ext cx="304560" cy="38088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7006">
                <a:moveTo>
                  <a:pt x="0" y="0"/>
                </a:moveTo>
                <a:lnTo>
                  <a:pt x="21600" y="0"/>
                </a:lnTo>
                <a:lnTo>
                  <a:pt x="21600" y="27006"/>
                </a:lnTo>
                <a:lnTo>
                  <a:pt x="0" y="27006"/>
                </a:lnTo>
                <a:close/>
              </a:path>
              <a:path fill="lightenLess" w="21600" h="2700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6">
                <a:moveTo>
                  <a:pt x="21600" y="0"/>
                </a:moveTo>
                <a:lnTo>
                  <a:pt x="21600" y="27006"/>
                </a:lnTo>
                <a:lnTo>
                  <a:pt x="20200" y="25606"/>
                </a:lnTo>
                <a:lnTo>
                  <a:pt x="20200" y="1400"/>
                </a:lnTo>
                <a:close/>
              </a:path>
              <a:path fill="darkenLess" w="21600" h="27006">
                <a:moveTo>
                  <a:pt x="21600" y="27006"/>
                </a:moveTo>
                <a:lnTo>
                  <a:pt x="0" y="27006"/>
                </a:lnTo>
                <a:lnTo>
                  <a:pt x="1400" y="25606"/>
                </a:lnTo>
                <a:lnTo>
                  <a:pt x="20200" y="25606"/>
                </a:lnTo>
                <a:close/>
              </a:path>
              <a:path fill="lighten" w="21600" h="27006">
                <a:moveTo>
                  <a:pt x="0" y="2700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6"/>
                </a:lnTo>
                <a:close/>
              </a:path>
              <a:path fill="darken" w="21600" h="27006">
                <a:moveTo>
                  <a:pt x="3794" y="10196"/>
                </a:moveTo>
                <a:lnTo>
                  <a:pt x="7301" y="10196"/>
                </a:lnTo>
                <a:lnTo>
                  <a:pt x="7301" y="15531"/>
                </a:lnTo>
                <a:cubicBezTo>
                  <a:pt x="7301" y="16454"/>
                  <a:pt x="8102" y="17185"/>
                  <a:pt x="9138" y="17185"/>
                </a:cubicBezTo>
                <a:lnTo>
                  <a:pt x="10800" y="17185"/>
                </a:lnTo>
                <a:cubicBezTo>
                  <a:pt x="11836" y="17185"/>
                  <a:pt x="12636" y="16454"/>
                  <a:pt x="12636" y="15531"/>
                </a:cubicBezTo>
                <a:lnTo>
                  <a:pt x="12636" y="10196"/>
                </a:lnTo>
                <a:lnTo>
                  <a:pt x="10800" y="10196"/>
                </a:lnTo>
                <a:lnTo>
                  <a:pt x="14308" y="6688"/>
                </a:lnTo>
                <a:lnTo>
                  <a:pt x="17981" y="10196"/>
                </a:lnTo>
                <a:lnTo>
                  <a:pt x="16144" y="10196"/>
                </a:lnTo>
                <a:lnTo>
                  <a:pt x="16144" y="15531"/>
                </a:lnTo>
                <a:cubicBezTo>
                  <a:pt x="16144" y="18299"/>
                  <a:pt x="13568" y="20858"/>
                  <a:pt x="10800" y="20858"/>
                </a:cubicBezTo>
                <a:lnTo>
                  <a:pt x="9138" y="20858"/>
                </a:lnTo>
                <a:cubicBezTo>
                  <a:pt x="6370" y="20858"/>
                  <a:pt x="3794" y="18299"/>
                  <a:pt x="3794" y="15531"/>
                </a:cubicBezTo>
                <a:close/>
              </a:path>
            </a:pathLst>
          </a:custGeom>
          <a:solidFill>
            <a:srgbClr val="00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3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3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Text Box 2"/>
          <p:cNvSpPr/>
          <p:nvPr/>
        </p:nvSpPr>
        <p:spPr>
          <a:xfrm>
            <a:off x="4032360" y="303120"/>
            <a:ext cx="354888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记叙了与藤野先生相处的哪几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件事？表现了他的什么品质？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Text Box 3"/>
          <p:cNvSpPr/>
          <p:nvPr/>
        </p:nvSpPr>
        <p:spPr>
          <a:xfrm>
            <a:off x="1440360" y="1828800"/>
            <a:ext cx="219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添改讲义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Text Box 4"/>
          <p:cNvSpPr/>
          <p:nvPr/>
        </p:nvSpPr>
        <p:spPr>
          <a:xfrm>
            <a:off x="4191120" y="1828800"/>
            <a:ext cx="202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认真负责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5"/>
          <p:cNvSpPr/>
          <p:nvPr/>
        </p:nvSpPr>
        <p:spPr>
          <a:xfrm>
            <a:off x="1381320" y="2666880"/>
            <a:ext cx="246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纠正解剖图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6"/>
          <p:cNvSpPr/>
          <p:nvPr/>
        </p:nvSpPr>
        <p:spPr>
          <a:xfrm>
            <a:off x="4564800" y="266688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严格要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7"/>
          <p:cNvSpPr/>
          <p:nvPr/>
        </p:nvSpPr>
        <p:spPr>
          <a:xfrm>
            <a:off x="1364400" y="3581280"/>
            <a:ext cx="219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关心实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8"/>
          <p:cNvSpPr/>
          <p:nvPr/>
        </p:nvSpPr>
        <p:spPr>
          <a:xfrm>
            <a:off x="4564800" y="35053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热情诚恳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9"/>
          <p:cNvSpPr/>
          <p:nvPr/>
        </p:nvSpPr>
        <p:spPr>
          <a:xfrm>
            <a:off x="1288080" y="4495680"/>
            <a:ext cx="219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了解裹脚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10"/>
          <p:cNvSpPr/>
          <p:nvPr/>
        </p:nvSpPr>
        <p:spPr>
          <a:xfrm>
            <a:off x="4564800" y="449568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求实精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AutoShape 11"/>
          <p:cNvSpPr/>
          <p:nvPr/>
        </p:nvSpPr>
        <p:spPr>
          <a:xfrm>
            <a:off x="6324480" y="2209680"/>
            <a:ext cx="304920" cy="2667240"/>
          </a:xfrm>
          <a:custGeom>
            <a:avLst/>
            <a:gdLst>
              <a:gd name="textAreaLeft" fmla="*/ 0 w 304920"/>
              <a:gd name="textAreaRight" fmla="*/ 110160 w 304920"/>
              <a:gd name="textAreaTop" fmla="*/ 69480 h 2667240"/>
              <a:gd name="textAreaBottom" fmla="*/ 2597760 h 2667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12"/>
          <p:cNvSpPr/>
          <p:nvPr/>
        </p:nvSpPr>
        <p:spPr>
          <a:xfrm>
            <a:off x="6633720" y="2416320"/>
            <a:ext cx="729000" cy="258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imes New Roman"/>
                <a:ea typeface="黑体"/>
              </a:rPr>
              <a:t>正直热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Text Box 13"/>
          <p:cNvSpPr/>
          <p:nvPr/>
        </p:nvSpPr>
        <p:spPr>
          <a:xfrm>
            <a:off x="-92160" y="24066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14"/>
          <p:cNvSpPr/>
          <p:nvPr/>
        </p:nvSpPr>
        <p:spPr>
          <a:xfrm>
            <a:off x="6694920" y="2743200"/>
            <a:ext cx="127764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imes New Roman"/>
                <a:ea typeface="黑体"/>
              </a:rPr>
              <a:t>治学严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Text Box 15"/>
          <p:cNvSpPr/>
          <p:nvPr/>
        </p:nvSpPr>
        <p:spPr>
          <a:xfrm>
            <a:off x="7853040" y="1719720"/>
            <a:ext cx="729000" cy="38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imes New Roman"/>
                <a:ea typeface="黑体"/>
              </a:rPr>
              <a:t>没有民族偏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Text Box 16"/>
          <p:cNvSpPr/>
          <p:nvPr/>
        </p:nvSpPr>
        <p:spPr>
          <a:xfrm>
            <a:off x="3600000" y="5410080"/>
            <a:ext cx="3807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课文具体写了四个典型事例，从不同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侧面表现了藤野先生的高贵品质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7" name="Picture 17" descr="16TBC43"/>
          <p:cNvPicPr/>
          <p:nvPr/>
        </p:nvPicPr>
        <p:blipFill>
          <a:blip r:embed="rId1"/>
          <a:stretch/>
        </p:blipFill>
        <p:spPr>
          <a:xfrm>
            <a:off x="1066680" y="304920"/>
            <a:ext cx="1752840" cy="1319040"/>
          </a:xfrm>
          <a:prstGeom prst="rect">
            <a:avLst/>
          </a:prstGeom>
          <a:ln w="0">
            <a:noFill/>
          </a:ln>
        </p:spPr>
      </p:pic>
      <p:pic>
        <p:nvPicPr>
          <p:cNvPr id="638" name="Picture 18" descr="13TBC143 "/>
          <p:cNvPicPr/>
          <p:nvPr/>
        </p:nvPicPr>
        <p:blipFill>
          <a:blip r:embed="rId2"/>
          <a:stretch/>
        </p:blipFill>
        <p:spPr>
          <a:xfrm>
            <a:off x="1066680" y="5334120"/>
            <a:ext cx="1295640" cy="1041120"/>
          </a:xfrm>
          <a:prstGeom prst="rect">
            <a:avLst/>
          </a:prstGeom>
          <a:ln w="0">
            <a:noFill/>
          </a:ln>
        </p:spPr>
      </p:pic>
      <p:sp>
        <p:nvSpPr>
          <p:cNvPr id="639" name="AutoShape 19">
            <a:hlinkClick r:id="rId3" action="ppaction://hlinksldjump"/>
          </p:cNvPr>
          <p:cNvSpPr/>
          <p:nvPr/>
        </p:nvSpPr>
        <p:spPr>
          <a:xfrm>
            <a:off x="8077320" y="6095880"/>
            <a:ext cx="304560" cy="38124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32">
                <a:moveTo>
                  <a:pt x="0" y="0"/>
                </a:moveTo>
                <a:lnTo>
                  <a:pt x="21600" y="0"/>
                </a:lnTo>
                <a:lnTo>
                  <a:pt x="21600" y="27032"/>
                </a:lnTo>
                <a:lnTo>
                  <a:pt x="0" y="27032"/>
                </a:lnTo>
                <a:close/>
              </a:path>
              <a:path fill="lightenLess" w="21600" h="2703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32">
                <a:moveTo>
                  <a:pt x="21600" y="0"/>
                </a:moveTo>
                <a:lnTo>
                  <a:pt x="21600" y="27032"/>
                </a:lnTo>
                <a:lnTo>
                  <a:pt x="20200" y="25632"/>
                </a:lnTo>
                <a:lnTo>
                  <a:pt x="20200" y="1400"/>
                </a:lnTo>
                <a:close/>
              </a:path>
              <a:path fill="darkenLess" w="21600" h="27032">
                <a:moveTo>
                  <a:pt x="21600" y="27032"/>
                </a:moveTo>
                <a:lnTo>
                  <a:pt x="0" y="27032"/>
                </a:lnTo>
                <a:lnTo>
                  <a:pt x="1400" y="25632"/>
                </a:lnTo>
                <a:lnTo>
                  <a:pt x="20200" y="25632"/>
                </a:lnTo>
                <a:close/>
              </a:path>
              <a:path fill="lighten" w="21600" h="27032">
                <a:moveTo>
                  <a:pt x="0" y="27032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32"/>
                </a:lnTo>
                <a:close/>
              </a:path>
              <a:path fill="darken" w="21600" h="27032">
                <a:moveTo>
                  <a:pt x="7301" y="13516"/>
                </a:moveTo>
                <a:lnTo>
                  <a:pt x="17806" y="6509"/>
                </a:lnTo>
                <a:lnTo>
                  <a:pt x="17806" y="20522"/>
                </a:lnTo>
                <a:close/>
              </a:path>
              <a:path fill="darken" w="21600" h="27032">
                <a:moveTo>
                  <a:pt x="3794" y="6509"/>
                </a:moveTo>
                <a:lnTo>
                  <a:pt x="5456" y="6509"/>
                </a:lnTo>
                <a:lnTo>
                  <a:pt x="5456" y="20522"/>
                </a:lnTo>
                <a:lnTo>
                  <a:pt x="3794" y="20522"/>
                </a:lnTo>
                <a:close/>
              </a:path>
            </a:pathLst>
          </a:custGeom>
          <a:solidFill>
            <a:srgbClr val="00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AutoShape 20">
            <a:hlinkClick r:id="" action="ppaction://hlinkshowjump?jump=previousslide"/>
          </p:cNvPr>
          <p:cNvSpPr/>
          <p:nvPr/>
        </p:nvSpPr>
        <p:spPr>
          <a:xfrm>
            <a:off x="8458200" y="6095880"/>
            <a:ext cx="304920" cy="38124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00">
                <a:moveTo>
                  <a:pt x="0" y="0"/>
                </a:moveTo>
                <a:lnTo>
                  <a:pt x="21600" y="0"/>
                </a:lnTo>
                <a:lnTo>
                  <a:pt x="21600" y="27000"/>
                </a:lnTo>
                <a:lnTo>
                  <a:pt x="0" y="27000"/>
                </a:lnTo>
                <a:close/>
              </a:path>
              <a:path fill="lightenLess" w="21600" h="270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0">
                <a:moveTo>
                  <a:pt x="21600" y="0"/>
                </a:moveTo>
                <a:lnTo>
                  <a:pt x="21600" y="27000"/>
                </a:lnTo>
                <a:lnTo>
                  <a:pt x="20200" y="25600"/>
                </a:lnTo>
                <a:lnTo>
                  <a:pt x="20200" y="1400"/>
                </a:lnTo>
                <a:close/>
              </a:path>
              <a:path fill="darkenLess" w="21600" h="27000">
                <a:moveTo>
                  <a:pt x="21600" y="27000"/>
                </a:moveTo>
                <a:lnTo>
                  <a:pt x="0" y="27000"/>
                </a:lnTo>
                <a:lnTo>
                  <a:pt x="1400" y="25600"/>
                </a:lnTo>
                <a:lnTo>
                  <a:pt x="20200" y="25600"/>
                </a:lnTo>
                <a:close/>
              </a:path>
              <a:path fill="lighten" w="21600" h="27000">
                <a:moveTo>
                  <a:pt x="0" y="270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0"/>
                </a:lnTo>
                <a:close/>
              </a:path>
              <a:path fill="darken" w="21600" h="27000">
                <a:moveTo>
                  <a:pt x="3794" y="10193"/>
                </a:moveTo>
                <a:lnTo>
                  <a:pt x="7301" y="10193"/>
                </a:lnTo>
                <a:lnTo>
                  <a:pt x="7301" y="15528"/>
                </a:lnTo>
                <a:cubicBezTo>
                  <a:pt x="7301" y="16451"/>
                  <a:pt x="8102" y="17182"/>
                  <a:pt x="9138" y="17182"/>
                </a:cubicBezTo>
                <a:lnTo>
                  <a:pt x="10800" y="17182"/>
                </a:lnTo>
                <a:cubicBezTo>
                  <a:pt x="11836" y="17182"/>
                  <a:pt x="12636" y="16451"/>
                  <a:pt x="12636" y="15528"/>
                </a:cubicBezTo>
                <a:lnTo>
                  <a:pt x="12636" y="10193"/>
                </a:lnTo>
                <a:lnTo>
                  <a:pt x="10800" y="10193"/>
                </a:lnTo>
                <a:lnTo>
                  <a:pt x="14308" y="6685"/>
                </a:lnTo>
                <a:lnTo>
                  <a:pt x="17981" y="10193"/>
                </a:lnTo>
                <a:lnTo>
                  <a:pt x="16144" y="10193"/>
                </a:lnTo>
                <a:lnTo>
                  <a:pt x="16144" y="15528"/>
                </a:lnTo>
                <a:cubicBezTo>
                  <a:pt x="16144" y="18296"/>
                  <a:pt x="13568" y="20855"/>
                  <a:pt x="10800" y="20855"/>
                </a:cubicBezTo>
                <a:lnTo>
                  <a:pt x="9138" y="20855"/>
                </a:lnTo>
                <a:cubicBezTo>
                  <a:pt x="6370" y="20855"/>
                  <a:pt x="3794" y="18296"/>
                  <a:pt x="3794" y="15528"/>
                </a:cubicBezTo>
                <a:close/>
              </a:path>
            </a:pathLst>
          </a:custGeom>
          <a:solidFill>
            <a:srgbClr val="00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37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4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47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52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57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2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Text Box 2"/>
          <p:cNvSpPr/>
          <p:nvPr/>
        </p:nvSpPr>
        <p:spPr>
          <a:xfrm>
            <a:off x="2594880" y="609480"/>
            <a:ext cx="44478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本文以作者的爱国主义思想为暗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线，想一想哪些地方表现了作者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强烈的爱国主义思想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Text Box 3"/>
          <p:cNvSpPr/>
          <p:nvPr/>
        </p:nvSpPr>
        <p:spPr>
          <a:xfrm>
            <a:off x="5014800" y="3429000"/>
            <a:ext cx="41292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学生分组讨论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AutoShape 4">
            <a:hlinkClick r:id="rId1" action="ppaction://hlinksldjump"/>
          </p:cNvPr>
          <p:cNvSpPr/>
          <p:nvPr/>
        </p:nvSpPr>
        <p:spPr>
          <a:xfrm>
            <a:off x="8077320" y="6095880"/>
            <a:ext cx="304560" cy="38124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32">
                <a:moveTo>
                  <a:pt x="0" y="0"/>
                </a:moveTo>
                <a:lnTo>
                  <a:pt x="21600" y="0"/>
                </a:lnTo>
                <a:lnTo>
                  <a:pt x="21600" y="27032"/>
                </a:lnTo>
                <a:lnTo>
                  <a:pt x="0" y="27032"/>
                </a:lnTo>
                <a:close/>
              </a:path>
              <a:path fill="lightenLess" w="21600" h="2703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32">
                <a:moveTo>
                  <a:pt x="21600" y="0"/>
                </a:moveTo>
                <a:lnTo>
                  <a:pt x="21600" y="27032"/>
                </a:lnTo>
                <a:lnTo>
                  <a:pt x="20200" y="25632"/>
                </a:lnTo>
                <a:lnTo>
                  <a:pt x="20200" y="1400"/>
                </a:lnTo>
                <a:close/>
              </a:path>
              <a:path fill="darkenLess" w="21600" h="27032">
                <a:moveTo>
                  <a:pt x="21600" y="27032"/>
                </a:moveTo>
                <a:lnTo>
                  <a:pt x="0" y="27032"/>
                </a:lnTo>
                <a:lnTo>
                  <a:pt x="1400" y="25632"/>
                </a:lnTo>
                <a:lnTo>
                  <a:pt x="20200" y="25632"/>
                </a:lnTo>
                <a:close/>
              </a:path>
              <a:path fill="lighten" w="21600" h="27032">
                <a:moveTo>
                  <a:pt x="0" y="27032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32"/>
                </a:lnTo>
                <a:close/>
              </a:path>
              <a:path fill="darken" w="21600" h="27032">
                <a:moveTo>
                  <a:pt x="7301" y="13516"/>
                </a:moveTo>
                <a:lnTo>
                  <a:pt x="17806" y="6509"/>
                </a:lnTo>
                <a:lnTo>
                  <a:pt x="17806" y="20522"/>
                </a:lnTo>
                <a:close/>
              </a:path>
              <a:path fill="darken" w="21600" h="27032">
                <a:moveTo>
                  <a:pt x="3794" y="6509"/>
                </a:moveTo>
                <a:lnTo>
                  <a:pt x="5456" y="6509"/>
                </a:lnTo>
                <a:lnTo>
                  <a:pt x="5456" y="20522"/>
                </a:lnTo>
                <a:lnTo>
                  <a:pt x="3794" y="20522"/>
                </a:lnTo>
                <a:close/>
              </a:path>
            </a:pathLst>
          </a:custGeom>
          <a:solidFill>
            <a:srgbClr val="00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AutoShape 5">
            <a:hlinkClick r:id="" action="ppaction://hlinkshowjump?jump=previousslide"/>
          </p:cNvPr>
          <p:cNvSpPr/>
          <p:nvPr/>
        </p:nvSpPr>
        <p:spPr>
          <a:xfrm>
            <a:off x="8458200" y="6095880"/>
            <a:ext cx="304920" cy="38124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00">
                <a:moveTo>
                  <a:pt x="0" y="0"/>
                </a:moveTo>
                <a:lnTo>
                  <a:pt x="21600" y="0"/>
                </a:lnTo>
                <a:lnTo>
                  <a:pt x="21600" y="27000"/>
                </a:lnTo>
                <a:lnTo>
                  <a:pt x="0" y="27000"/>
                </a:lnTo>
                <a:close/>
              </a:path>
              <a:path fill="lightenLess" w="21600" h="270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0">
                <a:moveTo>
                  <a:pt x="21600" y="0"/>
                </a:moveTo>
                <a:lnTo>
                  <a:pt x="21600" y="27000"/>
                </a:lnTo>
                <a:lnTo>
                  <a:pt x="20200" y="25600"/>
                </a:lnTo>
                <a:lnTo>
                  <a:pt x="20200" y="1400"/>
                </a:lnTo>
                <a:close/>
              </a:path>
              <a:path fill="darkenLess" w="21600" h="27000">
                <a:moveTo>
                  <a:pt x="21600" y="27000"/>
                </a:moveTo>
                <a:lnTo>
                  <a:pt x="0" y="27000"/>
                </a:lnTo>
                <a:lnTo>
                  <a:pt x="1400" y="25600"/>
                </a:lnTo>
                <a:lnTo>
                  <a:pt x="20200" y="25600"/>
                </a:lnTo>
                <a:close/>
              </a:path>
              <a:path fill="lighten" w="21600" h="27000">
                <a:moveTo>
                  <a:pt x="0" y="270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0"/>
                </a:lnTo>
                <a:close/>
              </a:path>
              <a:path fill="darken" w="21600" h="27000">
                <a:moveTo>
                  <a:pt x="3794" y="10193"/>
                </a:moveTo>
                <a:lnTo>
                  <a:pt x="7301" y="10193"/>
                </a:lnTo>
                <a:lnTo>
                  <a:pt x="7301" y="15528"/>
                </a:lnTo>
                <a:cubicBezTo>
                  <a:pt x="7301" y="16451"/>
                  <a:pt x="8102" y="17182"/>
                  <a:pt x="9138" y="17182"/>
                </a:cubicBezTo>
                <a:lnTo>
                  <a:pt x="10800" y="17182"/>
                </a:lnTo>
                <a:cubicBezTo>
                  <a:pt x="11836" y="17182"/>
                  <a:pt x="12636" y="16451"/>
                  <a:pt x="12636" y="15528"/>
                </a:cubicBezTo>
                <a:lnTo>
                  <a:pt x="12636" y="10193"/>
                </a:lnTo>
                <a:lnTo>
                  <a:pt x="10800" y="10193"/>
                </a:lnTo>
                <a:lnTo>
                  <a:pt x="14308" y="6685"/>
                </a:lnTo>
                <a:lnTo>
                  <a:pt x="17981" y="10193"/>
                </a:lnTo>
                <a:lnTo>
                  <a:pt x="16144" y="10193"/>
                </a:lnTo>
                <a:lnTo>
                  <a:pt x="16144" y="15528"/>
                </a:lnTo>
                <a:cubicBezTo>
                  <a:pt x="16144" y="18296"/>
                  <a:pt x="13568" y="20855"/>
                  <a:pt x="10800" y="20855"/>
                </a:cubicBezTo>
                <a:lnTo>
                  <a:pt x="9138" y="20855"/>
                </a:lnTo>
                <a:cubicBezTo>
                  <a:pt x="6370" y="20855"/>
                  <a:pt x="3794" y="18296"/>
                  <a:pt x="3794" y="15528"/>
                </a:cubicBezTo>
                <a:close/>
              </a:path>
            </a:pathLst>
          </a:custGeom>
          <a:solidFill>
            <a:srgbClr val="00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5" name="Picture 6" descr="读书图"/>
          <p:cNvPicPr/>
          <p:nvPr/>
        </p:nvPicPr>
        <p:blipFill>
          <a:blip r:embed="rId2"/>
          <a:stretch/>
        </p:blipFill>
        <p:spPr>
          <a:xfrm>
            <a:off x="1143000" y="2895480"/>
            <a:ext cx="3352680" cy="3353040"/>
          </a:xfrm>
          <a:prstGeom prst="rect">
            <a:avLst/>
          </a:prstGeom>
          <a:ln w="0">
            <a:noFill/>
          </a:ln>
        </p:spPr>
      </p:pic>
      <p:pic>
        <p:nvPicPr>
          <p:cNvPr id="646" name="Picture 7" descr="16TBC41"/>
          <p:cNvPicPr/>
          <p:nvPr/>
        </p:nvPicPr>
        <p:blipFill>
          <a:blip r:embed="rId3"/>
          <a:stretch/>
        </p:blipFill>
        <p:spPr>
          <a:xfrm>
            <a:off x="3505320" y="4876920"/>
            <a:ext cx="1500120" cy="160020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%E6%8F%90%E9%97%AE%E6%97%B6%E5%A5%8F%E5%B9%BB%E6%83%B3%E7%A9%BA%E9%97%B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75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Text Box 2"/>
          <p:cNvSpPr/>
          <p:nvPr/>
        </p:nvSpPr>
        <p:spPr>
          <a:xfrm>
            <a:off x="4178160" y="636480"/>
            <a:ext cx="1595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99"/>
                </a:solidFill>
                <a:latin typeface="Times New Roman"/>
              </a:rPr>
              <a:t>在 东 京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Text Box 3"/>
          <p:cNvSpPr/>
          <p:nvPr/>
        </p:nvSpPr>
        <p:spPr>
          <a:xfrm>
            <a:off x="1476720" y="2133720"/>
            <a:ext cx="186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所见所闻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Text Box 4"/>
          <p:cNvSpPr/>
          <p:nvPr/>
        </p:nvSpPr>
        <p:spPr>
          <a:xfrm>
            <a:off x="4245840" y="182880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清国留学生的丑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AutoShape 5"/>
          <p:cNvSpPr/>
          <p:nvPr/>
        </p:nvSpPr>
        <p:spPr>
          <a:xfrm rot="10800000">
            <a:off x="2209680" y="3429000"/>
            <a:ext cx="3353040" cy="990720"/>
          </a:xfrm>
          <a:prstGeom prst="wedgeRoundRectCallout">
            <a:avLst>
              <a:gd name="adj1" fmla="val -43703"/>
              <a:gd name="adj2" fmla="val 94870"/>
              <a:gd name="adj3" fmla="val 16667"/>
            </a:avLst>
          </a:prstGeom>
          <a:solidFill>
            <a:srgbClr val="ff9900"/>
          </a:solidFill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Text Box 6"/>
          <p:cNvSpPr/>
          <p:nvPr/>
        </p:nvSpPr>
        <p:spPr>
          <a:xfrm>
            <a:off x="2133720" y="3581280"/>
            <a:ext cx="36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修辞：比喻、反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Text Box 7"/>
          <p:cNvSpPr/>
          <p:nvPr/>
        </p:nvSpPr>
        <p:spPr>
          <a:xfrm>
            <a:off x="1374840" y="4876920"/>
            <a:ext cx="211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所       感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Text Box 8"/>
          <p:cNvSpPr/>
          <p:nvPr/>
        </p:nvSpPr>
        <p:spPr>
          <a:xfrm>
            <a:off x="4308840" y="4724280"/>
            <a:ext cx="1643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厌恶之极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不屑与之为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Text Box 9"/>
          <p:cNvSpPr/>
          <p:nvPr/>
        </p:nvSpPr>
        <p:spPr>
          <a:xfrm>
            <a:off x="4320360" y="2438280"/>
            <a:ext cx="223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不学无术 思想腐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AutoShape 10"/>
          <p:cNvSpPr/>
          <p:nvPr/>
        </p:nvSpPr>
        <p:spPr>
          <a:xfrm>
            <a:off x="7238880" y="2819520"/>
            <a:ext cx="304920" cy="2666880"/>
          </a:xfrm>
          <a:custGeom>
            <a:avLst/>
            <a:gdLst>
              <a:gd name="textAreaLeft" fmla="*/ 0 w 304920"/>
              <a:gd name="textAreaRight" fmla="*/ 110160 w 304920"/>
              <a:gd name="textAreaTop" fmla="*/ 69480 h 2666880"/>
              <a:gd name="textAreaBottom" fmla="*/ 2597400 h 2666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Text Box 11"/>
          <p:cNvSpPr/>
          <p:nvPr/>
        </p:nvSpPr>
        <p:spPr>
          <a:xfrm>
            <a:off x="7507440" y="2892960"/>
            <a:ext cx="1277640" cy="306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爱  国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AutoShape 12">
            <a:hlinkClick r:id="rId1" action="ppaction://hlinksldjump"/>
          </p:cNvPr>
          <p:cNvSpPr/>
          <p:nvPr/>
        </p:nvSpPr>
        <p:spPr>
          <a:xfrm>
            <a:off x="8077320" y="6095880"/>
            <a:ext cx="304560" cy="38124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32">
                <a:moveTo>
                  <a:pt x="0" y="0"/>
                </a:moveTo>
                <a:lnTo>
                  <a:pt x="21600" y="0"/>
                </a:lnTo>
                <a:lnTo>
                  <a:pt x="21600" y="27032"/>
                </a:lnTo>
                <a:lnTo>
                  <a:pt x="0" y="27032"/>
                </a:lnTo>
                <a:close/>
              </a:path>
              <a:path fill="lightenLess" w="21600" h="2703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32">
                <a:moveTo>
                  <a:pt x="21600" y="0"/>
                </a:moveTo>
                <a:lnTo>
                  <a:pt x="21600" y="27032"/>
                </a:lnTo>
                <a:lnTo>
                  <a:pt x="20200" y="25632"/>
                </a:lnTo>
                <a:lnTo>
                  <a:pt x="20200" y="1400"/>
                </a:lnTo>
                <a:close/>
              </a:path>
              <a:path fill="darkenLess" w="21600" h="27032">
                <a:moveTo>
                  <a:pt x="21600" y="27032"/>
                </a:moveTo>
                <a:lnTo>
                  <a:pt x="0" y="27032"/>
                </a:lnTo>
                <a:lnTo>
                  <a:pt x="1400" y="25632"/>
                </a:lnTo>
                <a:lnTo>
                  <a:pt x="20200" y="25632"/>
                </a:lnTo>
                <a:close/>
              </a:path>
              <a:path fill="lighten" w="21600" h="27032">
                <a:moveTo>
                  <a:pt x="0" y="27032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32"/>
                </a:lnTo>
                <a:close/>
              </a:path>
              <a:path fill="darken" w="21600" h="27032">
                <a:moveTo>
                  <a:pt x="7301" y="13516"/>
                </a:moveTo>
                <a:lnTo>
                  <a:pt x="17806" y="6509"/>
                </a:lnTo>
                <a:lnTo>
                  <a:pt x="17806" y="20522"/>
                </a:lnTo>
                <a:close/>
              </a:path>
              <a:path fill="darken" w="21600" h="27032">
                <a:moveTo>
                  <a:pt x="3794" y="6509"/>
                </a:moveTo>
                <a:lnTo>
                  <a:pt x="5456" y="6509"/>
                </a:lnTo>
                <a:lnTo>
                  <a:pt x="5456" y="20522"/>
                </a:lnTo>
                <a:lnTo>
                  <a:pt x="3794" y="20522"/>
                </a:lnTo>
                <a:close/>
              </a:path>
            </a:pathLst>
          </a:custGeom>
          <a:solidFill>
            <a:srgbClr val="00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AutoShape 13">
            <a:hlinkClick r:id="" action="ppaction://hlinkshowjump?jump=previousslide"/>
          </p:cNvPr>
          <p:cNvSpPr/>
          <p:nvPr/>
        </p:nvSpPr>
        <p:spPr>
          <a:xfrm>
            <a:off x="8458200" y="6095880"/>
            <a:ext cx="304920" cy="38124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00">
                <a:moveTo>
                  <a:pt x="0" y="0"/>
                </a:moveTo>
                <a:lnTo>
                  <a:pt x="21600" y="0"/>
                </a:lnTo>
                <a:lnTo>
                  <a:pt x="21600" y="27000"/>
                </a:lnTo>
                <a:lnTo>
                  <a:pt x="0" y="27000"/>
                </a:lnTo>
                <a:close/>
              </a:path>
              <a:path fill="lightenLess" w="21600" h="270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0">
                <a:moveTo>
                  <a:pt x="21600" y="0"/>
                </a:moveTo>
                <a:lnTo>
                  <a:pt x="21600" y="27000"/>
                </a:lnTo>
                <a:lnTo>
                  <a:pt x="20200" y="25600"/>
                </a:lnTo>
                <a:lnTo>
                  <a:pt x="20200" y="1400"/>
                </a:lnTo>
                <a:close/>
              </a:path>
              <a:path fill="darkenLess" w="21600" h="27000">
                <a:moveTo>
                  <a:pt x="21600" y="27000"/>
                </a:moveTo>
                <a:lnTo>
                  <a:pt x="0" y="27000"/>
                </a:lnTo>
                <a:lnTo>
                  <a:pt x="1400" y="25600"/>
                </a:lnTo>
                <a:lnTo>
                  <a:pt x="20200" y="25600"/>
                </a:lnTo>
                <a:close/>
              </a:path>
              <a:path fill="lighten" w="21600" h="27000">
                <a:moveTo>
                  <a:pt x="0" y="270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0"/>
                </a:lnTo>
                <a:close/>
              </a:path>
              <a:path fill="darken" w="21600" h="27000">
                <a:moveTo>
                  <a:pt x="3794" y="10193"/>
                </a:moveTo>
                <a:lnTo>
                  <a:pt x="7301" y="10193"/>
                </a:lnTo>
                <a:lnTo>
                  <a:pt x="7301" y="15528"/>
                </a:lnTo>
                <a:cubicBezTo>
                  <a:pt x="7301" y="16451"/>
                  <a:pt x="8102" y="17182"/>
                  <a:pt x="9138" y="17182"/>
                </a:cubicBezTo>
                <a:lnTo>
                  <a:pt x="10800" y="17182"/>
                </a:lnTo>
                <a:cubicBezTo>
                  <a:pt x="11836" y="17182"/>
                  <a:pt x="12636" y="16451"/>
                  <a:pt x="12636" y="15528"/>
                </a:cubicBezTo>
                <a:lnTo>
                  <a:pt x="12636" y="10193"/>
                </a:lnTo>
                <a:lnTo>
                  <a:pt x="10800" y="10193"/>
                </a:lnTo>
                <a:lnTo>
                  <a:pt x="14308" y="6685"/>
                </a:lnTo>
                <a:lnTo>
                  <a:pt x="17981" y="10193"/>
                </a:lnTo>
                <a:lnTo>
                  <a:pt x="16144" y="10193"/>
                </a:lnTo>
                <a:lnTo>
                  <a:pt x="16144" y="15528"/>
                </a:lnTo>
                <a:cubicBezTo>
                  <a:pt x="16144" y="18296"/>
                  <a:pt x="13568" y="20855"/>
                  <a:pt x="10800" y="20855"/>
                </a:cubicBezTo>
                <a:lnTo>
                  <a:pt x="9138" y="20855"/>
                </a:lnTo>
                <a:cubicBezTo>
                  <a:pt x="6370" y="20855"/>
                  <a:pt x="3794" y="18296"/>
                  <a:pt x="3794" y="15528"/>
                </a:cubicBezTo>
                <a:close/>
              </a:path>
            </a:pathLst>
          </a:custGeom>
          <a:solidFill>
            <a:srgbClr val="00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88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93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6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21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Text Box 2"/>
          <p:cNvSpPr/>
          <p:nvPr/>
        </p:nvSpPr>
        <p:spPr>
          <a:xfrm>
            <a:off x="4096080" y="560520"/>
            <a:ext cx="1911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99"/>
                </a:solidFill>
                <a:latin typeface="Times New Roman"/>
              </a:rPr>
              <a:t>去  仙  台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Text Box 3"/>
          <p:cNvSpPr/>
          <p:nvPr/>
        </p:nvSpPr>
        <p:spPr>
          <a:xfrm>
            <a:off x="1532880" y="337644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去仙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 Box 4"/>
          <p:cNvSpPr/>
          <p:nvPr/>
        </p:nvSpPr>
        <p:spPr>
          <a:xfrm>
            <a:off x="4097520" y="1876320"/>
            <a:ext cx="124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日暮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 Box 5"/>
          <p:cNvSpPr/>
          <p:nvPr/>
        </p:nvSpPr>
        <p:spPr>
          <a:xfrm>
            <a:off x="4080600" y="4900680"/>
            <a:ext cx="97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水户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Text Box 6"/>
          <p:cNvSpPr/>
          <p:nvPr/>
        </p:nvSpPr>
        <p:spPr>
          <a:xfrm>
            <a:off x="5961960" y="185256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触发忧国之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 Box 7"/>
          <p:cNvSpPr/>
          <p:nvPr/>
        </p:nvSpPr>
        <p:spPr>
          <a:xfrm>
            <a:off x="5698800" y="490068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反清志士客死之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Line 8"/>
          <p:cNvSpPr/>
          <p:nvPr/>
        </p:nvSpPr>
        <p:spPr>
          <a:xfrm flipV="1">
            <a:off x="2743200" y="2514240"/>
            <a:ext cx="1066680" cy="121932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Line 9"/>
          <p:cNvSpPr/>
          <p:nvPr/>
        </p:nvSpPr>
        <p:spPr>
          <a:xfrm>
            <a:off x="2743200" y="3962520"/>
            <a:ext cx="1143000" cy="114300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AutoShape 10"/>
          <p:cNvSpPr/>
          <p:nvPr/>
        </p:nvSpPr>
        <p:spPr>
          <a:xfrm>
            <a:off x="5867280" y="2590920"/>
            <a:ext cx="533520" cy="2209680"/>
          </a:xfrm>
          <a:prstGeom prst="upDownArrow">
            <a:avLst>
              <a:gd name="adj1" fmla="val 50000"/>
              <a:gd name="adj2" fmla="val 82451"/>
            </a:avLst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 Box 11"/>
          <p:cNvSpPr/>
          <p:nvPr/>
        </p:nvSpPr>
        <p:spPr>
          <a:xfrm>
            <a:off x="5061240" y="306072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爱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 Box 12"/>
          <p:cNvSpPr/>
          <p:nvPr/>
        </p:nvSpPr>
        <p:spPr>
          <a:xfrm>
            <a:off x="6661440" y="306072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国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AutoShape 13">
            <a:hlinkClick r:id="rId1" action="ppaction://hlinksldjump"/>
          </p:cNvPr>
          <p:cNvSpPr/>
          <p:nvPr/>
        </p:nvSpPr>
        <p:spPr>
          <a:xfrm>
            <a:off x="8077320" y="6095880"/>
            <a:ext cx="304560" cy="38124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32">
                <a:moveTo>
                  <a:pt x="0" y="0"/>
                </a:moveTo>
                <a:lnTo>
                  <a:pt x="21600" y="0"/>
                </a:lnTo>
                <a:lnTo>
                  <a:pt x="21600" y="27032"/>
                </a:lnTo>
                <a:lnTo>
                  <a:pt x="0" y="27032"/>
                </a:lnTo>
                <a:close/>
              </a:path>
              <a:path fill="lightenLess" w="21600" h="2703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32">
                <a:moveTo>
                  <a:pt x="21600" y="0"/>
                </a:moveTo>
                <a:lnTo>
                  <a:pt x="21600" y="27032"/>
                </a:lnTo>
                <a:lnTo>
                  <a:pt x="20200" y="25632"/>
                </a:lnTo>
                <a:lnTo>
                  <a:pt x="20200" y="1400"/>
                </a:lnTo>
                <a:close/>
              </a:path>
              <a:path fill="darkenLess" w="21600" h="27032">
                <a:moveTo>
                  <a:pt x="21600" y="27032"/>
                </a:moveTo>
                <a:lnTo>
                  <a:pt x="0" y="27032"/>
                </a:lnTo>
                <a:lnTo>
                  <a:pt x="1400" y="25632"/>
                </a:lnTo>
                <a:lnTo>
                  <a:pt x="20200" y="25632"/>
                </a:lnTo>
                <a:close/>
              </a:path>
              <a:path fill="lighten" w="21600" h="27032">
                <a:moveTo>
                  <a:pt x="0" y="27032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32"/>
                </a:lnTo>
                <a:close/>
              </a:path>
              <a:path fill="darken" w="21600" h="27032">
                <a:moveTo>
                  <a:pt x="7301" y="13516"/>
                </a:moveTo>
                <a:lnTo>
                  <a:pt x="17806" y="6509"/>
                </a:lnTo>
                <a:lnTo>
                  <a:pt x="17806" y="20522"/>
                </a:lnTo>
                <a:close/>
              </a:path>
              <a:path fill="darken" w="21600" h="27032">
                <a:moveTo>
                  <a:pt x="3794" y="6509"/>
                </a:moveTo>
                <a:lnTo>
                  <a:pt x="5456" y="6509"/>
                </a:lnTo>
                <a:lnTo>
                  <a:pt x="5456" y="20522"/>
                </a:lnTo>
                <a:lnTo>
                  <a:pt x="3794" y="20522"/>
                </a:lnTo>
                <a:close/>
              </a:path>
            </a:pathLst>
          </a:custGeom>
          <a:solidFill>
            <a:srgbClr val="00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AutoShape 14">
            <a:hlinkClick r:id="" action="ppaction://hlinkshowjump?jump=previousslide"/>
          </p:cNvPr>
          <p:cNvSpPr/>
          <p:nvPr/>
        </p:nvSpPr>
        <p:spPr>
          <a:xfrm>
            <a:off x="8458200" y="6095880"/>
            <a:ext cx="304920" cy="38124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00">
                <a:moveTo>
                  <a:pt x="0" y="0"/>
                </a:moveTo>
                <a:lnTo>
                  <a:pt x="21600" y="0"/>
                </a:lnTo>
                <a:lnTo>
                  <a:pt x="21600" y="27000"/>
                </a:lnTo>
                <a:lnTo>
                  <a:pt x="0" y="27000"/>
                </a:lnTo>
                <a:close/>
              </a:path>
              <a:path fill="lightenLess" w="21600" h="270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0">
                <a:moveTo>
                  <a:pt x="21600" y="0"/>
                </a:moveTo>
                <a:lnTo>
                  <a:pt x="21600" y="27000"/>
                </a:lnTo>
                <a:lnTo>
                  <a:pt x="20200" y="25600"/>
                </a:lnTo>
                <a:lnTo>
                  <a:pt x="20200" y="1400"/>
                </a:lnTo>
                <a:close/>
              </a:path>
              <a:path fill="darkenLess" w="21600" h="27000">
                <a:moveTo>
                  <a:pt x="21600" y="27000"/>
                </a:moveTo>
                <a:lnTo>
                  <a:pt x="0" y="27000"/>
                </a:lnTo>
                <a:lnTo>
                  <a:pt x="1400" y="25600"/>
                </a:lnTo>
                <a:lnTo>
                  <a:pt x="20200" y="25600"/>
                </a:lnTo>
                <a:close/>
              </a:path>
              <a:path fill="lighten" w="21600" h="27000">
                <a:moveTo>
                  <a:pt x="0" y="270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0"/>
                </a:lnTo>
                <a:close/>
              </a:path>
              <a:path fill="darken" w="21600" h="27000">
                <a:moveTo>
                  <a:pt x="3794" y="10193"/>
                </a:moveTo>
                <a:lnTo>
                  <a:pt x="7301" y="10193"/>
                </a:lnTo>
                <a:lnTo>
                  <a:pt x="7301" y="15528"/>
                </a:lnTo>
                <a:cubicBezTo>
                  <a:pt x="7301" y="16451"/>
                  <a:pt x="8102" y="17182"/>
                  <a:pt x="9138" y="17182"/>
                </a:cubicBezTo>
                <a:lnTo>
                  <a:pt x="10800" y="17182"/>
                </a:lnTo>
                <a:cubicBezTo>
                  <a:pt x="11836" y="17182"/>
                  <a:pt x="12636" y="16451"/>
                  <a:pt x="12636" y="15528"/>
                </a:cubicBezTo>
                <a:lnTo>
                  <a:pt x="12636" y="10193"/>
                </a:lnTo>
                <a:lnTo>
                  <a:pt x="10800" y="10193"/>
                </a:lnTo>
                <a:lnTo>
                  <a:pt x="14308" y="6685"/>
                </a:lnTo>
                <a:lnTo>
                  <a:pt x="17981" y="10193"/>
                </a:lnTo>
                <a:lnTo>
                  <a:pt x="16144" y="10193"/>
                </a:lnTo>
                <a:lnTo>
                  <a:pt x="16144" y="15528"/>
                </a:lnTo>
                <a:cubicBezTo>
                  <a:pt x="16144" y="18296"/>
                  <a:pt x="13568" y="20855"/>
                  <a:pt x="10800" y="20855"/>
                </a:cubicBezTo>
                <a:lnTo>
                  <a:pt x="9138" y="20855"/>
                </a:lnTo>
                <a:cubicBezTo>
                  <a:pt x="6370" y="20855"/>
                  <a:pt x="3794" y="18296"/>
                  <a:pt x="3794" y="15528"/>
                </a:cubicBezTo>
                <a:close/>
              </a:path>
            </a:pathLst>
          </a:custGeom>
          <a:solidFill>
            <a:srgbClr val="00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</p:transition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8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7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78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2" name="Picture 2" descr="藤野先生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4038480" y="1066680"/>
            <a:ext cx="4648320" cy="5486400"/>
          </a:xfrm>
          <a:prstGeom prst="rect">
            <a:avLst/>
          </a:prstGeom>
          <a:ln w="0">
            <a:noFill/>
          </a:ln>
        </p:spPr>
      </p:pic>
      <p:sp>
        <p:nvSpPr>
          <p:cNvPr id="673" name="Text Box 3"/>
          <p:cNvSpPr/>
          <p:nvPr/>
        </p:nvSpPr>
        <p:spPr>
          <a:xfrm>
            <a:off x="3022920" y="304920"/>
            <a:ext cx="347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学生复述：弃医从文的原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Text Box 4"/>
          <p:cNvSpPr/>
          <p:nvPr/>
        </p:nvSpPr>
        <p:spPr>
          <a:xfrm>
            <a:off x="1299240" y="735480"/>
            <a:ext cx="1094760" cy="58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99"/>
                </a:solidFill>
                <a:latin typeface="Times New Roman"/>
                <a:ea typeface="华文新魏"/>
              </a:rPr>
              <a:t>  </a:t>
            </a:r>
            <a:r>
              <a:rPr b="0" lang="zh-CN" sz="6000" spc="-1" strike="noStrike">
                <a:solidFill>
                  <a:srgbClr val="000099"/>
                </a:solidFill>
                <a:latin typeface="Times New Roman"/>
                <a:ea typeface="华文新魏"/>
              </a:rPr>
              <a:t>匿名信事件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 Box 5"/>
          <p:cNvSpPr/>
          <p:nvPr/>
        </p:nvSpPr>
        <p:spPr>
          <a:xfrm>
            <a:off x="2518560" y="1084680"/>
            <a:ext cx="1094760" cy="54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6000" spc="-1" strike="noStrike">
                <a:solidFill>
                  <a:srgbClr val="000099"/>
                </a:solidFill>
                <a:latin typeface="Times New Roman"/>
                <a:ea typeface="华文新魏"/>
              </a:rPr>
              <a:t>看电影事件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AutoShape 6"/>
          <p:cNvSpPr/>
          <p:nvPr/>
        </p:nvSpPr>
        <p:spPr>
          <a:xfrm>
            <a:off x="8077320" y="6095880"/>
            <a:ext cx="304560" cy="38124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32">
                <a:moveTo>
                  <a:pt x="0" y="0"/>
                </a:moveTo>
                <a:lnTo>
                  <a:pt x="21600" y="0"/>
                </a:lnTo>
                <a:lnTo>
                  <a:pt x="21600" y="27032"/>
                </a:lnTo>
                <a:lnTo>
                  <a:pt x="0" y="27032"/>
                </a:lnTo>
                <a:close/>
              </a:path>
              <a:path fill="lightenLess" w="21600" h="2703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32">
                <a:moveTo>
                  <a:pt x="21600" y="0"/>
                </a:moveTo>
                <a:lnTo>
                  <a:pt x="21600" y="27032"/>
                </a:lnTo>
                <a:lnTo>
                  <a:pt x="20200" y="25632"/>
                </a:lnTo>
                <a:lnTo>
                  <a:pt x="20200" y="1400"/>
                </a:lnTo>
                <a:close/>
              </a:path>
              <a:path fill="darkenLess" w="21600" h="27032">
                <a:moveTo>
                  <a:pt x="21600" y="27032"/>
                </a:moveTo>
                <a:lnTo>
                  <a:pt x="0" y="27032"/>
                </a:lnTo>
                <a:lnTo>
                  <a:pt x="1400" y="25632"/>
                </a:lnTo>
                <a:lnTo>
                  <a:pt x="20200" y="25632"/>
                </a:lnTo>
                <a:close/>
              </a:path>
              <a:path fill="lighten" w="21600" h="27032">
                <a:moveTo>
                  <a:pt x="0" y="27032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32"/>
                </a:lnTo>
                <a:close/>
              </a:path>
              <a:path fill="darken" w="21600" h="27032">
                <a:moveTo>
                  <a:pt x="7301" y="13516"/>
                </a:moveTo>
                <a:lnTo>
                  <a:pt x="17806" y="6509"/>
                </a:lnTo>
                <a:lnTo>
                  <a:pt x="17806" y="20522"/>
                </a:lnTo>
                <a:close/>
              </a:path>
              <a:path fill="darken" w="21600" h="27032">
                <a:moveTo>
                  <a:pt x="3794" y="6509"/>
                </a:moveTo>
                <a:lnTo>
                  <a:pt x="5456" y="6509"/>
                </a:lnTo>
                <a:lnTo>
                  <a:pt x="5456" y="20522"/>
                </a:lnTo>
                <a:lnTo>
                  <a:pt x="3794" y="20522"/>
                </a:lnTo>
                <a:close/>
              </a:path>
            </a:pathLst>
          </a:custGeom>
          <a:solidFill>
            <a:srgbClr val="00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AutoShape 7">
            <a:hlinkClick r:id="" action="ppaction://hlinkshowjump?jump=previousslide"/>
          </p:cNvPr>
          <p:cNvSpPr/>
          <p:nvPr/>
        </p:nvSpPr>
        <p:spPr>
          <a:xfrm>
            <a:off x="8458200" y="6095880"/>
            <a:ext cx="304920" cy="38124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00">
                <a:moveTo>
                  <a:pt x="0" y="0"/>
                </a:moveTo>
                <a:lnTo>
                  <a:pt x="21600" y="0"/>
                </a:lnTo>
                <a:lnTo>
                  <a:pt x="21600" y="27000"/>
                </a:lnTo>
                <a:lnTo>
                  <a:pt x="0" y="27000"/>
                </a:lnTo>
                <a:close/>
              </a:path>
              <a:path fill="lightenLess" w="21600" h="270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0">
                <a:moveTo>
                  <a:pt x="21600" y="0"/>
                </a:moveTo>
                <a:lnTo>
                  <a:pt x="21600" y="27000"/>
                </a:lnTo>
                <a:lnTo>
                  <a:pt x="20200" y="25600"/>
                </a:lnTo>
                <a:lnTo>
                  <a:pt x="20200" y="1400"/>
                </a:lnTo>
                <a:close/>
              </a:path>
              <a:path fill="darkenLess" w="21600" h="27000">
                <a:moveTo>
                  <a:pt x="21600" y="27000"/>
                </a:moveTo>
                <a:lnTo>
                  <a:pt x="0" y="27000"/>
                </a:lnTo>
                <a:lnTo>
                  <a:pt x="1400" y="25600"/>
                </a:lnTo>
                <a:lnTo>
                  <a:pt x="20200" y="25600"/>
                </a:lnTo>
                <a:close/>
              </a:path>
              <a:path fill="lighten" w="21600" h="27000">
                <a:moveTo>
                  <a:pt x="0" y="270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0"/>
                </a:lnTo>
                <a:close/>
              </a:path>
              <a:path fill="darken" w="21600" h="27000">
                <a:moveTo>
                  <a:pt x="3794" y="10193"/>
                </a:moveTo>
                <a:lnTo>
                  <a:pt x="7301" y="10193"/>
                </a:lnTo>
                <a:lnTo>
                  <a:pt x="7301" y="15528"/>
                </a:lnTo>
                <a:cubicBezTo>
                  <a:pt x="7301" y="16451"/>
                  <a:pt x="8102" y="17182"/>
                  <a:pt x="9138" y="17182"/>
                </a:cubicBezTo>
                <a:lnTo>
                  <a:pt x="10800" y="17182"/>
                </a:lnTo>
                <a:cubicBezTo>
                  <a:pt x="11836" y="17182"/>
                  <a:pt x="12636" y="16451"/>
                  <a:pt x="12636" y="15528"/>
                </a:cubicBezTo>
                <a:lnTo>
                  <a:pt x="12636" y="10193"/>
                </a:lnTo>
                <a:lnTo>
                  <a:pt x="10800" y="10193"/>
                </a:lnTo>
                <a:lnTo>
                  <a:pt x="14308" y="6685"/>
                </a:lnTo>
                <a:lnTo>
                  <a:pt x="17981" y="10193"/>
                </a:lnTo>
                <a:lnTo>
                  <a:pt x="16144" y="10193"/>
                </a:lnTo>
                <a:lnTo>
                  <a:pt x="16144" y="15528"/>
                </a:lnTo>
                <a:cubicBezTo>
                  <a:pt x="16144" y="18296"/>
                  <a:pt x="13568" y="20855"/>
                  <a:pt x="10800" y="20855"/>
                </a:cubicBezTo>
                <a:lnTo>
                  <a:pt x="9138" y="20855"/>
                </a:lnTo>
                <a:cubicBezTo>
                  <a:pt x="6370" y="20855"/>
                  <a:pt x="3794" y="18296"/>
                  <a:pt x="3794" y="15528"/>
                </a:cubicBezTo>
                <a:close/>
              </a:path>
            </a:pathLst>
          </a:custGeom>
          <a:solidFill>
            <a:srgbClr val="00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97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02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Text Box 2"/>
          <p:cNvSpPr/>
          <p:nvPr/>
        </p:nvSpPr>
        <p:spPr>
          <a:xfrm>
            <a:off x="4001040" y="353880"/>
            <a:ext cx="2527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Times New Roman"/>
                <a:ea typeface="黑体"/>
              </a:rPr>
              <a:t>弃医从文的原因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Text Box 3"/>
          <p:cNvSpPr/>
          <p:nvPr/>
        </p:nvSpPr>
        <p:spPr>
          <a:xfrm>
            <a:off x="6557400" y="457560"/>
            <a:ext cx="1399320" cy="66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匿名信事件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个人与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祖国的尊严受到侵犯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Text Box 4"/>
          <p:cNvSpPr/>
          <p:nvPr/>
        </p:nvSpPr>
        <p:spPr>
          <a:xfrm>
            <a:off x="1680480" y="289440"/>
            <a:ext cx="2008800" cy="70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99"/>
                </a:solidFill>
                <a:latin typeface="Times New Roman"/>
                <a:ea typeface="黑体"/>
              </a:rPr>
              <a:t>看电影事件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思想受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极大震动，民族自尊心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受到严重挫伤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AutoShape 5"/>
          <p:cNvSpPr/>
          <p:nvPr/>
        </p:nvSpPr>
        <p:spPr>
          <a:xfrm>
            <a:off x="3581280" y="3352680"/>
            <a:ext cx="2971800" cy="638280"/>
          </a:xfrm>
          <a:prstGeom prst="leftRightArrow">
            <a:avLst>
              <a:gd name="adj1" fmla="val 50000"/>
              <a:gd name="adj2" fmla="val 92688"/>
            </a:avLst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Text Box 6"/>
          <p:cNvSpPr/>
          <p:nvPr/>
        </p:nvSpPr>
        <p:spPr>
          <a:xfrm>
            <a:off x="4756680" y="229860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爱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Text Box 7"/>
          <p:cNvSpPr/>
          <p:nvPr/>
        </p:nvSpPr>
        <p:spPr>
          <a:xfrm>
            <a:off x="4756680" y="367020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国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AutoShape 8"/>
          <p:cNvSpPr/>
          <p:nvPr/>
        </p:nvSpPr>
        <p:spPr>
          <a:xfrm>
            <a:off x="8077320" y="6095880"/>
            <a:ext cx="304560" cy="38124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32">
                <a:moveTo>
                  <a:pt x="0" y="0"/>
                </a:moveTo>
                <a:lnTo>
                  <a:pt x="21600" y="0"/>
                </a:lnTo>
                <a:lnTo>
                  <a:pt x="21600" y="27032"/>
                </a:lnTo>
                <a:lnTo>
                  <a:pt x="0" y="27032"/>
                </a:lnTo>
                <a:close/>
              </a:path>
              <a:path fill="lightenLess" w="21600" h="2703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32">
                <a:moveTo>
                  <a:pt x="21600" y="0"/>
                </a:moveTo>
                <a:lnTo>
                  <a:pt x="21600" y="27032"/>
                </a:lnTo>
                <a:lnTo>
                  <a:pt x="20200" y="25632"/>
                </a:lnTo>
                <a:lnTo>
                  <a:pt x="20200" y="1400"/>
                </a:lnTo>
                <a:close/>
              </a:path>
              <a:path fill="darkenLess" w="21600" h="27032">
                <a:moveTo>
                  <a:pt x="21600" y="27032"/>
                </a:moveTo>
                <a:lnTo>
                  <a:pt x="0" y="27032"/>
                </a:lnTo>
                <a:lnTo>
                  <a:pt x="1400" y="25632"/>
                </a:lnTo>
                <a:lnTo>
                  <a:pt x="20200" y="25632"/>
                </a:lnTo>
                <a:close/>
              </a:path>
              <a:path fill="lighten" w="21600" h="27032">
                <a:moveTo>
                  <a:pt x="0" y="27032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32"/>
                </a:lnTo>
                <a:close/>
              </a:path>
              <a:path fill="darken" w="21600" h="27032">
                <a:moveTo>
                  <a:pt x="7301" y="13516"/>
                </a:moveTo>
                <a:lnTo>
                  <a:pt x="17806" y="6509"/>
                </a:lnTo>
                <a:lnTo>
                  <a:pt x="17806" y="20522"/>
                </a:lnTo>
                <a:close/>
              </a:path>
              <a:path fill="darken" w="21600" h="27032">
                <a:moveTo>
                  <a:pt x="3794" y="6509"/>
                </a:moveTo>
                <a:lnTo>
                  <a:pt x="5456" y="6509"/>
                </a:lnTo>
                <a:lnTo>
                  <a:pt x="5456" y="20522"/>
                </a:lnTo>
                <a:lnTo>
                  <a:pt x="3794" y="20522"/>
                </a:lnTo>
                <a:close/>
              </a:path>
            </a:pathLst>
          </a:custGeom>
          <a:solidFill>
            <a:srgbClr val="00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AutoShape 9">
            <a:hlinkClick r:id="" action="ppaction://hlinkshowjump?jump=previousslide"/>
          </p:cNvPr>
          <p:cNvSpPr/>
          <p:nvPr/>
        </p:nvSpPr>
        <p:spPr>
          <a:xfrm>
            <a:off x="8458200" y="6095880"/>
            <a:ext cx="304920" cy="38124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00">
                <a:moveTo>
                  <a:pt x="0" y="0"/>
                </a:moveTo>
                <a:lnTo>
                  <a:pt x="21600" y="0"/>
                </a:lnTo>
                <a:lnTo>
                  <a:pt x="21600" y="27000"/>
                </a:lnTo>
                <a:lnTo>
                  <a:pt x="0" y="27000"/>
                </a:lnTo>
                <a:close/>
              </a:path>
              <a:path fill="lightenLess" w="21600" h="270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0">
                <a:moveTo>
                  <a:pt x="21600" y="0"/>
                </a:moveTo>
                <a:lnTo>
                  <a:pt x="21600" y="27000"/>
                </a:lnTo>
                <a:lnTo>
                  <a:pt x="20200" y="25600"/>
                </a:lnTo>
                <a:lnTo>
                  <a:pt x="20200" y="1400"/>
                </a:lnTo>
                <a:close/>
              </a:path>
              <a:path fill="darkenLess" w="21600" h="27000">
                <a:moveTo>
                  <a:pt x="21600" y="27000"/>
                </a:moveTo>
                <a:lnTo>
                  <a:pt x="0" y="27000"/>
                </a:lnTo>
                <a:lnTo>
                  <a:pt x="1400" y="25600"/>
                </a:lnTo>
                <a:lnTo>
                  <a:pt x="20200" y="25600"/>
                </a:lnTo>
                <a:close/>
              </a:path>
              <a:path fill="lighten" w="21600" h="27000">
                <a:moveTo>
                  <a:pt x="0" y="270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0"/>
                </a:lnTo>
                <a:close/>
              </a:path>
              <a:path fill="darken" w="21600" h="27000">
                <a:moveTo>
                  <a:pt x="3794" y="10193"/>
                </a:moveTo>
                <a:lnTo>
                  <a:pt x="7301" y="10193"/>
                </a:lnTo>
                <a:lnTo>
                  <a:pt x="7301" y="15528"/>
                </a:lnTo>
                <a:cubicBezTo>
                  <a:pt x="7301" y="16451"/>
                  <a:pt x="8102" y="17182"/>
                  <a:pt x="9138" y="17182"/>
                </a:cubicBezTo>
                <a:lnTo>
                  <a:pt x="10800" y="17182"/>
                </a:lnTo>
                <a:cubicBezTo>
                  <a:pt x="11836" y="17182"/>
                  <a:pt x="12636" y="16451"/>
                  <a:pt x="12636" y="15528"/>
                </a:cubicBezTo>
                <a:lnTo>
                  <a:pt x="12636" y="10193"/>
                </a:lnTo>
                <a:lnTo>
                  <a:pt x="10800" y="10193"/>
                </a:lnTo>
                <a:lnTo>
                  <a:pt x="14308" y="6685"/>
                </a:lnTo>
                <a:lnTo>
                  <a:pt x="17981" y="10193"/>
                </a:lnTo>
                <a:lnTo>
                  <a:pt x="16144" y="10193"/>
                </a:lnTo>
                <a:lnTo>
                  <a:pt x="16144" y="15528"/>
                </a:lnTo>
                <a:cubicBezTo>
                  <a:pt x="16144" y="18296"/>
                  <a:pt x="13568" y="20855"/>
                  <a:pt x="10800" y="20855"/>
                </a:cubicBezTo>
                <a:lnTo>
                  <a:pt x="9138" y="20855"/>
                </a:lnTo>
                <a:cubicBezTo>
                  <a:pt x="6370" y="20855"/>
                  <a:pt x="3794" y="18296"/>
                  <a:pt x="3794" y="15528"/>
                </a:cubicBezTo>
                <a:close/>
              </a:path>
            </a:pathLst>
          </a:custGeom>
          <a:solidFill>
            <a:srgbClr val="00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09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14" dur="5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19" dur="5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Text Box 2"/>
          <p:cNvSpPr/>
          <p:nvPr/>
        </p:nvSpPr>
        <p:spPr>
          <a:xfrm>
            <a:off x="3128040" y="660240"/>
            <a:ext cx="36097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000099"/>
                </a:solidFill>
                <a:latin typeface="Times New Roman"/>
              </a:rPr>
              <a:t>离开仙台，怀念先生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Text Box 3"/>
          <p:cNvSpPr/>
          <p:nvPr/>
        </p:nvSpPr>
        <p:spPr>
          <a:xfrm>
            <a:off x="1490040" y="2154240"/>
            <a:ext cx="235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直抒怀念之情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Text Box 4"/>
          <p:cNvSpPr/>
          <p:nvPr/>
        </p:nvSpPr>
        <p:spPr>
          <a:xfrm>
            <a:off x="4254840" y="19810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热情赞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Text Box 5"/>
          <p:cNvSpPr/>
          <p:nvPr/>
        </p:nvSpPr>
        <p:spPr>
          <a:xfrm>
            <a:off x="4254840" y="25146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高度评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Text Box 6"/>
          <p:cNvSpPr/>
          <p:nvPr/>
        </p:nvSpPr>
        <p:spPr>
          <a:xfrm>
            <a:off x="1490040" y="4287960"/>
            <a:ext cx="235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怀念付诸行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Text Box 7"/>
          <p:cNvSpPr/>
          <p:nvPr/>
        </p:nvSpPr>
        <p:spPr>
          <a:xfrm>
            <a:off x="4410720" y="380988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藏讲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Text Box 8"/>
          <p:cNvSpPr/>
          <p:nvPr/>
        </p:nvSpPr>
        <p:spPr>
          <a:xfrm>
            <a:off x="4410720" y="43434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挂照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Text Box 9"/>
          <p:cNvSpPr/>
          <p:nvPr/>
        </p:nvSpPr>
        <p:spPr>
          <a:xfrm>
            <a:off x="4114800" y="495288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写文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AutoShape 10"/>
          <p:cNvSpPr/>
          <p:nvPr/>
        </p:nvSpPr>
        <p:spPr>
          <a:xfrm>
            <a:off x="5486400" y="2362320"/>
            <a:ext cx="304920" cy="2666880"/>
          </a:xfrm>
          <a:custGeom>
            <a:avLst/>
            <a:gdLst>
              <a:gd name="textAreaLeft" fmla="*/ 0 w 304920"/>
              <a:gd name="textAreaRight" fmla="*/ 110160 w 304920"/>
              <a:gd name="textAreaTop" fmla="*/ 69480 h 2666880"/>
              <a:gd name="textAreaBottom" fmla="*/ 2597400 h 2666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Text Box 11"/>
          <p:cNvSpPr/>
          <p:nvPr/>
        </p:nvSpPr>
        <p:spPr>
          <a:xfrm>
            <a:off x="5796360" y="1486080"/>
            <a:ext cx="1277640" cy="44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怀念之情化为斗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争的勇气和力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AutoShape 12"/>
          <p:cNvSpPr/>
          <p:nvPr/>
        </p:nvSpPr>
        <p:spPr>
          <a:xfrm>
            <a:off x="7162920" y="3352680"/>
            <a:ext cx="761760" cy="685800"/>
          </a:xfrm>
          <a:prstGeom prst="rightArrow">
            <a:avLst>
              <a:gd name="adj1" fmla="val 50000"/>
              <a:gd name="adj2" fmla="val 27769"/>
            </a:avLst>
          </a:prstGeom>
          <a:solidFill>
            <a:srgbClr val="ff9900"/>
          </a:solidFill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Text Box 13"/>
          <p:cNvSpPr/>
          <p:nvPr/>
        </p:nvSpPr>
        <p:spPr>
          <a:xfrm>
            <a:off x="7957080" y="252720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爱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Text Box 14"/>
          <p:cNvSpPr/>
          <p:nvPr/>
        </p:nvSpPr>
        <p:spPr>
          <a:xfrm>
            <a:off x="7957080" y="359424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国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AutoShape 15"/>
          <p:cNvSpPr/>
          <p:nvPr/>
        </p:nvSpPr>
        <p:spPr>
          <a:xfrm>
            <a:off x="8077320" y="6095880"/>
            <a:ext cx="304560" cy="38124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32">
                <a:moveTo>
                  <a:pt x="0" y="0"/>
                </a:moveTo>
                <a:lnTo>
                  <a:pt x="21600" y="0"/>
                </a:lnTo>
                <a:lnTo>
                  <a:pt x="21600" y="27032"/>
                </a:lnTo>
                <a:lnTo>
                  <a:pt x="0" y="27032"/>
                </a:lnTo>
                <a:close/>
              </a:path>
              <a:path fill="lightenLess" w="21600" h="2703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32">
                <a:moveTo>
                  <a:pt x="21600" y="0"/>
                </a:moveTo>
                <a:lnTo>
                  <a:pt x="21600" y="27032"/>
                </a:lnTo>
                <a:lnTo>
                  <a:pt x="20200" y="25632"/>
                </a:lnTo>
                <a:lnTo>
                  <a:pt x="20200" y="1400"/>
                </a:lnTo>
                <a:close/>
              </a:path>
              <a:path fill="darkenLess" w="21600" h="27032">
                <a:moveTo>
                  <a:pt x="21600" y="27032"/>
                </a:moveTo>
                <a:lnTo>
                  <a:pt x="0" y="27032"/>
                </a:lnTo>
                <a:lnTo>
                  <a:pt x="1400" y="25632"/>
                </a:lnTo>
                <a:lnTo>
                  <a:pt x="20200" y="25632"/>
                </a:lnTo>
                <a:close/>
              </a:path>
              <a:path fill="lighten" w="21600" h="27032">
                <a:moveTo>
                  <a:pt x="0" y="27032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32"/>
                </a:lnTo>
                <a:close/>
              </a:path>
              <a:path fill="darken" w="21600" h="27032">
                <a:moveTo>
                  <a:pt x="7301" y="13516"/>
                </a:moveTo>
                <a:lnTo>
                  <a:pt x="17806" y="6509"/>
                </a:lnTo>
                <a:lnTo>
                  <a:pt x="17806" y="20522"/>
                </a:lnTo>
                <a:close/>
              </a:path>
              <a:path fill="darken" w="21600" h="27032">
                <a:moveTo>
                  <a:pt x="3794" y="6509"/>
                </a:moveTo>
                <a:lnTo>
                  <a:pt x="5456" y="6509"/>
                </a:lnTo>
                <a:lnTo>
                  <a:pt x="5456" y="20522"/>
                </a:lnTo>
                <a:lnTo>
                  <a:pt x="3794" y="20522"/>
                </a:lnTo>
                <a:close/>
              </a:path>
            </a:pathLst>
          </a:custGeom>
          <a:solidFill>
            <a:srgbClr val="00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AutoShape 16">
            <a:hlinkClick r:id="" action="ppaction://hlinkshowjump?jump=previousslide"/>
          </p:cNvPr>
          <p:cNvSpPr/>
          <p:nvPr/>
        </p:nvSpPr>
        <p:spPr>
          <a:xfrm>
            <a:off x="8458200" y="6095880"/>
            <a:ext cx="304920" cy="38124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00">
                <a:moveTo>
                  <a:pt x="0" y="0"/>
                </a:moveTo>
                <a:lnTo>
                  <a:pt x="21600" y="0"/>
                </a:lnTo>
                <a:lnTo>
                  <a:pt x="21600" y="27000"/>
                </a:lnTo>
                <a:lnTo>
                  <a:pt x="0" y="27000"/>
                </a:lnTo>
                <a:close/>
              </a:path>
              <a:path fill="lightenLess" w="21600" h="270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0">
                <a:moveTo>
                  <a:pt x="21600" y="0"/>
                </a:moveTo>
                <a:lnTo>
                  <a:pt x="21600" y="27000"/>
                </a:lnTo>
                <a:lnTo>
                  <a:pt x="20200" y="25600"/>
                </a:lnTo>
                <a:lnTo>
                  <a:pt x="20200" y="1400"/>
                </a:lnTo>
                <a:close/>
              </a:path>
              <a:path fill="darkenLess" w="21600" h="27000">
                <a:moveTo>
                  <a:pt x="21600" y="27000"/>
                </a:moveTo>
                <a:lnTo>
                  <a:pt x="0" y="27000"/>
                </a:lnTo>
                <a:lnTo>
                  <a:pt x="1400" y="25600"/>
                </a:lnTo>
                <a:lnTo>
                  <a:pt x="20200" y="25600"/>
                </a:lnTo>
                <a:close/>
              </a:path>
              <a:path fill="lighten" w="21600" h="27000">
                <a:moveTo>
                  <a:pt x="0" y="270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0"/>
                </a:lnTo>
                <a:close/>
              </a:path>
              <a:path fill="darken" w="21600" h="27000">
                <a:moveTo>
                  <a:pt x="3794" y="10193"/>
                </a:moveTo>
                <a:lnTo>
                  <a:pt x="7301" y="10193"/>
                </a:lnTo>
                <a:lnTo>
                  <a:pt x="7301" y="15528"/>
                </a:lnTo>
                <a:cubicBezTo>
                  <a:pt x="7301" y="16451"/>
                  <a:pt x="8102" y="17182"/>
                  <a:pt x="9138" y="17182"/>
                </a:cubicBezTo>
                <a:lnTo>
                  <a:pt x="10800" y="17182"/>
                </a:lnTo>
                <a:cubicBezTo>
                  <a:pt x="11836" y="17182"/>
                  <a:pt x="12636" y="16451"/>
                  <a:pt x="12636" y="15528"/>
                </a:cubicBezTo>
                <a:lnTo>
                  <a:pt x="12636" y="10193"/>
                </a:lnTo>
                <a:lnTo>
                  <a:pt x="10800" y="10193"/>
                </a:lnTo>
                <a:lnTo>
                  <a:pt x="14308" y="6685"/>
                </a:lnTo>
                <a:lnTo>
                  <a:pt x="17981" y="10193"/>
                </a:lnTo>
                <a:lnTo>
                  <a:pt x="16144" y="10193"/>
                </a:lnTo>
                <a:lnTo>
                  <a:pt x="16144" y="15528"/>
                </a:lnTo>
                <a:cubicBezTo>
                  <a:pt x="16144" y="18296"/>
                  <a:pt x="13568" y="20855"/>
                  <a:pt x="10800" y="20855"/>
                </a:cubicBezTo>
                <a:lnTo>
                  <a:pt x="9138" y="20855"/>
                </a:lnTo>
                <a:cubicBezTo>
                  <a:pt x="6370" y="20855"/>
                  <a:pt x="3794" y="18296"/>
                  <a:pt x="3794" y="15528"/>
                </a:cubicBezTo>
                <a:close/>
              </a:path>
            </a:pathLst>
          </a:custGeom>
          <a:solidFill>
            <a:srgbClr val="00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38" dur="5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3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8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53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58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3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8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73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78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矩形 17"/>
          <p:cNvSpPr/>
          <p:nvPr/>
        </p:nvSpPr>
        <p:spPr>
          <a:xfrm>
            <a:off x="1817640" y="836640"/>
            <a:ext cx="66060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7" name="Picture 2" descr="鲁迅像2"/>
          <p:cNvPicPr/>
          <p:nvPr/>
        </p:nvPicPr>
        <p:blipFill>
          <a:blip r:embed="rId1"/>
          <a:stretch/>
        </p:blipFill>
        <p:spPr>
          <a:xfrm>
            <a:off x="1143000" y="304920"/>
            <a:ext cx="7620120" cy="5486400"/>
          </a:xfrm>
          <a:prstGeom prst="rect">
            <a:avLst/>
          </a:prstGeom>
          <a:ln w="0">
            <a:noFill/>
          </a:ln>
        </p:spPr>
      </p:pic>
      <p:sp>
        <p:nvSpPr>
          <p:cNvPr id="538" name="AutoShape 3">
            <a:hlinkClick r:id="rId2" action="ppaction://hlinksldjump"/>
          </p:cNvPr>
          <p:cNvSpPr/>
          <p:nvPr/>
        </p:nvSpPr>
        <p:spPr>
          <a:xfrm>
            <a:off x="2362320" y="5943600"/>
            <a:ext cx="1295280" cy="533520"/>
          </a:xfrm>
          <a:prstGeom prst="bevel">
            <a:avLst>
              <a:gd name="adj" fmla="val 12500"/>
            </a:avLst>
          </a:prstGeom>
          <a:blipFill rotWithShape="0">
            <a:blip r:embed="rId3"/>
            <a:srcRect/>
            <a:stretch/>
          </a:blipFill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AutoShape 4">
            <a:hlinkClick r:id="rId4" action="ppaction://hlinksldjump"/>
          </p:cNvPr>
          <p:cNvSpPr/>
          <p:nvPr/>
        </p:nvSpPr>
        <p:spPr>
          <a:xfrm>
            <a:off x="1066680" y="5943600"/>
            <a:ext cx="1295640" cy="533520"/>
          </a:xfrm>
          <a:prstGeom prst="bevel">
            <a:avLst>
              <a:gd name="adj" fmla="val 12500"/>
            </a:avLst>
          </a:prstGeom>
          <a:blipFill rotWithShape="0">
            <a:blip r:embed="rId5"/>
            <a:srcRect/>
            <a:stretch/>
          </a:blipFill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AutoShape 5">
            <a:hlinkClick r:id="rId6" action="ppaction://hlinksldjump"/>
          </p:cNvPr>
          <p:cNvSpPr/>
          <p:nvPr/>
        </p:nvSpPr>
        <p:spPr>
          <a:xfrm>
            <a:off x="3657600" y="5943600"/>
            <a:ext cx="1295280" cy="533520"/>
          </a:xfrm>
          <a:prstGeom prst="bevel">
            <a:avLst>
              <a:gd name="adj" fmla="val 12500"/>
            </a:avLst>
          </a:prstGeom>
          <a:blipFill rotWithShape="0">
            <a:blip r:embed="rId7"/>
            <a:srcRect/>
            <a:stretch/>
          </a:blipFill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AutoShape 6">
            <a:hlinkClick r:id="rId8" action="ppaction://hlinksldjump"/>
          </p:cNvPr>
          <p:cNvSpPr/>
          <p:nvPr/>
        </p:nvSpPr>
        <p:spPr>
          <a:xfrm>
            <a:off x="6248520" y="5943600"/>
            <a:ext cx="1295280" cy="533520"/>
          </a:xfrm>
          <a:prstGeom prst="bevel">
            <a:avLst>
              <a:gd name="adj" fmla="val 12500"/>
            </a:avLst>
          </a:prstGeom>
          <a:blipFill rotWithShape="0">
            <a:blip r:embed="rId9"/>
            <a:srcRect/>
            <a:stretch/>
          </a:blipFill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AutoShape 7">
            <a:hlinkClick r:id="rId10" action="ppaction://hlinksldjump"/>
          </p:cNvPr>
          <p:cNvSpPr/>
          <p:nvPr/>
        </p:nvSpPr>
        <p:spPr>
          <a:xfrm>
            <a:off x="4952880" y="5943600"/>
            <a:ext cx="1295640" cy="533520"/>
          </a:xfrm>
          <a:prstGeom prst="bevel">
            <a:avLst>
              <a:gd name="adj" fmla="val 12500"/>
            </a:avLst>
          </a:prstGeom>
          <a:blipFill rotWithShape="0">
            <a:blip r:embed="rId11"/>
            <a:srcRect/>
            <a:stretch/>
          </a:blipFill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Text Box 8">
            <a:hlinkClick r:id="rId12" action="ppaction://hlinksldjump"/>
          </p:cNvPr>
          <p:cNvSpPr/>
          <p:nvPr/>
        </p:nvSpPr>
        <p:spPr>
          <a:xfrm>
            <a:off x="1066680" y="60199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导入新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9"/>
          <p:cNvSpPr/>
          <p:nvPr/>
        </p:nvSpPr>
        <p:spPr>
          <a:xfrm>
            <a:off x="2362320" y="6019920"/>
            <a:ext cx="144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背景介绍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AutoShape 10">
            <a:hlinkClick r:id="rId13" action="ppaction://hlinksldjump"/>
          </p:cNvPr>
          <p:cNvSpPr/>
          <p:nvPr/>
        </p:nvSpPr>
        <p:spPr>
          <a:xfrm>
            <a:off x="7543800" y="5943600"/>
            <a:ext cx="1295280" cy="533520"/>
          </a:xfrm>
          <a:prstGeom prst="bevel">
            <a:avLst>
              <a:gd name="adj" fmla="val 12500"/>
            </a:avLst>
          </a:prstGeom>
          <a:blipFill rotWithShape="0">
            <a:blip r:embed="rId14"/>
            <a:srcRect/>
            <a:stretch/>
          </a:blipFill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11"/>
          <p:cNvSpPr/>
          <p:nvPr/>
        </p:nvSpPr>
        <p:spPr>
          <a:xfrm>
            <a:off x="3733920" y="6019920"/>
            <a:ext cx="121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段落结构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12"/>
          <p:cNvSpPr/>
          <p:nvPr/>
        </p:nvSpPr>
        <p:spPr>
          <a:xfrm>
            <a:off x="5029200" y="601992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人物形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13"/>
          <p:cNvSpPr/>
          <p:nvPr/>
        </p:nvSpPr>
        <p:spPr>
          <a:xfrm>
            <a:off x="6324480" y="601992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课文暗线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14"/>
          <p:cNvSpPr/>
          <p:nvPr/>
        </p:nvSpPr>
        <p:spPr>
          <a:xfrm>
            <a:off x="7543800" y="601992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小结退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1" name="Picture 2" descr="9TBC106"/>
          <p:cNvPicPr/>
          <p:nvPr/>
        </p:nvPicPr>
        <p:blipFill>
          <a:blip r:embed="rId1"/>
          <a:stretch/>
        </p:blipFill>
        <p:spPr>
          <a:xfrm>
            <a:off x="1066680" y="304920"/>
            <a:ext cx="3213360" cy="1450800"/>
          </a:xfrm>
          <a:prstGeom prst="rect">
            <a:avLst/>
          </a:prstGeom>
          <a:ln w="0">
            <a:noFill/>
          </a:ln>
        </p:spPr>
      </p:pic>
      <p:sp>
        <p:nvSpPr>
          <p:cNvPr id="702" name="Text Box 3"/>
          <p:cNvSpPr/>
          <p:nvPr/>
        </p:nvSpPr>
        <p:spPr>
          <a:xfrm>
            <a:off x="5247360" y="463680"/>
            <a:ext cx="2192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99"/>
                </a:solidFill>
                <a:latin typeface="Times New Roman"/>
                <a:ea typeface="华文新魏"/>
              </a:rPr>
              <a:t>主题思想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Text Box 4"/>
          <p:cNvSpPr/>
          <p:nvPr/>
        </p:nvSpPr>
        <p:spPr>
          <a:xfrm>
            <a:off x="2491560" y="2081160"/>
            <a:ext cx="4813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cc0000"/>
              </a:buClr>
              <a:buFont typeface="Wingdings 2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以上几个问题都表现了鲁迅先生的爱国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义思想，这与课文表现藤野先生的高尚品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并不矛盾，二者相辅相成，是统一的整体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Text Box 5"/>
          <p:cNvSpPr/>
          <p:nvPr/>
        </p:nvSpPr>
        <p:spPr>
          <a:xfrm>
            <a:off x="2495520" y="3986280"/>
            <a:ext cx="48135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cc0000"/>
              </a:buClr>
              <a:buFont typeface="Wingdings 2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课文以与藤野先生的交往为明线，以爱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主义思想为暗线，赞扬了藤野先生的高尚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质，抒发了对他的真挚怀念；同时追述了自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己弃医从文的思想变化，洋溢着强烈的爱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主义思想感情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AutoShape 6"/>
          <p:cNvSpPr/>
          <p:nvPr/>
        </p:nvSpPr>
        <p:spPr>
          <a:xfrm>
            <a:off x="8077320" y="6095880"/>
            <a:ext cx="304560" cy="38124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32">
                <a:moveTo>
                  <a:pt x="0" y="0"/>
                </a:moveTo>
                <a:lnTo>
                  <a:pt x="21600" y="0"/>
                </a:lnTo>
                <a:lnTo>
                  <a:pt x="21600" y="27032"/>
                </a:lnTo>
                <a:lnTo>
                  <a:pt x="0" y="27032"/>
                </a:lnTo>
                <a:close/>
              </a:path>
              <a:path fill="lightenLess" w="21600" h="2703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32">
                <a:moveTo>
                  <a:pt x="21600" y="0"/>
                </a:moveTo>
                <a:lnTo>
                  <a:pt x="21600" y="27032"/>
                </a:lnTo>
                <a:lnTo>
                  <a:pt x="20200" y="25632"/>
                </a:lnTo>
                <a:lnTo>
                  <a:pt x="20200" y="1400"/>
                </a:lnTo>
                <a:close/>
              </a:path>
              <a:path fill="darkenLess" w="21600" h="27032">
                <a:moveTo>
                  <a:pt x="21600" y="27032"/>
                </a:moveTo>
                <a:lnTo>
                  <a:pt x="0" y="27032"/>
                </a:lnTo>
                <a:lnTo>
                  <a:pt x="1400" y="25632"/>
                </a:lnTo>
                <a:lnTo>
                  <a:pt x="20200" y="25632"/>
                </a:lnTo>
                <a:close/>
              </a:path>
              <a:path fill="lighten" w="21600" h="27032">
                <a:moveTo>
                  <a:pt x="0" y="27032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32"/>
                </a:lnTo>
                <a:close/>
              </a:path>
              <a:path fill="darken" w="21600" h="27032">
                <a:moveTo>
                  <a:pt x="7301" y="13516"/>
                </a:moveTo>
                <a:lnTo>
                  <a:pt x="17806" y="6509"/>
                </a:lnTo>
                <a:lnTo>
                  <a:pt x="17806" y="20522"/>
                </a:lnTo>
                <a:close/>
              </a:path>
              <a:path fill="darken" w="21600" h="27032">
                <a:moveTo>
                  <a:pt x="3794" y="6509"/>
                </a:moveTo>
                <a:lnTo>
                  <a:pt x="5456" y="6509"/>
                </a:lnTo>
                <a:lnTo>
                  <a:pt x="5456" y="20522"/>
                </a:lnTo>
                <a:lnTo>
                  <a:pt x="3794" y="20522"/>
                </a:lnTo>
                <a:close/>
              </a:path>
            </a:pathLst>
          </a:custGeom>
          <a:solidFill>
            <a:srgbClr val="00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AutoShape 7">
            <a:hlinkClick r:id="" action="ppaction://hlinkshowjump?jump=previousslide"/>
          </p:cNvPr>
          <p:cNvSpPr/>
          <p:nvPr/>
        </p:nvSpPr>
        <p:spPr>
          <a:xfrm>
            <a:off x="8458200" y="6095880"/>
            <a:ext cx="304920" cy="38124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00">
                <a:moveTo>
                  <a:pt x="0" y="0"/>
                </a:moveTo>
                <a:lnTo>
                  <a:pt x="21600" y="0"/>
                </a:lnTo>
                <a:lnTo>
                  <a:pt x="21600" y="27000"/>
                </a:lnTo>
                <a:lnTo>
                  <a:pt x="0" y="27000"/>
                </a:lnTo>
                <a:close/>
              </a:path>
              <a:path fill="lightenLess" w="21600" h="270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0">
                <a:moveTo>
                  <a:pt x="21600" y="0"/>
                </a:moveTo>
                <a:lnTo>
                  <a:pt x="21600" y="27000"/>
                </a:lnTo>
                <a:lnTo>
                  <a:pt x="20200" y="25600"/>
                </a:lnTo>
                <a:lnTo>
                  <a:pt x="20200" y="1400"/>
                </a:lnTo>
                <a:close/>
              </a:path>
              <a:path fill="darkenLess" w="21600" h="27000">
                <a:moveTo>
                  <a:pt x="21600" y="27000"/>
                </a:moveTo>
                <a:lnTo>
                  <a:pt x="0" y="27000"/>
                </a:lnTo>
                <a:lnTo>
                  <a:pt x="1400" y="25600"/>
                </a:lnTo>
                <a:lnTo>
                  <a:pt x="20200" y="25600"/>
                </a:lnTo>
                <a:close/>
              </a:path>
              <a:path fill="lighten" w="21600" h="27000">
                <a:moveTo>
                  <a:pt x="0" y="270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0"/>
                </a:lnTo>
                <a:close/>
              </a:path>
              <a:path fill="darken" w="21600" h="27000">
                <a:moveTo>
                  <a:pt x="3794" y="10193"/>
                </a:moveTo>
                <a:lnTo>
                  <a:pt x="7301" y="10193"/>
                </a:lnTo>
                <a:lnTo>
                  <a:pt x="7301" y="15528"/>
                </a:lnTo>
                <a:cubicBezTo>
                  <a:pt x="7301" y="16451"/>
                  <a:pt x="8102" y="17182"/>
                  <a:pt x="9138" y="17182"/>
                </a:cubicBezTo>
                <a:lnTo>
                  <a:pt x="10800" y="17182"/>
                </a:lnTo>
                <a:cubicBezTo>
                  <a:pt x="11836" y="17182"/>
                  <a:pt x="12636" y="16451"/>
                  <a:pt x="12636" y="15528"/>
                </a:cubicBezTo>
                <a:lnTo>
                  <a:pt x="12636" y="10193"/>
                </a:lnTo>
                <a:lnTo>
                  <a:pt x="10800" y="10193"/>
                </a:lnTo>
                <a:lnTo>
                  <a:pt x="14308" y="6685"/>
                </a:lnTo>
                <a:lnTo>
                  <a:pt x="17981" y="10193"/>
                </a:lnTo>
                <a:lnTo>
                  <a:pt x="16144" y="10193"/>
                </a:lnTo>
                <a:lnTo>
                  <a:pt x="16144" y="15528"/>
                </a:lnTo>
                <a:cubicBezTo>
                  <a:pt x="16144" y="18296"/>
                  <a:pt x="13568" y="20855"/>
                  <a:pt x="10800" y="20855"/>
                </a:cubicBezTo>
                <a:lnTo>
                  <a:pt x="9138" y="20855"/>
                </a:lnTo>
                <a:cubicBezTo>
                  <a:pt x="6370" y="20855"/>
                  <a:pt x="3794" y="18296"/>
                  <a:pt x="3794" y="15528"/>
                </a:cubicBezTo>
                <a:close/>
              </a:path>
            </a:pathLst>
          </a:custGeom>
          <a:solidFill>
            <a:srgbClr val="00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d"/>
  </p:transition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5" dur="3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0" dur="3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8" name="Picture 2" descr="俯首甘为儒子牛"/>
          <p:cNvPicPr/>
          <p:nvPr/>
        </p:nvPicPr>
        <p:blipFill>
          <a:blip r:embed="rId1"/>
          <a:stretch/>
        </p:blipFill>
        <p:spPr>
          <a:xfrm>
            <a:off x="611280" y="196920"/>
            <a:ext cx="7924680" cy="6400800"/>
          </a:xfrm>
          <a:prstGeom prst="rect">
            <a:avLst/>
          </a:prstGeom>
          <a:ln w="0">
            <a:noFill/>
          </a:ln>
        </p:spPr>
      </p:pic>
      <p:sp>
        <p:nvSpPr>
          <p:cNvPr id="709" name="Text Box 3"/>
          <p:cNvSpPr/>
          <p:nvPr/>
        </p:nvSpPr>
        <p:spPr>
          <a:xfrm>
            <a:off x="2286000" y="3809880"/>
            <a:ext cx="55627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0" spc="-1" strike="noStrike">
                <a:solidFill>
                  <a:srgbClr val="ffcc00"/>
                </a:solidFill>
                <a:latin typeface="Times New Roman"/>
              </a:rPr>
              <a:t>谢谢光临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0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711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12" name="Picture 4" descr="http://www.elixirinteractive.com/LookFeel/elixirinteractive.com/images/headers/brand-awareness.jpg"/>
            <p:cNvPicPr/>
            <p:nvPr/>
          </p:nvPicPr>
          <p:blipFill>
            <a:blip r:embed="rId1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3" name="TextBox 7"/>
            <p:cNvSpPr/>
            <p:nvPr/>
          </p:nvSpPr>
          <p:spPr>
            <a:xfrm rot="20926800">
              <a:off x="1908000" y="3573720"/>
              <a:ext cx="46670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www.</a:t>
              </a:r>
              <a:r>
                <a:rPr b="1" lang="zh-CN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eeppt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0" name="Picture 2" descr="9TBC147"/>
          <p:cNvPicPr/>
          <p:nvPr/>
        </p:nvPicPr>
        <p:blipFill>
          <a:blip r:embed="rId1"/>
          <a:stretch/>
        </p:blipFill>
        <p:spPr>
          <a:xfrm>
            <a:off x="1066680" y="838080"/>
            <a:ext cx="1752840" cy="814680"/>
          </a:xfrm>
          <a:prstGeom prst="rect">
            <a:avLst/>
          </a:prstGeom>
          <a:ln w="0">
            <a:noFill/>
          </a:ln>
        </p:spPr>
      </p:pic>
      <p:sp>
        <p:nvSpPr>
          <p:cNvPr id="551" name="Text Box 3"/>
          <p:cNvSpPr/>
          <p:nvPr/>
        </p:nvSpPr>
        <p:spPr>
          <a:xfrm>
            <a:off x="1143000" y="342900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4"/>
          <p:cNvSpPr/>
          <p:nvPr/>
        </p:nvSpPr>
        <p:spPr>
          <a:xfrm>
            <a:off x="1295280" y="4648320"/>
            <a:ext cx="184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Text Box 5"/>
          <p:cNvSpPr/>
          <p:nvPr/>
        </p:nvSpPr>
        <p:spPr>
          <a:xfrm>
            <a:off x="4020120" y="914400"/>
            <a:ext cx="370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学生介绍鲁迅其人及作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4" name="Picture 6" descr="luxun2"/>
          <p:cNvPicPr/>
          <p:nvPr/>
        </p:nvPicPr>
        <p:blipFill>
          <a:blip r:embed="rId2"/>
          <a:stretch/>
        </p:blipFill>
        <p:spPr>
          <a:xfrm>
            <a:off x="1676520" y="2133720"/>
            <a:ext cx="2636640" cy="4038480"/>
          </a:xfrm>
          <a:prstGeom prst="rect">
            <a:avLst/>
          </a:prstGeom>
          <a:ln w="0">
            <a:noFill/>
          </a:ln>
        </p:spPr>
      </p:pic>
      <p:pic>
        <p:nvPicPr>
          <p:cNvPr id="555" name="Picture 7" descr="luxun"/>
          <p:cNvPicPr/>
          <p:nvPr/>
        </p:nvPicPr>
        <p:blipFill>
          <a:blip r:embed="rId3"/>
          <a:stretch/>
        </p:blipFill>
        <p:spPr>
          <a:xfrm>
            <a:off x="5181480" y="2209680"/>
            <a:ext cx="2711520" cy="4038840"/>
          </a:xfrm>
          <a:prstGeom prst="rect">
            <a:avLst/>
          </a:prstGeom>
          <a:ln w="0">
            <a:noFill/>
          </a:ln>
        </p:spPr>
      </p:pic>
      <p:sp>
        <p:nvSpPr>
          <p:cNvPr id="556" name="AutoShape 8">
            <a:hlinkClick r:id="" action="ppaction://hlinkshowjump?jump=previousslide"/>
          </p:cNvPr>
          <p:cNvSpPr/>
          <p:nvPr/>
        </p:nvSpPr>
        <p:spPr>
          <a:xfrm>
            <a:off x="8458200" y="6095880"/>
            <a:ext cx="304920" cy="38124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00">
                <a:moveTo>
                  <a:pt x="0" y="0"/>
                </a:moveTo>
                <a:lnTo>
                  <a:pt x="21600" y="0"/>
                </a:lnTo>
                <a:lnTo>
                  <a:pt x="21600" y="27000"/>
                </a:lnTo>
                <a:lnTo>
                  <a:pt x="0" y="27000"/>
                </a:lnTo>
                <a:close/>
              </a:path>
              <a:path fill="lightenLess" w="21600" h="270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0">
                <a:moveTo>
                  <a:pt x="21600" y="0"/>
                </a:moveTo>
                <a:lnTo>
                  <a:pt x="21600" y="27000"/>
                </a:lnTo>
                <a:lnTo>
                  <a:pt x="20200" y="25600"/>
                </a:lnTo>
                <a:lnTo>
                  <a:pt x="20200" y="1400"/>
                </a:lnTo>
                <a:close/>
              </a:path>
              <a:path fill="darkenLess" w="21600" h="27000">
                <a:moveTo>
                  <a:pt x="21600" y="27000"/>
                </a:moveTo>
                <a:lnTo>
                  <a:pt x="0" y="27000"/>
                </a:lnTo>
                <a:lnTo>
                  <a:pt x="1400" y="25600"/>
                </a:lnTo>
                <a:lnTo>
                  <a:pt x="20200" y="25600"/>
                </a:lnTo>
                <a:close/>
              </a:path>
              <a:path fill="lighten" w="21600" h="27000">
                <a:moveTo>
                  <a:pt x="0" y="270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0"/>
                </a:lnTo>
                <a:close/>
              </a:path>
              <a:path fill="darken" w="21600" h="27000">
                <a:moveTo>
                  <a:pt x="3794" y="10193"/>
                </a:moveTo>
                <a:lnTo>
                  <a:pt x="7301" y="10193"/>
                </a:lnTo>
                <a:lnTo>
                  <a:pt x="7301" y="15528"/>
                </a:lnTo>
                <a:cubicBezTo>
                  <a:pt x="7301" y="16451"/>
                  <a:pt x="8102" y="17182"/>
                  <a:pt x="9138" y="17182"/>
                </a:cubicBezTo>
                <a:lnTo>
                  <a:pt x="10800" y="17182"/>
                </a:lnTo>
                <a:cubicBezTo>
                  <a:pt x="11836" y="17182"/>
                  <a:pt x="12636" y="16451"/>
                  <a:pt x="12636" y="15528"/>
                </a:cubicBezTo>
                <a:lnTo>
                  <a:pt x="12636" y="10193"/>
                </a:lnTo>
                <a:lnTo>
                  <a:pt x="10800" y="10193"/>
                </a:lnTo>
                <a:lnTo>
                  <a:pt x="14308" y="6685"/>
                </a:lnTo>
                <a:lnTo>
                  <a:pt x="17981" y="10193"/>
                </a:lnTo>
                <a:lnTo>
                  <a:pt x="16144" y="10193"/>
                </a:lnTo>
                <a:lnTo>
                  <a:pt x="16144" y="15528"/>
                </a:lnTo>
                <a:cubicBezTo>
                  <a:pt x="16144" y="18296"/>
                  <a:pt x="13568" y="20855"/>
                  <a:pt x="10800" y="20855"/>
                </a:cubicBezTo>
                <a:lnTo>
                  <a:pt x="9138" y="20855"/>
                </a:lnTo>
                <a:cubicBezTo>
                  <a:pt x="6370" y="20855"/>
                  <a:pt x="3794" y="18296"/>
                  <a:pt x="3794" y="15528"/>
                </a:cubicBezTo>
                <a:close/>
              </a:path>
            </a:pathLst>
          </a:custGeom>
          <a:solidFill>
            <a:srgbClr val="00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AutoShape 9">
            <a:hlinkClick r:id="rId4" action="ppaction://hlinksldjump"/>
          </p:cNvPr>
          <p:cNvSpPr/>
          <p:nvPr/>
        </p:nvSpPr>
        <p:spPr>
          <a:xfrm>
            <a:off x="8077320" y="6095880"/>
            <a:ext cx="304560" cy="38124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32">
                <a:moveTo>
                  <a:pt x="0" y="0"/>
                </a:moveTo>
                <a:lnTo>
                  <a:pt x="21600" y="0"/>
                </a:lnTo>
                <a:lnTo>
                  <a:pt x="21600" y="27032"/>
                </a:lnTo>
                <a:lnTo>
                  <a:pt x="0" y="27032"/>
                </a:lnTo>
                <a:close/>
              </a:path>
              <a:path fill="lightenLess" w="21600" h="2703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32">
                <a:moveTo>
                  <a:pt x="21600" y="0"/>
                </a:moveTo>
                <a:lnTo>
                  <a:pt x="21600" y="27032"/>
                </a:lnTo>
                <a:lnTo>
                  <a:pt x="20200" y="25632"/>
                </a:lnTo>
                <a:lnTo>
                  <a:pt x="20200" y="1400"/>
                </a:lnTo>
                <a:close/>
              </a:path>
              <a:path fill="darkenLess" w="21600" h="27032">
                <a:moveTo>
                  <a:pt x="21600" y="27032"/>
                </a:moveTo>
                <a:lnTo>
                  <a:pt x="0" y="27032"/>
                </a:lnTo>
                <a:lnTo>
                  <a:pt x="1400" y="25632"/>
                </a:lnTo>
                <a:lnTo>
                  <a:pt x="20200" y="25632"/>
                </a:lnTo>
                <a:close/>
              </a:path>
              <a:path fill="lighten" w="21600" h="27032">
                <a:moveTo>
                  <a:pt x="0" y="27032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32"/>
                </a:lnTo>
                <a:close/>
              </a:path>
              <a:path fill="darken" w="21600" h="27032">
                <a:moveTo>
                  <a:pt x="7301" y="13516"/>
                </a:moveTo>
                <a:lnTo>
                  <a:pt x="17806" y="6509"/>
                </a:lnTo>
                <a:lnTo>
                  <a:pt x="17806" y="20522"/>
                </a:lnTo>
                <a:close/>
              </a:path>
              <a:path fill="darken" w="21600" h="27032">
                <a:moveTo>
                  <a:pt x="3794" y="6509"/>
                </a:moveTo>
                <a:lnTo>
                  <a:pt x="5456" y="6509"/>
                </a:lnTo>
                <a:lnTo>
                  <a:pt x="5456" y="20522"/>
                </a:lnTo>
                <a:lnTo>
                  <a:pt x="3794" y="20522"/>
                </a:lnTo>
                <a:close/>
              </a:path>
            </a:pathLst>
          </a:custGeom>
          <a:solidFill>
            <a:srgbClr val="00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8" name="Picture 2" descr="看戏河埠"/>
          <p:cNvPicPr/>
          <p:nvPr/>
        </p:nvPicPr>
        <p:blipFill>
          <a:blip r:embed="rId1"/>
          <a:stretch/>
        </p:blipFill>
        <p:spPr>
          <a:xfrm>
            <a:off x="441360" y="304920"/>
            <a:ext cx="4495680" cy="5638680"/>
          </a:xfrm>
          <a:prstGeom prst="rect">
            <a:avLst/>
          </a:prstGeom>
          <a:ln w="0">
            <a:noFill/>
          </a:ln>
        </p:spPr>
      </p:pic>
      <p:sp>
        <p:nvSpPr>
          <p:cNvPr id="559" name="Text Box 3"/>
          <p:cNvSpPr/>
          <p:nvPr/>
        </p:nvSpPr>
        <p:spPr>
          <a:xfrm>
            <a:off x="5699520" y="609480"/>
            <a:ext cx="29865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鲁迅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881—193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生于浙江绍兴，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名周树人，字豫才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自第一篇小说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人日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开始用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迅作笔名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4"/>
          <p:cNvSpPr/>
          <p:nvPr/>
        </p:nvSpPr>
        <p:spPr>
          <a:xfrm>
            <a:off x="5486400" y="3429000"/>
            <a:ext cx="34131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著名作品集有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草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朝花夕拾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呐喊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彷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》《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华盖集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坟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等。本文选自散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集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朝花夕拾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Text Box 5"/>
          <p:cNvSpPr/>
          <p:nvPr/>
        </p:nvSpPr>
        <p:spPr>
          <a:xfrm>
            <a:off x="1638720" y="594360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鲁迅生活的绍兴河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AutoShape 6">
            <a:hlinkClick r:id="" action="ppaction://hlinkshowjump?jump=previousslide"/>
          </p:cNvPr>
          <p:cNvSpPr/>
          <p:nvPr/>
        </p:nvSpPr>
        <p:spPr>
          <a:xfrm>
            <a:off x="8458200" y="6095880"/>
            <a:ext cx="304920" cy="38124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00">
                <a:moveTo>
                  <a:pt x="0" y="0"/>
                </a:moveTo>
                <a:lnTo>
                  <a:pt x="21600" y="0"/>
                </a:lnTo>
                <a:lnTo>
                  <a:pt x="21600" y="27000"/>
                </a:lnTo>
                <a:lnTo>
                  <a:pt x="0" y="27000"/>
                </a:lnTo>
                <a:close/>
              </a:path>
              <a:path fill="lightenLess" w="21600" h="270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0">
                <a:moveTo>
                  <a:pt x="21600" y="0"/>
                </a:moveTo>
                <a:lnTo>
                  <a:pt x="21600" y="27000"/>
                </a:lnTo>
                <a:lnTo>
                  <a:pt x="20200" y="25600"/>
                </a:lnTo>
                <a:lnTo>
                  <a:pt x="20200" y="1400"/>
                </a:lnTo>
                <a:close/>
              </a:path>
              <a:path fill="darkenLess" w="21600" h="27000">
                <a:moveTo>
                  <a:pt x="21600" y="27000"/>
                </a:moveTo>
                <a:lnTo>
                  <a:pt x="0" y="27000"/>
                </a:lnTo>
                <a:lnTo>
                  <a:pt x="1400" y="25600"/>
                </a:lnTo>
                <a:lnTo>
                  <a:pt x="20200" y="25600"/>
                </a:lnTo>
                <a:close/>
              </a:path>
              <a:path fill="lighten" w="21600" h="27000">
                <a:moveTo>
                  <a:pt x="0" y="270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0"/>
                </a:lnTo>
                <a:close/>
              </a:path>
              <a:path fill="darken" w="21600" h="27000">
                <a:moveTo>
                  <a:pt x="3794" y="10193"/>
                </a:moveTo>
                <a:lnTo>
                  <a:pt x="7301" y="10193"/>
                </a:lnTo>
                <a:lnTo>
                  <a:pt x="7301" y="15528"/>
                </a:lnTo>
                <a:cubicBezTo>
                  <a:pt x="7301" y="16451"/>
                  <a:pt x="8102" y="17182"/>
                  <a:pt x="9138" y="17182"/>
                </a:cubicBezTo>
                <a:lnTo>
                  <a:pt x="10800" y="17182"/>
                </a:lnTo>
                <a:cubicBezTo>
                  <a:pt x="11836" y="17182"/>
                  <a:pt x="12636" y="16451"/>
                  <a:pt x="12636" y="15528"/>
                </a:cubicBezTo>
                <a:lnTo>
                  <a:pt x="12636" y="10193"/>
                </a:lnTo>
                <a:lnTo>
                  <a:pt x="10800" y="10193"/>
                </a:lnTo>
                <a:lnTo>
                  <a:pt x="14308" y="6685"/>
                </a:lnTo>
                <a:lnTo>
                  <a:pt x="17981" y="10193"/>
                </a:lnTo>
                <a:lnTo>
                  <a:pt x="16144" y="10193"/>
                </a:lnTo>
                <a:lnTo>
                  <a:pt x="16144" y="15528"/>
                </a:lnTo>
                <a:cubicBezTo>
                  <a:pt x="16144" y="18296"/>
                  <a:pt x="13568" y="20855"/>
                  <a:pt x="10800" y="20855"/>
                </a:cubicBezTo>
                <a:lnTo>
                  <a:pt x="9138" y="20855"/>
                </a:lnTo>
                <a:cubicBezTo>
                  <a:pt x="6370" y="20855"/>
                  <a:pt x="3794" y="18296"/>
                  <a:pt x="3794" y="15528"/>
                </a:cubicBezTo>
                <a:close/>
              </a:path>
            </a:pathLst>
          </a:custGeom>
          <a:solidFill>
            <a:srgbClr val="00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AutoShape 7">
            <a:hlinkClick r:id="rId2" action="ppaction://hlinksldjump"/>
          </p:cNvPr>
          <p:cNvSpPr/>
          <p:nvPr/>
        </p:nvSpPr>
        <p:spPr>
          <a:xfrm>
            <a:off x="8077320" y="6095880"/>
            <a:ext cx="304560" cy="38124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32">
                <a:moveTo>
                  <a:pt x="0" y="0"/>
                </a:moveTo>
                <a:lnTo>
                  <a:pt x="21600" y="0"/>
                </a:lnTo>
                <a:lnTo>
                  <a:pt x="21600" y="27032"/>
                </a:lnTo>
                <a:lnTo>
                  <a:pt x="0" y="27032"/>
                </a:lnTo>
                <a:close/>
              </a:path>
              <a:path fill="lightenLess" w="21600" h="2703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32">
                <a:moveTo>
                  <a:pt x="21600" y="0"/>
                </a:moveTo>
                <a:lnTo>
                  <a:pt x="21600" y="27032"/>
                </a:lnTo>
                <a:lnTo>
                  <a:pt x="20200" y="25632"/>
                </a:lnTo>
                <a:lnTo>
                  <a:pt x="20200" y="1400"/>
                </a:lnTo>
                <a:close/>
              </a:path>
              <a:path fill="darkenLess" w="21600" h="27032">
                <a:moveTo>
                  <a:pt x="21600" y="27032"/>
                </a:moveTo>
                <a:lnTo>
                  <a:pt x="0" y="27032"/>
                </a:lnTo>
                <a:lnTo>
                  <a:pt x="1400" y="25632"/>
                </a:lnTo>
                <a:lnTo>
                  <a:pt x="20200" y="25632"/>
                </a:lnTo>
                <a:close/>
              </a:path>
              <a:path fill="lighten" w="21600" h="27032">
                <a:moveTo>
                  <a:pt x="0" y="27032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32"/>
                </a:lnTo>
                <a:close/>
              </a:path>
              <a:path fill="darken" w="21600" h="27032">
                <a:moveTo>
                  <a:pt x="7301" y="13516"/>
                </a:moveTo>
                <a:lnTo>
                  <a:pt x="17806" y="6509"/>
                </a:lnTo>
                <a:lnTo>
                  <a:pt x="17806" y="20522"/>
                </a:lnTo>
                <a:close/>
              </a:path>
              <a:path fill="darken" w="21600" h="27032">
                <a:moveTo>
                  <a:pt x="3794" y="6509"/>
                </a:moveTo>
                <a:lnTo>
                  <a:pt x="5456" y="6509"/>
                </a:lnTo>
                <a:lnTo>
                  <a:pt x="5456" y="20522"/>
                </a:lnTo>
                <a:lnTo>
                  <a:pt x="3794" y="20522"/>
                </a:lnTo>
                <a:close/>
              </a:path>
            </a:pathLst>
          </a:custGeom>
          <a:solidFill>
            <a:srgbClr val="00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4" name="Picture 2" descr="鲁迅后院"/>
          <p:cNvPicPr/>
          <p:nvPr/>
        </p:nvPicPr>
        <p:blipFill>
          <a:blip r:embed="rId1"/>
          <a:stretch/>
        </p:blipFill>
        <p:spPr>
          <a:xfrm>
            <a:off x="1066680" y="609480"/>
            <a:ext cx="3476880" cy="4572000"/>
          </a:xfrm>
          <a:prstGeom prst="rect">
            <a:avLst/>
          </a:prstGeom>
          <a:ln w="0">
            <a:noFill/>
          </a:ln>
        </p:spPr>
      </p:pic>
      <p:pic>
        <p:nvPicPr>
          <p:cNvPr id="565" name="Picture 3" descr="鲁迅故居"/>
          <p:cNvPicPr/>
          <p:nvPr/>
        </p:nvPicPr>
        <p:blipFill>
          <a:blip r:embed="rId2"/>
          <a:stretch/>
        </p:blipFill>
        <p:spPr>
          <a:xfrm>
            <a:off x="4800600" y="609480"/>
            <a:ext cx="3886200" cy="4572000"/>
          </a:xfrm>
          <a:prstGeom prst="rect">
            <a:avLst/>
          </a:prstGeom>
          <a:ln w="0">
            <a:noFill/>
          </a:ln>
        </p:spPr>
      </p:pic>
      <p:sp>
        <p:nvSpPr>
          <p:cNvPr id="566" name="Text Box 4"/>
          <p:cNvSpPr/>
          <p:nvPr/>
        </p:nvSpPr>
        <p:spPr>
          <a:xfrm>
            <a:off x="1600200" y="5638680"/>
            <a:ext cx="650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课文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从百草园到三味书屋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AutoShape 5">
            <a:hlinkClick r:id="rId3" action="ppaction://hlinksldjump"/>
          </p:cNvPr>
          <p:cNvSpPr/>
          <p:nvPr/>
        </p:nvSpPr>
        <p:spPr>
          <a:xfrm>
            <a:off x="8077320" y="6095880"/>
            <a:ext cx="304560" cy="38124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32">
                <a:moveTo>
                  <a:pt x="0" y="0"/>
                </a:moveTo>
                <a:lnTo>
                  <a:pt x="21600" y="0"/>
                </a:lnTo>
                <a:lnTo>
                  <a:pt x="21600" y="27032"/>
                </a:lnTo>
                <a:lnTo>
                  <a:pt x="0" y="27032"/>
                </a:lnTo>
                <a:close/>
              </a:path>
              <a:path fill="lightenLess" w="21600" h="2703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32">
                <a:moveTo>
                  <a:pt x="21600" y="0"/>
                </a:moveTo>
                <a:lnTo>
                  <a:pt x="21600" y="27032"/>
                </a:lnTo>
                <a:lnTo>
                  <a:pt x="20200" y="25632"/>
                </a:lnTo>
                <a:lnTo>
                  <a:pt x="20200" y="1400"/>
                </a:lnTo>
                <a:close/>
              </a:path>
              <a:path fill="darkenLess" w="21600" h="27032">
                <a:moveTo>
                  <a:pt x="21600" y="27032"/>
                </a:moveTo>
                <a:lnTo>
                  <a:pt x="0" y="27032"/>
                </a:lnTo>
                <a:lnTo>
                  <a:pt x="1400" y="25632"/>
                </a:lnTo>
                <a:lnTo>
                  <a:pt x="20200" y="25632"/>
                </a:lnTo>
                <a:close/>
              </a:path>
              <a:path fill="lighten" w="21600" h="27032">
                <a:moveTo>
                  <a:pt x="0" y="27032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32"/>
                </a:lnTo>
                <a:close/>
              </a:path>
              <a:path fill="darken" w="21600" h="27032">
                <a:moveTo>
                  <a:pt x="7301" y="13516"/>
                </a:moveTo>
                <a:lnTo>
                  <a:pt x="17806" y="6509"/>
                </a:lnTo>
                <a:lnTo>
                  <a:pt x="17806" y="20522"/>
                </a:lnTo>
                <a:close/>
              </a:path>
              <a:path fill="darken" w="21600" h="27032">
                <a:moveTo>
                  <a:pt x="3794" y="6509"/>
                </a:moveTo>
                <a:lnTo>
                  <a:pt x="5456" y="6509"/>
                </a:lnTo>
                <a:lnTo>
                  <a:pt x="5456" y="20522"/>
                </a:lnTo>
                <a:lnTo>
                  <a:pt x="3794" y="20522"/>
                </a:lnTo>
                <a:close/>
              </a:path>
            </a:pathLst>
          </a:custGeom>
          <a:solidFill>
            <a:srgbClr val="00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AutoShape 6">
            <a:hlinkClick r:id="" action="ppaction://hlinkshowjump?jump=previousslide"/>
          </p:cNvPr>
          <p:cNvSpPr/>
          <p:nvPr/>
        </p:nvSpPr>
        <p:spPr>
          <a:xfrm>
            <a:off x="8458200" y="6095880"/>
            <a:ext cx="304920" cy="38124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00">
                <a:moveTo>
                  <a:pt x="0" y="0"/>
                </a:moveTo>
                <a:lnTo>
                  <a:pt x="21600" y="0"/>
                </a:lnTo>
                <a:lnTo>
                  <a:pt x="21600" y="27000"/>
                </a:lnTo>
                <a:lnTo>
                  <a:pt x="0" y="27000"/>
                </a:lnTo>
                <a:close/>
              </a:path>
              <a:path fill="lightenLess" w="21600" h="270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0">
                <a:moveTo>
                  <a:pt x="21600" y="0"/>
                </a:moveTo>
                <a:lnTo>
                  <a:pt x="21600" y="27000"/>
                </a:lnTo>
                <a:lnTo>
                  <a:pt x="20200" y="25600"/>
                </a:lnTo>
                <a:lnTo>
                  <a:pt x="20200" y="1400"/>
                </a:lnTo>
                <a:close/>
              </a:path>
              <a:path fill="darkenLess" w="21600" h="27000">
                <a:moveTo>
                  <a:pt x="21600" y="27000"/>
                </a:moveTo>
                <a:lnTo>
                  <a:pt x="0" y="27000"/>
                </a:lnTo>
                <a:lnTo>
                  <a:pt x="1400" y="25600"/>
                </a:lnTo>
                <a:lnTo>
                  <a:pt x="20200" y="25600"/>
                </a:lnTo>
                <a:close/>
              </a:path>
              <a:path fill="lighten" w="21600" h="27000">
                <a:moveTo>
                  <a:pt x="0" y="270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0"/>
                </a:lnTo>
                <a:close/>
              </a:path>
              <a:path fill="darken" w="21600" h="27000">
                <a:moveTo>
                  <a:pt x="3794" y="10193"/>
                </a:moveTo>
                <a:lnTo>
                  <a:pt x="7301" y="10193"/>
                </a:lnTo>
                <a:lnTo>
                  <a:pt x="7301" y="15528"/>
                </a:lnTo>
                <a:cubicBezTo>
                  <a:pt x="7301" y="16451"/>
                  <a:pt x="8102" y="17182"/>
                  <a:pt x="9138" y="17182"/>
                </a:cubicBezTo>
                <a:lnTo>
                  <a:pt x="10800" y="17182"/>
                </a:lnTo>
                <a:cubicBezTo>
                  <a:pt x="11836" y="17182"/>
                  <a:pt x="12636" y="16451"/>
                  <a:pt x="12636" y="15528"/>
                </a:cubicBezTo>
                <a:lnTo>
                  <a:pt x="12636" y="10193"/>
                </a:lnTo>
                <a:lnTo>
                  <a:pt x="10800" y="10193"/>
                </a:lnTo>
                <a:lnTo>
                  <a:pt x="14308" y="6685"/>
                </a:lnTo>
                <a:lnTo>
                  <a:pt x="17981" y="10193"/>
                </a:lnTo>
                <a:lnTo>
                  <a:pt x="16144" y="10193"/>
                </a:lnTo>
                <a:lnTo>
                  <a:pt x="16144" y="15528"/>
                </a:lnTo>
                <a:cubicBezTo>
                  <a:pt x="16144" y="18296"/>
                  <a:pt x="13568" y="20855"/>
                  <a:pt x="10800" y="20855"/>
                </a:cubicBezTo>
                <a:lnTo>
                  <a:pt x="9138" y="20855"/>
                </a:lnTo>
                <a:cubicBezTo>
                  <a:pt x="6370" y="20855"/>
                  <a:pt x="3794" y="18296"/>
                  <a:pt x="3794" y="15528"/>
                </a:cubicBezTo>
                <a:close/>
              </a:path>
            </a:pathLst>
          </a:custGeom>
          <a:solidFill>
            <a:srgbClr val="00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9" name="Picture 2" descr="社戏"/>
          <p:cNvPicPr/>
          <p:nvPr/>
        </p:nvPicPr>
        <p:blipFill>
          <a:blip r:embed="rId1"/>
          <a:stretch/>
        </p:blipFill>
        <p:spPr>
          <a:xfrm>
            <a:off x="1219320" y="304920"/>
            <a:ext cx="7467480" cy="5486400"/>
          </a:xfrm>
          <a:prstGeom prst="rect">
            <a:avLst/>
          </a:prstGeom>
          <a:ln w="0">
            <a:noFill/>
          </a:ln>
        </p:spPr>
      </p:pic>
      <p:sp>
        <p:nvSpPr>
          <p:cNvPr id="570" name="AutoShape 3">
            <a:hlinkClick r:id="rId2" action="ppaction://hlinksldjump"/>
          </p:cNvPr>
          <p:cNvSpPr/>
          <p:nvPr/>
        </p:nvSpPr>
        <p:spPr>
          <a:xfrm>
            <a:off x="8077320" y="6095880"/>
            <a:ext cx="304560" cy="38124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32">
                <a:moveTo>
                  <a:pt x="0" y="0"/>
                </a:moveTo>
                <a:lnTo>
                  <a:pt x="21600" y="0"/>
                </a:lnTo>
                <a:lnTo>
                  <a:pt x="21600" y="27032"/>
                </a:lnTo>
                <a:lnTo>
                  <a:pt x="0" y="27032"/>
                </a:lnTo>
                <a:close/>
              </a:path>
              <a:path fill="lightenLess" w="21600" h="2703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32">
                <a:moveTo>
                  <a:pt x="21600" y="0"/>
                </a:moveTo>
                <a:lnTo>
                  <a:pt x="21600" y="27032"/>
                </a:lnTo>
                <a:lnTo>
                  <a:pt x="20200" y="25632"/>
                </a:lnTo>
                <a:lnTo>
                  <a:pt x="20200" y="1400"/>
                </a:lnTo>
                <a:close/>
              </a:path>
              <a:path fill="darkenLess" w="21600" h="27032">
                <a:moveTo>
                  <a:pt x="21600" y="27032"/>
                </a:moveTo>
                <a:lnTo>
                  <a:pt x="0" y="27032"/>
                </a:lnTo>
                <a:lnTo>
                  <a:pt x="1400" y="25632"/>
                </a:lnTo>
                <a:lnTo>
                  <a:pt x="20200" y="25632"/>
                </a:lnTo>
                <a:close/>
              </a:path>
              <a:path fill="lighten" w="21600" h="27032">
                <a:moveTo>
                  <a:pt x="0" y="27032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32"/>
                </a:lnTo>
                <a:close/>
              </a:path>
              <a:path fill="darken" w="21600" h="27032">
                <a:moveTo>
                  <a:pt x="7301" y="13516"/>
                </a:moveTo>
                <a:lnTo>
                  <a:pt x="17806" y="6509"/>
                </a:lnTo>
                <a:lnTo>
                  <a:pt x="17806" y="20522"/>
                </a:lnTo>
                <a:close/>
              </a:path>
              <a:path fill="darken" w="21600" h="27032">
                <a:moveTo>
                  <a:pt x="3794" y="6509"/>
                </a:moveTo>
                <a:lnTo>
                  <a:pt x="5456" y="6509"/>
                </a:lnTo>
                <a:lnTo>
                  <a:pt x="5456" y="20522"/>
                </a:lnTo>
                <a:lnTo>
                  <a:pt x="3794" y="20522"/>
                </a:lnTo>
                <a:close/>
              </a:path>
            </a:pathLst>
          </a:custGeom>
          <a:solidFill>
            <a:srgbClr val="00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AutoShape 4">
            <a:hlinkClick r:id="" action="ppaction://hlinkshowjump?jump=previousslide"/>
          </p:cNvPr>
          <p:cNvSpPr/>
          <p:nvPr/>
        </p:nvSpPr>
        <p:spPr>
          <a:xfrm>
            <a:off x="8458200" y="6095880"/>
            <a:ext cx="304920" cy="38124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00">
                <a:moveTo>
                  <a:pt x="0" y="0"/>
                </a:moveTo>
                <a:lnTo>
                  <a:pt x="21600" y="0"/>
                </a:lnTo>
                <a:lnTo>
                  <a:pt x="21600" y="27000"/>
                </a:lnTo>
                <a:lnTo>
                  <a:pt x="0" y="27000"/>
                </a:lnTo>
                <a:close/>
              </a:path>
              <a:path fill="lightenLess" w="21600" h="270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0">
                <a:moveTo>
                  <a:pt x="21600" y="0"/>
                </a:moveTo>
                <a:lnTo>
                  <a:pt x="21600" y="27000"/>
                </a:lnTo>
                <a:lnTo>
                  <a:pt x="20200" y="25600"/>
                </a:lnTo>
                <a:lnTo>
                  <a:pt x="20200" y="1400"/>
                </a:lnTo>
                <a:close/>
              </a:path>
              <a:path fill="darkenLess" w="21600" h="27000">
                <a:moveTo>
                  <a:pt x="21600" y="27000"/>
                </a:moveTo>
                <a:lnTo>
                  <a:pt x="0" y="27000"/>
                </a:lnTo>
                <a:lnTo>
                  <a:pt x="1400" y="25600"/>
                </a:lnTo>
                <a:lnTo>
                  <a:pt x="20200" y="25600"/>
                </a:lnTo>
                <a:close/>
              </a:path>
              <a:path fill="lighten" w="21600" h="27000">
                <a:moveTo>
                  <a:pt x="0" y="270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0"/>
                </a:lnTo>
                <a:close/>
              </a:path>
              <a:path fill="darken" w="21600" h="27000">
                <a:moveTo>
                  <a:pt x="3794" y="10193"/>
                </a:moveTo>
                <a:lnTo>
                  <a:pt x="7301" y="10193"/>
                </a:lnTo>
                <a:lnTo>
                  <a:pt x="7301" y="15528"/>
                </a:lnTo>
                <a:cubicBezTo>
                  <a:pt x="7301" y="16451"/>
                  <a:pt x="8102" y="17182"/>
                  <a:pt x="9138" y="17182"/>
                </a:cubicBezTo>
                <a:lnTo>
                  <a:pt x="10800" y="17182"/>
                </a:lnTo>
                <a:cubicBezTo>
                  <a:pt x="11836" y="17182"/>
                  <a:pt x="12636" y="16451"/>
                  <a:pt x="12636" y="15528"/>
                </a:cubicBezTo>
                <a:lnTo>
                  <a:pt x="12636" y="10193"/>
                </a:lnTo>
                <a:lnTo>
                  <a:pt x="10800" y="10193"/>
                </a:lnTo>
                <a:lnTo>
                  <a:pt x="14308" y="6685"/>
                </a:lnTo>
                <a:lnTo>
                  <a:pt x="17981" y="10193"/>
                </a:lnTo>
                <a:lnTo>
                  <a:pt x="16144" y="10193"/>
                </a:lnTo>
                <a:lnTo>
                  <a:pt x="16144" y="15528"/>
                </a:lnTo>
                <a:cubicBezTo>
                  <a:pt x="16144" y="18296"/>
                  <a:pt x="13568" y="20855"/>
                  <a:pt x="10800" y="20855"/>
                </a:cubicBezTo>
                <a:lnTo>
                  <a:pt x="9138" y="20855"/>
                </a:lnTo>
                <a:cubicBezTo>
                  <a:pt x="6370" y="20855"/>
                  <a:pt x="3794" y="18296"/>
                  <a:pt x="3794" y="15528"/>
                </a:cubicBezTo>
                <a:close/>
              </a:path>
            </a:pathLst>
          </a:custGeom>
          <a:solidFill>
            <a:srgbClr val="00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Text Box 5"/>
          <p:cNvSpPr/>
          <p:nvPr/>
        </p:nvSpPr>
        <p:spPr>
          <a:xfrm>
            <a:off x="2895480" y="5867280"/>
            <a:ext cx="3962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课文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社戏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3" name="Picture 2" descr="少年闰土"/>
          <p:cNvPicPr/>
          <p:nvPr/>
        </p:nvPicPr>
        <p:blipFill>
          <a:blip r:embed="rId1"/>
          <a:stretch/>
        </p:blipFill>
        <p:spPr>
          <a:xfrm>
            <a:off x="1066680" y="380880"/>
            <a:ext cx="3733920" cy="5334120"/>
          </a:xfrm>
          <a:prstGeom prst="rect">
            <a:avLst/>
          </a:prstGeom>
          <a:ln w="0">
            <a:noFill/>
          </a:ln>
        </p:spPr>
      </p:pic>
      <p:pic>
        <p:nvPicPr>
          <p:cNvPr id="574" name="Picture 3" descr="中年闰土"/>
          <p:cNvPicPr/>
          <p:nvPr/>
        </p:nvPicPr>
        <p:blipFill>
          <a:blip r:embed="rId2"/>
          <a:stretch/>
        </p:blipFill>
        <p:spPr>
          <a:xfrm>
            <a:off x="4876920" y="380880"/>
            <a:ext cx="3808440" cy="5334120"/>
          </a:xfrm>
          <a:prstGeom prst="rect">
            <a:avLst/>
          </a:prstGeom>
          <a:ln w="0">
            <a:noFill/>
          </a:ln>
        </p:spPr>
      </p:pic>
      <p:sp>
        <p:nvSpPr>
          <p:cNvPr id="575" name="Text Box 4"/>
          <p:cNvSpPr/>
          <p:nvPr/>
        </p:nvSpPr>
        <p:spPr>
          <a:xfrm>
            <a:off x="2895480" y="5715000"/>
            <a:ext cx="3353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课文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故乡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AutoShape 5">
            <a:hlinkClick r:id="rId3" action="ppaction://hlinksldjump"/>
          </p:cNvPr>
          <p:cNvSpPr/>
          <p:nvPr/>
        </p:nvSpPr>
        <p:spPr>
          <a:xfrm>
            <a:off x="8077320" y="6095880"/>
            <a:ext cx="304560" cy="38124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32">
                <a:moveTo>
                  <a:pt x="0" y="0"/>
                </a:moveTo>
                <a:lnTo>
                  <a:pt x="21600" y="0"/>
                </a:lnTo>
                <a:lnTo>
                  <a:pt x="21600" y="27032"/>
                </a:lnTo>
                <a:lnTo>
                  <a:pt x="0" y="27032"/>
                </a:lnTo>
                <a:close/>
              </a:path>
              <a:path fill="lightenLess" w="21600" h="2703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32">
                <a:moveTo>
                  <a:pt x="21600" y="0"/>
                </a:moveTo>
                <a:lnTo>
                  <a:pt x="21600" y="27032"/>
                </a:lnTo>
                <a:lnTo>
                  <a:pt x="20200" y="25632"/>
                </a:lnTo>
                <a:lnTo>
                  <a:pt x="20200" y="1400"/>
                </a:lnTo>
                <a:close/>
              </a:path>
              <a:path fill="darkenLess" w="21600" h="27032">
                <a:moveTo>
                  <a:pt x="21600" y="27032"/>
                </a:moveTo>
                <a:lnTo>
                  <a:pt x="0" y="27032"/>
                </a:lnTo>
                <a:lnTo>
                  <a:pt x="1400" y="25632"/>
                </a:lnTo>
                <a:lnTo>
                  <a:pt x="20200" y="25632"/>
                </a:lnTo>
                <a:close/>
              </a:path>
              <a:path fill="lighten" w="21600" h="27032">
                <a:moveTo>
                  <a:pt x="0" y="27032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32"/>
                </a:lnTo>
                <a:close/>
              </a:path>
              <a:path fill="darken" w="21600" h="27032">
                <a:moveTo>
                  <a:pt x="7301" y="13516"/>
                </a:moveTo>
                <a:lnTo>
                  <a:pt x="17806" y="6509"/>
                </a:lnTo>
                <a:lnTo>
                  <a:pt x="17806" y="20522"/>
                </a:lnTo>
                <a:close/>
              </a:path>
              <a:path fill="darken" w="21600" h="27032">
                <a:moveTo>
                  <a:pt x="3794" y="6509"/>
                </a:moveTo>
                <a:lnTo>
                  <a:pt x="5456" y="6509"/>
                </a:lnTo>
                <a:lnTo>
                  <a:pt x="5456" y="20522"/>
                </a:lnTo>
                <a:lnTo>
                  <a:pt x="3794" y="20522"/>
                </a:lnTo>
                <a:close/>
              </a:path>
            </a:pathLst>
          </a:custGeom>
          <a:solidFill>
            <a:srgbClr val="00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AutoShape 6">
            <a:hlinkClick r:id="" action="ppaction://hlinkshowjump?jump=previousslide"/>
          </p:cNvPr>
          <p:cNvSpPr/>
          <p:nvPr/>
        </p:nvSpPr>
        <p:spPr>
          <a:xfrm>
            <a:off x="8458200" y="6095880"/>
            <a:ext cx="304920" cy="38124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00">
                <a:moveTo>
                  <a:pt x="0" y="0"/>
                </a:moveTo>
                <a:lnTo>
                  <a:pt x="21600" y="0"/>
                </a:lnTo>
                <a:lnTo>
                  <a:pt x="21600" y="27000"/>
                </a:lnTo>
                <a:lnTo>
                  <a:pt x="0" y="27000"/>
                </a:lnTo>
                <a:close/>
              </a:path>
              <a:path fill="lightenLess" w="21600" h="270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0">
                <a:moveTo>
                  <a:pt x="21600" y="0"/>
                </a:moveTo>
                <a:lnTo>
                  <a:pt x="21600" y="27000"/>
                </a:lnTo>
                <a:lnTo>
                  <a:pt x="20200" y="25600"/>
                </a:lnTo>
                <a:lnTo>
                  <a:pt x="20200" y="1400"/>
                </a:lnTo>
                <a:close/>
              </a:path>
              <a:path fill="darkenLess" w="21600" h="27000">
                <a:moveTo>
                  <a:pt x="21600" y="27000"/>
                </a:moveTo>
                <a:lnTo>
                  <a:pt x="0" y="27000"/>
                </a:lnTo>
                <a:lnTo>
                  <a:pt x="1400" y="25600"/>
                </a:lnTo>
                <a:lnTo>
                  <a:pt x="20200" y="25600"/>
                </a:lnTo>
                <a:close/>
              </a:path>
              <a:path fill="lighten" w="21600" h="27000">
                <a:moveTo>
                  <a:pt x="0" y="270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0"/>
                </a:lnTo>
                <a:close/>
              </a:path>
              <a:path fill="darken" w="21600" h="27000">
                <a:moveTo>
                  <a:pt x="3794" y="10193"/>
                </a:moveTo>
                <a:lnTo>
                  <a:pt x="7301" y="10193"/>
                </a:lnTo>
                <a:lnTo>
                  <a:pt x="7301" y="15528"/>
                </a:lnTo>
                <a:cubicBezTo>
                  <a:pt x="7301" y="16451"/>
                  <a:pt x="8102" y="17182"/>
                  <a:pt x="9138" y="17182"/>
                </a:cubicBezTo>
                <a:lnTo>
                  <a:pt x="10800" y="17182"/>
                </a:lnTo>
                <a:cubicBezTo>
                  <a:pt x="11836" y="17182"/>
                  <a:pt x="12636" y="16451"/>
                  <a:pt x="12636" y="15528"/>
                </a:cubicBezTo>
                <a:lnTo>
                  <a:pt x="12636" y="10193"/>
                </a:lnTo>
                <a:lnTo>
                  <a:pt x="10800" y="10193"/>
                </a:lnTo>
                <a:lnTo>
                  <a:pt x="14308" y="6685"/>
                </a:lnTo>
                <a:lnTo>
                  <a:pt x="17981" y="10193"/>
                </a:lnTo>
                <a:lnTo>
                  <a:pt x="16144" y="10193"/>
                </a:lnTo>
                <a:lnTo>
                  <a:pt x="16144" y="15528"/>
                </a:lnTo>
                <a:cubicBezTo>
                  <a:pt x="16144" y="18296"/>
                  <a:pt x="13568" y="20855"/>
                  <a:pt x="10800" y="20855"/>
                </a:cubicBezTo>
                <a:lnTo>
                  <a:pt x="9138" y="20855"/>
                </a:lnTo>
                <a:cubicBezTo>
                  <a:pt x="6370" y="20855"/>
                  <a:pt x="3794" y="18296"/>
                  <a:pt x="3794" y="15528"/>
                </a:cubicBezTo>
                <a:close/>
              </a:path>
            </a:pathLst>
          </a:custGeom>
          <a:solidFill>
            <a:srgbClr val="00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8" name="Picture 2" descr="鲁迅像"/>
          <p:cNvPicPr/>
          <p:nvPr/>
        </p:nvPicPr>
        <p:blipFill>
          <a:blip r:embed="rId1"/>
          <a:stretch/>
        </p:blipFill>
        <p:spPr>
          <a:xfrm>
            <a:off x="4724280" y="533520"/>
            <a:ext cx="4114800" cy="5943600"/>
          </a:xfrm>
          <a:prstGeom prst="rect">
            <a:avLst/>
          </a:prstGeom>
          <a:ln w="0">
            <a:noFill/>
          </a:ln>
        </p:spPr>
      </p:pic>
      <p:pic>
        <p:nvPicPr>
          <p:cNvPr id="579" name="Picture 3" descr="13TBC114 "/>
          <p:cNvPicPr/>
          <p:nvPr/>
        </p:nvPicPr>
        <p:blipFill>
          <a:blip r:embed="rId2"/>
          <a:stretch/>
        </p:blipFill>
        <p:spPr>
          <a:xfrm>
            <a:off x="1752480" y="533520"/>
            <a:ext cx="2210040" cy="914400"/>
          </a:xfrm>
          <a:prstGeom prst="rect">
            <a:avLst/>
          </a:prstGeom>
          <a:ln w="0">
            <a:noFill/>
          </a:ln>
        </p:spPr>
      </p:pic>
      <p:sp>
        <p:nvSpPr>
          <p:cNvPr id="580" name="Text Box 4"/>
          <p:cNvSpPr/>
          <p:nvPr/>
        </p:nvSpPr>
        <p:spPr>
          <a:xfrm>
            <a:off x="1005480" y="1617840"/>
            <a:ext cx="30499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课文写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926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年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回忆了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902—190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年留学日本的片段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鲁迅本想以学医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救国救民，但后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却弃医从文了，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们在本课的学习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会认识到作者思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变化的原因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AutoShape 5">
            <a:hlinkClick r:id="rId3" action="ppaction://hlinksldjump"/>
          </p:cNvPr>
          <p:cNvSpPr/>
          <p:nvPr/>
        </p:nvSpPr>
        <p:spPr>
          <a:xfrm>
            <a:off x="8077320" y="6095880"/>
            <a:ext cx="304560" cy="38124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32">
                <a:moveTo>
                  <a:pt x="0" y="0"/>
                </a:moveTo>
                <a:lnTo>
                  <a:pt x="21600" y="0"/>
                </a:lnTo>
                <a:lnTo>
                  <a:pt x="21600" y="27032"/>
                </a:lnTo>
                <a:lnTo>
                  <a:pt x="0" y="27032"/>
                </a:lnTo>
                <a:close/>
              </a:path>
              <a:path fill="lightenLess" w="21600" h="2703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32">
                <a:moveTo>
                  <a:pt x="21600" y="0"/>
                </a:moveTo>
                <a:lnTo>
                  <a:pt x="21600" y="27032"/>
                </a:lnTo>
                <a:lnTo>
                  <a:pt x="20200" y="25632"/>
                </a:lnTo>
                <a:lnTo>
                  <a:pt x="20200" y="1400"/>
                </a:lnTo>
                <a:close/>
              </a:path>
              <a:path fill="darkenLess" w="21600" h="27032">
                <a:moveTo>
                  <a:pt x="21600" y="27032"/>
                </a:moveTo>
                <a:lnTo>
                  <a:pt x="0" y="27032"/>
                </a:lnTo>
                <a:lnTo>
                  <a:pt x="1400" y="25632"/>
                </a:lnTo>
                <a:lnTo>
                  <a:pt x="20200" y="25632"/>
                </a:lnTo>
                <a:close/>
              </a:path>
              <a:path fill="lighten" w="21600" h="27032">
                <a:moveTo>
                  <a:pt x="0" y="27032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32"/>
                </a:lnTo>
                <a:close/>
              </a:path>
              <a:path fill="darken" w="21600" h="27032">
                <a:moveTo>
                  <a:pt x="7301" y="13516"/>
                </a:moveTo>
                <a:lnTo>
                  <a:pt x="17806" y="6509"/>
                </a:lnTo>
                <a:lnTo>
                  <a:pt x="17806" y="20522"/>
                </a:lnTo>
                <a:close/>
              </a:path>
              <a:path fill="darken" w="21600" h="27032">
                <a:moveTo>
                  <a:pt x="3794" y="6509"/>
                </a:moveTo>
                <a:lnTo>
                  <a:pt x="5456" y="6509"/>
                </a:lnTo>
                <a:lnTo>
                  <a:pt x="5456" y="20522"/>
                </a:lnTo>
                <a:lnTo>
                  <a:pt x="3794" y="20522"/>
                </a:lnTo>
                <a:close/>
              </a:path>
            </a:pathLst>
          </a:custGeom>
          <a:solidFill>
            <a:srgbClr val="00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AutoShape 6">
            <a:hlinkClick r:id="" action="ppaction://hlinkshowjump?jump=previousslide"/>
          </p:cNvPr>
          <p:cNvSpPr/>
          <p:nvPr/>
        </p:nvSpPr>
        <p:spPr>
          <a:xfrm>
            <a:off x="8458200" y="6095880"/>
            <a:ext cx="304920" cy="38124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00">
                <a:moveTo>
                  <a:pt x="0" y="0"/>
                </a:moveTo>
                <a:lnTo>
                  <a:pt x="21600" y="0"/>
                </a:lnTo>
                <a:lnTo>
                  <a:pt x="21600" y="27000"/>
                </a:lnTo>
                <a:lnTo>
                  <a:pt x="0" y="27000"/>
                </a:lnTo>
                <a:close/>
              </a:path>
              <a:path fill="lightenLess" w="21600" h="270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0">
                <a:moveTo>
                  <a:pt x="21600" y="0"/>
                </a:moveTo>
                <a:lnTo>
                  <a:pt x="21600" y="27000"/>
                </a:lnTo>
                <a:lnTo>
                  <a:pt x="20200" y="25600"/>
                </a:lnTo>
                <a:lnTo>
                  <a:pt x="20200" y="1400"/>
                </a:lnTo>
                <a:close/>
              </a:path>
              <a:path fill="darkenLess" w="21600" h="27000">
                <a:moveTo>
                  <a:pt x="21600" y="27000"/>
                </a:moveTo>
                <a:lnTo>
                  <a:pt x="0" y="27000"/>
                </a:lnTo>
                <a:lnTo>
                  <a:pt x="1400" y="25600"/>
                </a:lnTo>
                <a:lnTo>
                  <a:pt x="20200" y="25600"/>
                </a:lnTo>
                <a:close/>
              </a:path>
              <a:path fill="lighten" w="21600" h="27000">
                <a:moveTo>
                  <a:pt x="0" y="270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0"/>
                </a:lnTo>
                <a:close/>
              </a:path>
              <a:path fill="darken" w="21600" h="27000">
                <a:moveTo>
                  <a:pt x="3794" y="10193"/>
                </a:moveTo>
                <a:lnTo>
                  <a:pt x="7301" y="10193"/>
                </a:lnTo>
                <a:lnTo>
                  <a:pt x="7301" y="15528"/>
                </a:lnTo>
                <a:cubicBezTo>
                  <a:pt x="7301" y="16451"/>
                  <a:pt x="8102" y="17182"/>
                  <a:pt x="9138" y="17182"/>
                </a:cubicBezTo>
                <a:lnTo>
                  <a:pt x="10800" y="17182"/>
                </a:lnTo>
                <a:cubicBezTo>
                  <a:pt x="11836" y="17182"/>
                  <a:pt x="12636" y="16451"/>
                  <a:pt x="12636" y="15528"/>
                </a:cubicBezTo>
                <a:lnTo>
                  <a:pt x="12636" y="10193"/>
                </a:lnTo>
                <a:lnTo>
                  <a:pt x="10800" y="10193"/>
                </a:lnTo>
                <a:lnTo>
                  <a:pt x="14308" y="6685"/>
                </a:lnTo>
                <a:lnTo>
                  <a:pt x="17981" y="10193"/>
                </a:lnTo>
                <a:lnTo>
                  <a:pt x="16144" y="10193"/>
                </a:lnTo>
                <a:lnTo>
                  <a:pt x="16144" y="15528"/>
                </a:lnTo>
                <a:cubicBezTo>
                  <a:pt x="16144" y="18296"/>
                  <a:pt x="13568" y="20855"/>
                  <a:pt x="10800" y="20855"/>
                </a:cubicBezTo>
                <a:lnTo>
                  <a:pt x="9138" y="20855"/>
                </a:lnTo>
                <a:cubicBezTo>
                  <a:pt x="6370" y="20855"/>
                  <a:pt x="3794" y="18296"/>
                  <a:pt x="3794" y="15528"/>
                </a:cubicBezTo>
                <a:close/>
              </a:path>
            </a:pathLst>
          </a:custGeom>
          <a:solidFill>
            <a:srgbClr val="00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Text Box 2"/>
          <p:cNvSpPr/>
          <p:nvPr/>
        </p:nvSpPr>
        <p:spPr>
          <a:xfrm>
            <a:off x="1981800" y="457200"/>
            <a:ext cx="264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鲁迅留学日本的经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Text Box 3"/>
          <p:cNvSpPr/>
          <p:nvPr/>
        </p:nvSpPr>
        <p:spPr>
          <a:xfrm>
            <a:off x="2581200" y="1295280"/>
            <a:ext cx="4667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cc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90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年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月到日本，入东京弘文学院补习日语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积极参加反清爱国活动，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自题小像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诗中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出“我以我血荐轩辕”的誓言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4"/>
          <p:cNvSpPr/>
          <p:nvPr/>
        </p:nvSpPr>
        <p:spPr>
          <a:xfrm>
            <a:off x="4111200" y="2819520"/>
            <a:ext cx="1477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cc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90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年入仙台医学专门学校学医。两年后弃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从文，想以改变国民精神入手，挽救民族危亡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5"/>
          <p:cNvSpPr/>
          <p:nvPr/>
        </p:nvSpPr>
        <p:spPr>
          <a:xfrm>
            <a:off x="2273760" y="3962520"/>
            <a:ext cx="5144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cc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90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年到东京开始文学活动，翻译介绍外国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学作品，并写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文化偏至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等一系列论文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6"/>
          <p:cNvSpPr/>
          <p:nvPr/>
        </p:nvSpPr>
        <p:spPr>
          <a:xfrm>
            <a:off x="2247120" y="5105520"/>
            <a:ext cx="53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cc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908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年从章太炎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说文解字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加入光复会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Text Box 7"/>
          <p:cNvSpPr/>
          <p:nvPr/>
        </p:nvSpPr>
        <p:spPr>
          <a:xfrm>
            <a:off x="2280600" y="5867280"/>
            <a:ext cx="203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cc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909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年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月，从日本回国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9" name="Picture 8" descr="S0014"/>
          <p:cNvPicPr/>
          <p:nvPr/>
        </p:nvPicPr>
        <p:blipFill>
          <a:blip r:embed="rId1"/>
          <a:stretch/>
        </p:blipFill>
        <p:spPr>
          <a:xfrm>
            <a:off x="5641920" y="228600"/>
            <a:ext cx="2895480" cy="1066680"/>
          </a:xfrm>
          <a:prstGeom prst="rect">
            <a:avLst/>
          </a:prstGeom>
          <a:ln w="0">
            <a:noFill/>
          </a:ln>
        </p:spPr>
      </p:pic>
      <p:sp>
        <p:nvSpPr>
          <p:cNvPr id="590" name="AutoShape 9">
            <a:hlinkClick r:id="rId2" action="ppaction://hlinksldjump"/>
          </p:cNvPr>
          <p:cNvSpPr/>
          <p:nvPr/>
        </p:nvSpPr>
        <p:spPr>
          <a:xfrm>
            <a:off x="8077320" y="6095880"/>
            <a:ext cx="304560" cy="38124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32">
                <a:moveTo>
                  <a:pt x="0" y="0"/>
                </a:moveTo>
                <a:lnTo>
                  <a:pt x="21600" y="0"/>
                </a:lnTo>
                <a:lnTo>
                  <a:pt x="21600" y="27032"/>
                </a:lnTo>
                <a:lnTo>
                  <a:pt x="0" y="27032"/>
                </a:lnTo>
                <a:close/>
              </a:path>
              <a:path fill="lightenLess" w="21600" h="2703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32">
                <a:moveTo>
                  <a:pt x="21600" y="0"/>
                </a:moveTo>
                <a:lnTo>
                  <a:pt x="21600" y="27032"/>
                </a:lnTo>
                <a:lnTo>
                  <a:pt x="20200" y="25632"/>
                </a:lnTo>
                <a:lnTo>
                  <a:pt x="20200" y="1400"/>
                </a:lnTo>
                <a:close/>
              </a:path>
              <a:path fill="darkenLess" w="21600" h="27032">
                <a:moveTo>
                  <a:pt x="21600" y="27032"/>
                </a:moveTo>
                <a:lnTo>
                  <a:pt x="0" y="27032"/>
                </a:lnTo>
                <a:lnTo>
                  <a:pt x="1400" y="25632"/>
                </a:lnTo>
                <a:lnTo>
                  <a:pt x="20200" y="25632"/>
                </a:lnTo>
                <a:close/>
              </a:path>
              <a:path fill="lighten" w="21600" h="27032">
                <a:moveTo>
                  <a:pt x="0" y="27032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32"/>
                </a:lnTo>
                <a:close/>
              </a:path>
              <a:path fill="darken" w="21600" h="27032">
                <a:moveTo>
                  <a:pt x="7301" y="13516"/>
                </a:moveTo>
                <a:lnTo>
                  <a:pt x="17806" y="6509"/>
                </a:lnTo>
                <a:lnTo>
                  <a:pt x="17806" y="20522"/>
                </a:lnTo>
                <a:close/>
              </a:path>
              <a:path fill="darken" w="21600" h="27032">
                <a:moveTo>
                  <a:pt x="3794" y="6509"/>
                </a:moveTo>
                <a:lnTo>
                  <a:pt x="5456" y="6509"/>
                </a:lnTo>
                <a:lnTo>
                  <a:pt x="5456" y="20522"/>
                </a:lnTo>
                <a:lnTo>
                  <a:pt x="3794" y="20522"/>
                </a:lnTo>
                <a:close/>
              </a:path>
            </a:pathLst>
          </a:custGeom>
          <a:solidFill>
            <a:srgbClr val="00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AutoShape 10">
            <a:hlinkClick r:id="" action="ppaction://hlinkshowjump?jump=previousslide"/>
          </p:cNvPr>
          <p:cNvSpPr/>
          <p:nvPr/>
        </p:nvSpPr>
        <p:spPr>
          <a:xfrm>
            <a:off x="8458200" y="6095880"/>
            <a:ext cx="304920" cy="38124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00">
                <a:moveTo>
                  <a:pt x="0" y="0"/>
                </a:moveTo>
                <a:lnTo>
                  <a:pt x="21600" y="0"/>
                </a:lnTo>
                <a:lnTo>
                  <a:pt x="21600" y="27000"/>
                </a:lnTo>
                <a:lnTo>
                  <a:pt x="0" y="27000"/>
                </a:lnTo>
                <a:close/>
              </a:path>
              <a:path fill="lightenLess" w="21600" h="270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0">
                <a:moveTo>
                  <a:pt x="21600" y="0"/>
                </a:moveTo>
                <a:lnTo>
                  <a:pt x="21600" y="27000"/>
                </a:lnTo>
                <a:lnTo>
                  <a:pt x="20200" y="25600"/>
                </a:lnTo>
                <a:lnTo>
                  <a:pt x="20200" y="1400"/>
                </a:lnTo>
                <a:close/>
              </a:path>
              <a:path fill="darkenLess" w="21600" h="27000">
                <a:moveTo>
                  <a:pt x="21600" y="27000"/>
                </a:moveTo>
                <a:lnTo>
                  <a:pt x="0" y="27000"/>
                </a:lnTo>
                <a:lnTo>
                  <a:pt x="1400" y="25600"/>
                </a:lnTo>
                <a:lnTo>
                  <a:pt x="20200" y="25600"/>
                </a:lnTo>
                <a:close/>
              </a:path>
              <a:path fill="lighten" w="21600" h="27000">
                <a:moveTo>
                  <a:pt x="0" y="270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0"/>
                </a:lnTo>
                <a:close/>
              </a:path>
              <a:path fill="darken" w="21600" h="27000">
                <a:moveTo>
                  <a:pt x="3794" y="10193"/>
                </a:moveTo>
                <a:lnTo>
                  <a:pt x="7301" y="10193"/>
                </a:lnTo>
                <a:lnTo>
                  <a:pt x="7301" y="15528"/>
                </a:lnTo>
                <a:cubicBezTo>
                  <a:pt x="7301" y="16451"/>
                  <a:pt x="8102" y="17182"/>
                  <a:pt x="9138" y="17182"/>
                </a:cubicBezTo>
                <a:lnTo>
                  <a:pt x="10800" y="17182"/>
                </a:lnTo>
                <a:cubicBezTo>
                  <a:pt x="11836" y="17182"/>
                  <a:pt x="12636" y="16451"/>
                  <a:pt x="12636" y="15528"/>
                </a:cubicBezTo>
                <a:lnTo>
                  <a:pt x="12636" y="10193"/>
                </a:lnTo>
                <a:lnTo>
                  <a:pt x="10800" y="10193"/>
                </a:lnTo>
                <a:lnTo>
                  <a:pt x="14308" y="6685"/>
                </a:lnTo>
                <a:lnTo>
                  <a:pt x="17981" y="10193"/>
                </a:lnTo>
                <a:lnTo>
                  <a:pt x="16144" y="10193"/>
                </a:lnTo>
                <a:lnTo>
                  <a:pt x="16144" y="15528"/>
                </a:lnTo>
                <a:cubicBezTo>
                  <a:pt x="16144" y="18296"/>
                  <a:pt x="13568" y="20855"/>
                  <a:pt x="10800" y="20855"/>
                </a:cubicBezTo>
                <a:lnTo>
                  <a:pt x="9138" y="20855"/>
                </a:lnTo>
                <a:cubicBezTo>
                  <a:pt x="6370" y="20855"/>
                  <a:pt x="3794" y="18296"/>
                  <a:pt x="3794" y="15528"/>
                </a:cubicBezTo>
                <a:close/>
              </a:path>
            </a:pathLst>
          </a:custGeom>
          <a:solidFill>
            <a:srgbClr val="00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6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1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20T09:37:36Z</dcterms:created>
  <dc:creator>第一PPT模板网-WWW.1PPT.COM</dc:creator>
  <dc:description>第一PPT模板网-WWW.1PPT.COM
</dc:description>
  <cp:keywords>第一PPT模板网-WWW.1PPT.COM</cp:keywords>
  <dc:language>en-US</dc:language>
  <cp:lastModifiedBy>a</cp:lastModifiedBy>
  <dcterms:modified xsi:type="dcterms:W3CDTF">2015-02-09T02:23:48Z</dcterms:modified>
  <cp:revision>5</cp:revision>
  <dc:subject>第一PPT模板网-WWW.1PPT.COM</dc:subject>
  <dc:title>第一PPT模板网-WWW.1PPT.COM</dc:title>
</cp:coreProperties>
</file>