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03E1-4B6F-48A1-A5A4-EF99ED3FC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3F92-AFFD-49E8-965D-C789D979F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8D814C-ED93-4729-A320-D105549EF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9E00F9-BCC1-4D57-9581-BE871373D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F479C1-540F-4CF9-A260-80C6143DC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08D313-150E-46BC-95C8-79B4743F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0A0455-3D61-41BF-8728-0A85C70C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8E0210-D959-4B0E-A16E-B4C60E05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4326B7-CC17-47F9-96A6-C1BA2571F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AE59DC-E100-412D-BB6A-A9E5E2165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DE7A98-A91A-4155-A164-7BD69A4EE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1455EF-A456-4B4D-8108-BA04D6CB2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7B4C-6AFA-483D-9012-433B6B98B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814CC9-9207-4E3B-B02D-62D51A4FD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EAC696-A2DA-4210-AC8D-658C247D6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6588AC-2358-4D79-8731-C38434004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41A01D-A410-4E18-9EE5-CEEB3CFC9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CAD171-0CFB-43CD-9257-9196E1389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8CB2B7-D5D6-434F-AD6D-907B6497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A59AA4-5B69-4436-B3C2-D03FEA23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CF1F50-825C-4FA6-9116-B23326BE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DC453F-A5A9-4C0B-AB0A-E8E23624F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F48456-F40A-4590-9B81-64F058DE3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8342-FAA1-45C7-9525-071635186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991D41-8E99-4E78-8230-604DBEE53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BAC9C9-0D99-4A38-8ACE-14F394B14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44DDB9-99B7-4D2F-9042-8E8645AA7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C5F7EB-A3B5-434D-8315-9784462CA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9E52E5-064C-48A7-BB13-2BE8FBC9A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7225BB-083B-45F9-A20C-1A3239108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801F6E-5C12-47FD-9A60-062BDC1C4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DD2C73-A006-46E4-A0BB-E0B77B1D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2E5DC8-C5B6-4E90-ADA7-132A22AC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47E41E-49D2-431C-A2E3-7428D87B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3B5C0-5867-415F-A78B-AB90C5B74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9D1273-B4F5-4591-84E9-ADB99E8CB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AF4B26-E780-4ABE-887F-DD5857084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6D5698-B774-4CEA-88F5-065652151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8E2C69-9037-4FD5-B5AE-BEB75A13E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78CEEC-8D60-4ACD-A94C-A9BC1FC54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4C8571-55B0-456F-8482-7F5306AD6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66C3D1-701D-4ED7-B017-CC6C2B25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0F3EE6-C080-470B-85B0-47135B6AE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D958AE-A01F-42BB-9F71-6ED744286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43AC68-0BF9-4BEF-8BFF-8E4EA70F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7DD15-F6FF-4EC5-8410-E3AC4C842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099F83-EE44-4421-970C-AC619333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B795EE-89DC-4148-85FD-94731D32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09E6F2-75F3-4C82-9730-12D9F5BD1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85E95B-1DB5-4507-94DE-A15FABA46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2659FC-BA6C-4C69-99A9-D1D1BB04A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1307E9-BA00-428D-99D2-11124CF4A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AD181E-1A31-4BD9-9B25-7F1A4953A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2DB584-107E-46E5-AE91-EAF9931C6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63003B-8317-4A2D-9C47-D91B9F286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E3B37A-7747-46E3-BE65-56822D31E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0AA37-60C2-46BE-9C80-DD220F2EE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664B35-9243-4164-BF12-C26766C9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DEEEF3-06E3-4967-802B-15C3B235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874C4A-C9BE-4BEB-888A-B68F8D1D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544097-7462-42EB-AEF2-FBEC5BF1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DC95CD-7878-4252-B8F6-6B7AB8CB4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A257D3-0024-43E4-A024-4D8EC4F2D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172337-2659-4915-BE73-D08B14F9D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ECDDC-0366-426A-B43B-8051217B8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C12F9-CD06-4CEC-9B92-C87DC2EF8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E7010-0D5A-4912-9095-FF846AE7C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85E2B-14D2-4E36-B558-E1CA7D0A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D184-76D5-4706-A856-9CF0B5710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C9406-B91F-4D06-81BC-FB3F66DA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BC3A5-B82A-468A-80B7-333C0FC3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79F39-C6ED-4999-9FF6-1A75BE230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BA877-F3CA-4947-8FB3-BED35A661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9DF50-9873-497D-8969-F120850DD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6A196-EEF2-404D-BB82-0A0CAC60B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AEADF-6449-4BE7-82FA-4EFB138E0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F7B53-BE8E-4FAB-A480-8FFD09C95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2FA5B-6C0F-46DF-8636-A6BC3C77D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C7B7B-45CE-41F0-A940-D36952473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BDF7-CF17-4A16-B5A2-EA5CBEF43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3A500-F329-4FA4-84A7-A184695F0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2A887-C546-4E09-8612-F54D0E01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AF5EE-7783-47EF-9309-6D3D825D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B81F6-DBEF-4634-B409-0EABF3A6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1276D-9040-425C-B47D-BEB374C8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1A910-12BF-406B-A20C-E404301E6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A4502-750D-4820-AEC0-E48C7B958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30865-BF9E-4C9A-84D5-21F6BB6C1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BBE51-6D2A-4AE1-B75A-2371159B0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6D315-5839-4010-BC78-0AF0B1F42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518C-6391-44AE-BF40-B1BE91C12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AB08B-06EF-4EA1-AB18-5E71CE9F3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329C7-620B-499E-BEBB-41696B750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820FD-F8DF-4158-9065-991AC4F78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EBBFC-74F8-437C-A3DE-B296D922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32683-133E-4B81-BE6A-BC43E494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7C6D9-6D24-4419-BCCE-172D9769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2031C-0ADC-473E-9D5C-760834578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A3D9F-2F42-442A-8F9A-057B29A47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04A1D-2227-46A2-B60F-384AD3155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CF573-C8A9-4CEF-ACDC-A4400290B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5400-9ABE-4AFF-B22D-7EADBE971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FFB1A-D0E0-4705-ACDE-FB5DB7121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BB18F-DA31-4843-8634-E78286AEC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6B9B6-EF25-4480-AB6A-11B07BF04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B2633-2073-4BC3-9ED0-B46B2CDD9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4BBFC-BA7E-4A2B-9F10-A904B017C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4ACE5-9706-482A-97C0-B986FB87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E6F03-0AA4-47E4-8D15-869E0674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85A0D-13BA-41A4-A737-CCDBC509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B13DB-9209-4249-B94C-B3AFCA1CF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10A10-1B8C-4373-9FB3-295EAB0F4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9D5D-79EF-4EE8-A373-5FB4804FD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EA27F-C571-411A-B7B3-0D9265BC2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C2880-F2CB-42A4-8EA6-E6B1E37D2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B6B722-4617-4543-8773-07BC43221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53FC1-E597-496C-91BE-4762C7CF0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9D911-4E9F-494C-8A0C-7768D2B34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DF1DC-A839-4835-9D83-42B190819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B4E1C-8A7D-49A4-B738-B6F3CC844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8742F-968C-4D89-B8A2-CCBDFAFD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211D9-C455-417F-95C4-4BF0806A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2B638-FBC1-4511-85AE-3660FA01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2E2E-C458-4E88-B61F-B0C5B693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749B6-5871-47F1-891E-71F4418E0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BF019-1E2B-4FAD-8710-977F95C97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09B72-8799-4282-AF88-E83E69E6A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54A90-45D3-4F66-877A-5AE896DBA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005DA-6CBD-4314-93D9-8DE814479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D3E6A0-7200-411E-B3A3-FA39AF927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8181A5-3359-4F83-BD8D-67DA4E5E6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C51BEF-5CFF-4B4A-860E-5C9FB961C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AADE3B-0EDE-47CA-8FA0-80DB4A825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5BC886-C3EE-48D3-BAC6-215F2041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3A12-1A74-43AF-8709-0A9BCD19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A19B4-3900-4BDF-85DC-655BC998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0563AB-A960-40FF-9F1F-C97795B5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9D9D1A-CC09-4470-AF74-14EA47E3E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442D0-936F-43A8-9A1E-2D128B3B7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A287F5-52D3-48AB-8180-6B484DE9C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E0E70A-556F-4FFE-8731-A74714E63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0F7F15-B7DB-4340-8D63-72F6A92FB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0EF474-19F3-411D-A6D9-F6B6D5EC2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6B629E-0D4F-474A-A637-E46B23992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E35137-E55F-4FA0-A327-174DCF12A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103F-F961-4C6B-BCD9-129C0222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B83FBC-8DF2-44ED-8CF8-EC20F86B3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986753-B13C-470F-8C26-D6ABA4B0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5AB677-CE43-40E0-B5CA-C0B7EE50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5349D9-101F-4DC4-921E-3467924A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DD382E-DE76-4900-B3DB-092DA024D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A089C-17BF-406D-94B6-0EB6A3F54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06CD37-9B12-47EA-8BC2-BA3B04547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BDA5A0-F616-4529-862B-F2B1E1F6B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EAFD3A-2D25-4FBC-ABD4-D867B8439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7B64AC-F41C-4E57-9E93-EE50C808E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AE439-7A68-4292-A02F-44605468F5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CAC78-7BEE-4FCB-A20B-53754DD65D7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77E09-C099-4809-A23F-18D32D13FDC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500F7-3EDE-43A4-AE6D-13A107495E8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BCDD3-62EA-4A30-9864-C9772046D83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4BF66-F22B-4E19-92C2-B4B39D1EF12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F1558-BC0C-48B1-A8EA-AB949266763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35E06-85C4-48FD-BA02-4FD0B494B52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1D2D2-8357-43AC-8033-A9E0DE582B1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742C-226D-4607-973A-5D85DA95981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DF46B-9E1A-43EE-9D56-4673F6768E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02BD-2DB5-41BE-9029-6DAA590C32C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795FE-81C6-4B3E-AF14-BF86F9E8A36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649A7-B9C6-4880-8011-DA2368D022D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1DF6C-E334-4E3E-ACFD-827548AE9D1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CB893-6740-41E0-A600-E1B3DAC6D32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371F2-2036-41CC-A76D-F85BC2C4AA2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E1972-388F-4574-8435-64CFD8FD06E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36A0E-E867-4B99-80E3-D7EE4E9886E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83B4-45AD-4FBE-A5C9-CE504542389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70305-DE81-423A-9A89-62D1A652A36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FB39-F979-416A-97B8-0EB07F4464A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2C390-A8A5-47CB-9590-71211A095A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EC095-709D-40DF-9F31-F0096FC61FE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05C0F-9309-4EC9-860C-6EDF522CBEE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7" descr="H:\00000000001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8"/>
          <p:cNvSpPr/>
          <p:nvPr/>
        </p:nvSpPr>
        <p:spPr>
          <a:xfrm>
            <a:off x="0" y="5943600"/>
            <a:ext cx="2971800" cy="916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温馨的家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hj.mp3" descr=""/>
          <p:cNvPicPr/>
          <p:nvPr/>
        </p:nvPicPr>
        <p:blipFill>
          <a:blip r:embed="rId2"/>
          <a:stretch/>
        </p:blipFill>
        <p:spPr>
          <a:xfrm>
            <a:off x="-685800" y="3962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2"/>
          <p:cNvSpPr/>
          <p:nvPr/>
        </p:nvSpPr>
        <p:spPr>
          <a:xfrm>
            <a:off x="1295280" y="0"/>
            <a:ext cx="39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9900cc"/>
                </a:solidFill>
                <a:latin typeface="Times New Roman"/>
              </a:rPr>
              <a:t>我忆我家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5"/>
          <p:cNvSpPr/>
          <p:nvPr/>
        </p:nvSpPr>
        <p:spPr>
          <a:xfrm>
            <a:off x="914400" y="27432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学前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8"/>
          <p:cNvSpPr/>
          <p:nvPr/>
        </p:nvSpPr>
        <p:spPr>
          <a:xfrm>
            <a:off x="838080" y="41148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小学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10"/>
          <p:cNvSpPr/>
          <p:nvPr/>
        </p:nvSpPr>
        <p:spPr>
          <a:xfrm>
            <a:off x="838080" y="48769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初中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Rectangle 11"/>
          <p:cNvSpPr/>
          <p:nvPr/>
        </p:nvSpPr>
        <p:spPr>
          <a:xfrm>
            <a:off x="380880" y="1295280"/>
            <a:ext cx="861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回忆在你成长阶段，父母付出最多的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12"/>
          <p:cNvSpPr/>
          <p:nvPr/>
        </p:nvSpPr>
        <p:spPr>
          <a:xfrm>
            <a:off x="609480" y="34290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幼儿园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2"/>
          <p:cNvSpPr/>
          <p:nvPr/>
        </p:nvSpPr>
        <p:spPr>
          <a:xfrm>
            <a:off x="609480" y="1219320"/>
            <a:ext cx="807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、在哪种情况下，你最想家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2"/>
          <p:cNvSpPr/>
          <p:nvPr/>
        </p:nvSpPr>
        <p:spPr>
          <a:xfrm>
            <a:off x="152280" y="1066680"/>
            <a:ext cx="853452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、请以自己对家庭的感受和体验完成下面比喻句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我的家像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，因为 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2"/>
          <p:cNvSpPr/>
          <p:nvPr/>
        </p:nvSpPr>
        <p:spPr>
          <a:xfrm>
            <a:off x="2895480" y="45720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660066"/>
                </a:solidFill>
                <a:latin typeface="Times New Roman"/>
              </a:rPr>
              <a:t>我说我家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4"/>
          <p:cNvSpPr/>
          <p:nvPr/>
        </p:nvSpPr>
        <p:spPr>
          <a:xfrm>
            <a:off x="380880" y="2438280"/>
            <a:ext cx="472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说说我家的快乐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AutoShape 5"/>
          <p:cNvSpPr/>
          <p:nvPr/>
        </p:nvSpPr>
        <p:spPr>
          <a:xfrm>
            <a:off x="5181480" y="3048120"/>
            <a:ext cx="2819520" cy="243828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 Box 2"/>
          <p:cNvSpPr/>
          <p:nvPr/>
        </p:nvSpPr>
        <p:spPr>
          <a:xfrm>
            <a:off x="990720" y="914400"/>
            <a:ext cx="601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660066"/>
                </a:solidFill>
                <a:latin typeface="Times New Roman"/>
              </a:rPr>
              <a:t>说说我家的烦恼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AutoShape 3"/>
          <p:cNvSpPr/>
          <p:nvPr/>
        </p:nvSpPr>
        <p:spPr>
          <a:xfrm>
            <a:off x="4648320" y="2209680"/>
            <a:ext cx="2819160" cy="2438640"/>
          </a:xfrm>
          <a:prstGeom prst="smileyFace">
            <a:avLst>
              <a:gd name="adj" fmla="val -465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 Box 3"/>
          <p:cNvSpPr/>
          <p:nvPr/>
        </p:nvSpPr>
        <p:spPr>
          <a:xfrm>
            <a:off x="2362320" y="762120"/>
            <a:ext cx="42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660066"/>
                </a:solidFill>
                <a:latin typeface="Times New Roman"/>
              </a:rPr>
              <a:t>我写我家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5"/>
          <p:cNvSpPr/>
          <p:nvPr/>
        </p:nvSpPr>
        <p:spPr>
          <a:xfrm>
            <a:off x="457200" y="236232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以“ </a:t>
            </a:r>
            <a:r>
              <a:rPr b="0" lang="zh-CN" sz="4800" spc="-1" strike="noStrike" u="sng">
                <a:solidFill>
                  <a:srgbClr val="000000"/>
                </a:solidFill>
                <a:uFillTx/>
                <a:latin typeface="Times New Roman"/>
              </a:rPr>
              <a:t>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的故事”为题，写下你们家庭中最感动的爱的故事，字数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500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字左右。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4" descr="H:\0000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2" name="我爱我的家.mp3" descr=""/>
          <p:cNvPicPr/>
          <p:nvPr/>
        </p:nvPicPr>
        <p:blipFill>
          <a:blip r:embed="rId2"/>
          <a:stretch/>
        </p:blipFill>
        <p:spPr>
          <a:xfrm>
            <a:off x="-304920" y="4038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5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06:33:44Z</dcterms:created>
  <dc:creator>fjzxb</dc:creator>
  <dc:description/>
  <dc:language>en-US</dc:language>
  <cp:lastModifiedBy>a</cp:lastModifiedBy>
  <dcterms:modified xsi:type="dcterms:W3CDTF">2015-03-17T05:48:11Z</dcterms:modified>
  <cp:revision>11</cp:revision>
  <dc:subject/>
  <dc:title>PowerPoint 演示文稿</dc:title>
</cp:coreProperties>
</file>