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DC7-07F4-442A-BBFD-62972E58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02F-E9D7-486E-BF10-FEF4D54B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AD551-4A3E-44BC-9FB6-8621BDF0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B2FB7-CF2F-4614-A3F8-05298E67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740C8-C193-4271-B642-BDD71540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037D9-28A4-4226-83A7-5284AF4D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BE6B1-B054-42A6-A62B-E69A171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B7631-D578-4BD0-9CEA-85AC27C6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1F55D-D6E3-4AC4-82D2-41E446D3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FED63-BD65-4D2D-904C-2C12E170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A79B7-E1CB-403E-B02D-4107E614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AE5B3-6C3E-4283-A4A6-4D21B6BE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4A0-9488-4421-B8A4-623516F0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177C6-B7E9-47F7-BB81-705866D9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40956-5010-4B3C-A272-4AD1615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47105-6F2A-40AB-8379-5656AD35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A94D8-B98B-48D7-8D8B-6E1D036E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2DE28-9436-402F-8AA8-0B7EC1E6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0B1B8-1B9D-42A2-8259-D6F1F7FB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568C2-EFAE-4E5F-B94A-F2ABF738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80B82-51D0-4ACA-A10F-EC95AC74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E4F55-45F7-4B6F-80CE-BFA7DEE4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EB3C5-5553-496C-89EA-57D26364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5C8-76EB-42AE-9BE4-DC96523F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50D70-ABDE-4085-A984-527B5915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38914-4438-4193-8002-7BA6BA01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20EF6-C759-4E9A-89B1-43895971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CD347-3D09-4F7D-A84C-7FE37F4B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583F3-36E3-4E3D-A026-25E15788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0BA4D-10ED-4D78-9209-665FD8E0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0AA74-7B43-4E45-98CD-DAFF97DC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FA968-A5D2-47D3-BD46-6E4C521A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AB88A-00A5-41E1-8593-2912DCC3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B5423-EA00-4AF1-8D26-C4AB9D4D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97D7-F586-488A-B2CC-C44DD3B0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4FFCD-8E00-41F9-8841-710CA08E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6FB73-124A-464E-A449-3A0BA4C3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83F0F-7E8F-4822-A53C-7398C642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145DD-901C-4735-9D5D-DC0D112D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54DCA-7A12-48DC-B38B-E5A5E821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F5C02-4EA4-4A90-BAD4-6328FA06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451FB-BE6D-47A5-AF37-65EF007D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06321-7118-4047-ABD8-9FD4AB1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1D9D1-DC74-4234-AE32-ED801FA8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F73EC-5245-4615-B67B-5D3C812C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B5BA-4E01-4881-8BF0-E7C2CED2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F7257-3184-4733-8A30-A11F635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0E086-F938-4DD7-8F47-8861C401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9E52F-FE44-419D-9457-B32E80AD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680C3-0BDF-48A3-A275-74E267F9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55EB4-046A-40E5-92D7-B857EA94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6FAC6-B532-4668-ADAB-B56B395D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7F5F8-34EE-46E7-98BD-CB3769B0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D7A7A-3E91-4524-8D52-86CB0D32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897B7-74F7-4577-AC38-898F5CA1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C3F3C-8DF5-448C-9EBC-5CC95C47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72DC-A5CA-4BBF-9B7C-E2E9506C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AD077-39DA-4CC8-862D-59099513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0F269-EACA-4C5F-B47A-C96C0C23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A09BC-235C-4981-8FD2-C0A0C814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DEFD5-D32B-4F9E-8724-F3983357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8B41B-EAF1-4403-90E0-69BB8523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F5FA5-E1AE-40C8-B3A8-74ADA450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2476E-B5E6-4088-816E-1F526C44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0904D-85EF-445D-B368-0F758B19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C827B-B323-40E1-AB4A-6B3AD323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8152E-23C0-4EED-ABAD-5F495188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F29B-20E3-49C6-815A-BF2E60AF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34E7E-3766-4A03-9722-070FF1C2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6476E-9223-4A7A-BDCC-FD3E63C6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855CF-4542-4D01-976A-CE17FFBB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09232-79DD-48C4-93F9-053DB19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5297C-B90A-4FB9-9A62-F72BD857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395A3-6DF9-426A-BBCD-859C76A3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8E6A3-D5F0-4D85-83C4-99EAE4C9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647B3-80B7-40FF-ABD6-064E9AD9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1545E-47F7-4958-B7CC-0205ED4C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B69AD-96FB-4A36-BDCB-88A6D8A4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76DA-6756-4F77-B70E-047CEE7B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16839-B2F4-47E3-92B3-93A2EBDD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C8243-D401-43EE-902F-337BD94F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C32B8-148B-41C4-B52F-A0C6CDD9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2AFC2-460F-450D-BDE1-5AD37D46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70420-4A74-4EC3-8BAE-6B885C5E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3A0D2-9D3B-4DA9-8ACB-0CBA8759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3FF22-540F-46BF-B276-8B6C02E7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70AE6-7652-4071-84A9-82EE27D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F4E4C-45B3-4BB5-8BF8-18897FDE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60A46-63F0-4CD1-8A04-38364F4C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275B-5772-4B7D-A13D-36420252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DE5F4-9996-4BF6-856F-ABDA1D1F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5451B6-056D-4806-B553-A6EF0797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2AD78-CC96-4537-97C0-C5E2DD2A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50354-6FDB-41CC-8B52-3193A765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681A51-C3AD-4F47-B759-2BADFF99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AC62C-E238-4846-A4CA-A7FB8DF5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CD6D9-5978-45F1-93AB-E0091A18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362FC-60F7-4254-A4F6-BC600CC3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64C6F-CCC7-4720-9081-C37D5C5A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2B90B-FF2E-425C-AE37-11D2452E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312C-6604-4C34-B2B2-67A23BE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2D4ED-9710-4884-A8D4-BBED3506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438F7-857D-4B9E-8EA0-EC054A35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4FF2A-2C7D-4DF5-BD17-33BEE2F4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88D00-3BBC-4FC2-B8B8-6FB12075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A034B-756D-47A6-9BA5-87D80EEF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EC3ED8-93EE-4C65-A3A7-CC77F498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5206A1-3002-4F02-8AF2-9F56562A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50897-F471-4CDD-8418-4ACBB10F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4885EF-20B9-4A26-A818-4CA5A45A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9B2A0-CFF5-42CD-9451-D0799770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338-3886-4F40-9A61-2D852170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D11A-7EA0-4268-815B-6C937794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5B706-B257-452B-BF4E-0CBFF1F8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BCD47-4FCF-4CB5-A7A4-27F32121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E2EA0E-7536-4766-A399-F79E7DA5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8AABD3-FEB5-49A5-AD56-DDC751B9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EB886-90E0-409C-95BF-13640192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FA15CE-7834-45C4-8EB3-EC3A3C86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AF922-7192-4C0A-8C10-DF08BD1F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71367-C2A8-4888-B71F-3E3C9C02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FB1AB-7FD9-4B2F-A0D7-6AD70876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827A5-EEBD-4BE3-AF79-A10C9245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BA87-EE39-4550-8A8D-0BF4C25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6FF957-5030-448D-8D75-4EAB770E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E40FAB-BF67-406F-8AEF-49DFB3A7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E37B4-310A-4BE2-91AE-93BC3DE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8CF73-E2F7-4A3B-8BE3-49ABB2C3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C7430-1273-43EB-B901-7CB6783B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B0442-C88E-4C63-82CA-3586F8F5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1573E9-5A0E-49EC-B1B9-4B71CB29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7115-AA2D-498A-8096-C6383CDD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DFBE-4999-4375-9140-D024BE3B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C446-B3DB-40E0-8CEF-CCCD0BD9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7C58-E802-4387-8733-EB921F05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1370-8EDC-491D-BA82-D677DFB4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10D8-A358-4F36-ADFC-3A5C1CB3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86B9-1660-43C1-8FD6-DDAAC57D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5663-B8C6-468F-A1B4-E49F2051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331-79FF-42FA-9347-B144246B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B3FA-D968-4275-A8AA-70874276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08B7-BFE6-4304-A7E9-9D77BD7B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14BD-9213-43C1-BF36-60BDCE3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6693-2E11-4A19-B9F5-CAE53287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4311-2BAF-4DA7-B5F6-4B027826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02D6-4672-4776-94BE-64EA1B31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F806A-B3DF-40DC-A08C-1EC6CAF9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C277-679A-43BF-9547-125F84CE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4BD0-29C4-4500-97E4-E880EE38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E8809-80AA-45F8-853E-35DDB025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094-6035-4E58-BEA4-460DD4EB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04D5A-35FC-45F4-8A08-25A112DE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6F981-B4E7-4D19-911A-8E086A6D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4E8A9-E712-4FC5-ADC6-BFDBE1AC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7BD2-6AE6-4E22-8FEA-59C0246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C19BF-E1A3-414B-B4DF-124FCE2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19D4-F92D-4F0B-A2A0-EDEB2A53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438EC-E895-46C8-BC40-20F70045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122DD-4D91-4C66-A6F0-16D77AE4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9A6C-9A01-4E32-A1DA-EF69EC7D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99C9B-D55A-4349-8576-82DA616B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C8E-1D92-40F5-8DB7-60D8DB2D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CA45D-2C33-43BD-A40F-CCA63C03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6DC83-D36F-4F0D-B6EC-409EC3F9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9D926-39EF-4A8D-9563-CAC8FC3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275F3-A077-425A-B8CF-A29BC769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0D2F9-7120-4C39-9E9C-190BBCF3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B111B-9C11-465C-86C0-40B31846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08B4-7AA0-470A-8C0A-DEBD949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3C1F-9D41-4646-AD7A-0C43C060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33F71-0423-4424-B942-8703CADD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8BEC-85F9-452A-AC7E-5EFDC7B7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C7F-A638-4E3E-97C8-C838C599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7B943-DBF0-4204-B71E-9213CA78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43785-6FD5-412A-98E2-25906E1E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02BC-16AC-433B-8811-13463488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DC694-38CC-4F6F-B809-2E356444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6AC9D-207B-4093-B6F0-5E3810F5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28E14-7AEA-4D1E-88BD-ACCADDDB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8E78-3F42-4AA6-9562-515EF59E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E55D5-3B08-4AB9-9A6E-6C48A7A5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4F922-6B90-4F29-BB94-294FE86A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EB475-8B6D-484A-A158-48AC0EC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EEC-D23B-4D65-8FA2-C626C645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84312-9BF8-4D17-A354-F8E4233D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F805C-72D6-4D3E-83F2-6F2A942C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EBDB-A4C2-4F2A-B402-F76A865F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F93D8-E054-49D5-82BA-8BB75345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C499F-40B3-43BA-9D1D-04851058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3A981-2155-4265-B05F-87AF9238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A443C-3204-405B-B926-A80C3F3B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85B19-A1B0-4DF8-B71E-A1F8D63E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AB634-C145-44C8-A9A0-AB8A2745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5E451-AF2B-4563-B2A5-5F947F69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D91-CEFC-41F6-BEBE-0200B2BC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0B19A-A042-4E59-ACAE-4F3542C4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96F6C-D48F-4BCE-B129-A382763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36850-0C9B-4D5B-8283-5E3D6607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6AAC8-5091-4A61-8D9A-6D45D913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8967-86D4-4CCD-8E80-882338C1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CA0C7-8811-4634-9E75-7D4F386E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58934-7928-4E14-8167-29E786AA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2E147-2D6B-4899-AC67-E85B7E06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71501-91BD-443F-962B-BEF9C985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C874B-D44C-47AD-BD4D-C5B79AA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561-9BB2-4BD0-86D9-B144241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C33D3-351E-438F-8DBE-16293FF8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26142-D8C2-4838-94C0-3B21F713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9563D-FD27-4FE9-B598-DCEC5712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52A06-E45E-489B-ABDE-30E6E812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BD402-0A67-4735-A002-C424C5D8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D9B92-68BE-4F6A-B74D-8D47377A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E65EA-CF19-48C6-AEE8-23CEF046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CC805-2B57-4AFD-B419-9B8601C4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A0810-A7C8-4F4B-8168-9BA1FD18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5DAEA-E988-4DCD-B788-189B76E8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0E59-EDBE-4939-8BEB-3520406AC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498E-9859-44A0-A528-D5F38057CA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5683-3508-44EF-BC85-87DEF5B558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A28-8E42-4F68-882D-FFFFAC3966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98DD-6494-4F28-A21E-E63E00EF63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7941-73D4-4084-9877-308A3994B2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6BE-899F-4E5B-9125-F2AB4C6F0E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4D87-1A62-41EE-A7CE-26FEA8DAF2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A0E2-032A-40ED-98A7-40A94F9E44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6311-5906-4D82-A69E-E063F83D6A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BA17-630C-4C1D-99C8-FDB1B41219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7C93-8DE8-4F4C-A4B3-CC11931D31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A546-17D9-438A-9EC5-DB34AC6C8A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8F5A-66BE-4EEB-A476-D2A3DF87FB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CD6B-45AB-4E34-BFDB-782F269FC3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569F-16AA-4F77-BAEC-41A8A9AEC8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AE20-7005-4F39-BC48-871B67D00C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9A97-CD4C-4C55-82DA-3FE87F69F4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5F2D-43C7-4F27-9D3E-EC0A18D1C2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6283-199A-4982-A6A8-C5A6AB5D6A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54A-9E78-45B3-9722-E087EFF176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3282-40C0-46BE-B25D-2B6A93A570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4EB9-6D47-461A-8E3B-E991CDD02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A838-9264-4C75-9699-C0A32A62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1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F559-5CDD-4809-A5BA-9A6236AB78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6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E5A2-4127-4229-B1AB-9384149FBE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3A11-DE65-48A3-9A70-23EF715BBC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F5D1-271A-476F-86E3-532A324A30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2E51-9713-42CB-8F5F-2C5473CEBE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54B-306C-4A7E-BDAD-4952A33E6A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88" name="Picture 4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7"/>
          <p:cNvSpPr/>
          <p:nvPr/>
        </p:nvSpPr>
        <p:spPr>
          <a:xfrm>
            <a:off x="1547640" y="306864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迷你简启体"/>
              </a:rPr>
              <a:t>玩出了名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Text Box 8"/>
          <p:cNvSpPr/>
          <p:nvPr/>
        </p:nvSpPr>
        <p:spPr>
          <a:xfrm>
            <a:off x="2124000" y="2349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人教版新课标实验教材第五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Text Box 9"/>
          <p:cNvSpPr/>
          <p:nvPr/>
        </p:nvSpPr>
        <p:spPr>
          <a:xfrm>
            <a:off x="4427640" y="4437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执 教： 瞿   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Text Box 10"/>
          <p:cNvSpPr/>
          <p:nvPr/>
        </p:nvSpPr>
        <p:spPr>
          <a:xfrm>
            <a:off x="4429080" y="4797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设 计：杨春婷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20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三、尝试从自己的玩耍中体会</a:t>
            </a:r>
            <a:r>
              <a:rPr b="1" lang="zh-CN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“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名堂</a:t>
            </a:r>
            <a:r>
              <a:rPr b="1" lang="zh-CN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”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1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、小组交流：我玩</a:t>
            </a:r>
            <a:r>
              <a:rPr b="1" lang="en-US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……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，发现了</a:t>
            </a:r>
            <a:r>
              <a:rPr b="1" lang="en-US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……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           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或我玩</a:t>
            </a:r>
            <a:r>
              <a:rPr b="1" lang="en-US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……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，体会到</a:t>
            </a:r>
            <a:r>
              <a:rPr b="1" lang="en-US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……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2</a:t>
            </a:r>
            <a:r>
              <a:rPr b="1" lang="zh-CN" sz="3200" spc="-1" strike="noStrike">
                <a:solidFill>
                  <a:srgbClr val="b48100"/>
                </a:solidFill>
                <a:latin typeface="方正水柱简体"/>
                <a:ea typeface="方正水柱简体"/>
              </a:rPr>
              <a:t>、小组推荐：我们谁玩出了名堂，他的发现了（或发明了或体会到了） </a:t>
            </a:r>
            <a:r>
              <a:rPr b="1" lang="en-US" sz="3200" spc="-1" strike="noStrike">
                <a:solidFill>
                  <a:srgbClr val="b48100"/>
                </a:solidFill>
                <a:latin typeface="Arial"/>
                <a:ea typeface="方正水柱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4" descr="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Text Box 6"/>
          <p:cNvSpPr/>
          <p:nvPr/>
        </p:nvSpPr>
        <p:spPr>
          <a:xfrm>
            <a:off x="1116000" y="198900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华文彩云"/>
              </a:rPr>
              <a:t>四、感情朗读，表达敬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6" name="track3-小步舞曲.mp3" descr=""/>
          <p:cNvPicPr/>
          <p:nvPr/>
        </p:nvPicPr>
        <p:blipFill>
          <a:blip r:embed="rId2"/>
          <a:stretch/>
        </p:blipFill>
        <p:spPr>
          <a:xfrm>
            <a:off x="255600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8"/>
          <p:cNvSpPr/>
          <p:nvPr/>
        </p:nvSpPr>
        <p:spPr>
          <a:xfrm>
            <a:off x="2411280" y="2997360"/>
            <a:ext cx="42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弹簧体"/>
                <a:ea typeface="文鼎弹簧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文鼎弹簧体"/>
                <a:ea typeface="文鼎弹簧体"/>
              </a:rPr>
              <a:t>、按自己喜欢的方法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文鼎弹簧体"/>
                <a:ea typeface="文鼎弹簧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文鼎弹簧体"/>
                <a:ea typeface="文鼎弹簧体"/>
              </a:rPr>
              <a:t>、全体齐读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008" fill="hold"/>
                                        <p:tgtEl>
                                          <p:spTgt spid="9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4" descr="0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1907640" y="2205000"/>
            <a:ext cx="554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写一写，自己玩中的乐趣与收获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1619280" y="278136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迷你简启体"/>
              </a:rPr>
              <a:t>一、读、感、悟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5" name="Picture 4" descr="pic_31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7" name="Picture 4" descr="pic_3136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9" name="Picture 4" descr="pic_313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5" descr="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1692000" y="3284280"/>
            <a:ext cx="6886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小组合作探究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你画了哪些句子和关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词？为什么画这些词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4"/>
          <p:cNvSpPr/>
          <p:nvPr/>
        </p:nvSpPr>
        <p:spPr>
          <a:xfrm>
            <a:off x="2050920" y="836640"/>
            <a:ext cx="655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、默读思考：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列文虎克是怎么发明显微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               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镜？又是怎么发现微生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               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的？划有关的句子，并标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               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注关键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3" name="献给爱丽丝.MP3" descr=""/>
          <p:cNvPicPr/>
          <p:nvPr/>
        </p:nvPicPr>
        <p:blipFill>
          <a:blip r:embed="rId2"/>
          <a:stretch/>
        </p:blipFill>
        <p:spPr>
          <a:xfrm>
            <a:off x="543564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04" name="Text Box 12"/>
          <p:cNvSpPr/>
          <p:nvPr/>
        </p:nvSpPr>
        <p:spPr>
          <a:xfrm>
            <a:off x="755640" y="620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迷你简启体"/>
              </a:rPr>
              <a:t>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245" fill="hold"/>
                                        <p:tgtEl>
                                          <p:spTgt spid="9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4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916000" y="1341360"/>
            <a:ext cx="60116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1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、朗读句子</a:t>
            </a:r>
            <a:br>
              <a:rPr sz="4800"/>
            </a:b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2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、理解关键词</a:t>
            </a:r>
            <a:br>
              <a:rPr sz="4800"/>
            </a:b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3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迷你简启体"/>
              </a:rPr>
              <a:t>、体会词句的作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4500720" y="83664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迷你简启体"/>
              </a:rPr>
              <a:t>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4" descr="00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50560" y="-2736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迷你简启体"/>
              </a:rPr>
              <a:t>悟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、小结填空：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 列文虎克玩放大镜，发明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玩显微镜，发现了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、列文虎克玩出了大名堂呢？课文最后是怎么说的？齐读课文有关段落。用自己的话说说这个大名堂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5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6" descr="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1" name="Text Box 4"/>
          <p:cNvSpPr/>
          <p:nvPr/>
        </p:nvSpPr>
        <p:spPr>
          <a:xfrm>
            <a:off x="1763640" y="2205000"/>
            <a:ext cx="60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迷你简启体"/>
              </a:rPr>
              <a:t>二、深入探究，拓展理解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900000" y="3141720"/>
            <a:ext cx="770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、交流相关资料，更多了解列文虎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、说一说，列文虎克玩中的发明、发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给了你什么乐趣或收获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3:24:13Z</dcterms:created>
  <dc:creator> </dc:creator>
  <dc:description/>
  <dc:language>en-US</dc:language>
  <cp:lastModifiedBy>a</cp:lastModifiedBy>
  <dcterms:modified xsi:type="dcterms:W3CDTF">2015-03-17T05:47:18Z</dcterms:modified>
  <cp:revision>8</cp:revision>
  <dc:subject/>
  <dc:title>幻灯片 1</dc:title>
</cp:coreProperties>
</file>