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913-9D3C-472B-9086-0E859AA6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0B5-C105-481F-B1BB-ECFA563D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A4935-54CA-4CEE-9541-0171580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D43BE-6294-4167-AD64-BFD96DD2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49FA5-AFF0-4A79-B4FC-DED7EDE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A52BE-9549-4616-9D27-39399EC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9DE5A-81C4-477B-BBC2-349B45B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7FDE8-8B94-4B90-BABB-64011AF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56035-6285-4554-BA32-2032408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62EB-E617-42F4-80F8-FA3369F4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4B4C2-2644-46AB-8084-BB3119BA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BF30A-E2AD-4BCB-BA98-01101BE1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600-CACC-45D4-97BE-4FC417D0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5ABD7-1105-4A6B-B385-FA09152C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23DA-D610-4A78-A7BE-0475FAA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64786-7FF2-415F-A44B-DB001D0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B6087-82B8-4443-9C66-3C74630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D2FEC-F726-463B-A408-1FC8505F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D96B4-BB5B-4BB9-9489-73F98A96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5EFDA-F26A-4F2C-8C6A-FAF3F8C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D66C7-6D98-431E-BB76-DBD637C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9670-4379-46D5-AD8B-128B984B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6C7EF-5A91-4C14-AF3F-96168099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2B3-9D76-46ED-ACAE-67330F57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007C2-BB74-4BBE-A3F0-94B4572D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F31AE-160D-410B-A031-8CD436A0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A27B-6690-4EA4-8CC2-30C7E1B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D6ED-192F-4B6B-ABDF-F622A36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34EC-0569-4D87-972F-C8832123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906F2-8AE2-4F48-9340-53B0239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D4DB3-9958-4F31-B884-A17091D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26B4-77F3-4ECE-B0B2-D53016F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563E4-3FAC-449A-A5F1-19AD225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EA2F0-5942-46E7-B76E-9BDF9E2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2F72-E9C2-4F55-8C08-FD16C5BA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39C09-CE0D-4BCF-B994-13A96302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68C77-773C-44DC-A241-9E995B83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01F1-0F8F-4797-977A-E406AC0D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2C4A6-F487-4091-A020-9A6D1CC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6CA1A-7577-448D-B571-7E8E7BA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DA389-0381-40FF-AD2D-78144E07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7095C-8384-4EB4-BA10-1A988142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E313E-8F69-48EB-9B61-AB02F643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C5CF5-DDB2-4887-BD63-47FF6D5E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2FE34-8762-46CF-B119-EBE0A5A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DE80-553F-4D61-94AC-9F9BB08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E9AA3-9808-414F-8CCA-2631F06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83717-7109-41CA-825B-BB874B3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72D02-CCFA-4262-9A57-EAC3474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1B12C-3AB7-4F56-98E7-B6F4D968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EBAF7-4E7A-4FF4-BE80-CBD4149C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84E22-AD39-4420-9520-EA3D58DA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6DEF7-60CF-4EF1-BCB2-76E4E5C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53104-A242-4012-8BC5-AE04ED5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72C15-0DE7-41C9-9D04-7C9F303D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4B31B-582A-4DE2-AD6E-EB85515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AA42-550D-450E-A6C9-E7484FCF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81008-34D1-40C4-8DB9-5DDAD8E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F2AC0-31A2-4263-AD42-32521B5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D35D2-182A-4A04-9FDF-C1E2FC6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EBFC7-A16C-420A-9853-2777112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CDC9E-9BDB-421E-8D7D-75B0A7AE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A6954-3040-4B1A-A75F-6CCA5CAC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F61EB-3B3C-4D97-859A-EF6DCC9D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F1AF6-0B20-4185-9286-61A87623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8A767-8AB5-409D-B72F-5EB4AE2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02245-1989-479A-98DB-D7F3277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0F18-5897-4F4F-8A64-E8F52AF1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D7F61-1A9C-4E42-A72E-51EC188A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E449B-205F-4F82-8F2D-9681F3F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301C2-3BE0-46D0-B1CC-9929D3B3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FD19B-6F7D-4766-BA4C-1E52F423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E52DD-1F52-475D-82F4-941951B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26DB7-BD3D-4076-A0DA-1122390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4AA84-BDCD-4BF1-A300-DDF5C84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852AE-3EF7-4038-BC3A-3A7E6CA8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A7301-D029-4910-AA11-023E55A7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2F04-BBFF-4FD7-8121-38336D5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69C9-153C-421E-BFBE-FE460F43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9E0-301B-481D-9B19-93A8EF5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64B-2AB1-47FE-BC9F-5A6A82E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CFDF-9E73-427C-8B53-82EBFAE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32B-C066-4CCC-8261-F8F96F2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4A55-AFB6-4454-9D60-D043027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925D-DF2E-4A37-BA93-34C07DED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FE1-0E4B-43D4-94C0-76D7153D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E06F-1071-4045-88E3-28D98E68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6872-804F-42D7-B04B-99310EB3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29CC-58FA-4018-B891-E4DA04C4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D93D-0E44-436A-8E93-753EA907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9230-8DD2-4513-B4BA-B8BA938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C9C-9A8C-4883-AE10-69185F4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3695-F786-4043-9CBC-F910B62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2C50-E89F-477B-BA1B-8D1C169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D8C1-9F58-4E0C-9AB6-5C3CD9D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CA8A-B8DE-4E1D-B380-F39CC58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D246-99C5-4047-8DBB-0F33223E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13D0-BB15-4323-BDB3-17654419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A267-AA00-4602-B088-3E1BB30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DBC3-F6C4-423F-BCD0-006C60A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D303-67EC-4CDA-BD5C-73014B8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EA99-86AA-4D8F-BD6F-F7A4D0CA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7A8-5BDA-4C15-8E2A-0FFB4481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A5C0-954C-41E3-BF13-E263564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9B20-EBCD-4AC9-9B48-46E5D0B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F3B5-C4EE-44AD-AAE4-0F1334C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84E3-8FC3-43B7-B857-8611EA7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1721-DBB7-4D32-A664-932E9DC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33E9-5803-44EC-8DB9-7BBD63D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5BD4-DB88-48D6-9C4F-3CE7A30F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AA6D-3E6E-4EEF-9461-860324A0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270F-259D-4EC7-B694-1198A9D1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BF0E-CA16-4C2F-86E8-EE729A4D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65E-4EF7-4EB9-978A-CC9CA37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9820D-44B3-4992-B94B-72636A00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DE3C-94E7-4A45-AFF1-705E7977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537E-870F-46DB-A1DC-6DDAF81E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7BD5-CC12-4391-87EA-6885E70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B202-D06F-4747-9E43-FFA8B1C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7711-3791-4455-938C-1B538D0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FC01-1EBB-4284-BDBB-08E3ADB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4B8B-7A06-4BC8-915B-51E2D53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3C85-455B-41F4-BE8F-0E7CB22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AA6C-E4CC-4215-A2F9-C1BEA8B7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C8A-DC53-453F-9054-3906000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318E-3D7E-452D-BA32-A1FF2AA6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E727-F7B9-4FA1-BFC5-BD249F8E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E577-3BF7-4650-A1B3-8C113ED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D487-0963-45C8-97F7-065F86A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2D07-2C03-4B28-9B99-2989F57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2C17-5BD9-46A4-BDD0-96F18CF9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D73D-405C-4428-9C29-868CD7E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62F3-DC34-4351-9BFF-1847E140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7AD6-2BA2-4811-9F7A-D00A49A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7D6C-81DB-4EEC-8535-C49FCC3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34D-5417-4B98-A84A-5066861D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810F-0FBA-4AF0-A564-1A6DBFB0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992E7-3BA5-4D1A-A7DF-6E3F54FA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9FA9-7B38-4CAF-B4E7-C04D2913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78B4-E7B9-4A6B-8AF6-2704CD5E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D519-9BE7-4B51-9321-75243F5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C4C2-9336-4613-BE5A-114CBBD3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1C83-0613-49AF-A042-7EB47A2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C14F-CBFD-4F56-9B52-5A547C9B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0DBC-375A-4190-9D16-70CB22D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24603-65E1-470E-B00C-C0FF70E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87F-C7D3-4D0C-9790-81B0D0E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8C74-A865-40F1-9021-F9D9807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32BFC-6EB5-427E-B5AC-C862C8F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4C4F9-D2CC-4046-8004-5E5213F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F5EC-D003-49DB-BD0B-250C7DCE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7774E-B5F0-4DB3-8D87-6C180EDB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24D7C-E114-4A2C-9B06-C2CA89E2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1A047-02A7-49F7-BEFE-C27E0B3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23C1C-BE6D-4A38-974D-8E6D773B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E8D6-D9AB-4219-B4EA-2B8CDAE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F656-2F4F-404B-BC20-630453F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3FF-5BB1-43A6-80FB-98B4CEC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487D5-4D08-49AE-8A9C-FAB77D07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00A92-E162-44DA-9F05-81B77B7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2782A-EEFB-47AC-B4D9-0AC64DE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CDA1-0F37-4804-89E5-D55B576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6AD3D-F727-4354-8083-FAFC50AA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9C864-3B8E-41F9-8B02-121416A8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2EBF0-E9D6-4901-92E4-563883E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5755C-760D-4B13-A2CE-84C11F23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E7D6-6CAC-4236-99A7-F9EA22AD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C1BB-171D-4E92-B6CF-A8FA7FB8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FFE-8F09-4174-9A60-423A5CD0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2EF-AED6-4547-BE95-519EDEA8D6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4D4A-FEE5-4035-9AF0-E09657717A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9617-32D8-4298-8F8F-25FA0C96FF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384-7507-4C6D-9161-A34F5C4BA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6CAA-A278-4AF3-9B74-CC5729759E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965B-AAB5-4CDE-8199-B4E26462A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961-126D-4A15-AF35-54A4C5C336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D3D3-1D3B-4EB4-AFE7-CD0C36C03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F3FB-9A4B-4EFE-B9C4-43EA9C5C9B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08B-14C9-49C8-8EA9-47BED301FA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5AA-9AAE-4DE1-92D7-7BA79201E2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1EAC-8D79-4BB0-BC0D-798A58749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BC2F-F115-4503-A4A9-3BE0034C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1CA5-FE19-4F21-8C59-D75578B8D0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E5D9-7187-4DD6-B0DA-E581A585D2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A45-BB64-4F41-B4BD-28EF857928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E04-DA64-4996-ADE9-C3FD269889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4C9-E983-440B-9E06-EBE371DB6F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CDF-128D-4EC8-87B0-4F5B07689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49CF-198F-465F-B154-1AC9855684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42AA-7395-4E6D-B22B-74239F968A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C2E5-2DCC-4A27-8141-09FE9E2FCB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BC0-14F8-46AD-8E63-67E3810679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98A-C8BC-4A0C-A3DE-4D57761467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0758-7CD2-4E6C-A538-3AF065B4C4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7"/>
          <p:cNvSpPr/>
          <p:nvPr/>
        </p:nvSpPr>
        <p:spPr>
          <a:xfrm>
            <a:off x="811080" y="4952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4" name="Picture 4" descr="五十岁生辰"/>
          <p:cNvPicPr/>
          <p:nvPr/>
        </p:nvPicPr>
        <p:blipFill>
          <a:blip r:embed="rId1"/>
          <a:stretch/>
        </p:blipFill>
        <p:spPr>
          <a:xfrm>
            <a:off x="34920" y="2287440"/>
            <a:ext cx="3181320" cy="4508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645" name="Text Box 5"/>
          <p:cNvSpPr/>
          <p:nvPr/>
        </p:nvSpPr>
        <p:spPr>
          <a:xfrm flipH="1">
            <a:off x="5032800" y="76320"/>
            <a:ext cx="20091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伯父鲁迅先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6967800" y="495288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Times New Roman"/>
                <a:ea typeface="隶书"/>
              </a:rPr>
              <a:t>周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3808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鲁迅先生是我国伟大的文学家、思想家、革命家。现代文学的奠基者。浙江绍兴人，原名周树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523880" y="2590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味书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年闰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09480" y="3549600"/>
            <a:ext cx="7467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小说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祝福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阿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正传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药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白话小说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狂人日记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散文诗集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野草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散文集：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朝花夕拾</a:t>
            </a:r>
            <a:r>
              <a:rPr b="1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286000" y="1644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小约翰   恍然大悟   呻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371600" y="3016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淌了一摊血   镊子   硼酸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1371600" y="4311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敷药   绷带   深奥   咳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1981080" y="1523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殡仪馆   追悼   挽联   吊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371600" y="2590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爱抚   逝世   正月   餐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371600" y="3733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水浒传   囫囵吞枣   挨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1371600" y="4844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搞不清楚   张冠李戴   嚼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143000" y="157644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（    ） 悼（    ） 逝（    ） 餐（    ）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议（    ） 掉（    ） 晰（    ） 参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冠（    ） 悟（    ） 摊（    ） 咳（    ）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寇（    ） 梧（    ） 滩（    ） 核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嗽（    ） 搞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漱（    ） 稿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752480" y="16002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仪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议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3429000" y="1585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悼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扔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5105520" y="1600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逝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781680" y="16002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餐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752480" y="320040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鸡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429000" y="32004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觉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梧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5105520" y="32004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摊位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6781680" y="3262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咳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审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1752480" y="48625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咳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漱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3429000" y="48625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搞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稿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5"/>
          <p:cNvSpPr/>
          <p:nvPr/>
        </p:nvSpPr>
        <p:spPr>
          <a:xfrm>
            <a:off x="2819520" y="1066680"/>
            <a:ext cx="4495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我的伯父鲁迅先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365040" y="33973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爱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905120" y="2362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1905120" y="3138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谈“碰壁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1905120" y="39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助车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1905120" y="4738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女佣回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434340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关心子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4343400" y="31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敢于斗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5"/>
          <p:cNvGrpSpPr/>
          <p:nvPr/>
        </p:nvGrpSpPr>
        <p:grpSpPr>
          <a:xfrm>
            <a:off x="3886200" y="4038480"/>
            <a:ext cx="2590920" cy="1067040"/>
            <a:chOff x="3886200" y="4038480"/>
            <a:chExt cx="2590920" cy="1067040"/>
          </a:xfrm>
        </p:grpSpPr>
        <p:sp>
          <p:nvSpPr>
            <p:cNvPr id="677" name="Text Box 13"/>
            <p:cNvSpPr/>
            <p:nvPr/>
          </p:nvSpPr>
          <p:spPr>
            <a:xfrm>
              <a:off x="4343400" y="43578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关心穷苦人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AutoShape 14"/>
            <p:cNvSpPr/>
            <p:nvPr/>
          </p:nvSpPr>
          <p:spPr>
            <a:xfrm>
              <a:off x="3886200" y="4038480"/>
              <a:ext cx="152280" cy="1067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9" name="Group 18"/>
          <p:cNvGrpSpPr/>
          <p:nvPr/>
        </p:nvGrpSpPr>
        <p:grpSpPr>
          <a:xfrm>
            <a:off x="6172200" y="2409840"/>
            <a:ext cx="2743200" cy="2085840"/>
            <a:chOff x="6172200" y="2409840"/>
            <a:chExt cx="2743200" cy="2085840"/>
          </a:xfrm>
        </p:grpSpPr>
        <p:sp>
          <p:nvSpPr>
            <p:cNvPr id="680" name="Text Box 16"/>
            <p:cNvSpPr/>
            <p:nvPr/>
          </p:nvSpPr>
          <p:spPr>
            <a:xfrm>
              <a:off x="6400800" y="2409840"/>
              <a:ext cx="2514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别人想的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自己想的少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爱憎分明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AutoShape 17"/>
            <p:cNvSpPr/>
            <p:nvPr/>
          </p:nvSpPr>
          <p:spPr>
            <a:xfrm>
              <a:off x="6172200" y="2590920"/>
              <a:ext cx="152280" cy="19047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304920" y="2590920"/>
            <a:ext cx="7619760" cy="3276360"/>
            <a:chOff x="304920" y="2590920"/>
            <a:chExt cx="7619760" cy="3276360"/>
          </a:xfrm>
        </p:grpSpPr>
        <p:sp>
          <p:nvSpPr>
            <p:cNvPr id="683" name="Text Box 19"/>
            <p:cNvSpPr/>
            <p:nvPr/>
          </p:nvSpPr>
          <p:spPr>
            <a:xfrm>
              <a:off x="30492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楷体_GB2312"/>
                </a:rPr>
                <a:t>（果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6858000" y="4419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楷体_GB2312"/>
                </a:rPr>
                <a:t>（因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AutoShape 21"/>
            <p:cNvSpPr/>
            <p:nvPr/>
          </p:nvSpPr>
          <p:spPr>
            <a:xfrm>
              <a:off x="1600200" y="2590920"/>
              <a:ext cx="228600" cy="2514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>
              <a:off x="7467480" y="4952880"/>
              <a:ext cx="0" cy="91440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 flipH="1">
              <a:off x="914040" y="5867280"/>
              <a:ext cx="6553080" cy="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 flipV="1">
              <a:off x="914400" y="4876560"/>
              <a:ext cx="0" cy="990360"/>
            </a:xfrm>
            <a:prstGeom prst="line">
              <a:avLst/>
            </a:prstGeom>
            <a:ln w="38160">
              <a:solidFill>
                <a:srgbClr val="ffe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89" name="《我的伯父鲁迅先生》课文朗读.wav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6:24:5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11:49:28Z</dcterms:modified>
  <cp:revision>14</cp:revision>
  <dc:subject>第一PPT模板网-WWW.1PPT.COM</dc:subject>
  <dc:title>第一PPT模板网-WWW.1PPT.COM</dc:title>
</cp:coreProperties>
</file>