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cashreg.wav" ContentType="audio/x-wav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39F2-7128-4134-900A-83057F3FD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72AA-BD6A-422A-B98C-F08E073AE815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70D2-7630-4148-927A-1526A6E5DB42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772E-C918-4D46-8555-7C2485A83133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2A9B-E523-4440-8FB0-A26BDDC0935F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0D75-92E9-4C52-8F47-46652CEB9500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ABCF-183A-4DB3-B5EA-1450AC8C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BEF-1CDB-4565-99C5-C91B5610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5F9F2-6C28-4DD2-83B8-4F8ED77E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3BFE3-77B1-414A-9437-53C218EA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B8DF6-72B8-4027-A554-CB5827F4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4882C-8C29-4685-83BE-7927F1D8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4A40E-3F3E-4F97-94CE-1882818F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9FA6E-688A-4EC0-87CE-0796C2B5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E083E-0246-4E50-950C-88AEF473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736C1-A6A9-47B8-BCBE-C60461CF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43763-505E-4C34-984A-A461F2D2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ED5CA-CCDE-4AF5-A68B-9111ACD8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DC9-41D3-4D3D-A83B-F67CEC06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B7E0E-7268-4A33-B659-A5AE717E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EA19D-11FD-401D-9A33-19830CC6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B1764-2BEB-4CD4-9CEB-194F2749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F9871-34DC-4D2E-B585-0E5BCE93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46726-D7F7-4F23-90B5-7D8E7345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71215-335E-439B-87B1-B0453104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05403-1006-4F2E-922E-8758F490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029CD-445C-4CAA-9149-07070BD8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66018-E598-47E7-9799-7C062328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8D469-5C0B-447D-9830-F64F9157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0D1-A011-43A7-B74A-ED063AF8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71B02-1757-4D85-A670-B9244239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2688C-834A-4659-A59E-65BBCA18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8F9A0-40C4-4E39-B4F8-74E34CCD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67DB3-B554-4B55-8D55-457C2510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891B0-577C-4929-9040-9895C4FA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798CE-FC55-40FF-978A-B35BE98B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B2B42-F11B-4732-8399-B7EF6188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1B418-6858-43FB-981E-E8971A48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FF81B-8849-4C20-AED1-81D0DE35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B8A6B-A0D0-4987-AD82-D5EE9F7F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80CE-08DD-4333-9C78-E6D033AF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F5C08-C9F8-46C7-8F66-9C31F994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BF1DC-17BF-4D35-847B-511B4AE4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BB6F0-E2EC-4ACB-8E0F-1320747A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34C6D-2ED0-4E66-AC26-83EF75AF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0D7D4-FCD7-40DB-9DEA-A2912EA3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FA10D-4210-4CD3-A9CF-963108B9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5BA88-E177-4EB6-9F3E-6403E972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285B3-6D72-4FDE-88DE-02E86228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1699C-CBD3-482B-814E-D43FF2ED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B6D5D-142F-42B9-B630-BBFC056D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C618-3DBF-4189-90E7-4D220394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8A10C-7947-4531-9E4F-06E39C12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D691D-98EC-40B6-8B18-59AAAD50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4C6A9-830A-4426-AC51-03CB63A2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8CA6D-C00B-4A12-B9EC-546609AE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9235C-DA2D-4CB2-8DA8-8970132B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4AFF2-6FBD-4AB7-A858-4FCE0BF7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9BDA51-2273-4340-9847-6BEA8B37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C5868-3B14-461B-A322-3DDCEDAA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BC134-B82E-4CB9-B521-ABFD6383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CD921-FDD4-4328-8B19-87F192A3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2CC0-BB7C-4E12-B8BC-BC76DDC6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9D585-D51A-43B5-B95F-D0913B97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57CAC-B77F-4364-8877-3B0333C6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ACF22-E86B-49BB-85D6-D545571D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996C6-4F19-4C55-9BC0-8673FB6B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EEE39-3273-42AC-BD03-179B145F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A5F7A-869E-4D3B-9917-8BF88836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E3D6E-3210-463D-8C91-46743B70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B7366-AF16-40F8-B6A0-E2ACBD7E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B14FC-3112-4D87-A135-6D5FECCB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680BF-9235-4546-A7DE-FA33C55F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8F9F-583E-4372-AFC0-A6F8D093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95E881-8C1B-4EF2-A728-2B4C7C55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CEA5F6-835B-4DB0-95CF-413D8730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D5C01-269E-4462-897A-66CEA34F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09B89D-814F-4311-B666-BE972A27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E0344-4D86-4FB2-8654-19DED44D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C07030-2158-4ABC-99B3-896BE44E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813A1-2C47-471B-A16E-E00D8E53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39DC3F-09E2-478B-ADDF-44B570A7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2B5D6-859A-41FF-A20E-73798D47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C020-EBD1-4505-BC16-D52D7602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7905-DE7A-49AA-8B19-C5EF8EE1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2F78-524F-453F-9910-6E066E8B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902-BC97-4101-8B90-66455438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9871-E228-49BD-8D7E-CF4594CD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63DE-8E8E-4DA8-B6C5-8188D3E4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5747-5169-402E-A08A-561F47A5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5196-7F2C-4CAD-89EB-DBB96111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C97F-08BC-4690-BEA0-4996AB02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FD636-D38F-421A-BED7-AE8F2774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5DCCC-6774-43DF-91FA-54EEC583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E83BD-270E-4159-A797-2663DF71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12A36-0AD9-48E2-BA04-6BD4C0D7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1DBA4-236A-49EE-A684-66329D4F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036-0B33-4699-A03B-E1698ED9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9F5F4-5F4A-4978-A688-6A6A1596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6D4F7-0C1A-4B4C-A023-C11099B1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0B2D4-5553-4C5D-8A30-5DB4A502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6A3A9-0282-4725-8314-EAB851EC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2B82-5AF1-4CF8-968A-9534864D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7F0CA-00C1-4EA9-92AE-C869974A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57DFF-D36C-4D68-8043-0FD30CC6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B3AE2-684F-4F03-A171-A24264ED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D5045-7302-48D7-8E9B-A09684EF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DB6BB-E1F8-485A-B628-270A3E73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3DE-279B-421D-8749-68C01B8B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EF68A-5913-437F-AB22-94AF3B0F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E1C4D-5AD6-4490-BE02-B985FE4C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9E06B-2EAA-4538-BB21-F09B3161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CC5F6-04FC-4642-B8F3-9CCC15FA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BBAE9-E1AA-4820-A45C-763FDF0B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17F6F-F98F-45CB-B31D-2A3BE770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EDFD7-2354-4C88-911A-4BEB7DED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A5897-603A-4E1A-B24E-6CDD59E9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11FC7-124E-446A-8043-03C2A668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1DB6B-5816-4106-B79C-D3A5BAA7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313-E219-4634-B17C-7E54FE53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01EB6-7B35-4AB6-AFB5-58D3E485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5AF0C-60CF-46B1-8D82-B3D38D7E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72555-7308-4D7A-9023-74E562A3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0D90E-6B38-412E-8569-E1E41032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01BD4-626A-410A-AED3-3A90BC1F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C61F4-AEFC-4B23-B418-6DF67367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EB708-E442-4601-B1F5-B06048CD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D016C-0C08-4C80-986B-40FF7879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F9185-CA4D-40DC-A4C4-0EB7B4CE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785AB-0749-4F49-93AC-52C91D58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ABA-DF28-44BC-969E-87D55065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5E76E-CD78-4289-BC81-4702D04C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67B27-CD9D-4360-87DF-0E84610B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E26AB-B2EE-4E15-A713-64A08DE8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8801D-EC2D-4BBF-B0B8-8C9C5BDE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8FA7D-BFCA-4146-81F0-F30E8B4E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7267B-9CF2-4E92-A53E-D3DB112C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EA7D4-7547-45E4-836A-F6EEE1D5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AAD15-7238-4F36-9C54-76BC7B04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41730-1235-4D8E-A4BB-860B3B76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072F7-2548-46CF-8386-F96EE899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3A1-8E5D-44BB-9A3F-4FE2249B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B976F-A8D2-42FD-AD28-9B30C347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EF769-3E16-4C56-8A80-84C9924B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56CFD-06F4-4AA5-82C5-7AE4FCBC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05E8D-409D-4DC7-900D-3785B7D0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D5879-1350-44FB-9227-C2E7DB64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8850A-5A1D-41E2-B117-FC51949D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DD951-96BB-4775-A905-08CA5384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9426F-3B6A-470E-8364-08DA55CE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F8BF4-170C-4BD3-85BC-BA881641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09594-5CA5-40A3-99A6-10FDD61C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6BB-7586-4DE5-A3FD-35E6AC4D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AB01D-DC83-47BC-AC3B-7C1C8437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07C3E-48AB-4C68-830B-C2942F72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2CDBD-B1AE-4337-979C-8F78198D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126F5-6A67-4429-B38E-6B4721E6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90538-3166-46B4-99DA-1ACA9FA0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702B6-0B61-4248-86A8-3C07B8E2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BB4BA-A5D3-43B3-9E5A-692F1FE6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773A2-2CA6-463C-9488-57443454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45CCE-E0B7-4274-A712-AB02F61E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7D227-0790-4803-ACEE-082FF1EF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99F-2379-4AB5-8DB3-51C2807C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177C5-0382-4343-B6D3-B74E399D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FD5F4-8830-4C69-B940-0F925FD9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80049-8E45-4C75-96A9-590DA032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BD7AF-1BE8-4066-B931-3A4E1D48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58D46-3F3C-4EDE-AEDD-DDE5038D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90ED2-4E79-4A63-AF67-98882125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9A52D-9DE1-4BC7-868D-CF9BCE70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7A892-74CF-45DF-AF84-47F7744D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798C0-B540-4F2A-B961-9104F374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36415-77CB-469A-8ABD-553F4D43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38F7-4086-4346-9032-CD96B44F7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B707-FBF7-472C-975A-C5199645F8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DDC7-649A-442C-870D-38D9C6EB9F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65D7-F565-4D1B-A2C7-AFF383E115F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EF59-C89D-494E-BFFB-E519B4E1FC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DAF2-C6F1-4CBC-9F18-4D9FA8DA516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3E61-3488-4AEA-8774-5E7A6109E1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50C6-A678-4085-8954-763EBCD94C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A7A9-A9EE-41C0-9A41-9E8D997522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5854-D443-4CF0-938A-2A3F61A790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9436-6AC4-457E-9C8A-1F5EBEF261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FDFB-AC39-4460-8639-0B51717E99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6EA4-A68F-49A0-8647-E0C9C685FF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7EBC-F970-4A81-A07E-8C17F6FAF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162F-1711-49AA-8F2B-CF1AFC225A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3622-55DD-4763-B3EA-A7D4FF5567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D0FB-DECA-4DFB-86B5-6AB7CC7837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4B61-7063-49FC-ABB6-2753A69AEF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6BDF-FC12-4F50-8AD7-DFCBEB11806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91DC-A716-4387-BC7C-00796ABE13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89D4-8DCD-4B79-9BE4-0C8FF539C1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F3C3-F3A5-4D46-94BB-26A9CE3B05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2DBE-76E7-4277-AF1F-E46CDBE2AF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3778-0D74-43E3-817B-A38D8D65DA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0980-805F-4A09-85C8-F6A43EFBCF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8775-8732-428F-8CCE-A429F8D583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258920" y="90792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隶书"/>
                <a:ea typeface="隶书"/>
              </a:rPr>
              <a:t>   </a:t>
            </a:r>
            <a:r>
              <a:rPr b="0" lang="en-US" sz="4000" spc="-1" strike="noStrike">
                <a:solidFill>
                  <a:srgbClr val="0033cc"/>
                </a:solidFill>
                <a:latin typeface="隶书"/>
                <a:ea typeface="隶书"/>
              </a:rPr>
              <a:t>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539640" y="990720"/>
            <a:ext cx="83534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人的嘴唇所能发出的最甜美的字眼，就是母亲；最美好的呼唤，就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妈妈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———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纪伯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黎巴嫩诗人、散文家、画家</a:t>
            </a: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文章内容看，是沿着两条线索展开的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楷体_GB2312"/>
              </a:rPr>
              <a:t>一是老舍通过对母亲一生的描写，深刻揭示了母亲的性格特征及对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</a:rPr>
              <a:t>我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</a:rPr>
              <a:t>的影响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但是我的真正的教师，把性格传给我的，是我的母亲。母亲并不认字，她给我的是生命的教育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母亲的性格最突出的是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软中硬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楷体_GB2312"/>
              </a:rPr>
              <a:t>二是通过重温和反思已经逝去的天伦往事，尽情抒发了儿子对母亲的爱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街上是那么热闹，我却什么也没看见，泪遮迷了我的眼。今天，泪又遮迷了我的眼，又想起当日孤独的过那凄惨的除夕的慈母，可是慈母不会再候盼我了，她已入了土！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3"/>
          <p:cNvSpPr/>
          <p:nvPr/>
        </p:nvSpPr>
        <p:spPr>
          <a:xfrm>
            <a:off x="539640" y="2060640"/>
            <a:ext cx="82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请你想一想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你知道母亲的生日吗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你了解母亲最大的心愿吗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你曾为母亲做了什么，你打算以后怎么做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2268360" y="907920"/>
            <a:ext cx="324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隶书"/>
                <a:ea typeface="隶书"/>
              </a:rPr>
              <a:t>欣赏感悟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4"/>
          <p:cNvSpPr/>
          <p:nvPr/>
        </p:nvSpPr>
        <p:spPr>
          <a:xfrm>
            <a:off x="179280" y="404640"/>
            <a:ext cx="89154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宋体"/>
              </a:rPr>
              <a:t>总结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慈母情是对怀中婴儿的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隶书"/>
              </a:rPr>
              <a:t>甜甜亲吻</a:t>
            </a: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是拍着婴儿入睡的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隶书"/>
              </a:rPr>
              <a:t>悠悠摇篮曲</a:t>
            </a: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是手把手教孩子写字的苦苦耐心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是期盼儿女成才的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隶书"/>
              </a:rPr>
              <a:t>忧郁的眼神</a:t>
            </a: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是儿女远行时的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隶书"/>
              </a:rPr>
              <a:t>句句叮咛</a:t>
            </a: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是过早爬上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隶书"/>
              </a:rPr>
              <a:t>眼角的一道道皱纹</a:t>
            </a: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慈母情是人世间</a:t>
            </a:r>
            <a:r>
              <a:rPr b="1" lang="zh-CN" sz="4000" spc="-1" strike="noStrike">
                <a:solidFill>
                  <a:srgbClr val="ff0000"/>
                </a:solidFill>
                <a:latin typeface="幼圆"/>
                <a:ea typeface="隶书"/>
              </a:rPr>
              <a:t>最圣洁、最伟大、最无私、最永恒</a:t>
            </a:r>
            <a:r>
              <a:rPr b="1" lang="zh-CN" sz="4000" spc="-1" strike="noStrike">
                <a:solidFill>
                  <a:srgbClr val="006600"/>
                </a:solidFill>
                <a:latin typeface="幼圆"/>
                <a:ea typeface="隶书"/>
              </a:rPr>
              <a:t>的亲情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3"/>
          <p:cNvSpPr/>
          <p:nvPr/>
        </p:nvSpPr>
        <p:spPr>
          <a:xfrm>
            <a:off x="684360" y="692280"/>
            <a:ext cx="8156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本节课我们歌颂母亲，颂扬母爱，并表达了对母亲的深深愧疚之情，回去以后，同学们要拿出实际行动来，用自己的实际行动报答母亲的养育之恩。还要拿起自己的笔，写母亲，书母爱，表真情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布置周记作业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书写母爱 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调动你的生活积累，联系自己的感情经历，为母亲写一段最有真情、最美好、最具魅力的文字。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字以上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-360" y="36572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我的母亲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感人至深，读起来催人泪下，令人深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1295280" y="1143000"/>
            <a:ext cx="59436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慈母手中线，游子身上衣。临行密密缝，意恐迟迟归。谁言寸草心，报得三春晖。</a:t>
            </a:r>
            <a:r>
              <a:rPr b="0" lang="zh-CN" sz="2800" spc="-1" strike="noStrike">
                <a:solidFill>
                  <a:srgbClr val="3399ff"/>
                </a:solidFill>
                <a:latin typeface="黑体"/>
                <a:ea typeface="黑体"/>
              </a:rPr>
              <a:t>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4724280" y="3124080"/>
            <a:ext cx="41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99ff"/>
                </a:solidFill>
                <a:latin typeface="黑体"/>
                <a:ea typeface="黑体"/>
              </a:rPr>
              <a:t>孟郊</a:t>
            </a:r>
            <a:r>
              <a:rPr b="1" lang="en-US" sz="2800" spc="-1" strike="noStrike">
                <a:solidFill>
                  <a:srgbClr val="3399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3399ff"/>
                </a:solidFill>
                <a:latin typeface="黑体"/>
                <a:ea typeface="黑体"/>
              </a:rPr>
              <a:t>游子吟</a:t>
            </a:r>
            <a:r>
              <a:rPr b="1" lang="en-US" sz="2800" spc="-1" strike="noStrike">
                <a:solidFill>
                  <a:srgbClr val="3399ff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61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11"/>
          <p:cNvPicPr/>
          <p:nvPr/>
        </p:nvPicPr>
        <p:blipFill>
          <a:blip r:embed="rId1"/>
          <a:stretch/>
        </p:blipFill>
        <p:spPr>
          <a:xfrm>
            <a:off x="0" y="577800"/>
            <a:ext cx="3886200" cy="6019920"/>
          </a:xfrm>
          <a:prstGeom prst="rect">
            <a:avLst/>
          </a:prstGeom>
          <a:ln w="0">
            <a:noFill/>
          </a:ln>
        </p:spPr>
      </p:pic>
      <p:sp>
        <p:nvSpPr>
          <p:cNvPr id="584" name="WordArt 3"/>
          <p:cNvSpPr txBox="1"/>
          <p:nvPr/>
        </p:nvSpPr>
        <p:spPr>
          <a:xfrm>
            <a:off x="3419640" y="1660680"/>
            <a:ext cx="4535280" cy="27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我的母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2843280" y="115920"/>
            <a:ext cx="63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隶书"/>
              </a:rPr>
              <a:t>是历史，赋予母爱亘古的深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隶书"/>
              </a:rPr>
              <a:t>是深情，赋予儿女对母亲深深的依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5003640" y="4653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隶书"/>
              </a:rPr>
              <a:t>老舍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教学目标：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71280" y="2421000"/>
            <a:ext cx="478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体味母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感谢母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楷体_GB2312"/>
              </a:rPr>
              <a:t>抒写母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89" name="Picture 5" descr="老舍"/>
          <p:cNvPicPr/>
          <p:nvPr/>
        </p:nvPicPr>
        <p:blipFill>
          <a:blip r:embed="rId1"/>
          <a:stretch/>
        </p:blipFill>
        <p:spPr>
          <a:xfrm>
            <a:off x="5940360" y="2492280"/>
            <a:ext cx="281160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4"/>
          <p:cNvSpPr/>
          <p:nvPr/>
        </p:nvSpPr>
        <p:spPr>
          <a:xfrm>
            <a:off x="2843280" y="511200"/>
            <a:ext cx="60116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老舍原名舒庆春，字舍予，满族人，生于北京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现代小说家、戏剧家、人民艺术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父亲是一名满族的护军，阵亡在八国联军攻打北京城的炮火中。母亲靠替人洗衣裳做活计维持一家人的生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66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文革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不堪躏辱投湖自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著有长篇小说：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骆驼祥子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世同堂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话剧：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茶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龙须沟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91" name="Picture 5" descr="04052505"/>
          <p:cNvPicPr/>
          <p:nvPr/>
        </p:nvPicPr>
        <p:blipFill>
          <a:blip r:embed="rId1"/>
          <a:stretch/>
        </p:blipFill>
        <p:spPr>
          <a:xfrm>
            <a:off x="108000" y="1341360"/>
            <a:ext cx="273204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8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自学提示：根据下列提示整体感知课文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全文是按时间顺序来写的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 algn="just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儿子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儿子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全文是按时间顺序来写的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的家庭背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出生、出嫁、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的勤俭、朴实、热情好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最会吃亏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，却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并不软弱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母亲对子女的舐犊之情和理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6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儿子对母亲的思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：儿子对母亲的感谢，母亲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给我的是生命的教育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 u="sng">
                <a:solidFill>
                  <a:srgbClr val="007572"/>
                </a:solidFill>
                <a:uFillTx/>
                <a:latin typeface="Arial"/>
                <a:ea typeface="华文新魏"/>
              </a:rPr>
              <a:t>思考探究练习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一、作者在文章中写道：“母亲并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不识字，她给我的是生命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教育。”母亲对我进行了什么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样的“生命教育”呢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42920" y="124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"/>
                <a:ea typeface="华文彩云"/>
              </a:rPr>
              <a:t>概括母亲的优秀品质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幼圆"/>
                <a:ea typeface="幼圆"/>
              </a:rPr>
              <a:t>① </a:t>
            </a: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勤劳诚实，做事总是那么仔细认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② </a:t>
            </a: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热情好客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③ </a:t>
            </a: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乐于助人，总不怕吃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④ </a:t>
            </a: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有着软而硬的性格，善良而又坚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她与儿女之间语言交流不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   </a:t>
            </a:r>
            <a:r>
              <a:rPr b="1" lang="zh-CN" sz="3600" spc="-1" strike="noStrike">
                <a:solidFill>
                  <a:srgbClr val="006600"/>
                </a:solidFill>
                <a:latin typeface="幼圆"/>
                <a:ea typeface="幼圆"/>
              </a:rPr>
              <a:t>（但之间的感情内敛而又深厚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6705720" y="4586400"/>
            <a:ext cx="1904760" cy="1218960"/>
          </a:xfrm>
          <a:prstGeom prst="cloudCallout">
            <a:avLst>
              <a:gd name="adj1" fmla="val -52333"/>
              <a:gd name="adj2" fmla="val 51953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7089840" y="4913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怎样体现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78920" y="115560"/>
            <a:ext cx="871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文中写母亲对儿女的舐犊之情处处可见，我们也不能忽视另一面，即儿女对母亲的思念与热爱，请从课文中找出来，谈谈你的感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品读以下几处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结尾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今天泪又遮迷了我的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可是慈母不会再候盼我了，她已入了土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两次违背母亲的意愿，她都深深理解，默许了，表示出作者对母亲的愧疾和感激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几乎都是对远方母亲的惦念之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结尾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唉，还说什么呢，心痛，心痛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让人一下子感爱到作者痛失老母亲后撕心裂肺的痛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2:57:51Z</dcterms:created>
  <dc:creator>微软用户</dc:creator>
  <dc:description/>
  <dc:language>en-US</dc:language>
  <cp:lastModifiedBy>a</cp:lastModifiedBy>
  <dcterms:modified xsi:type="dcterms:W3CDTF">2015-02-10T02:51:02Z</dcterms:modified>
  <cp:revision>11</cp:revision>
  <dc:subject/>
  <dc:title>幻灯片 1</dc:title>
</cp:coreProperties>
</file>