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F6E-337C-4148-B6B0-68507AE8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9ED-9F5D-481E-957F-A38546F0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B9D65-E8E4-4423-A77A-2178E731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85FB0-2418-49FE-9E3B-474CEA1F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4DAE4-DEA2-471E-87C2-DCE25969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8FA3A-B3B0-49D0-967E-0B6DC357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9F7CF-6BFF-4329-B57D-013992E0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0DCE6-CB1C-4E62-83B5-9B23A524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5065F-F673-4694-A726-EB66FBCE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1C925-8C80-40DB-ADF7-8999AF98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759EA-F5CA-4599-819E-87B80761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05CC1-9ADA-446A-B6B9-CF800579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A17-4430-4423-916F-FE9910B3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A5C5C-492C-4796-A571-2651557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61882-8161-4D0A-A73C-6AF2590C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F081D-7EBC-4CEF-B7D2-76C1634C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EC3EA-E2E0-4402-9A8A-E62D1AAD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3463C-1580-4200-9995-F7DC4D99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820E0-DC8C-4991-99FB-6C6944B9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E2178-8418-424F-BD75-C6751D25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750CC-2D7A-47A3-A6CF-D7C7FEBF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2FC74-7232-4860-8109-A442C8EF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6DFA4-AF8F-40B5-9437-33BC8AF6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BAD-1C36-4A50-A772-F7833707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E189E-8FCD-4F05-B4D2-BF3B9356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4F027-57D9-4940-80F5-8EEB8DC1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898A4-45D2-4BB2-A785-FD3546A2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837AA-0F0B-4F6C-AC95-293AD27B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528E7-AC7D-4F50-BE55-9D1D0485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695C5-11CD-4AF9-A8C8-2B2C829B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0FE70-194A-4157-8F03-65C768F1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41F93-EDB2-40FE-98F6-6E7D5CA3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9B3F4-8CAD-40A8-A4A5-853BB1CC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EFE0F-A239-4439-8E71-97B193DD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F997-A44A-4FB0-9382-4D24FC8B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1492B-49AF-4AAA-A085-AD0EA23D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89691-9AA7-4064-B02C-8DF8BAAD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D3889-A49D-4879-970F-6464D769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13ECF-81F0-4081-AD32-B5B31509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66310-4302-4066-9B41-BA727A65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C1956-4973-47E9-8146-8076CBB9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EB3A8-F442-4B75-A0BC-0CE67A64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826B3-B1D5-4FC9-83DD-450DA67A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F00E3-4354-4A34-A56D-5398941A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F9DB2-9DC9-425A-B6CD-77628DB1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B82A-63EA-41CE-913C-CAF3B670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0B766-65A3-4FE9-B183-6D5E0D49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2F337-A9C6-495A-9B91-188EED58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1317F-A883-407A-81FB-E7B9F249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080DD-EF30-46B3-91D9-24AF3EA9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6A936-7E39-4C6B-8E21-E754CD4F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FE319-F592-4A05-9272-9EB73BAB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80DC8-8F2E-4441-B877-3B24A7DE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0C550-4E7F-424E-9F98-AD4B528D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0E7EE-8E49-405E-9F22-186AAB64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5918C-C0BC-4259-BBFA-169FD193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3707-CF42-424F-84A9-E420A66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CA7A7-46FE-4773-B58A-6B4F1456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ED795-154E-4EA4-B0D9-9F415937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8D4C7-27A7-41FF-B218-5AE24678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41085-3AF7-4978-8C7C-ED4B71FA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4C790-834D-48CF-A6E0-221A756E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82BCB-6A20-41C3-8FAF-F9ED6B95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20483-B739-43F2-8F57-ECC92D9C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16CB-39E8-46C1-8CAF-9A819ED9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78CD-EBD7-4F59-A191-F77FF713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6C85-E0C0-4BD5-8135-BC1FC5C8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0DD2-8013-4952-9ACA-7721FA62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EBF-D8BE-4AF1-BCB3-780A65A2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7F4A-3395-4706-8772-C2B8CD68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D5C2-E7C8-4C76-9ED4-F1DB2E72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BFB8-BC72-4AEB-B518-F5C88BC8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1127-32A5-4ECA-B541-59073D17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C6D8-BAC1-4B2E-A134-C48AE291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83C5-470F-4F45-BC18-20D49912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557B-9EE5-4740-819C-6E8C2610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C01B-E6FD-4C86-961A-B21D919E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8C9D8-35AE-4504-BA81-BA836625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1395-6741-4636-BD33-E88E75B3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C08-0034-4FA5-BA81-FE57B505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7F311-02B3-4665-8857-2DF39492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8CAA-630E-46A8-B202-31FBAE41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8239-61B3-4662-984F-F253426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459A-AE51-4B6C-8378-A6C0CDD8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4426-2944-4774-BF87-1AEEDB9C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004B-3BF1-4E23-B906-31EB3068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FA23-EA3A-4008-8F9B-FA9C0452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CD223-05B7-4D7D-9C93-1CF0D0C4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4510-AA42-402D-A303-44E73E17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37FC9-D7EC-4A81-9127-0D932F96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D5B-7891-4286-88D6-BCAE90A6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39C70-BB50-4BDD-A29B-FFD5E883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F9747-0E87-4B1C-BE2D-92CEB692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2FC3E-7EC8-4601-86A8-2436F53E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08EF6-8737-4077-886F-E8D58B03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04E9-9BBE-4613-8731-8483A21E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29CA-866B-4ED8-B1A1-ABA9B52A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66D5C-1E49-4169-AD76-4EC45C87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F1C65-D8C6-496D-81CB-066F1B60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4FCE-69E6-4325-84DC-66CC69EA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974BB-8722-4BAE-BD4E-1CAB6894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7C5-0349-4B15-9006-DEDE0BAB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8DB38-6382-46C1-A135-E570E964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E1B80-A4AD-4534-93A9-1E9A6720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9610A-6A4F-4454-90B3-B6947310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360BA-A26D-43AB-ADA6-527A1A89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ED66B-E6CA-4D5F-ACF8-023AC2D6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48D91-19D5-45B2-BD51-CC677881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6A736-48B7-45BC-8BB4-8693916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EE2BD-080E-46CF-8767-7B957E75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C70A7-6239-4CFA-A0FF-56B931CA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B3101-121C-4C71-9275-D805816A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63C-4A37-4203-8045-DD546993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8E239-FD9C-4ADC-A5AD-7637647B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3718B-9261-4E8E-BB66-A416E22A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E2058-55F3-4708-A4F5-B4394ECF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D0C3B-C959-4895-847C-3598C074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2D413-B647-4B67-BAB7-44DE93FC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9264F-FE75-4770-8C57-FEBCC39D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86798-DE12-40DA-B869-3A92F8EB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8AF5F-A4C4-4470-828F-840E8422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29AA7-D1DF-4721-AE1D-98C2F8F3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BF4AC-AFFC-4746-8533-9B1D6C8B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5D6-1D1F-40D7-B342-2FCF705F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447A4-13D2-4A9E-8FD4-FDC76ADC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9BDAD-1169-48E6-A0CF-59868BFA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E1B11-8308-47C4-8D72-FE37E580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A9ABD-31FC-40FB-B7AC-E75E75AF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2931B-98CE-4C7D-BAAC-62B30223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9D291-2CE3-43C9-8134-02582E78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AF5B2-623E-4561-93F7-1FB01A87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C5AFB-CB1E-41C9-815A-3B46650A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E490F-82EA-417C-8C10-ED596926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3F752-7699-4A55-B721-B6236780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96E-1BF8-4C1E-BF0E-70A29276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20ED7-B92C-488D-906E-A9DF3F2B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C14E-47AD-4AB8-BB17-EA04BB1C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F31D1-A6FC-4F9A-9D23-6154BBDC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756C6-4083-46CE-BCBB-54CB964D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28CA8-3A7E-4D63-B518-22E1C384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AA4F0-E7F6-4537-B54D-663B0DE2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9BC4F-891F-4295-BBD1-A58D8D83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466B0-1006-4BA6-A39D-ABE00694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A48AC-03A2-498D-90D4-B75D3066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F6ED6-33AF-4CB8-83C4-3E1C1DCA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29F-3F0A-45F9-8E83-A2CCBC64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15FA0-16DA-4B4F-B496-56866BBA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8434A-5BD4-4D13-BA2B-2A483EFB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9BE4B-703E-4CDA-9964-08A22243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47230-4F1D-482B-9426-577C3B31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6180D-3EB3-4271-B2F6-3192661B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BCE06-7938-459B-840F-90C2DDBC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B50C6-D1D8-4F49-AD7C-BFC9EAF1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28814-FCA2-496A-A227-0EB706EB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6A33C-1994-4F41-A8A7-8ADB30DE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83D3A-D2F1-4B26-92E4-735A268D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06A5-1A5A-40DC-9F6D-F1A8FAC0C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AC3D-2FD4-45C2-92F3-1D06EED0A4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16F8-F995-46DA-830B-2105596898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35A-8F1E-49A7-B744-322D3846D3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BB78-8607-488B-ADA6-CD27BDAB5F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6D32-A917-40BD-8ECF-35852A5D307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0D5A-9908-4510-93C5-71E9ABCB77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78B8-587C-44F3-8851-F7B212E6FA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C081-96C6-479E-9AFA-51C4FA6C23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F90E-8244-4A4A-AFC1-ACE9F6F966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AE5F-B8E5-4CF5-9AA2-9AEF155E22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012B-893D-4826-B6C8-D6DD4A26F5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B239-C0E6-4228-A6F1-4E572FAEC8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8DA9-5BA0-48AC-863F-23AED6893A7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877F-5953-415E-8C6B-BE441BD896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9873-F99F-462A-884A-EDDAA7047B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1E84-8241-4721-8F9B-02C8237F91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7D0A-7BD1-4305-8175-012D6F7C39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AE20-03FD-416A-96B7-FC1F1AD5AE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1493-B3A2-4378-87CF-AFB54B7ABC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2378-6ECB-4C67-BE57-34DEFA107B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1F98-737D-4001-B0B6-EDA39838037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E626-A87B-4A42-BFA7-53B0F8D85C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74F9-7160-485B-B7C2-F69EF12BB3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95D3-38A3-4C93-985B-374B90D8D0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我的叔叔于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莫伯桑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1850-1893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：法国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9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世纪后半期著名的批判现实主义作家。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8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年完成了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羊脂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轰动法国文坛。并拜福楼拜为师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年间写了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0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多个短篇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部长篇小说，是他成为一代短篇小说巨匠。著名作品，有长篇小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生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漂亮朋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俊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等，中短篇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菲菲小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项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的叔叔于勒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等。都揭露了资本主义社会的罪恶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4"/>
          <p:cNvGrpSpPr/>
          <p:nvPr/>
        </p:nvGrpSpPr>
        <p:grpSpPr>
          <a:xfrm>
            <a:off x="914400" y="609480"/>
            <a:ext cx="7315200" cy="1066680"/>
            <a:chOff x="914400" y="609480"/>
            <a:chExt cx="7315200" cy="1066680"/>
          </a:xfrm>
        </p:grpSpPr>
        <p:sp>
          <p:nvSpPr>
            <p:cNvPr id="568" name="Rectangle 2"/>
            <p:cNvSpPr/>
            <p:nvPr/>
          </p:nvSpPr>
          <p:spPr>
            <a:xfrm>
              <a:off x="914400" y="60948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我的亲叔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教学设计和主要内容：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菲利普夫妇怕被于勒认出来，不敢去付钱并叫回女儿女婿，只好打发儿子去。本片刻画的就是儿子若瑟夫直接面对于勒的场面，近距离的描摹能使我们对于勒的命运有更深刻的了解和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3"/>
            <p:cNvSpPr/>
            <p:nvPr/>
          </p:nvSpPr>
          <p:spPr>
            <a:xfrm>
              <a:off x="914400" y="609480"/>
              <a:ext cx="7315200" cy="1066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8"/>
          <p:cNvGrpSpPr/>
          <p:nvPr/>
        </p:nvGrpSpPr>
        <p:grpSpPr>
          <a:xfrm>
            <a:off x="914400" y="1066680"/>
            <a:ext cx="7315200" cy="4724280"/>
            <a:chOff x="914400" y="1066680"/>
            <a:chExt cx="7315200" cy="4724280"/>
          </a:xfrm>
        </p:grpSpPr>
        <p:sp>
          <p:nvSpPr>
            <p:cNvPr id="571" name="Rectangle 5"/>
            <p:cNvSpPr/>
            <p:nvPr/>
          </p:nvSpPr>
          <p:spPr>
            <a:xfrm>
              <a:off x="914400" y="1066680"/>
              <a:ext cx="731520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7"/>
            <p:cNvSpPr/>
            <p:nvPr/>
          </p:nvSpPr>
          <p:spPr>
            <a:xfrm>
              <a:off x="914400" y="1066680"/>
              <a:ext cx="7315200" cy="4724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3" name="Picture 6" descr="pic_301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9"/>
          <p:cNvSpPr/>
          <p:nvPr/>
        </p:nvSpPr>
        <p:spPr>
          <a:xfrm>
            <a:off x="6461280" y="706320"/>
            <a:ext cx="146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4952880" y="0"/>
            <a:ext cx="4191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”还没有受资本主义社会里金钱关系的腐蚀，作者寄希望于下一代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衬托一种灰暗的心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最后景物描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本文的主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通过菲利普夫妇对待于勒前后态度的不同，表现了资本主义社会里人与人之间的那种赤裸裸的金钱关系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-108000" y="124452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菲利普夫妇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6"/>
          <p:cNvSpPr/>
          <p:nvPr/>
        </p:nvSpPr>
        <p:spPr>
          <a:xfrm>
            <a:off x="4235400" y="2768760"/>
            <a:ext cx="1905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4844880" y="2997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于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4968720" y="1854360"/>
            <a:ext cx="1219320" cy="838080"/>
          </a:xfrm>
          <a:custGeom>
            <a:avLst/>
            <a:gdLst>
              <a:gd name="textAreaLeft" fmla="*/ 701640 w 1219320"/>
              <a:gd name="textAreaRight" fmla="*/ 1028880 w 1219320"/>
              <a:gd name="textAreaTop" fmla="*/ 112680 h 838080"/>
              <a:gd name="textAreaBottom" fmla="*/ 3585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192720" y="177804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钱，菲利普夫妇就盼就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6"/>
          <p:cNvSpPr/>
          <p:nvPr/>
        </p:nvSpPr>
        <p:spPr>
          <a:xfrm>
            <a:off x="4083120" y="4597560"/>
            <a:ext cx="1295280" cy="1218960"/>
          </a:xfrm>
          <a:custGeom>
            <a:avLst/>
            <a:gdLst>
              <a:gd name="textAreaLeft" fmla="*/ 389520 w 1295280"/>
              <a:gd name="textAreaRight" fmla="*/ 1295640 w 1295280"/>
              <a:gd name="textAreaTop" fmla="*/ 87084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18514" y="0"/>
                </a:moveTo>
                <a:lnTo>
                  <a:pt x="15428" y="6497"/>
                </a:lnTo>
                <a:lnTo>
                  <a:pt x="15428" y="6497"/>
                </a:lnTo>
                <a:lnTo>
                  <a:pt x="15428" y="15428"/>
                </a:lnTo>
                <a:lnTo>
                  <a:pt x="6497" y="15428"/>
                </a:lnTo>
                <a:lnTo>
                  <a:pt x="6497" y="15428"/>
                </a:lnTo>
                <a:lnTo>
                  <a:pt x="0" y="18514"/>
                </a:lnTo>
                <a:lnTo>
                  <a:pt x="6497" y="21600"/>
                </a:lnTo>
                <a:lnTo>
                  <a:pt x="6497" y="21600"/>
                </a:lnTo>
                <a:lnTo>
                  <a:pt x="21600" y="21600"/>
                </a:lnTo>
                <a:lnTo>
                  <a:pt x="21600" y="6497"/>
                </a:lnTo>
                <a:lnTo>
                  <a:pt x="21600" y="6497"/>
                </a:lnTo>
                <a:lnTo>
                  <a:pt x="1851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1415880" y="535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无钱，就骂就怕就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8"/>
          <p:cNvSpPr/>
          <p:nvPr/>
        </p:nvSpPr>
        <p:spPr>
          <a:xfrm>
            <a:off x="3016080" y="3606840"/>
            <a:ext cx="1219320" cy="228600"/>
          </a:xfrm>
          <a:prstGeom prst="leftArrow">
            <a:avLst>
              <a:gd name="adj1" fmla="val 50000"/>
              <a:gd name="adj2" fmla="val 1333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9"/>
          <p:cNvSpPr/>
          <p:nvPr/>
        </p:nvSpPr>
        <p:spPr>
          <a:xfrm>
            <a:off x="6369120" y="35305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0"/>
          <p:cNvSpPr/>
          <p:nvPr/>
        </p:nvSpPr>
        <p:spPr>
          <a:xfrm>
            <a:off x="1797120" y="314964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1"/>
          <p:cNvSpPr/>
          <p:nvPr/>
        </p:nvSpPr>
        <p:spPr>
          <a:xfrm>
            <a:off x="7488360" y="314964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2"/>
          <p:cNvSpPr/>
          <p:nvPr/>
        </p:nvSpPr>
        <p:spPr>
          <a:xfrm>
            <a:off x="3930480" y="4673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3"/>
          <p:cNvSpPr/>
          <p:nvPr/>
        </p:nvSpPr>
        <p:spPr>
          <a:xfrm>
            <a:off x="5835600" y="46735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24"/>
          <p:cNvSpPr/>
          <p:nvPr/>
        </p:nvSpPr>
        <p:spPr>
          <a:xfrm>
            <a:off x="4540320" y="50547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5"/>
          <p:cNvSpPr/>
          <p:nvPr/>
        </p:nvSpPr>
        <p:spPr>
          <a:xfrm>
            <a:off x="501480" y="33019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盼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6"/>
          <p:cNvSpPr/>
          <p:nvPr/>
        </p:nvSpPr>
        <p:spPr>
          <a:xfrm>
            <a:off x="7272360" y="406404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怕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576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本文的主要人物是谁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盼于勒（故事的发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赞于勒（故事的发展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见于勒（故事的高潮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怕于勒躲于勒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（故事的结局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情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人物（主人公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菲利普夫妇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：虚荣、自私、冷酷、贪婪，没有兄弟情的资本主义社会里小市民的典型形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夫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：呆板、无主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妇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：怕中不乱，有心计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描写人物的方法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：语言、动作、神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环境描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自然环境和社会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自然环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去哲尔塞岛旅游时的景物描写，衬托了一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欢快心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狼狈地灰溜溜地离开哲尔塞岛时的景物描写，衬托了一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灰暗的心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社会环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罪恶的资本主义社会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Oval 2"/>
          <p:cNvSpPr/>
          <p:nvPr/>
        </p:nvSpPr>
        <p:spPr>
          <a:xfrm>
            <a:off x="3321000" y="28440"/>
            <a:ext cx="3124080" cy="289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4235400" y="814320"/>
            <a:ext cx="121932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4" descr="BD05584_"/>
          <p:cNvPicPr/>
          <p:nvPr/>
        </p:nvPicPr>
        <p:blipFill>
          <a:blip r:embed="rId1"/>
          <a:stretch/>
        </p:blipFill>
        <p:spPr>
          <a:xfrm>
            <a:off x="4540320" y="890640"/>
            <a:ext cx="741240" cy="990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NA01441_"/>
          <p:cNvPicPr/>
          <p:nvPr/>
        </p:nvPicPr>
        <p:blipFill>
          <a:blip r:embed="rId2"/>
          <a:stretch/>
        </p:blipFill>
        <p:spPr>
          <a:xfrm>
            <a:off x="2787480" y="2719440"/>
            <a:ext cx="4114800" cy="376056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6"/>
          <p:cNvSpPr/>
          <p:nvPr/>
        </p:nvSpPr>
        <p:spPr>
          <a:xfrm>
            <a:off x="1873080" y="59961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社会环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6292800" y="5996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罪恶的土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196920" y="585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资本主义社会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6597720" y="433440"/>
            <a:ext cx="243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赤裸裸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金钱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0"/>
          <p:cNvSpPr/>
          <p:nvPr/>
        </p:nvSpPr>
        <p:spPr>
          <a:xfrm>
            <a:off x="-108000" y="3100320"/>
            <a:ext cx="320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”对叔叔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同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6902280" y="302436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没有受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污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课堂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想像一下，菲利普夫妇在船上发现一位百万富翁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黑体"/>
              </a:rPr>
              <a:t>像于勒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，他们会怎样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写在你的日记上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欣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于勒回到我们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续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我的叔叔于勒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吕善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于勒的后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我的叔叔于勒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续写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杜勋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7"/>
          <p:cNvGrpSpPr/>
          <p:nvPr/>
        </p:nvGrpSpPr>
        <p:grpSpPr>
          <a:xfrm>
            <a:off x="-1905120" y="0"/>
            <a:ext cx="12901680" cy="6033960"/>
            <a:chOff x="-1905120" y="0"/>
            <a:chExt cx="12901680" cy="6033960"/>
          </a:xfrm>
        </p:grpSpPr>
        <p:grpSp>
          <p:nvGrpSpPr>
            <p:cNvPr id="536" name="Group 5"/>
            <p:cNvGrpSpPr/>
            <p:nvPr/>
          </p:nvGrpSpPr>
          <p:grpSpPr>
            <a:xfrm>
              <a:off x="-1905120" y="0"/>
              <a:ext cx="12901680" cy="5808600"/>
              <a:chOff x="-1905120" y="0"/>
              <a:chExt cx="12901680" cy="5808600"/>
            </a:xfrm>
          </p:grpSpPr>
          <p:sp>
            <p:nvSpPr>
              <p:cNvPr id="537" name="Rectangle 2"/>
              <p:cNvSpPr/>
              <p:nvPr/>
            </p:nvSpPr>
            <p:spPr>
              <a:xfrm>
                <a:off x="-1812960" y="0"/>
                <a:ext cx="12809520" cy="46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28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Rectangle 4"/>
              <p:cNvSpPr/>
              <p:nvPr/>
            </p:nvSpPr>
            <p:spPr>
              <a:xfrm>
                <a:off x="-1905120" y="5440320"/>
                <a:ext cx="18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Rectangle 6"/>
            <p:cNvSpPr/>
            <p:nvPr/>
          </p:nvSpPr>
          <p:spPr>
            <a:xfrm>
              <a:off x="-1905120" y="0"/>
              <a:ext cx="12901680" cy="6033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0" name="Picture 3" descr="pic_30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  <a:ea typeface="黑体"/>
              </a:rPr>
              <a:t> </a:t>
            </a: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黑体"/>
              </a:rPr>
              <a:t>盼于勒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（第一部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</a:t>
            </a: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黑体"/>
              </a:rPr>
              <a:t>故事的发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每星期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衣冠整齐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去海边栈桥上散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表现什么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说那句永不变更的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情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（插叙于勒的过去和全家人的盼望之情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第二部分（赞于勒：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正直的人，有良心的人、有办法的人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景物描写（自然环境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Times New Roman"/>
              </a:rPr>
              <a:t>衬托一家人去旅游时的欢快心情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4"/>
          <p:cNvGrpSpPr/>
          <p:nvPr/>
        </p:nvGrpSpPr>
        <p:grpSpPr>
          <a:xfrm>
            <a:off x="914400" y="762120"/>
            <a:ext cx="7315200" cy="761760"/>
            <a:chOff x="914400" y="762120"/>
            <a:chExt cx="7315200" cy="761760"/>
          </a:xfrm>
        </p:grpSpPr>
        <p:sp>
          <p:nvSpPr>
            <p:cNvPr id="548" name="Rectangle 2"/>
            <p:cNvSpPr/>
            <p:nvPr/>
          </p:nvSpPr>
          <p:spPr>
            <a:xfrm>
              <a:off x="914400" y="762120"/>
              <a:ext cx="73152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为了成全二姐的婚姻，菲利普一家去哲尔赛岛旅行。本片刻画的是旅行途中请吃牡蛎一事，可以帮助我们形象地了解于勒其人，了解他的命运，也让我们初步认识菲利普夫妇的性格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3"/>
            <p:cNvSpPr/>
            <p:nvPr/>
          </p:nvSpPr>
          <p:spPr>
            <a:xfrm>
              <a:off x="914400" y="762120"/>
              <a:ext cx="7315200" cy="761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Picture 6" descr="pic_30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9"/>
          <p:cNvSpPr/>
          <p:nvPr/>
        </p:nvSpPr>
        <p:spPr>
          <a:xfrm>
            <a:off x="-544320" y="228600"/>
            <a:ext cx="127764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语言描写，表现虚荣的心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10"/>
          <p:cNvGrpSpPr/>
          <p:nvPr/>
        </p:nvGrpSpPr>
        <p:grpSpPr>
          <a:xfrm>
            <a:off x="179280" y="210960"/>
            <a:ext cx="4378320" cy="6370560"/>
            <a:chOff x="179280" y="210960"/>
            <a:chExt cx="4378320" cy="6370560"/>
          </a:xfrm>
        </p:grpSpPr>
        <p:sp>
          <p:nvSpPr>
            <p:cNvPr id="553" name="Rectangle 7"/>
            <p:cNvSpPr/>
            <p:nvPr/>
          </p:nvSpPr>
          <p:spPr>
            <a:xfrm>
              <a:off x="179280" y="210960"/>
              <a:ext cx="4378320" cy="63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父亲吓得脸色苍白，目瞪口呆！（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神态描写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母亲故作镇定，后又吓得哆嗦！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（语言和动作描写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夫妇两人为什么害怕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别叫这个小子又回来吃咱们（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态度上判若两人！）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>
              <a:off x="179280" y="210960"/>
              <a:ext cx="4378320" cy="63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5" name="Picture 8" descr="pic_30175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38964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1"/>
          <p:cNvSpPr/>
          <p:nvPr/>
        </p:nvSpPr>
        <p:spPr>
          <a:xfrm>
            <a:off x="838080" y="762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第三部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557440" y="1981080"/>
            <a:ext cx="46785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  <a:ea typeface="黑体"/>
              </a:rPr>
              <a:t> 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黑体"/>
              </a:rPr>
              <a:t>见于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黑体"/>
              </a:rPr>
              <a:t> 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黑体"/>
              </a:rPr>
              <a:t>怕于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黑体"/>
              </a:rPr>
              <a:t>  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黑体"/>
              </a:rPr>
              <a:t>躲于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4"/>
          <p:cNvGrpSpPr/>
          <p:nvPr/>
        </p:nvGrpSpPr>
        <p:grpSpPr>
          <a:xfrm>
            <a:off x="990720" y="380880"/>
            <a:ext cx="7315200" cy="762120"/>
            <a:chOff x="990720" y="380880"/>
            <a:chExt cx="7315200" cy="762120"/>
          </a:xfrm>
        </p:grpSpPr>
        <p:sp>
          <p:nvSpPr>
            <p:cNvPr id="560" name="Rectangle 2"/>
            <p:cNvSpPr/>
            <p:nvPr/>
          </p:nvSpPr>
          <p:spPr>
            <a:xfrm>
              <a:off x="990720" y="380880"/>
              <a:ext cx="7315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3"/>
            <p:cNvSpPr/>
            <p:nvPr/>
          </p:nvSpPr>
          <p:spPr>
            <a:xfrm>
              <a:off x="990720" y="380880"/>
              <a:ext cx="7315200" cy="762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8"/>
          <p:cNvGrpSpPr/>
          <p:nvPr/>
        </p:nvGrpSpPr>
        <p:grpSpPr>
          <a:xfrm>
            <a:off x="914400" y="210960"/>
            <a:ext cx="7315200" cy="6370560"/>
            <a:chOff x="914400" y="210960"/>
            <a:chExt cx="7315200" cy="6370560"/>
          </a:xfrm>
        </p:grpSpPr>
        <p:sp>
          <p:nvSpPr>
            <p:cNvPr id="563" name="Rectangle 5"/>
            <p:cNvSpPr/>
            <p:nvPr/>
          </p:nvSpPr>
          <p:spPr>
            <a:xfrm>
              <a:off x="914400" y="210960"/>
              <a:ext cx="7315200" cy="63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7"/>
            <p:cNvSpPr/>
            <p:nvPr/>
          </p:nvSpPr>
          <p:spPr>
            <a:xfrm>
              <a:off x="914400" y="210960"/>
              <a:ext cx="7315200" cy="63705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5" name="Picture 6" descr="pic_30176"/>
          <p:cNvPicPr/>
          <p:nvPr/>
        </p:nvPicPr>
        <p:blipFill>
          <a:blip r:embed="rId1"/>
          <a:stretch/>
        </p:blipFill>
        <p:spPr>
          <a:xfrm>
            <a:off x="5230800" y="0"/>
            <a:ext cx="39132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9"/>
          <p:cNvSpPr/>
          <p:nvPr/>
        </p:nvSpPr>
        <p:spPr>
          <a:xfrm>
            <a:off x="0" y="0"/>
            <a:ext cx="5562720" cy="551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父亲吓得没有了主意，只好向老婆讨主意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咱们怎么办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母亲很有办法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文中“我”对叔叔的态度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是我的叔叔（表现我对叔叔的同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父亲的弟弟（表现对父亲不认这个穷叔叔的不满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的亲叔叔（父亲应该像我一样同情叔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04:07:31Z</dcterms:created>
  <dc:creator>lsj</dc:creator>
  <dc:description/>
  <dc:language>en-US</dc:language>
  <cp:lastModifiedBy>a</cp:lastModifiedBy>
  <dcterms:modified xsi:type="dcterms:W3CDTF">2015-02-10T02:51:25Z</dcterms:modified>
  <cp:revision>17</cp:revision>
  <dc:subject/>
  <dc:title>PowerPoint 演示文稿</dc:title>
</cp:coreProperties>
</file>