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A3B-423D-4261-B89D-3409071D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52C-F618-4A1B-8C17-147774C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4E06E-1C34-4A7F-AB77-FE5EE53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39C34-DB28-44B5-B423-05D783C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B1089-78FD-4F4B-9FD7-B4FDEFA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C083-80A0-4F73-90B0-F255335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4A6D9-9AA9-49C7-B8B6-961C55E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72D7-0389-4EAA-8889-529F2ED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1536A-FBA5-4262-BAD1-C5906221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D81E8-5C1D-4370-90B5-B69415D6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42FF9-DA13-4B2C-899B-553EC796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8F2C-7E3A-41DC-BDEA-DF4B47D0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DB8-507C-474D-824A-A6667675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685AA-40FB-4FA1-A716-8305D31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1421-B8FE-4DC6-99C3-56D39C0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4F98D-1901-4128-BBE5-A62F1E9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B785A-9BBB-4B89-B35F-0EA9C4B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1D153-7F7F-4BCF-BF51-68A22D5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562B-2C65-4E01-9171-29686B4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F02F-C7C4-4184-BC1D-AB4D1C65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77C2-8B28-4EA8-8244-FD72836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803A5-6A22-4CE3-BF4C-6CAD6D38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DA123-912D-44B2-8645-DD8DB2E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DC3-903D-40BA-AE8D-4FB39B16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A44D-3D15-4DC1-9669-2CE1C0B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7F27-CF3A-48ED-BB8F-4CD5B9E9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8CA3B-0EB3-4F51-AA1E-A2C4AC8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10568-BA19-41F7-A902-893CB7A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938E-335E-4666-9F9D-B674A68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3F231-E5BE-4038-8A34-21CC9640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C2A7-F849-4141-9B22-04BD768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F52DE-3083-45D8-9266-766FC64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63A40-F2E0-4379-A072-2ACBAE82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B43F1-76A0-48F8-B371-D13C3B4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A75-67D5-4682-ABE0-2A30A066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33147-8E35-496C-80D2-889475DD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4A56C-22A6-467C-BBFF-A4B6CCD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8B9CD-35D4-40DB-900F-4AF44C63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957D9-4554-47D7-A7C0-4292E63E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BA776-8640-4CEB-9019-10233B3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B76C-EE34-4B2B-9893-4A3D4CB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88AC-43B4-4C3B-BFEE-494B85B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3EBA7-20CB-4DC9-9DF9-189A759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7E551-ED0C-4E2B-8488-EEA2803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4FBC2-DAC1-4158-8B83-121BE9D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489-91A6-4317-8689-CC26030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9102D-377E-4E6A-8F62-1669DAE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1DD0-9A9E-45D4-AC07-F503F82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CCE6-DFCB-4A4C-9370-59A1F5F6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AC3F-081F-4CA8-8DBB-352C2308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0F954-F7D5-4D29-8450-3320C881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C98CD-AE59-441A-AC75-AEA935DB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7BA96-B543-4377-9188-3B7DCD05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ECE76-7D48-4B9B-828D-7027ED3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BDDE6-53DA-4F5E-90F0-5906963B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0794E-B7E0-43E2-80EE-FFA07BF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32A-6923-4EB2-806B-0F33FB8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8AF57-62CF-4B03-BC98-248C492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0637C-73F0-4C1E-A804-3E06678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E33F8-27C1-42CB-9B7A-2BCB3CC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414B5-AA1E-4ABA-A5B2-9CEA9DC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76E15-B0EF-46A4-9964-BB9E841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BFA4D-E049-4B3C-AD30-997E2688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A5C25-708F-435A-8C33-A857481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2AA2-EEBE-43BF-BC79-D99A23B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85C5-5036-433E-A502-B607897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323-FB0B-482B-9FCC-D7E35BB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7806-577F-44EC-8E78-D979A8B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4F2-E9C7-4359-9C01-C0A17EE6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EFD9-7EC1-4327-8374-9BB4A24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84B-260C-433F-A95B-AB70EAD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F5A8-330A-4F07-96F8-374DA674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B009-E671-46CD-BDF6-75E92241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3E2E-8E01-4359-945D-EC8A9B64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3D6F-105E-44B7-B019-2B973237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2BC4-ED55-453E-B917-72063B8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E903-B8DE-4794-A036-FFAABB82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104F-9F80-4683-B56A-DB37BFE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F44E-22F5-4495-93F9-832A9C0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269-B524-470A-85CD-009C4220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0B85-0A7E-4BB6-84F6-0AD93F8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8D11-16F6-4868-BA7A-BF03F78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30F0-5B26-45DD-93FE-FC69AE3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7B00-19F2-4339-935B-D9A7BC9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719A-4D00-4893-9EFD-E16C526D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BA28-6BC3-4D1E-BE2D-08F4F720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A470-4474-45A1-8A03-179B2F2A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DBAE-48D3-409D-9951-CD6ACF06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2BC2-F774-47AE-A5D9-BE8B96E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C163-296E-475A-97B9-D692B98C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E8B-38B8-4B66-9812-4F3222B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2438-3DB8-4138-A7E5-84F5FE3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ACB0-D2CF-41F0-A700-08C115F4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AFDA-5E8E-4B84-B014-FBA1DA61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717A-0E4F-4AE8-AAF1-AB55BAB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1FBB-6D69-43B1-ACB5-FBFA4B7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4F4F-0E90-4445-A51F-AC2B7D6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9D40-1DFB-40BB-B790-9C07D25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275E-FA7D-4632-9C65-B9012D3C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69E4-A10B-4A45-80C3-91346382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8CEB9-C742-4AE2-B530-20BFD699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788-F4AF-4F4A-AD27-630752A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A411-AC46-48CC-BAEA-EFBF90B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0281-F6AB-45EE-BADD-89FAE765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2954-8738-45FE-8A2A-2706724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EB2B-E9A3-4D2B-A772-7DAA57E0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2B9A-CC4F-4FE0-8639-B3E9A08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A37B-6A8C-4DE7-9893-9110330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E8D6-0744-4E1C-8EA6-01ACE1B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6EF2-8608-41F5-B8D1-3328813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20A5-864D-4B8B-8C45-11ED052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8F66-1E90-4D11-8527-21726A54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E60-D5A6-497E-9C3F-355893F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639D-B2A4-43EC-B0A2-777E26A7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E37F-912D-42EB-917D-06DDE969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C4C8-E7D1-46EE-870B-CC1254D7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831D-811D-4234-8BB2-E17AC57C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004B-51F3-4CC5-B590-EC3562D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9EEF-E601-4AB3-8BFA-5E9C554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DD27-56F9-47E8-9DDE-691A828A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B76B-7C65-4D4E-AC30-A8A5233D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C07C-4224-4245-B8E3-109C442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3DA9-3A32-4D54-A1C1-31B824B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C00-8894-42F0-8270-55AF671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E7EE-A1CE-4640-8D4B-E81E6A8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F055-6254-4009-9175-612EF942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7285-013F-496D-B2A5-ECD648F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5E13-1240-4546-974E-AE63F76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64BA-2181-43B7-A475-5BA0CFA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8B1C-A364-46D9-905F-E6614AA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4B6C-2951-4036-99AD-BD18602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AB0C-174F-4B5D-9AB2-708B849C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C1030-7637-4EF0-9CDB-5E3C217E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A69E-4B64-42A2-9B66-6A1503A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2AC-07B6-4F2D-89AE-5848651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1E93-D46B-407B-8834-1E518ED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2357-1FF6-49D7-99D6-24B7493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0957-D15D-4215-BC64-FE039BF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ED70-DDF2-4F1A-8374-FB7E9A39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2A56-97FF-4A08-AA7E-8357199E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4E658-2EDB-49C0-8A09-9A378D5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F7D3-1CC9-4B31-B3E4-86CD594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5D82-626D-4B1C-A6C8-8CBE939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0A46-0E96-417F-A122-5478F1D5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A2719-2DB9-4E1F-A73C-ACB9446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32F-7651-47D3-9458-43C9E19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75B6-D31D-43D4-9387-5C41AA80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76A2-5433-4A27-AB5F-CC0C7783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CD05C-1CCF-42AC-B4D5-6041A7D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88F7B-FEC4-4679-9093-3FA53C5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CEE57-96A4-46BF-AE4E-DF3E5E64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0650-4C39-4C7D-9904-C6FD306F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E83FC-C1F3-4239-9723-5E85751C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02F98-5710-4EC8-9977-E31FEC7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1250C-A48C-4CFC-8934-E60C5AD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55F59-BC8E-41EF-80A7-7696398E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96BA-DE37-4E94-8DC9-0073B159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03C4-1BFB-4DE5-BF70-22E7F1D62D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C04F-EB7A-4999-B930-81518882C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BE2B-CF85-4643-8A6E-B575DBD920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5E90-7CB9-4E24-981D-913CABB85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2BAD-9444-4C28-9119-24DB56408C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DC79-D239-4C22-941B-60C8B1E44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DB3-FDB6-4E76-BDC1-22894684CA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825-8B4C-4494-BD43-97CD134BA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324-5AF5-48FC-9876-BA35A27417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47B-5B61-437D-B605-2DC3F079F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DD51-CFD5-4F06-B375-8E668E3959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E6B-B63B-484A-8182-923168C31E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FA1E-9786-498B-8381-3F3254B883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E90-CC9E-44D1-8860-F35F5BD35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254-45EF-455D-A9B8-89F2DB2093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D5F-99C3-4D22-82E6-419489B5C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FB95-A991-4DFF-A0FE-7C311F1A27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DB72-771E-41E1-8257-0116891B7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704-835E-4552-84DD-D967716923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368-F3D8-4C44-8D69-02845E7E4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87F-820D-405D-A490-3D874891AF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162-C7DA-4D41-B63D-321852317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295-6A42-41DE-8A98-5DF8D6D3EF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D9B-FFD1-4508-BCCF-FDC2F7F8D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4" descr="2005831532411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11"/>
          <p:cNvSpPr txBox="1"/>
          <p:nvPr/>
        </p:nvSpPr>
        <p:spPr>
          <a:xfrm>
            <a:off x="1233360" y="1662120"/>
            <a:ext cx="534852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pic_270814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9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576" name="Picture 5" descr="2006826155054176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100534_wushuang1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4" descr="1012908728_1_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4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3" descr="d279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506880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1012908728_1_small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Gif0405_136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9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554" name="Picture 6" descr="200583152626575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7" descr="2006826155054176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8" descr="100534_wushuang2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Gif0405_036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对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的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神奇的吸引力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200511100223855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146fp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100534_wushuang2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第一PPT模板网-WWW.1PPT.COM</dc:description>
  <cp:keywords>六十铺中小学教育网http://www.lspjy.com</cp:keywords>
  <dc:language>en-US</dc:language>
  <cp:lastModifiedBy>a</cp:lastModifiedBy>
  <dcterms:modified xsi:type="dcterms:W3CDTF">2015-03-18T06:24:28Z</dcterms:modified>
  <cp:revision>94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