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chimes.wav" ContentType="audio/x-wav"/>
  <Override PartName="/ppt/media/image6.jpeg" ContentType="image/jpeg"/>
  <Override PartName="/ppt/media/image11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BEA6-00A4-4828-8AF5-D0772BFD9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E4D7-6DF3-48BC-B9FA-FD81EF67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094F8-9BF2-48A2-8C3B-1B20AB5D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3AF72-34AE-42C7-A564-35FB878E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FC5E03-BD45-41D0-824B-08AC6F6D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8B711-01EF-4DAD-9A8C-D56636B2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05850-9D73-4448-BF53-E1264F89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39555-0D44-45D3-9066-03604F60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1F85B-C4A6-4039-8504-5A0425C2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76A962-1982-474C-8563-685C8DA4C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07742-A9ED-458C-8435-F5C8982B2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09CC6-FF49-4780-93D5-837D4273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E6F5-24C1-4802-939B-B6599D3B0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FD3E7-D3E1-41CD-962D-35E14817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E7DE7D-F3BE-4516-841E-1D9C3777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0A566-FBD7-4C40-9CD4-002CD447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5B9DF-8139-41FC-A4A1-4B46C4AA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DAE7E-3E57-4BEC-9D3F-CD06850A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6513F2-1D33-4D89-A120-70DDE2B8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0AFB1-CB81-4ABF-A9F3-90AB4043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C9908B-7D4D-48FA-88D7-4499E087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92371-D234-44EB-AADA-2E2F1700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AFC28-7CEE-4852-94E9-246B2D1F6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A793-0CFB-4141-A625-D2B7F24D3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36A3CA-980E-4654-B0A3-B9B9AA937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F66EA-9196-4D66-8522-9F33CECE1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4590B-0CE2-444E-B056-5C03AAB9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C5720-CAEF-406E-9CA1-57145691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F254E-F0AE-4C3D-A824-9B722678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A7EF6-33D1-4BF0-8D68-5B04D9CF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574FA-02AC-4188-A4E5-CA67E7FE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64964-A413-4CE1-8AA7-911C6870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E0B0B-C223-4E6E-B298-D9B0C0A4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373A5-4609-4C2C-A8A2-27C9734F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6B31-AF55-422C-8683-DE3A501D8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4CF58-1260-4C98-90F3-80EBAFFF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8A906-66EB-470E-9ACF-28869C39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285FC-75F9-48AB-B632-792AB3C62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D7DAEB-DD36-4E31-A31E-A1B22DB98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A7AA53-06B3-44E0-9289-A9DA169E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CCDAD1-4CDC-4393-B344-8C21C7D5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F62B3F-16A9-4DEF-9B55-E6D1503C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A80E2D-11A1-45BF-87D0-7B8A5634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645322-90FB-4136-B232-A1A7B0D0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690A20-6A0F-4D91-AC49-06DBE4E7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D541-6334-421C-B44B-37837D1F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3925FE-7C05-4810-83B5-89DFA75B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FE66B9-512E-4C9E-878A-96751BE9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929D18-AAD7-48F2-AD20-994D99F9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305F97-93ED-41D1-8D3F-D5B796E6B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09A29A-2F70-4916-886D-BA63FE978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81B65B-68D4-4CA2-BCA8-67B7B060C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BD9B9A-9F04-4262-AF8E-DAA5A8EE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12FB49-9DF5-4259-85CB-EF69C007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0314DC-00D9-4FAB-ADB7-AD64A84D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96D489-EF10-4FCD-96AC-6ECFEEEE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A041-72F2-498A-A815-289DFE7C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2B164F-4610-47C2-BE35-947FB25A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EE1E29-3089-4732-9A2E-B4DD4DA4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4A3109-3DC1-4AA4-A58F-1722F434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666B43-210E-4894-8D81-C84E9692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8664EF-B724-4AA9-8BCE-2D746EE0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B53013-45D0-42BF-9C3B-2981D0144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4EC51E-C304-4E3B-817D-1214D6DCD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D457-D8A1-4D39-AFF7-D3D5B321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D71C-0790-4298-83B2-58EBBA83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C600-B969-4272-BE69-77312256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8003-0F62-404D-8A85-55AC8BD6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F2AD-CFC1-4AC4-8BA4-DCDD5B07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A138-F189-4A43-840F-67849B85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B5F4-EB0F-4449-B020-33E4FC27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7428-25C6-4B47-9E41-FDA00A87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F9CD-066C-42F6-8008-EFEFA0268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8918-0646-45B1-8E5F-B20084FE8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1B11F-B31C-4555-A5F7-2994A6E65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A6122-E89D-4EE6-BDB2-467DEDD3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C4E55-BD79-40AC-B226-210A242D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6EDDB-6930-46D6-A0C6-E25AFE75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0A4AA-DC8C-4372-AE1B-B96CA18B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5C13-7F02-4F30-AABD-7C7CDAA4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167E1-5A70-4AA8-85FA-CECDA0B8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1659C-4FC6-4135-835E-6A7E8F8F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01028-F031-4308-B697-97397FE3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4173E-1EF5-4DBD-BA97-C2CB02BC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212CB-D6BE-440B-808A-6A1B199B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33FE2-5900-4830-AB13-8265B8402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6CC62-4865-4352-99B2-2E59F2C22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522CE-A0B0-43F1-B9EB-E6FE05051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CC816-142E-4B0F-B946-C4DD91D6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505CC-3143-4926-BF99-167BFDC7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C1F0-C546-437D-8295-F6A31A67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117AA-2C2C-4EA4-9D11-7049BECF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6016B-A95B-477F-B3EB-C84188D7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CC209-D44A-49B1-AA75-21A1B96D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1D342-D868-451E-B5F1-CDE333D9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DF778-F23E-44B5-9FED-D926928B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49C89-747D-4306-855B-32BE130F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91D6F-F66B-4C9C-A2DD-141A3535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47234-054E-40A8-A4F8-820C3BCD8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14C12-36DB-496A-B161-9B2D3A5E1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D65F0-38FC-482B-875F-7F1EF8A65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D873-498A-49BB-83AC-330286DA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FBCCA-0FE3-4EDE-8250-11C39A7F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1E24E-2C00-4636-88D1-753CD63B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A33F3-C3AE-473D-9572-274AB326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837EF-5B97-4F25-8FE4-1E7A2A5E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F5A00-9558-4D51-BBD1-B1C1ECB5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5CA69-FF34-424B-BAF3-2518EFB9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B41E2-C386-403C-8CDC-77D27104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211FE-4DDD-4004-BBEB-A3C46AEA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9A9CB-7E96-47B9-889B-5917BCD2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C3583-27B4-46A1-8E5C-ADBDC9D08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AE27-0276-4633-8155-82458694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2E413-E9C3-403F-8C89-140063A77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13677-EFA5-4D44-915C-ABBE5BE5C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1F75D-2BEB-4DCE-8AB4-F23F4877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CF352-A599-40FB-B01F-700AEBE4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8740F-4F07-40BA-8ADA-78803EBE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7A0A4-9DAD-45F7-9C10-6409B99C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95EF1-27B7-44E0-8F1D-3273A4A7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A1A0F-EA16-421B-AE90-672D9705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B6A55-6593-4478-ACD3-C4E125A8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B846B-6F65-4EC3-B015-FBA83610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3D40-AE0D-42A8-95D5-7A4D4133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3687B-EBF9-439A-8B07-E52F79D8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89B6D-5A37-4A4A-83FF-AF3872F1F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7B985-5169-477D-BB1F-C06D6EBC6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AE8BC-FC0D-4BBE-9276-AB1679842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7EE99-59B8-4838-AD85-D34301EE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8C054-117D-4EFF-9FF7-BADA8192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3F99D-DFB9-4342-BA27-97855715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D8337-9AE4-42CF-9EDB-6586C2C5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4FF5D-48CC-4BF8-9674-5419324A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8DCC7-738E-459E-A6EC-37ACDFCD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15EF-45FF-4852-8389-92272EFE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63147-9A39-489C-AEE9-3FE51230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89F17-BA54-443F-BAB8-D9662863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69F51-0918-4426-859B-26DA203C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FDE61-98D8-4DFD-AE03-07FBCD9B0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2C448-5820-49D8-AC2A-5C667D3D4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6F42E-05A2-43AB-9C3A-2BE64C623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071A1-3F62-46F2-8915-2FF776A0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9B75D-2FA2-4D5A-8F56-4BDBDDF0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71145-0FCE-44FA-B4D6-D52662B6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D70DE-BAD0-4AEF-A04C-E769EB6A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5428-4DFA-4321-B87B-6E7F8486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6C313-A559-4218-AA68-35268A6F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EF12F-81D7-4E31-A301-056683F4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9DBB1-4F0F-46E1-8B85-9F84B425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0A4AD-34EF-4212-91F7-B4583E3E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B1086-E47F-4200-90E5-6876A01A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09B7D-B979-446A-9C58-C169AD44D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F9DC9-D561-4224-9CDC-1F2B00DAB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23DB13-FE73-4973-8EC5-BD966537A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AF67A3-7F9D-460A-A43D-73A4671F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855AFE-CE8F-4D6E-90D0-4A5D6E91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A816-C57B-45C6-91B1-468EFB8B8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CEC3-B320-4E40-A064-C064B981691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8495-2A0D-4D95-8760-DA03827096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60A2-05AA-473A-9F79-57F89F499BC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E7E8-2AD7-400A-BD59-38A6A03C86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DBAF-758F-4799-A0F9-DE8D4FFA1CA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0921-F917-439E-974B-AF7A72A506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32F8-2D0D-4516-8357-7C1423BAAC9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46B7-0DEF-4DB8-9B9A-451FA4BDD9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A57E-FB14-41F1-BCDC-228F6AB7A7F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0168-54D3-47EF-BD4B-7A3110CECC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7153-AF4B-4285-B3D4-EAA9C5B9468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9514-4FF8-493D-875C-63E63C3693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D666-FEB1-49BC-B38D-8C8C9131DE3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1831-2F83-4340-8C12-115AA2798A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9C49-F5DF-4227-B9CC-CC63EB409E4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85E6-6A2F-494C-A76D-3DDD45D4C4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D562-0518-4062-8A61-5FD8BFFDFC7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FFE6-8F80-4D06-8D67-803460C7D9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845E-436F-48E1-83D1-AE9A891C9A2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1638-0B73-4B4C-89B4-20EF078D1E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BA54-9A2C-4BFA-B248-DBA1F5C48F3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2B3E-BB59-4404-AA37-7A7ABE9CEE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3473-A3A1-4429-A201-34D0BDAE5FB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1203-ECB3-4F47-88E9-D927328A42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image" Target="../media/image1.jpe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7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2" descr="pic_252907"/>
          <p:cNvPicPr/>
          <p:nvPr/>
        </p:nvPicPr>
        <p:blipFill>
          <a:blip r:embed="rId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6" name="WordArt 3"/>
          <p:cNvSpPr txBox="1"/>
          <p:nvPr/>
        </p:nvSpPr>
        <p:spPr>
          <a:xfrm>
            <a:off x="1673280" y="189000"/>
            <a:ext cx="4537080" cy="16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王二小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2" descr="pic0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3"/>
          <p:cNvSpPr/>
          <p:nvPr/>
        </p:nvSpPr>
        <p:spPr>
          <a:xfrm>
            <a:off x="380880" y="304920"/>
            <a:ext cx="8763120" cy="77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巩固练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用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长长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常常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填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王二小（    ）帮助八路军放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军（    ）帮助王爷爷取牛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象有一个（    ）的鼻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们排着（    ）的队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2895480" y="22096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常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2362320" y="34290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常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3962520" y="464832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长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3429000" y="5867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长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9ecfe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2135160" y="304920"/>
            <a:ext cx="4100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牛儿还在山坡吃草， 放牛的却不知道哪儿去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不是他贪玩耍丢了牛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那放牛的孩子王二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九月十六那天早上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敌人向一条山沟扫荡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山沟里掩护着后方机关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掩护着几千老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正在那十分危急的时候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敌人快要走到山口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昏头昏脑地迷失了方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抓住了二小要他带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二小他顺从地走在前面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把敌人带进我们的埋伏圈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四下里乒乓乒乓响起了枪炮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敌人才知道受了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5832360" y="1011240"/>
            <a:ext cx="237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敌人把二小挑在枪尖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摔死在大石头的上面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我们那十三岁的二小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可怜他死得这样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干部和老乡得到了安全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他却睡在冰冷的山间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他的脸上含着微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他的血染红蓝的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秋风吹遍了每个村庄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它把这个动人的故事传扬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每一个村庄都含着眼泪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歌唱着二小放牛郎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2" descr="115681_10795745513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2" descr="pic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3"/>
          <p:cNvSpPr/>
          <p:nvPr/>
        </p:nvSpPr>
        <p:spPr>
          <a:xfrm>
            <a:off x="380880" y="2352600"/>
            <a:ext cx="9087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儿童团员   常常   一边   样子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八路军       前面   下来   杀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四面八方   帮助    英雄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2" descr="王二小t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3"/>
          <p:cNvSpPr/>
          <p:nvPr/>
        </p:nvSpPr>
        <p:spPr>
          <a:xfrm>
            <a:off x="0" y="0"/>
            <a:ext cx="3505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王二小是儿童团员。他常常一边放牛，一边帮助八路军放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204840" y="12193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常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2" descr="pic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3"/>
          <p:cNvSpPr/>
          <p:nvPr/>
        </p:nvSpPr>
        <p:spPr>
          <a:xfrm>
            <a:off x="865080" y="1508040"/>
            <a:ext cx="8675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用“一边</a:t>
            </a:r>
            <a:r>
              <a:rPr b="1" lang="en-US" sz="3600" spc="-1" strike="noStrike">
                <a:solidFill>
                  <a:srgbClr val="ff66cc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一边”把两个句子合并成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一句话</a:t>
            </a:r>
            <a:r>
              <a:rPr b="1" lang="en-US" sz="3600" spc="-1" strike="noStrike">
                <a:solidFill>
                  <a:srgbClr val="ff66cc"/>
                </a:solidFill>
                <a:latin typeface="Arial"/>
              </a:rPr>
              <a:t>.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例：他放牛。他唱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他一边放牛，一边唱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妈妈看电视。妈妈织毛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    </a:t>
            </a:r>
            <a:r>
              <a:rPr b="1" lang="zh-CN" sz="3600" spc="-1" strike="noStrike" u="sng">
                <a:solidFill>
                  <a:srgbClr val="ff66cc"/>
                </a:solidFill>
                <a:uFillTx/>
                <a:latin typeface="Arial"/>
              </a:rPr>
              <a:t>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同学们看挂图。同学们听老师讲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2" descr="王二小t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3"/>
          <p:cNvSpPr/>
          <p:nvPr/>
        </p:nvSpPr>
        <p:spPr>
          <a:xfrm>
            <a:off x="4343400" y="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一天，敌人来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扫荡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走到山口迷了路。敌人看见王二小在山坡上放牛，就叫他带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2" descr="王二小t3"/>
          <p:cNvPicPr/>
          <p:nvPr/>
        </p:nvPicPr>
        <p:blipFill>
          <a:blip r:embed="rId1"/>
          <a:stretch/>
        </p:blipFill>
        <p:spPr>
          <a:xfrm>
            <a:off x="0" y="0"/>
            <a:ext cx="9109080" cy="475452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3"/>
          <p:cNvSpPr/>
          <p:nvPr/>
        </p:nvSpPr>
        <p:spPr>
          <a:xfrm>
            <a:off x="63360" y="4737240"/>
            <a:ext cx="889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王二小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装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顺从的样子走在前面，把敌人带进了八路军的埋伏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4"/>
          <p:cNvSpPr/>
          <p:nvPr/>
        </p:nvSpPr>
        <p:spPr>
          <a:xfrm>
            <a:off x="3924360" y="5300640"/>
            <a:ext cx="1429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al 5"/>
          <p:cNvSpPr/>
          <p:nvPr/>
        </p:nvSpPr>
        <p:spPr>
          <a:xfrm>
            <a:off x="4357800" y="5300640"/>
            <a:ext cx="1429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6"/>
          <p:cNvSpPr/>
          <p:nvPr/>
        </p:nvSpPr>
        <p:spPr>
          <a:xfrm>
            <a:off x="5437080" y="5948280"/>
            <a:ext cx="142920" cy="14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7"/>
          <p:cNvSpPr/>
          <p:nvPr/>
        </p:nvSpPr>
        <p:spPr>
          <a:xfrm>
            <a:off x="5942160" y="5950080"/>
            <a:ext cx="14256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8"/>
          <p:cNvSpPr/>
          <p:nvPr/>
        </p:nvSpPr>
        <p:spPr>
          <a:xfrm>
            <a:off x="6445080" y="5950080"/>
            <a:ext cx="1429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20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" descr="pic0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3"/>
          <p:cNvSpPr/>
          <p:nvPr/>
        </p:nvSpPr>
        <p:spPr>
          <a:xfrm>
            <a:off x="3886920" y="1484280"/>
            <a:ext cx="230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王二小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把</a:t>
            </a:r>
            <a:r>
              <a:rPr b="1" lang="zh-CN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敌人带进了埋伏圈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4145760" y="2637000"/>
            <a:ext cx="194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敌人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被</a:t>
            </a:r>
            <a:r>
              <a:rPr b="1" lang="zh-CN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王二小带进了埋伏圈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2" descr="FR708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3"/>
          <p:cNvSpPr/>
          <p:nvPr/>
        </p:nvSpPr>
        <p:spPr>
          <a:xfrm>
            <a:off x="395280" y="1812960"/>
            <a:ext cx="87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敌人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把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英雄王二小杀害了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179280" y="3828960"/>
            <a:ext cx="820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部敌人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被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八路军消灭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WordArt 5"/>
          <p:cNvSpPr txBox="1"/>
          <p:nvPr/>
        </p:nvSpPr>
        <p:spPr>
          <a:xfrm>
            <a:off x="4140360" y="549360"/>
            <a:ext cx="33112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我会改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69" name="Text Box 6"/>
          <p:cNvSpPr/>
          <p:nvPr/>
        </p:nvSpPr>
        <p:spPr>
          <a:xfrm>
            <a:off x="468360" y="2852640"/>
            <a:ext cx="87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小英雄王二小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被</a:t>
            </a:r>
            <a:r>
              <a:rPr b="1" lang="zh-CN" sz="4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敌人杀害了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181080" y="4692600"/>
            <a:ext cx="820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八路军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把</a:t>
            </a:r>
            <a:r>
              <a:rPr b="1" lang="zh-CN" sz="4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全部敌人消灭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2:02:58Z</dcterms:created>
  <dc:creator>第一PPT模板网-WWW.1PPT.COM</dc:creator>
  <dc:description/>
  <cp:keywords>第一PPT模板网-WWW.1PPT.COM</cp:keywords>
  <dc:language>en-US</dc:language>
  <cp:lastModifiedBy>a</cp:lastModifiedBy>
  <dcterms:modified xsi:type="dcterms:W3CDTF">2015-03-17T06:21:09Z</dcterms:modified>
  <cp:revision>4</cp:revision>
  <dc:subject/>
  <dc:title>第一PPT模板网-WWW.1PPT.COM</dc:title>
</cp:coreProperties>
</file>