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656-BF91-4A5B-BD73-25D39733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3BC-AE69-4FB4-8AA6-979D7887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F350F-EC28-48E5-BFFE-B7141D63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EF2C0-EBE6-45B0-8809-059A686B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C0C27-F708-4A84-B3BB-1A0B27A5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B6A9A-D34B-48E5-A226-88804C99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30F65-3841-4BCA-804D-65BAFE18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924E1-E8E7-4E3B-8957-EC76C446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E7980-426B-4983-B371-3EF5BA78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182E7-A351-4275-AA26-31C409DA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4ED8B-3A23-4082-BEF8-3A9ACD3C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9AAFF-EA19-4F5C-AEDD-380034A8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344-BA57-4E8F-BD70-790D6076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DADB1-E72B-4336-A0E0-BF69756F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8E46C-4D6F-4CCD-980E-0725F2DD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2D3CB-1229-4B88-8FD7-16E20CB6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86378-B1C1-421D-918A-29983FBA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BA38E-7538-4995-BC37-13DFE249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908F2-3412-47AD-B3E1-AB6153EA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9E061-B048-4E7D-8EBC-2D416E40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93F35-56D8-41B7-A75D-1B7088E9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F9FE5-B235-4749-9CEF-92A082E1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A03A7-FFDA-44E0-84EB-EE3262C8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37F-509B-4453-A128-1E796A36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10B46-357B-482C-B1CB-1E368CD9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347BF-439E-42D6-B2FC-A5730501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3C603-1AEE-4750-AE1E-777D1FA8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A2CA1-E17B-4E50-931C-E07A5AF5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3B6B2-9994-48F9-B53A-8DF74CE8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6BD07-7256-43AE-830D-0F2F1603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BFD5F-0340-4D79-B32F-6E4B1E84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8172A-21A5-45C7-802D-9DC55907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08CFE-E022-4FCB-9876-82CD76CC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06569-7981-4DD2-BC06-C8CBD282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22F0-7E86-4F4B-AE5E-C194AC0F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83C2B-B333-4095-B76D-61FD00AA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C4006-2A0F-459F-A8EB-AD098F1F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16132-3E61-4994-98A6-4A678284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AEE23-E2FB-4E45-BD59-98078FA7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B62AD-7EB9-4B2F-958E-F30035CF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AD6F9-D39C-4FAB-A562-C1CD4883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D4ADB-9FF7-4D17-B673-C2CD9C2E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9E315-9EC4-4498-A1D0-F851BC2D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B39B4-C33C-447F-97DF-4453235A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64680-0788-4E68-AC3F-61E3040D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295F-FA88-4D77-9062-67E9D3D6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61413-62B7-4923-848F-D1A38D77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CF354-BF87-45C7-9B91-94008DD6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83831-D6D2-4F70-B370-9A80193F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A6C72-7B5A-423E-99D7-73528942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9C9CD-13B1-4586-B975-E73DE695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6BDE5-AE6B-45F8-A8D3-81152838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1B5B27-A0F2-4DF5-9395-6AE9BA7A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58884B-C353-4A5E-8CFC-0FA8952D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B09C77-BAA1-4649-8579-DA09A77D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FA813-BDF9-4854-8D0D-456E33AF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BFA7-9877-459E-AAE9-11206813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01CC29-C284-4194-8480-823432FF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F9D2B4-F030-4C4F-8480-1D66501C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B702B-7837-4F87-BB0C-5BA081FE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C8CED6-9D74-48AA-BC43-E9131C8E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EDDC1-0A17-4C24-817D-7AC8A8A7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772FF-6423-4AAC-9234-33FA95FA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1FD34-29D4-4941-96BD-39CF15D8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3C22-6363-4790-A373-B579D16C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3F95-9AA3-427A-952E-EED1915F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B3D7-C471-4DED-BF59-C27EE8BA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5C58-BF5B-498C-B2BA-D78A1B68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C8E-7DBC-43FC-AC3F-99721529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9AAE-66A8-4D37-9CC1-D8C3A8AD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E968-F8C0-4EB5-9FF5-D7BE80A0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F427-6973-4FDB-9B9B-B7699E51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A53F-5D72-4266-BDFC-5B5DAF57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1C9A-B146-41A5-A6D7-142F108B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1C86B-CE31-4E5A-A189-CD551186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27402-3E23-4CA4-9722-DE647387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0633B-1DAB-40F2-83CF-52A4BF8F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44F2E-34BD-46AB-B68C-633EEFCF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1EF6E-146E-4C4B-A1EE-A912BAF6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F65-FD88-485A-BB12-A2401CDA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FB372-2328-4859-8ED5-350C96E5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FE769-3FD7-4549-B1F0-0FBAC908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85E36-DB66-46EB-9C26-B710FC08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B28F4-CC6D-4698-A885-94E02C4F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55FEF-1AF5-48CE-B057-E1F3A2D0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13C73-F34E-45E7-A1BD-9E048D34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6B462-64E9-43F8-8B38-CCFE357D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BF5EB-775F-45D4-9835-33DA3DEE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54049-5D5C-4547-BF2A-969E2C5B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A8066-4843-4B86-8A49-85FAC752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978-8BC7-4317-9A60-51E83DF6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1F170-171E-4ACB-B36E-12E41A2C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08348-0875-49E9-BC34-101B5A7D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648C3-4A79-4501-87FA-BC780088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3E0AB-AD7D-44E4-9485-1CAC54CA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1C678-EAFD-42B8-873F-4C49CC79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B74E1-DBD4-4E78-85B4-570A918A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18A8D-DE2D-468B-AA77-CA6CCB4D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984C3-9C49-4525-96F5-1F6179A8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FC9DC-D337-401D-BDE7-CF768034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CBAD4-8A9D-4F6C-B73D-91774F01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568A-2FD2-43DC-A5D2-67570994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F0F08-F537-48C3-85DF-E4D2E339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B0A9C-50B4-46B5-8D5A-E2075FE1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DF75A-C038-4992-81F2-302F8192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D323C-A97E-4DF4-A61D-8D19E090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CB2CF-191E-44D7-9829-D3B60147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6A764-8BEA-4AE2-B1F0-D09C76EB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C1887-746F-4B46-B05B-B16294CD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F2115-52F7-4B79-8C3A-4CE52AE1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DAA26-5DFB-4D65-84E1-5E04FC41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E6447-4995-4521-BF19-3ED9E5ED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739-EF67-40FF-AB68-0E1C868C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CB0D1-1181-4842-A488-91178F40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F386A-7789-40DE-9FDC-3AFCCF08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F7D43-8B7D-4D05-9209-0CC1B4DF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A409E-E060-4A27-B312-20847167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97860-4E54-432F-8BB8-BA990930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F9733-C261-4485-9310-05A074DB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6F25F-4521-4AA9-9994-BF7A1454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6763E-A27E-4282-B829-268B07D6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376D4-5C15-4CF6-804C-20A9835C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FAF3F-907F-49AE-B483-8DDFC561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CF6F-9572-46E8-95E3-09BE3FDE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534F2-6A25-4F5A-B8E4-F251D7A9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3DB1C-7D77-420F-B2EE-C6A60B2E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AB1A2-D9B5-4720-BEC5-B0425F62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0A1BB-EE92-4B46-B603-15B43AE0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7742E-761C-4266-B918-5E946E90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0DBBA-3318-41A2-84A5-94500118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05E16-AE26-48A3-938E-9A60ABDC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B0FC4-189C-4F48-8D44-DC13E6A3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C1D04-1A0F-456A-874F-A726891D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E7E13-47DF-4531-AB4B-7233F4D0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8F5B-9E8B-4770-8738-EA78813E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9805D-1AA6-45ED-9772-29E0ADA9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0BCA0-16C2-4BB5-A14D-84CB086D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FB4A2-F2CE-4BD6-97A9-F4AE45F7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1C964-CEEB-4A56-B7E7-7C162DDB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07530-038A-4CE7-9CD3-D204567F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EB1C8-CB90-4617-8694-40C792FF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9508F-F622-4841-8B2D-751C912C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77398-42A4-4B36-941B-B88F4FBC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9BC36-BFF1-4B1C-83FC-E573B623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FF010-B64C-4E9F-B9CA-6C50DF31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319-5C4B-4B62-93B7-CC61E3AF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04396-83B0-4DD9-A25A-AE5EFFD8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8A9AC-D473-44CD-9819-8AD34BC8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3214D-34A2-4F42-99A8-BE5D4FD6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19B6C-B80F-44FA-B513-1FAB8050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5FBA8-803F-456F-8E9C-AAA5604A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3DD3F-612B-4EC5-8F4F-B67645E7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F5B85-CBFF-42A2-8540-BBB3D6BF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9A9DF-00A1-46FE-9DE0-49961042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3F82D-1B71-4D97-8230-49C8DC13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76AB8-880F-42C2-84D0-434DB67C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C9B8-6DF0-4459-9C60-EF2F819D2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D043-868A-47AA-823B-8EE86427843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6907-BA66-4F8D-840A-B4F91064ED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5C71-544A-48BD-9F1C-066662E70CE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CF2D-456C-47B3-9E81-25C7FBC806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9E02-B970-4923-A2F6-32994E423D5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494F-7B0A-48C1-AC91-4DBA419183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1323-C60F-4665-9F80-EF41477CA9E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0701-B31F-4FED-B792-643BBE828A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B871-0FFA-4F63-8C69-AC30A4AC62F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AAB9-B3A5-46CC-B89D-1CCDF8E0EA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B52F-5FC8-4805-9BC4-BB267275290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EF8C-903A-4B8D-81B5-304EF6FC5B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5014-A709-45C6-B5CF-5079FFEA9AA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49FA-1669-4E3F-A3EF-A3E0895B90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A93D-E1FE-4A3E-AD27-1847A0A14C6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B9D5-AE0C-4C3B-9873-A1D0C58ECB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29E3-7E54-4E6C-88E9-13066448C42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FFD2-DCEE-4A6B-B2E3-80947ABFD7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52B6-D4F3-44BB-A150-645D69480E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BD69-A5D1-4D74-890A-4D37383347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7DA2-5B82-4557-914C-A236D966A76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58F5-E69F-4767-8A2D-FAC77101D5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6744-AD4C-4E68-814A-803B4BBE538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05C8-1306-46F8-B426-70847F18D1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7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F:\ppt\701a\4be14504991f18d7d8920791956505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6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000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楷体"/>
                <a:ea typeface="楷体"/>
              </a:rPr>
              <a:t>望 天 门 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611280" y="602136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4"/>
          <p:cNvSpPr/>
          <p:nvPr/>
        </p:nvSpPr>
        <p:spPr>
          <a:xfrm>
            <a:off x="8172360" y="59500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33cc"/>
                </a:solidFill>
                <a:latin typeface="Arial"/>
              </a:rPr>
              <a:t>朗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2556000" y="1484280"/>
            <a:ext cx="5111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楷体"/>
                <a:ea typeface="楷体"/>
              </a:rPr>
              <a:t>天门中断楚江开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楷体"/>
                <a:ea typeface="楷体"/>
              </a:rPr>
              <a:t>碧水东流至此回。</a:t>
            </a:r>
            <a:br>
              <a:rPr sz="4400"/>
            </a:br>
            <a:r>
              <a:rPr b="1" lang="zh-CN" sz="4400" spc="-1" strike="noStrike">
                <a:solidFill>
                  <a:srgbClr val="3333ff"/>
                </a:solidFill>
                <a:latin typeface="楷体"/>
                <a:ea typeface="楷体"/>
              </a:rPr>
              <a:t>两岸青山相对出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楷体"/>
                <a:ea typeface="楷体"/>
              </a:rPr>
              <a:t>孤帆一片日边来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000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楷体"/>
                <a:ea typeface="楷体"/>
              </a:rPr>
              <a:t>望 天 门 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4"/>
          <p:cNvSpPr/>
          <p:nvPr/>
        </p:nvSpPr>
        <p:spPr>
          <a:xfrm>
            <a:off x="900000" y="40464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学习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971640" y="1628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自学感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默读古诗，借助书本注释和工具书理解诗意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也可以选择诗中的一句理解），用笔写下自己的收获和疑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971640" y="335772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合作交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组的同学一起交流交流 ，互相质疑，解疑。（提示：想想每句诗里的哪个字用的好，好在哪里？）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5"/>
          <p:cNvPicPr/>
          <p:nvPr/>
        </p:nvPicPr>
        <p:blipFill>
          <a:blip r:embed="rId1"/>
          <a:stretch/>
        </p:blipFill>
        <p:spPr>
          <a:xfrm>
            <a:off x="0" y="0"/>
            <a:ext cx="4427640" cy="36259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6" descr="4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6846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8"/>
          <p:cNvSpPr/>
          <p:nvPr/>
        </p:nvSpPr>
        <p:spPr>
          <a:xfrm>
            <a:off x="8712360" y="638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77777"/>
                </a:solidFill>
                <a:latin typeface="Arial"/>
              </a:rPr>
              <a:t>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3" descr="7"/>
          <p:cNvPicPr/>
          <p:nvPr/>
        </p:nvPicPr>
        <p:blipFill>
          <a:blip r:embed="rId3"/>
          <a:stretch/>
        </p:blipFill>
        <p:spPr>
          <a:xfrm>
            <a:off x="0" y="3232080"/>
            <a:ext cx="4427640" cy="36259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4" descr="9"/>
          <p:cNvPicPr/>
          <p:nvPr/>
        </p:nvPicPr>
        <p:blipFill>
          <a:blip r:embed="rId4"/>
          <a:stretch/>
        </p:blipFill>
        <p:spPr>
          <a:xfrm>
            <a:off x="4643280" y="3173400"/>
            <a:ext cx="450072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4"/>
          <p:cNvSpPr/>
          <p:nvPr/>
        </p:nvSpPr>
        <p:spPr>
          <a:xfrm>
            <a:off x="123984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6" descr="1232_18773692054"/>
          <p:cNvPicPr/>
          <p:nvPr/>
        </p:nvPicPr>
        <p:blipFill>
          <a:blip r:embed="rId1"/>
          <a:stretch/>
        </p:blipFill>
        <p:spPr>
          <a:xfrm>
            <a:off x="179280" y="189000"/>
            <a:ext cx="2513160" cy="357336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8"/>
          <p:cNvSpPr/>
          <p:nvPr/>
        </p:nvSpPr>
        <p:spPr>
          <a:xfrm>
            <a:off x="2843280" y="404640"/>
            <a:ext cx="611964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李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701--76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字太白，盛唐最杰出的诗人，也是我国最伟大的诗人之一，被人们称作“诗仙”。他经历坎坷，思想复杂，既是一个天才的诗人，又兼有游侠、刺客、隐士、道人、策士等人的气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李白留给后世人九百多首诗篇。这些熠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ì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辉的诗作，表现了他一生的心路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程，是盛唐社会现实和精神生活面貌的艺术写照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179280" y="386064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李白大半生过着流浪生活，游历了全国许多名山大川，写下了大量赞美祖国大好河山的优美诗篇，借以表达出他那种酷爱自由、渴望解放的情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3635280" y="0"/>
            <a:ext cx="2735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独坐敬亭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李白　　　　　　　　　　　　　　　          </a:t>
            </a:r>
            <a:br>
              <a:rPr sz="2800"/>
            </a:b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众鸟高飞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孤云独去闲。　　　　　　　　　　　　　        相看两不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只有敬亭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6804000" y="3284640"/>
            <a:ext cx="280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古朗月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时不识月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呼作白玉盘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又疑瑶台镜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飞在青云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0" y="0"/>
            <a:ext cx="324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望庐山瀑布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李白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照香炉生紫烟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遥看瀑布挂前川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飞流直下三千尺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疑是银河落九天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6227640" y="0"/>
            <a:ext cx="331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赠汪伦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李白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李白乘舟将欲行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忽闻岸上踏歌声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桃花潭水深千尺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及汪伦送我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2843280" y="3068640"/>
            <a:ext cx="38512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黄鹤楼送孟浩然之广陵</a:t>
            </a:r>
            <a:br>
              <a:rPr sz="2800"/>
            </a:b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           李白</a:t>
            </a:r>
            <a:br>
              <a:rPr sz="2800"/>
            </a:b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    故人西辞黄鹤楼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烟花三月下扬州。</a:t>
            </a:r>
            <a:br>
              <a:rPr sz="2800"/>
            </a:b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    孤帆远影碧空尽，</a:t>
            </a:r>
            <a:br>
              <a:rPr sz="2800"/>
            </a:b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    唯见长江天际流</a:t>
            </a:r>
            <a:r>
              <a:rPr b="0" lang="zh-CN" sz="2400" spc="-1" strike="noStrike">
                <a:solidFill>
                  <a:srgbClr val="336600"/>
                </a:solidFill>
                <a:latin typeface="Arial"/>
              </a:rPr>
              <a:t>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0" y="3068640"/>
            <a:ext cx="35272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早发白帝城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李白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朝辞白帝彩云间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里江陵一日还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岸猿声啼不住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轻舟已过万重山</a:t>
            </a:r>
            <a:r>
              <a:rPr b="0" lang="zh-CN" sz="2400" spc="-1" strike="noStrike">
                <a:solidFill>
                  <a:srgbClr val="336600"/>
                </a:solidFill>
                <a:latin typeface="Arial"/>
              </a:rPr>
              <a:t>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WordArt 4"/>
          <p:cNvSpPr txBox="1"/>
          <p:nvPr/>
        </p:nvSpPr>
        <p:spPr>
          <a:xfrm>
            <a:off x="1547640" y="981000"/>
            <a:ext cx="3672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latin typeface="宋体"/>
              </a:rPr>
              <a:t>谢谢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00"/>
              </a:solidFill>
              <a:latin typeface="宋体"/>
              <a:ea typeface="宋体"/>
            </a:endParaRPr>
          </a:p>
        </p:txBody>
      </p:sp>
      <p:sp>
        <p:nvSpPr>
          <p:cNvPr id="559" name="WordArt 5"/>
          <p:cNvSpPr txBox="1"/>
          <p:nvPr/>
        </p:nvSpPr>
        <p:spPr>
          <a:xfrm>
            <a:off x="3780000" y="3573360"/>
            <a:ext cx="3816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ff9900"/>
                </a:solidFill>
                <a:latin typeface="宋体"/>
              </a:rPr>
              <a:t>再见</a:t>
            </a:r>
            <a:endParaRPr b="1" i="1" lang="en-US" sz="1800" spc="1" strike="noStrike">
              <a:ln w="9360">
                <a:solidFill>
                  <a:srgbClr val="ccffff"/>
                </a:solidFill>
                <a:miter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6:35:53Z</dcterms:created>
  <dc:creator>第一PPT模板网-WWW.1PPT.COM</dc:creator>
  <dc:description>第一PPT模板网-WWW.1PPT.COM
</dc:description>
  <dc:language>en-US</dc:language>
  <cp:lastModifiedBy>a</cp:lastModifiedBy>
  <dcterms:modified xsi:type="dcterms:W3CDTF">2015-03-16T08:58:39Z</dcterms:modified>
  <cp:revision>16</cp:revision>
  <dc:subject/>
  <dc:title>第一PPT模板网-WWW.1PPT.COM</dc:title>
</cp:coreProperties>
</file>